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5BDB-0AE0-4576-8FFE-4653533203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CBA4-7820-4980-BD57-8C691B4A34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916-66A2-40B0-BBA0-0BA26329D7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6064-13C3-4327-B127-61995D86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5861-7DDE-4F30-8295-EDCABB3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E614C-BCD0-4C4C-AAB4-2127EE94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B19CF-C3E4-4B2C-98A9-74E5BAE9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A7044-D9F9-4C49-AE4B-89BE1E71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79073-29C0-48FC-89AF-D0152B3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B35DE-9838-4667-ACB0-CC419FE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D82D6-20F8-4FA5-AC92-DCA6730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6C1FB-94D1-4532-8BA0-AE8F391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7ED1D-3122-4E95-A246-19E63EA9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C517C-7FF1-4C9D-8707-C6DBC42B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3E4CC-1501-45B6-97B3-7E0727A6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630D-D956-4807-9203-B729B54D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2DC72-67B6-45FF-83EA-6B253ED9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3678A-FD23-4FF9-ACE2-F317CCC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3C618-EDD1-4000-B238-4554E62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4937F-E6D3-4BA2-93FA-EFED9CCE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F4FCE-B689-4E49-B981-DB32DD94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EC858-EC58-41B1-8586-CA2AABE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7AB16-BCDE-4CDB-8CE6-14658065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65DCD-CA1F-4DD1-B485-0CFFE08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38A9D-6F8E-4AD6-A45A-4D498C48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B15A2-15C0-4B85-93A0-913BECE8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6D02-5D8E-48F8-8A8C-F5465BB6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632AB-E0EC-4121-850C-749346C2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E7F6D1-EAD3-422B-B4A6-68B69CA9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60FB7C-02D3-49C7-AF99-5B05AFB2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C55A4D-AB91-4445-A6EC-C19E9C5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C051EC-C0E7-4379-AD2C-556C7D2D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63DA8C-565B-40DC-AD4F-84A790DC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330E2E-5AEA-4D71-B3F2-08CBB370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FFD3A0-4A49-4E8B-BD23-E446955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600A7-BE3E-45E8-ABDC-E51FD1B5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6F812E-C16B-4960-9FAB-276281C6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56D0-6CF2-4F6C-910A-EBB5C55D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1C41EB-083E-4C01-995B-D6B0796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0B7564-C7EF-4DEF-92D2-7829F6DB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4DBD1C-ACD0-41D1-B37C-EF275C8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D6164-C311-4F1F-A5F0-C35F6B69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44D89-9A7A-4A35-898D-BECBAF6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C6A49-30C9-4789-AC36-D33EE5C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D7A96-5C0F-4C6B-83C5-7FF9AA30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7528D-8FAE-408B-A189-436F5FFC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1E6B2-6C27-4889-B74A-DFC2287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7E71B-78D3-45A6-9FBC-89BBA2F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0D01D-93F5-4C73-8D38-3A09072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59BD6-3D40-453F-862A-43D028D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451FC-8C86-4DCF-8073-1B0DBC7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EB38-9166-4626-AE1B-62068E80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D46CD-9C68-4F76-83B9-E5F2D47F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A7538-549D-4FC8-93CE-68F83F2A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A4719-ABF0-4292-976A-45A8C4CD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DFE7D-40D3-4757-BCDF-5D57AB3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3B826-3BC4-40C4-810C-BFF64371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C333-9E75-4788-9C45-12A36B63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FC18E-3C6B-4D7D-8E81-7F1FCA0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E5AA-1C68-46A7-AF1E-DE580BC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8C82-24D7-4960-973E-87526E4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BD572-CEFD-4880-8BC0-887CC2D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07DC4-6283-4983-BD2B-0005C7D0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816F5-683B-408C-B40F-BB546B9F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A3334-93B1-4788-AEC8-94EE5837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E20B5-ADFF-49B6-8EDC-CA97AB3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C26FB-C739-4E13-B127-6EBF8FBE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06F13-E01A-4213-8E18-BD13B90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7C2919-C76F-4582-A194-C37E8F8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28B26-6B63-4252-8BB4-30C9A91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BD84-3D09-4F5D-9503-0CC74F8E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AD943-8A69-420B-B7E5-484F0D5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CD273-9333-46CA-8DC1-21328CA2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DB425-0712-45A5-A5A8-260944D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4B897-EB12-43B0-98FC-B6C331F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4FA4A-130C-4AE1-8DC7-7B626A66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0B7BB-88BD-4D3E-9441-F90791CC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619BB-CB1F-4B78-AA9E-B087701B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0EBC0-579A-4F61-9A2D-DC93F59B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5BA24-7945-472F-B8BE-D10919B7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6ADAF-28E9-4425-A908-91F8FC82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6ABA-C59C-4D78-8E43-A70C28AD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64D9C-5482-4C26-A8FF-CD123DF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C5EE9-02DD-4566-9DBE-5FFC78CB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97E71-EFE8-442C-856F-1E9AA1C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668DE-5002-49B5-B54D-EDE9E9F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319E5-0D82-4677-8D9C-11FC1B4B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0B404-7E55-49A7-9187-7E07243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896A1-BA60-43A2-B0F9-A96C2050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FC3C5-F08B-4FFD-A3E1-D26C9ABC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BF574-FD04-4647-842E-3BC099CE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270D9-789A-4014-8037-D0F18844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6E35-6E77-4667-94A7-20C6741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1AE9F-BE86-4C82-B5B4-A0FEAB7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94CE7-EB20-45B4-B878-B9483E41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91F925-D0AB-4806-B6A4-F85C2E73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39CF0-7C6E-44A5-9CDC-06D18BD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E7C530-9B2D-4891-B3DF-0D1F3004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8CE97-881C-492B-B801-FE0C55D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E2380-4F93-4916-9FEA-F1775DD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62F4A-AEA6-404C-8532-3F3FACD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FADB6-39F0-4E9A-AA00-4A3BB3D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F2C05-8128-46C5-8055-214C172E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04DB-E946-4B76-869E-2EA5E644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9E0D6-B5B8-42B9-B1D5-EF86E0B8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BF1430-C275-4C6B-8A7B-672BBB6D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DAD25-6FE1-4A73-9FCE-3981D9A3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CC1F5-E38C-4E0E-8128-F8FFF33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15ABB-89B6-4875-A7B3-2C8AEC14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40502-19BF-4B2F-BA2F-04D0A88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F0429-6590-4485-A664-3F535A6B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9323C-CDD7-4647-9C0B-0933F7B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74B05-7F80-4E72-841D-AB54363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6A80F8-F339-4C6A-A934-7A27D55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FFCA-5F95-453C-8F04-117503E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C94B6-35F2-418B-B170-BF0E7A6E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F01DE-7DFA-4B43-AC1A-B64B7FB6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F1FEA-1904-4E5F-BC9B-A499A39D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6D39F-4D83-4052-B8D4-5803BA64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1DC958-01F9-405B-B8E9-D8D4CE4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AE3659-F3B5-41D3-9CFF-922A575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A68DA-BFDE-4BED-B92D-32856CA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90798D-04D0-4ED3-8D1D-0F8F6EB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C8241-929B-479C-AF40-C613E1B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E3C6F-0140-430B-9B8C-0E3CA21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E65D-56BC-4558-AA6C-0FE8C4DC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6338A-5E14-4514-8DAA-05DC2F1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5E01B5-3086-4424-B8E2-B8C731C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4C1380-5944-48B8-823B-5A6DB6B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C7BE0C-F5C4-437F-8AE4-51675E46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4CA52-A1F7-4E0A-8513-9836590D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46731E-6669-47D8-BD25-FFFEB0AF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156FA-3D9F-4BB7-A1BF-7888EC60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CB9DE9-81A0-4FD8-B50E-278D75F6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62BB3-6A1F-4F76-BAD2-E5AABA72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24F96-298B-4BA9-BB11-6D5D0D5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FA22-AD8F-41D8-B72D-DB9A111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274C7E-9A02-4B8E-8184-AE9A84C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14796-2699-4AB6-92B4-737DB7E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8414C-E983-42E1-AB66-FDD3621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D7CBA-8315-4997-B6DC-C2D83247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C100E5-3C0F-42A5-91EC-B1EBB1B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C7BBB-4E6C-4E9B-998F-0C145D88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FABA10-1AAF-40AF-B993-7843D6E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AE065-BAE3-4C68-BE4B-022AA643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36A1C-AFC4-4E88-B086-F08F8D9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80E63-3F81-406F-886E-96A43D3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05740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72C-AEA9-4EBF-A793-9B21021EF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BC0F-CE5D-49FC-9747-08CD50A3C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921-A1F3-4E86-836B-BFE01E684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B53-DADF-4649-9BD6-B26C64B06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ftr" idx="30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559-ACD4-4E9F-B6A3-AD180FDF8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717F-36E3-4B89-B6C5-E3D63DA7C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3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B1B-AEF3-439D-BC41-07BF8A5E6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A02-0F02-4D1B-B990-4DBDE3F69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6"/>
          </p:nvPr>
        </p:nvSpPr>
        <p:spPr>
          <a:xfrm>
            <a:off x="2133720" y="6324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3D09-B6F6-44BA-9F99-A4267A80C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66E-A033-446F-90BA-33E3BED19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6AC-BBDC-4D0F-B759-E7053D4DF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EC17-9805-453D-8AD0-800BE5895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DA5-C7C0-44CF-9FF1-DABC82EF3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7B14-DFEE-4BC3-95EC-FBDB03974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8A0A-099D-4C50-88D0-989089D33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53ED-9F3E-4ECD-96B8-BCEB581A2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D335-2EFE-4FE1-91EC-88627AC00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EA5-E9A0-4EE2-B9C1-E415932E8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E19-AEDB-40CD-90D8-3091FFD6B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5A51-8100-4B16-81FD-1AEBB569B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1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CF5-FC05-49B0-84A0-35746B6BF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A6C5-7391-4E32-9DD0-A7028C546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4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B866-3191-48BA-94D5-A41065CA9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2E8-0F71-4D08-8B0A-62E1C13A2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04920" y="45720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-Oriented Analysis and Design: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914400" y="457200"/>
            <a:ext cx="7467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ssociation between an actor and a us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s a usag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does not indicate data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are connected to use cases with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re connected to each other with arr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C26B-C6A9-49DC-9097-E385C3EA3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end relationsh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ssociation between two use cases where one adds new behaviors or actions to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a use case by adding new behavior o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use case extends the general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211A-E792-4F16-B01B-00188A2DE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lude relationsh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ssociation between two use cases where one use case uses the functionality contained in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a use case that is used (invoked) by another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general purpose functions, used by many other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5BA-95A3-4330-9AFC-0A03C4A9E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A01-8A91-473F-932E-2793047E2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8" descr="Noname.gif"/>
          <p:cNvPicPr/>
          <p:nvPr/>
        </p:nvPicPr>
        <p:blipFill>
          <a:blip r:embed="rId1"/>
          <a:stretch/>
        </p:blipFill>
        <p:spPr>
          <a:xfrm>
            <a:off x="1047600" y="1433520"/>
            <a:ext cx="7029720" cy="41036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9"/>
          <p:cNvSpPr/>
          <p:nvPr/>
        </p:nvSpPr>
        <p:spPr>
          <a:xfrm>
            <a:off x="685800" y="5373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 case diagram featuring an includ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ten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containing detailed specifications for a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can be written as simple text or in a specifi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description of what must occur in a successful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F7C-C5C2-493F-BBB3-F1FE83787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4" descr="Noname.gif"/>
          <p:cNvPicPr/>
          <p:nvPr/>
        </p:nvPicPr>
        <p:blipFill>
          <a:blip r:embed="rId1"/>
          <a:stretch/>
        </p:blipFill>
        <p:spPr>
          <a:xfrm>
            <a:off x="4643280" y="455760"/>
            <a:ext cx="3586320" cy="5945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5"/>
          <p:cNvSpPr/>
          <p:nvPr/>
        </p:nvSpPr>
        <p:spPr>
          <a:xfrm>
            <a:off x="762120" y="142560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mplate for writing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kburn, Alistai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ing Effective Use Cas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d., © 2001. Reprinted and Electronically reproduced by permission of Pearson Education, Inc. Upper Saddle River, New Jerse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D4C-1654-4ADB-8D36-844A1FE99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of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377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degree of detail in the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uggested levels (Cockb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– as seen from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e – “birds-eye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– sea-leve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 – below sea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– bottom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6191280" y="3619440"/>
            <a:ext cx="819000" cy="2476440"/>
          </a:xfrm>
          <a:prstGeom prst="upDownArrow">
            <a:avLst>
              <a:gd name="adj1" fmla="val 50000"/>
              <a:gd name="adj2" fmla="val 6019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7302240" y="35528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7365600" y="54770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31B1-E7B1-4F78-9CF4-24FEDD635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Format for Written Us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ptive name, matches name in use cas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mary 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sually a use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y group or individual with an interest in the function of the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CBB5-4F0C-42EE-9C35-16909788B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Format for Written Use Cas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con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ditions that must be satisfied in order to execute the use cas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l 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utputs that can be expected if the service attempt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ccess 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utputs that can be expected if the service succ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853-66AA-4B5B-A267-7826F6DEB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Format for Written Use Cas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event or action that initiates the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in success scenar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ption of sequence of interactions between actor and use case during the use cas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tailed description of how errors are hand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397A-F36D-4BFF-9A3C-C5D2970D0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885B-B5ED-4B8D-83E3-54A41597E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use cases and use case diagrams and how they can be used to model system functi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the basic aspects of how to create written use 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 process modeling with use cases for electronic commerce appl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740-CD1A-4DBB-8E60-636165463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76320" y="612720"/>
            <a:ext cx="6095880" cy="57117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1"/>
          <p:cNvSpPr/>
          <p:nvPr/>
        </p:nvSpPr>
        <p:spPr>
          <a:xfrm>
            <a:off x="6172200" y="198108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Woo’s kite level written use case for buying a product at PVF’s Web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, Hoffer, Valacich, Batra, 2006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-Oriented Systems Analysis an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nd ed. Upper Saddle River, N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ntice Hal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ppendix A you learned how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use cases and use case diagrams and how they can be used to model system functi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basic aspects of how to create written use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rocess modeling with use cases for electronic commerce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A05A-7C4C-47E6-B91E-282D219FB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56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epiction of a system’s behavior or functionality under various conditions as the system responds to requests from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xternal entity that interacts with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140D-0741-40E3-93B4-7B5457185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B04-0AE0-4FF6-ACAE-661E3E4B0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8" descr="Noname.gif"/>
          <p:cNvPicPr/>
          <p:nvPr/>
        </p:nvPicPr>
        <p:blipFill>
          <a:blip r:embed="rId1"/>
          <a:stretch/>
        </p:blipFill>
        <p:spPr>
          <a:xfrm>
            <a:off x="638280" y="1249200"/>
            <a:ext cx="7867440" cy="44294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10"/>
          <p:cNvSpPr/>
          <p:nvPr/>
        </p:nvSpPr>
        <p:spPr>
          <a:xfrm>
            <a:off x="1981080" y="54500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 case diagram for a university regist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ctors represent user roles, but actors can also be external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is a role, not a specific user; one user may play many roles, and an actor may represent many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 case model consists of actors and use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6A6-CF2E-4873-B987-E7A1B4519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 diagra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cture showing system behavior along with the key actors that interact with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stract use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hen a use case is initiated by another us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 represents complete functi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D7E7-D168-4D08-9BFF-42E727824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 and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77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4"/>
          <p:cNvSpPr/>
          <p:nvPr/>
        </p:nvSpPr>
        <p:spPr>
          <a:xfrm>
            <a:off x="914400" y="2057400"/>
            <a:ext cx="1981080" cy="60948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990720" y="3505320"/>
            <a:ext cx="19810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6"/>
          <p:cNvGrpSpPr/>
          <p:nvPr/>
        </p:nvGrpSpPr>
        <p:grpSpPr>
          <a:xfrm>
            <a:off x="5676840" y="2514600"/>
            <a:ext cx="952200" cy="1238400"/>
            <a:chOff x="5676840" y="2514600"/>
            <a:chExt cx="952200" cy="1238400"/>
          </a:xfrm>
        </p:grpSpPr>
        <p:sp>
          <p:nvSpPr>
            <p:cNvPr id="664" name="Oval 7"/>
            <p:cNvSpPr/>
            <p:nvPr/>
          </p:nvSpPr>
          <p:spPr>
            <a:xfrm>
              <a:off x="5951160" y="2514600"/>
              <a:ext cx="403560" cy="29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8"/>
            <p:cNvSpPr/>
            <p:nvPr/>
          </p:nvSpPr>
          <p:spPr>
            <a:xfrm>
              <a:off x="6152760" y="2811600"/>
              <a:ext cx="0" cy="64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6152760" y="30344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5676840" y="3047040"/>
              <a:ext cx="4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6167160" y="3443400"/>
              <a:ext cx="2451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 flipH="1">
              <a:off x="5892840" y="3468240"/>
              <a:ext cx="2451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13"/>
          <p:cNvSpPr/>
          <p:nvPr/>
        </p:nvSpPr>
        <p:spPr>
          <a:xfrm>
            <a:off x="5543640" y="441972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819000" y="4762440"/>
            <a:ext cx="2190960" cy="368280"/>
            <a:chOff x="819000" y="4762440"/>
            <a:chExt cx="2190960" cy="368280"/>
          </a:xfrm>
        </p:grpSpPr>
        <p:sp>
          <p:nvSpPr>
            <p:cNvPr id="672" name="Line 15"/>
            <p:cNvSpPr/>
            <p:nvPr/>
          </p:nvSpPr>
          <p:spPr>
            <a:xfrm>
              <a:off x="819000" y="5105520"/>
              <a:ext cx="219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6"/>
            <p:cNvSpPr/>
            <p:nvPr/>
          </p:nvSpPr>
          <p:spPr>
            <a:xfrm>
              <a:off x="1335600" y="47624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7"/>
          <p:cNvGrpSpPr/>
          <p:nvPr/>
        </p:nvGrpSpPr>
        <p:grpSpPr>
          <a:xfrm>
            <a:off x="6686640" y="5429160"/>
            <a:ext cx="2190600" cy="368280"/>
            <a:chOff x="6686640" y="5429160"/>
            <a:chExt cx="2190600" cy="368280"/>
          </a:xfrm>
        </p:grpSpPr>
        <p:sp>
          <p:nvSpPr>
            <p:cNvPr id="675" name="Line 18"/>
            <p:cNvSpPr/>
            <p:nvPr/>
          </p:nvSpPr>
          <p:spPr>
            <a:xfrm>
              <a:off x="6686640" y="5772240"/>
              <a:ext cx="219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9"/>
            <p:cNvSpPr/>
            <p:nvPr/>
          </p:nvSpPr>
          <p:spPr>
            <a:xfrm>
              <a:off x="7202880" y="54291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Date Placeholder 1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2D15-9B68-4D37-8AC7-D52190254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role, not an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 with the functioning of the system at some basi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by stick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a single system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s an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D79C-C11E-4DF2-92AE-4D6D2D24E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bound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relevant use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undary is the dividing line between the system and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re within the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are outside of the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s a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CB9A-6388-4428-AD3F-977D16496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0:49:23Z</dcterms:modified>
  <cp:revision>233</cp:revision>
  <dc:subject/>
  <dc:title>Modern Systems Analysis and Design Ch1</dc:title>
</cp:coreProperties>
</file>