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43453-57DE-4C7B-9734-04C7519BC8F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ABDB8-A43B-485A-A552-D1EB476D2A3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E0A96-CD67-48B7-93AB-4A4CC0BF783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F4A84-3E31-4958-BFD9-319776A1B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BA3A7-95C0-4E4C-9A5A-6C91DF4BC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F6249F-20FC-482E-B0DA-8A836AE9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53E64E-8511-4203-9445-245F9F3D5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3719B8-E302-4C3C-ABC7-0339315D5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AD078A-0DE0-4309-9A9B-4892A434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79BBB8-4435-403A-B793-2DD1949E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23349D-6870-407A-BB3D-BF9E5749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F4FFD2-3DE7-4565-BD8C-3BC69CAB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A08F6E-3C5E-48F6-8873-B6FB5D097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987C3A-15C4-4AFE-97A0-B9D92A1E1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16C222-4D2B-4F0F-8DA3-9796A995F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DCDCD-DDC0-4AEC-B905-6F37B0834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37D253-9CFD-45A2-856E-C8EF58245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49D50F-0CF9-4E1D-8CC9-F6E4143A1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E962DB-5A90-4B23-B5D9-36FF91DBD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CC038B-9386-48C8-BE1E-5E904DE7A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90C8D3-2F99-4BAE-B5E7-6B35F71C9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7B3DB0-EE4A-4383-8CE4-ADDCC166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C1AD5A-5096-4255-9132-EC254969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402452-11AC-4E72-9695-FCA32A6D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D38C6F-15E5-4BFC-8690-EECF6888D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A37ECB-3C48-4790-8B04-99A3A1A11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CC3B4-D11C-40BB-BF13-C6BE411A3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5CEDC2-6BE5-4148-A48A-378EF11B3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E936F9A-7268-4A89-8017-FF7DE52B6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EC518B1-6962-420B-824B-3A874A3C8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83F9952-BE18-49BC-A6BA-DAB2FEACF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741A61A-D1BA-4A96-8699-EC7F28A9D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82D1DFB-4D8D-4CE4-B652-41319D6BA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FADA1F1-C86A-4CA4-AA02-8A33F45E3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CE4BC1D-9EE8-4F2A-B821-B70618FD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6A93BF7-462F-41A5-B9C2-D21EE8CD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3F3FE36-5DF1-4009-8884-CF7C7B6B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AF7AC4-57AB-480A-9557-89111B1F0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A435B2A-5FB5-4A17-92D0-0EA0E2857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F2AC0E6-DB34-4D21-BC9A-9FBA473A6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EA0E128-FB0B-476D-ABF6-9D8D311A8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C5CF57-3A14-4288-8C78-8E5C70A0B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D29A29-FD7C-4B55-A333-80A273EF6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D33550-106E-4B0F-A7AA-E07A18104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3B842A-87BD-4295-9128-566258E3A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8528C4-7BC3-4345-805C-75D8FBC29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48B27D-569A-41AF-ACF1-7E33DA9CA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216A16-0581-45F9-BA8C-215250CA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EF0D99-E9BE-49D7-92F7-25C19CAD6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C57415-F7AD-42EE-A5E7-AC5ECFD4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83CC0A-EF41-4AF1-BB92-2B16D099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B742BE-1B82-418B-980A-2B93EC31C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168963-B73A-4C12-A5A5-62061247E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570DCB-11AF-4A99-93FA-59FF372E9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60A1F6-2B24-4A2A-8D5B-2795AA762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D98345-9E49-4D7F-B9B8-5F6B7A691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C4F567-7595-4E78-B4F8-9025397A4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6F2456-0235-4FBE-9FD5-A893875C0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9FB714-1924-4D68-9EE6-3970F867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4BDC9-F4B8-4BBE-A699-CA7CA402C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BA1E52-7E2F-424B-8EE8-1E83F35C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75A5EB-6B15-4C45-8D01-CF972960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45C2D9-6485-4C66-A345-F29D14B11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12CFA2-660A-484C-8374-C971671AB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1B71DE-58D8-426E-ABE4-B3B39B2F9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689662-5C41-48E4-9543-8E27DB20F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A88D3C-5FA8-4294-9AED-ED86578E7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400061-E298-4C0E-B831-5AA452CA7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4C849C-292D-44E5-9535-7C4F14A29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8BF359-07F5-4427-9BB3-CC8A3CD57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3A915-3269-4D3A-894C-DD2EFE52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8EC897-151E-4291-8C22-7A227CCC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34B48B-2C0E-4340-8E01-CBC5498D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FA3F51-CFE2-45BD-8D37-11ADFAF2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E53775-D950-453A-8D52-BA41B323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0D8AEC-D0D1-4F91-A8F4-7A7A6A389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EA7A29-BAEE-49A8-9ECF-9E89C1556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BC0FA7-02C5-4389-B6F4-FE053CA24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AC536E-71D8-4EAA-8BA7-3A932C40C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4BAD8E-62D8-414D-B8B8-29F59DB46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BE3E25-546A-4E09-A22A-4F12C2FF5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367CD-DF7B-4989-8BDE-43A6A5AE7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87FFAD-11EB-4423-8CAB-F5FE9E247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63E3D4-2064-497B-A878-E288B2008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66FEF2-603E-4DFF-B4C7-44634A7E1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A2AEFF-5812-4E8A-B4EF-8781869C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38071D-AD61-4ABA-B76D-F99CE652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CD7925-5EC6-413D-9D9F-8F3D4508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B80F4E-B7DB-4193-9B8D-01F2AF06C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244E86-A4F9-4B3D-8C60-6F35D6D83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48A3D4-3E84-4CF8-86D0-CB989C9E8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BA0F02-ECAD-48D7-B6E4-2DAA67955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E9E3D-5B4A-4A48-B649-7CEF0C943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3F51B8-B44D-4940-93D4-D8184E273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EF649B-B89D-4957-8412-4B33DDCD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9B381AD-581A-4250-ADFE-423A5772B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13787A3-DE97-4BAD-9D81-89F119105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E779E6-A8B4-4704-85FC-3FAA249AA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48E5D4-4DDA-4B47-BA1C-B713F71C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760124-99AA-43FB-A433-90CBA3E9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CDE387-323A-4F7A-8D4D-159AAF63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E98AC2-1484-4C57-8B62-CBF61AB5D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13DAA7-C24D-4A70-A88C-5E22D8627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8CD82-7766-4F05-8197-794C3A120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710717-D196-4036-8503-26913F8EE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CDECE2-A178-47D1-BED6-79A54DC32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A229CE-8008-4C80-BA6A-16B8506F6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DD35E15-19E3-4F8D-B75F-1FC15FD04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9FBB4D-21F4-4CCD-93A2-068DAB31D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882BB8-9EF5-4341-B49A-96E30FA83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951640-74CB-4B0B-865F-8F411CFE4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745704-90C9-4BC5-AA31-FE47318F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9AA728-EF7F-4B1A-BBE5-B423EAE5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41E343-D3C9-4688-8D63-6CA37324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FC189-CED0-45C7-9347-7FB9F737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C16099-93FD-4E47-9C01-70306D8E3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F67F3D-7C42-4C34-856A-97F67E1D3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6DB7DB-B957-4159-89A4-254290DFA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4F41E84-7632-4801-BE79-3BF722CA8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ADC0F44-135D-469B-8A9B-8DB4620DF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A98990F-8F74-4E82-832C-B157B69A5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800DC15-2328-43C4-ADB1-C7855BA81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C7600D5-EEC3-4AF3-8CA8-E66F7D768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EFE08EF-94CB-4AAB-8F24-A2B49C6A4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3AFC09C-2E13-486A-AD92-CBDED108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69DDF-8C99-4C95-B9A7-3B6393D6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381B754-9F54-4DC3-AE44-736338DB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CE1E038-27BF-4D4A-9314-338326EA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105AE8-625B-4215-8BC9-EA1C06B02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C3C358C-394F-40A2-8AF7-DA63C317D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0E9759D-98D8-41AD-ADF9-491763354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F1D2643-7CDB-4227-A5CC-FD08E6D6F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69005DE-EC87-4E42-9F04-EA093B3C6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D631F9C-9FC5-4273-8FD6-49EFCB991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766453D-4BED-46AB-A5B4-6969E3A83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3EF4EC5-AEC6-415F-B5B9-7AA379F2C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0CE01-27AD-4EB9-A75A-FD0C89B9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20D628C-DA34-47E9-93B9-B15EE9A28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45BCF01-E608-48A4-90E9-74B67DB1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0CD4C7E-711F-41D1-BD94-F1195902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FDEB6F9-79EB-4D71-A992-BB226F2F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090FF9-66B4-41BE-BFE4-D89891085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878C94C-AB57-4712-9F52-852A45CB0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5AA740A-2E0D-4E2A-B2D8-C8BAD0F7D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C70352-087C-4CC3-A700-D81EA0847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A93494-4DB1-4AC9-8A98-0A9E92983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E7329F-0E2F-4A7F-8DA8-BDED2ED2F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2057400" y="6248520"/>
            <a:ext cx="4952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39380-C737-4B89-89C3-B235D64CA2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A782F-1593-4BA4-8D64-202F003B17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7 Appendix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ectangle 17"/>
          <p:cNvSpPr/>
          <p:nvPr/>
        </p:nvSpPr>
        <p:spPr>
          <a:xfrm>
            <a:off x="3276720" y="61531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Rectangle 17"/>
          <p:cNvSpPr/>
          <p:nvPr/>
        </p:nvSpPr>
        <p:spPr>
          <a:xfrm>
            <a:off x="3276720" y="61531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sldNum" idx="2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1E796-F096-4C63-8C67-E286D3C847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0BD80-C97E-4243-8352-8A93334A2B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7 Appendix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ftr" idx="30"/>
          </p:nvPr>
        </p:nvSpPr>
        <p:spPr>
          <a:xfrm>
            <a:off x="2133720" y="624852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Rectangle 17"/>
          <p:cNvSpPr/>
          <p:nvPr/>
        </p:nvSpPr>
        <p:spPr>
          <a:xfrm>
            <a:off x="3276720" y="61531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sldNum" idx="3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6D3A6-D154-4007-8064-ACAFE2EF65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F5B1A-0C70-43CD-8A81-0D1652F3FB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7 Appendix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ftr" idx="33"/>
          </p:nvPr>
        </p:nvSpPr>
        <p:spPr>
          <a:xfrm>
            <a:off x="2133720" y="624852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7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2" name="Rectangle 17"/>
          <p:cNvSpPr/>
          <p:nvPr/>
        </p:nvSpPr>
        <p:spPr>
          <a:xfrm>
            <a:off x="3276720" y="61531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sldNum" idx="3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9F336-C035-491C-B445-2E64850C2E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dt" idx="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309B3-E12E-46E5-87D9-816239CB24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7 Appendix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ftr" idx="36"/>
          </p:nvPr>
        </p:nvSpPr>
        <p:spPr>
          <a:xfrm>
            <a:off x="2133720" y="632448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Rectangle 17"/>
          <p:cNvSpPr/>
          <p:nvPr/>
        </p:nvSpPr>
        <p:spPr>
          <a:xfrm>
            <a:off x="3276720" y="61531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4"/>
          </p:nvPr>
        </p:nvSpPr>
        <p:spPr>
          <a:xfrm>
            <a:off x="2133720" y="624852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2C7A3-22C7-4957-B2EF-35837EC856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9C15D-80B8-496E-838A-99EE90CAA9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7 Appendix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5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Rectangle 17"/>
          <p:cNvSpPr/>
          <p:nvPr/>
        </p:nvSpPr>
        <p:spPr>
          <a:xfrm>
            <a:off x="3276720" y="61531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EFC80-C5F4-4291-A5F1-64038C866B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943EC-4D0A-4AD4-82F5-60BBD42A58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7 Appendix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9"/>
          </p:nvPr>
        </p:nvSpPr>
        <p:spPr>
          <a:xfrm>
            <a:off x="2133720" y="624852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Rectangle 17"/>
          <p:cNvSpPr/>
          <p:nvPr/>
        </p:nvSpPr>
        <p:spPr>
          <a:xfrm>
            <a:off x="3276720" y="61531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Num" idx="1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5546D-E1ED-4B72-A440-7852BF9618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E901A-B7D0-4107-AA6C-85A637FF85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7 Appendix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2"/>
          </p:nvPr>
        </p:nvSpPr>
        <p:spPr>
          <a:xfrm>
            <a:off x="2133720" y="624852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Rectangle 17"/>
          <p:cNvSpPr/>
          <p:nvPr/>
        </p:nvSpPr>
        <p:spPr>
          <a:xfrm>
            <a:off x="3276720" y="61531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0E0F6-D2D8-45EF-BD07-35CCB43841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D7252-4DE5-46A8-A4BA-CFBB3DB90A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7 Appendix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ftr" idx="15"/>
          </p:nvPr>
        </p:nvSpPr>
        <p:spPr>
          <a:xfrm>
            <a:off x="2133720" y="624852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6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Rectangle 17"/>
          <p:cNvSpPr/>
          <p:nvPr/>
        </p:nvSpPr>
        <p:spPr>
          <a:xfrm>
            <a:off x="3276720" y="61531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sldNum" idx="1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A3250-11CC-43C4-AC2F-4A5B761842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11517-5B14-4322-A61B-EED50A58A3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7 Appendix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ftr" idx="18"/>
          </p:nvPr>
        </p:nvSpPr>
        <p:spPr>
          <a:xfrm>
            <a:off x="2133720" y="624852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Rectangle 17"/>
          <p:cNvSpPr/>
          <p:nvPr/>
        </p:nvSpPr>
        <p:spPr>
          <a:xfrm>
            <a:off x="3276720" y="61531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1D001-341A-4E0F-A290-DB7BCD29B7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AF10E-CA87-4CFA-8D49-CC43620776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7 Appendix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ftr" idx="21"/>
          </p:nvPr>
        </p:nvSpPr>
        <p:spPr>
          <a:xfrm>
            <a:off x="2133720" y="624852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65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Rectangle 17"/>
          <p:cNvSpPr/>
          <p:nvPr/>
        </p:nvSpPr>
        <p:spPr>
          <a:xfrm>
            <a:off x="3276720" y="61531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sldNum" idx="2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76CD3-EB8A-4232-A520-B1E6AAC7BA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39A2A-5CA8-40B9-828B-26D8E61790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7 Appendix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ftr" idx="24"/>
          </p:nvPr>
        </p:nvSpPr>
        <p:spPr>
          <a:xfrm>
            <a:off x="2133720" y="624852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1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Rectangle 17"/>
          <p:cNvSpPr/>
          <p:nvPr/>
        </p:nvSpPr>
        <p:spPr>
          <a:xfrm>
            <a:off x="3276720" y="61531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531BE-AF4C-4698-86CD-F3407ED7D3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A3FB1-5216-4388-AFDC-1B8655E8A6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7 Appendix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ftr" idx="27"/>
          </p:nvPr>
        </p:nvSpPr>
        <p:spPr>
          <a:xfrm>
            <a:off x="2133720" y="624852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304920" y="457200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pter 7 Appendix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bject-Oriented Analysis and Design: Use C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8"/>
          <p:cNvSpPr/>
          <p:nvPr/>
        </p:nvSpPr>
        <p:spPr>
          <a:xfrm>
            <a:off x="914400" y="457200"/>
            <a:ext cx="746748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dern Systems Analysi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d Design</a:t>
            </a:r>
            <a:br>
              <a:rPr sz="4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Edition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effrey A. Hoffer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ey F. Georg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seph S. Valac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 and Symbol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n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n association between an actor and a use c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icts a usage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on does not indicate data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ors are connected to use cases with li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ases are connected to each other with arro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Appendix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D9D79-3FB2-461F-8824-3B87E0397E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2"/>
          <p:cNvSpPr/>
          <p:nvPr/>
        </p:nvSpPr>
        <p:spPr>
          <a:xfrm>
            <a:off x="22096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finitions and Symbols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tend relationship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n association between two use cases where one adds new behaviors or actions to the 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s a use case by adding new behavior or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ized use case extends the general use c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Appendix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CE84A-262F-4E7D-BB70-2C90B80697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2"/>
          <p:cNvSpPr/>
          <p:nvPr/>
        </p:nvSpPr>
        <p:spPr>
          <a:xfrm>
            <a:off x="22096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finitions and Symbols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clude relationship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n association between two use cases where one use case uses the functionality contained in the 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tes a use case that is used (invoked) by another us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to general purpose functions, used by many other use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Appendix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70B8F-4F60-4828-99CA-9D3BBF327D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2"/>
          <p:cNvSpPr/>
          <p:nvPr/>
        </p:nvSpPr>
        <p:spPr>
          <a:xfrm>
            <a:off x="22096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 and Symbol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07544-29F0-4F58-BDDC-BEF6837714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Appendix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Picture 8" descr="Noname.gif"/>
          <p:cNvPicPr/>
          <p:nvPr/>
        </p:nvPicPr>
        <p:blipFill>
          <a:blip r:embed="rId1"/>
          <a:stretch/>
        </p:blipFill>
        <p:spPr>
          <a:xfrm>
            <a:off x="1047600" y="1433520"/>
            <a:ext cx="7029720" cy="4103640"/>
          </a:xfrm>
          <a:prstGeom prst="rect">
            <a:avLst/>
          </a:prstGeom>
          <a:ln w="0">
            <a:noFill/>
          </a:ln>
        </p:spPr>
      </p:pic>
      <p:sp>
        <p:nvSpPr>
          <p:cNvPr id="709" name="Rectangle 9"/>
          <p:cNvSpPr/>
          <p:nvPr/>
        </p:nvSpPr>
        <p:spPr>
          <a:xfrm>
            <a:off x="685800" y="53737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7-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use case diagram featuring an include 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2"/>
          <p:cNvSpPr/>
          <p:nvPr/>
        </p:nvSpPr>
        <p:spPr>
          <a:xfrm>
            <a:off x="22096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ten Use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 containing detailed specifications for a use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s can be written as simple text or in a specified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-by-step description of what must occur in a successful use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Appendix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6CC2C-AE5F-4E96-AA13-072E4EFD13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2"/>
          <p:cNvSpPr/>
          <p:nvPr/>
        </p:nvSpPr>
        <p:spPr>
          <a:xfrm>
            <a:off x="22096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6" name="Picture 4" descr="Noname.gif"/>
          <p:cNvPicPr/>
          <p:nvPr/>
        </p:nvPicPr>
        <p:blipFill>
          <a:blip r:embed="rId1"/>
          <a:stretch/>
        </p:blipFill>
        <p:spPr>
          <a:xfrm>
            <a:off x="4643280" y="455760"/>
            <a:ext cx="3586320" cy="5945040"/>
          </a:xfrm>
          <a:prstGeom prst="rect">
            <a:avLst/>
          </a:prstGeom>
          <a:ln w="0">
            <a:noFill/>
          </a:ln>
        </p:spPr>
      </p:pic>
      <p:sp>
        <p:nvSpPr>
          <p:cNvPr id="717" name="Rectangle 5"/>
          <p:cNvSpPr/>
          <p:nvPr/>
        </p:nvSpPr>
        <p:spPr>
          <a:xfrm>
            <a:off x="762120" y="1425600"/>
            <a:ext cx="3733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7-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emplate for writing use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ckburn, Alistair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riting Effective Use Cases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st ed., © 2001. Reprinted and Electronically reproduced by permission of Pearson Education, Inc. Upper Saddle River, New Jersey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E62F-BF9A-42A7-B8BC-B3CB00D238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Appendix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2"/>
          <p:cNvSpPr/>
          <p:nvPr/>
        </p:nvSpPr>
        <p:spPr>
          <a:xfrm>
            <a:off x="22096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514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l of Use C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3776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s to degree of detail in the use case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ve suggested levels (Cockbur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te – as seen from clou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te – “birds-eye view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ue – sea-level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sh – below sea-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ack – bottom of the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AutoShape 5"/>
          <p:cNvSpPr/>
          <p:nvPr/>
        </p:nvSpPr>
        <p:spPr>
          <a:xfrm>
            <a:off x="6191280" y="3619440"/>
            <a:ext cx="819000" cy="2476440"/>
          </a:xfrm>
          <a:prstGeom prst="upDownArrow">
            <a:avLst>
              <a:gd name="adj1" fmla="val 50000"/>
              <a:gd name="adj2" fmla="val 60194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6"/>
          <p:cNvSpPr/>
          <p:nvPr/>
        </p:nvSpPr>
        <p:spPr>
          <a:xfrm>
            <a:off x="7302240" y="355284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7"/>
          <p:cNvSpPr/>
          <p:nvPr/>
        </p:nvSpPr>
        <p:spPr>
          <a:xfrm>
            <a:off x="7365600" y="547704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0BF19-4266-4727-8D1C-EB3C37683A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Appendix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2"/>
          <p:cNvSpPr/>
          <p:nvPr/>
        </p:nvSpPr>
        <p:spPr>
          <a:xfrm>
            <a:off x="22096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mple Format for Written Use C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it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descriptive name, matches name in use case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imary ac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usually a user 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takehold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any group or individual with an interest in the function of the use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8A69C-B9F7-421D-B3C2-2FF1243F7A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Appendix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2"/>
          <p:cNvSpPr/>
          <p:nvPr/>
        </p:nvSpPr>
        <p:spPr>
          <a:xfrm>
            <a:off x="22096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mple Format for Written Use Case (Continu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econdi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conditions that must be satisfied in order to execute the use case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inimal guarante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outputs that can be expected if the service attempt fai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uccess guarante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outputs that can be expected if the service succ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9295A-F5FB-4759-8814-3138383E99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Appendix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2"/>
          <p:cNvSpPr/>
          <p:nvPr/>
        </p:nvSpPr>
        <p:spPr>
          <a:xfrm>
            <a:off x="22096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514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mple Format for Written Use Case (Continu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28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rigg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an event or action that initiates the use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ain success scenari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description of sequence of interactions between actor and use case during the use case exec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xtens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detailed description of how errors are hand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E271A-AA59-4C72-B4A3-9CC3FEDD96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Appendix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2"/>
          <p:cNvSpPr/>
          <p:nvPr/>
        </p:nvSpPr>
        <p:spPr>
          <a:xfrm>
            <a:off x="22096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A99DC-4A34-4A11-B86A-F1BDDE5544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Appendix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ba2212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lain use cases and use case diagrams and how they can be used to model system functionali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ba2212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sent the basic aspects of how to create written use cas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ba2212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scuss process modeling with use cases for electronic commerce applic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2"/>
          <p:cNvSpPr/>
          <p:nvPr/>
        </p:nvSpPr>
        <p:spPr>
          <a:xfrm>
            <a:off x="22096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74B97-7175-4A34-9F5C-A25013C3D0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Appendix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2"/>
          <p:cNvSpPr/>
          <p:nvPr/>
        </p:nvSpPr>
        <p:spPr>
          <a:xfrm>
            <a:off x="22096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Picture 7" descr=""/>
          <p:cNvPicPr/>
          <p:nvPr/>
        </p:nvPicPr>
        <p:blipFill>
          <a:blip r:embed="rId1"/>
          <a:stretch/>
        </p:blipFill>
        <p:spPr>
          <a:xfrm>
            <a:off x="76320" y="612720"/>
            <a:ext cx="6095880" cy="5711760"/>
          </a:xfrm>
          <a:prstGeom prst="rect">
            <a:avLst/>
          </a:prstGeom>
          <a:ln w="0">
            <a:noFill/>
          </a:ln>
        </p:spPr>
      </p:pic>
      <p:sp>
        <p:nvSpPr>
          <p:cNvPr id="748" name="Rectangle 1"/>
          <p:cNvSpPr/>
          <p:nvPr/>
        </p:nvSpPr>
        <p:spPr>
          <a:xfrm>
            <a:off x="6172200" y="1981080"/>
            <a:ext cx="3124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7-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m Woo’s kite level written use case for buying a product at PVF’s WebS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, Hoffer, Valacich, Batra, 2006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bject-Oriented Systems Analysis and Desig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nd ed. Upper Saddle River, NJ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ntice Hall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Appendix A you learned how t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2212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use cases and use case diagrams and how they can be used to model system functiona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2212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 the basic aspects of how to create written use ca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2212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process modeling with use cases for electronic commerce appl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Appendix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79BBC-8964-4121-83DF-8283A10279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2"/>
          <p:cNvSpPr/>
          <p:nvPr/>
        </p:nvSpPr>
        <p:spPr>
          <a:xfrm>
            <a:off x="22096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5" name="Picture 3" descr="cid:3287383400_2177562"/>
          <p:cNvPicPr/>
          <p:nvPr/>
        </p:nvPicPr>
        <p:blipFill>
          <a:blip r:embed="rId1"/>
          <a:stretch/>
        </p:blipFill>
        <p:spPr>
          <a:xfrm>
            <a:off x="1066680" y="914400"/>
            <a:ext cx="7242120" cy="2363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56" name="Rectangle 5"/>
          <p:cNvSpPr/>
          <p:nvPr/>
        </p:nvSpPr>
        <p:spPr>
          <a:xfrm>
            <a:off x="762120" y="5002200"/>
            <a:ext cx="784548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right © 2014 Pearson Education, Inc.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blishing as Prentice H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ca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depiction of a system’s behavior or functionality under various conditions as the system responds to requests from us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to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n external entity that interacts with the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Appendix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46E7B-DA45-4E4D-AF65-BB3344DF75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2"/>
          <p:cNvSpPr/>
          <p:nvPr/>
        </p:nvSpPr>
        <p:spPr>
          <a:xfrm>
            <a:off x="22096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Case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F407B-BBF0-4156-8A29-2EBCF17078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Appendix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Picture 8" descr="Noname.gif"/>
          <p:cNvPicPr/>
          <p:nvPr/>
        </p:nvPicPr>
        <p:blipFill>
          <a:blip r:embed="rId1"/>
          <a:stretch/>
        </p:blipFill>
        <p:spPr>
          <a:xfrm>
            <a:off x="638280" y="1249200"/>
            <a:ext cx="7867440" cy="4429440"/>
          </a:xfrm>
          <a:prstGeom prst="rect">
            <a:avLst/>
          </a:prstGeom>
          <a:ln w="0">
            <a:noFill/>
          </a:ln>
        </p:spPr>
      </p:pic>
      <p:sp>
        <p:nvSpPr>
          <p:cNvPr id="647" name="Rectangle 10"/>
          <p:cNvSpPr/>
          <p:nvPr/>
        </p:nvSpPr>
        <p:spPr>
          <a:xfrm>
            <a:off x="1981080" y="545004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7-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use case diagram for a university registration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2"/>
          <p:cNvSpPr/>
          <p:nvPr/>
        </p:nvSpPr>
        <p:spPr>
          <a:xfrm>
            <a:off x="22096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Case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actors represent user roles, but actors can also be external syst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ctor is a role, not a specific user; one user may play many roles, and an actor may represent many us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use case model consists of actors and use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Appendix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FFFF8-E68B-4038-BCD1-9C95703F06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2"/>
          <p:cNvSpPr/>
          <p:nvPr/>
        </p:nvSpPr>
        <p:spPr>
          <a:xfrm>
            <a:off x="22096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Cases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case diagram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icture showing system behavior along with the key actors that interact with th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bstract use ca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when a use case is initiated by another use c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use case represents complete functiona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43FF2-4093-4BD7-BC76-B8C5C07990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Appendix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2"/>
          <p:cNvSpPr/>
          <p:nvPr/>
        </p:nvSpPr>
        <p:spPr>
          <a:xfrm>
            <a:off x="22096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finitions and Symb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047760" y="190512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und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relatio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 relatio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Oval 4"/>
          <p:cNvSpPr/>
          <p:nvPr/>
        </p:nvSpPr>
        <p:spPr>
          <a:xfrm>
            <a:off x="914400" y="2057400"/>
            <a:ext cx="1981080" cy="60948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5"/>
          <p:cNvSpPr/>
          <p:nvPr/>
        </p:nvSpPr>
        <p:spPr>
          <a:xfrm>
            <a:off x="990720" y="3505320"/>
            <a:ext cx="1981080" cy="533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Group 6"/>
          <p:cNvGrpSpPr/>
          <p:nvPr/>
        </p:nvGrpSpPr>
        <p:grpSpPr>
          <a:xfrm>
            <a:off x="5676840" y="2514600"/>
            <a:ext cx="952200" cy="1238400"/>
            <a:chOff x="5676840" y="2514600"/>
            <a:chExt cx="952200" cy="1238400"/>
          </a:xfrm>
        </p:grpSpPr>
        <p:sp>
          <p:nvSpPr>
            <p:cNvPr id="664" name="Oval 7"/>
            <p:cNvSpPr/>
            <p:nvPr/>
          </p:nvSpPr>
          <p:spPr>
            <a:xfrm>
              <a:off x="5951160" y="2514600"/>
              <a:ext cx="403560" cy="297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Line 8"/>
            <p:cNvSpPr/>
            <p:nvPr/>
          </p:nvSpPr>
          <p:spPr>
            <a:xfrm>
              <a:off x="6152760" y="2811600"/>
              <a:ext cx="0" cy="64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Line 9"/>
            <p:cNvSpPr/>
            <p:nvPr/>
          </p:nvSpPr>
          <p:spPr>
            <a:xfrm>
              <a:off x="6152760" y="3034440"/>
              <a:ext cx="47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Line 10"/>
            <p:cNvSpPr/>
            <p:nvPr/>
          </p:nvSpPr>
          <p:spPr>
            <a:xfrm>
              <a:off x="5676840" y="3047040"/>
              <a:ext cx="47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Line 11"/>
            <p:cNvSpPr/>
            <p:nvPr/>
          </p:nvSpPr>
          <p:spPr>
            <a:xfrm>
              <a:off x="6167160" y="3443400"/>
              <a:ext cx="245160" cy="28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Line 12"/>
            <p:cNvSpPr/>
            <p:nvPr/>
          </p:nvSpPr>
          <p:spPr>
            <a:xfrm flipH="1">
              <a:off x="5892840" y="3468240"/>
              <a:ext cx="245160" cy="28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0" name="Line 13"/>
          <p:cNvSpPr/>
          <p:nvPr/>
        </p:nvSpPr>
        <p:spPr>
          <a:xfrm>
            <a:off x="5543640" y="4419720"/>
            <a:ext cx="3352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1" name="Group 14"/>
          <p:cNvGrpSpPr/>
          <p:nvPr/>
        </p:nvGrpSpPr>
        <p:grpSpPr>
          <a:xfrm>
            <a:off x="819000" y="4762440"/>
            <a:ext cx="2190960" cy="368280"/>
            <a:chOff x="819000" y="4762440"/>
            <a:chExt cx="2190960" cy="368280"/>
          </a:xfrm>
        </p:grpSpPr>
        <p:sp>
          <p:nvSpPr>
            <p:cNvPr id="672" name="Line 15"/>
            <p:cNvSpPr/>
            <p:nvPr/>
          </p:nvSpPr>
          <p:spPr>
            <a:xfrm>
              <a:off x="819000" y="5105520"/>
              <a:ext cx="2190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Text Box 16"/>
            <p:cNvSpPr/>
            <p:nvPr/>
          </p:nvSpPr>
          <p:spPr>
            <a:xfrm>
              <a:off x="1335600" y="4762440"/>
              <a:ext cx="137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lt;&lt;include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Group 17"/>
          <p:cNvGrpSpPr/>
          <p:nvPr/>
        </p:nvGrpSpPr>
        <p:grpSpPr>
          <a:xfrm>
            <a:off x="6686640" y="5429160"/>
            <a:ext cx="2190600" cy="368280"/>
            <a:chOff x="6686640" y="5429160"/>
            <a:chExt cx="2190600" cy="368280"/>
          </a:xfrm>
        </p:grpSpPr>
        <p:sp>
          <p:nvSpPr>
            <p:cNvPr id="675" name="Line 18"/>
            <p:cNvSpPr/>
            <p:nvPr/>
          </p:nvSpPr>
          <p:spPr>
            <a:xfrm>
              <a:off x="6686640" y="5772240"/>
              <a:ext cx="2190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Text Box 19"/>
            <p:cNvSpPr/>
            <p:nvPr/>
          </p:nvSpPr>
          <p:spPr>
            <a:xfrm>
              <a:off x="7202880" y="5429160"/>
              <a:ext cx="13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lt;&lt;extend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7" name="Date Placeholder 19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Appendix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Slide Number Placeholder 2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2B407-38F5-48A0-9441-49F4940A07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2"/>
          <p:cNvSpPr/>
          <p:nvPr/>
        </p:nvSpPr>
        <p:spPr>
          <a:xfrm>
            <a:off x="22096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 and Symbol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role, not an individu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d with the functioning of the system at some basic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ed by stick fig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ca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s a single system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ed as an eclip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D469E-22B5-40EC-AD2F-9703C258E8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Appendix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2"/>
          <p:cNvSpPr/>
          <p:nvPr/>
        </p:nvSpPr>
        <p:spPr>
          <a:xfrm>
            <a:off x="22096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 and Symbol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stem bounda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cludes all the relevant use ca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oundary is the dividing line between the system and its enviro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ases are within the bound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ors are outside of the bound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ed as a b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Appendix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8B141-BD44-4F9B-BA10-56C0AE5242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2"/>
          <p:cNvSpPr/>
          <p:nvPr/>
        </p:nvSpPr>
        <p:spPr>
          <a:xfrm>
            <a:off x="22096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Mike Mitri</dc:creator>
  <dc:description/>
  <dc:language>en-US</dc:language>
  <cp:lastModifiedBy>Kate Stephenson</cp:lastModifiedBy>
  <dcterms:modified xsi:type="dcterms:W3CDTF">2013-02-08T00:49:23Z</dcterms:modified>
  <cp:revision>233</cp:revision>
  <dc:subject/>
  <dc:title>Modern Systems Analysis and Design Ch1</dc:title>
</cp:coreProperties>
</file>