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7622-0413-4F6C-92C7-378E389154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876B-5F86-4F04-BF7E-8330592BF1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0236-EBFB-45D8-9BC8-42A4624AEB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9CCA-1F8B-4C41-9408-C40B755DD3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2A36-4547-40E3-8D47-97C2BC8E52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60281-1F0F-4B74-BB8D-5787F310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3EB9-BA1C-40C9-86C3-1DB03B28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0923-DB6B-4110-8EC6-6B276488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79B8-0681-4734-854E-8B549B3A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8148-949C-45E5-8A85-990AA237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D4628-E3A5-432E-9F5B-EB77D995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5499-4722-4C63-B4A2-188B2DAE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9650-5596-4363-A1D1-8C0EAF30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A785-832E-4FA5-BBBB-86CF28E2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7DF7-9546-43AE-97BF-F256C936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01F4-CE7D-49FE-BE3E-46FA6669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4641-9283-41FE-B234-1D99E652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4379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F30B-D18B-4FE5-8FCB-651ACB9E2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4D22-89F6-4F7F-9050-FB445115487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647960"/>
            <a:ext cx="8534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-Oriented Analysis and  Design: Activity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914400" y="45720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Edit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rey A. Hoff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y F. Geor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seph S. Valac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F3F0-3388-4ABB-A961-AC7B1478DD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 how to represent system logic with activity diagra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odeling: Activit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 conditional logic for the sequence of system activities needed to accomplish a business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show parallel and alternative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show the logic of a us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349B-0019-4C9A-AE8C-7B706B1F4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ctivity Diagram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ict the flow of control from activity to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in use case analysis to understand what actions need to tak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in identifying extensions in a us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work flow and business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sequential and concurrent steps in a computation 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CE12-E90A-4218-8CB7-69D7882702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0C8E-78C9-4D98-8015-8DC9C103C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609480" y="457200"/>
            <a:ext cx="5715000" cy="6019920"/>
            <a:chOff x="609480" y="457200"/>
            <a:chExt cx="5715000" cy="6019920"/>
          </a:xfrm>
        </p:grpSpPr>
        <p:pic>
          <p:nvPicPr>
            <p:cNvPr id="79" name="Picture 9" descr="Noname.gif"/>
            <p:cNvPicPr/>
            <p:nvPr/>
          </p:nvPicPr>
          <p:blipFill>
            <a:blip r:embed="rId1"/>
            <a:stretch/>
          </p:blipFill>
          <p:spPr>
            <a:xfrm>
              <a:off x="703080" y="457200"/>
              <a:ext cx="562140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10"/>
            <p:cNvSpPr/>
            <p:nvPr/>
          </p:nvSpPr>
          <p:spPr>
            <a:xfrm>
              <a:off x="609480" y="6069240"/>
              <a:ext cx="74916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2"/>
          <p:cNvSpPr/>
          <p:nvPr/>
        </p:nvSpPr>
        <p:spPr>
          <a:xfrm>
            <a:off x="6095880" y="30481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diagram for a customer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odeling: Activity Diagram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ements of Activity Diagram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behavior that an object carries out while in a particular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diamond symbol containing a condition whose results provide transitions to different paths of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ircular symbol where different paths conver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FBB3-D15E-4B3D-9B77-BDFB513282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odeling: Activity Diagram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beginning of paralle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end of paralle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mla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lumns representing different organizational units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AC3F-BD8B-4E65-A73E-7EA414337B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is appendix you learned how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o represent system logic with activity dia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F651-E4EB-4353-AA2C-6428D8031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id:3287383400_2177562"/>
          <p:cNvPicPr/>
          <p:nvPr/>
        </p:nvPicPr>
        <p:blipFill>
          <a:blip r:embed="rId1"/>
          <a:stretch/>
        </p:blipFill>
        <p:spPr>
          <a:xfrm>
            <a:off x="1066680" y="914400"/>
            <a:ext cx="7242120" cy="236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Rectangle 5"/>
          <p:cNvSpPr/>
          <p:nvPr/>
        </p:nvSpPr>
        <p:spPr>
          <a:xfrm>
            <a:off x="762120" y="5002200"/>
            <a:ext cx="7845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4 Pearson Education, Inc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ing as Prentice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Mike Mitri</dc:creator>
  <dc:description/>
  <dc:language>en-US</dc:language>
  <cp:lastModifiedBy>Kate Stephenson</cp:lastModifiedBy>
  <dcterms:modified xsi:type="dcterms:W3CDTF">2013-02-08T00:52:49Z</dcterms:modified>
  <cp:revision>206</cp:revision>
  <dc:subject/>
  <dc:title>Modern Systems Analysis and Design Ch1</dc:title>
</cp:coreProperties>
</file>