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14FB-2E1F-4BA8-9A0C-FD090F134E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3F50-055A-4C21-BB26-970162389D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7FFA-7F79-49A3-959D-9E35D2F850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13DE-1120-4A65-B03F-CBBED53089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5F94-B6B3-4B1E-AE7A-FA92E1694C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D6AD-2C03-4969-806F-ABF0B6CC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6C4D-B530-4C2E-BCE3-B02B944C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D8F1-2DE5-4E92-A95D-936979AA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E6A7-B60C-4FB2-AD1F-6AF28A60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08F1-FD21-4E06-B979-F5F0CA7F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0415-559F-4C59-896A-D333256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596A3-BE52-44CB-98D0-1167D8B4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4370-4F67-467D-9439-96BFF3EC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588A-C415-4911-BB80-1ADF07BF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B6542-D515-4524-9A40-23F01F8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5FB6-5808-4DD5-88CA-FA260A6A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E75D-0D35-4DDF-89B2-FD844863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4379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609F-3698-45A4-B39B-74C88F470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EA46-C0DD-4DA9-94DC-C671DDE10D9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6479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-Oriented Analysis and  Design: Activit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14400" y="45720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Edi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rey A. Hoff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y F. Geor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ph S. Valac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AEEE-38D6-4599-9DCA-415EBD54C2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 how to represent system logic with activity diagra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deling: Activity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conditional logic for the sequence of system activities needed to accomplish a business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show parallel and alternative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show the logic of a us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2AEE-3976-4EAC-A500-035474293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ctivity Diagram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ict the flow of control from activity to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in use case analysis to understand what actions need to tak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in identifying extensions in a us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work flow and business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sequential and concurrent steps in a computation 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509A-217A-4AF2-A90B-C53AB74D5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5B10-73CF-4F7E-AE2B-0FD55713B0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609480" y="457200"/>
            <a:ext cx="5715000" cy="6019920"/>
            <a:chOff x="609480" y="457200"/>
            <a:chExt cx="5715000" cy="6019920"/>
          </a:xfrm>
        </p:grpSpPr>
        <p:pic>
          <p:nvPicPr>
            <p:cNvPr id="79" name="Picture 9" descr="Noname.gif"/>
            <p:cNvPicPr/>
            <p:nvPr/>
          </p:nvPicPr>
          <p:blipFill>
            <a:blip r:embed="rId1"/>
            <a:stretch/>
          </p:blipFill>
          <p:spPr>
            <a:xfrm>
              <a:off x="703080" y="457200"/>
              <a:ext cx="562140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10"/>
            <p:cNvSpPr/>
            <p:nvPr/>
          </p:nvSpPr>
          <p:spPr>
            <a:xfrm>
              <a:off x="609480" y="6069240"/>
              <a:ext cx="74916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2"/>
          <p:cNvSpPr/>
          <p:nvPr/>
        </p:nvSpPr>
        <p:spPr>
          <a:xfrm>
            <a:off x="6095880" y="30481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diagram for a custom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deling: Activity Diagram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ements of Activity Diagram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behavior that an object carries out while in a particular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diamond symbol containing a condition whose results provide transitions to different paths of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ircular symbol where different paths conve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A676-C46F-486B-A703-03388E70D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deling: Activity Diagram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beginning of paralle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end of paralle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mla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lumns representing different organizational units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86AA-8215-4360-B4C3-8535209AA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43828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is appendix you learned how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o represent system logic with activity dia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6B3E-8698-4570-9063-36591E7A1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id:3287383400_2177562"/>
          <p:cNvPicPr/>
          <p:nvPr/>
        </p:nvPicPr>
        <p:blipFill>
          <a:blip r:embed="rId1"/>
          <a:stretch/>
        </p:blipFill>
        <p:spPr>
          <a:xfrm>
            <a:off x="1066680" y="914400"/>
            <a:ext cx="724212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Rectangle 5"/>
          <p:cNvSpPr/>
          <p:nvPr/>
        </p:nvSpPr>
        <p:spPr>
          <a:xfrm>
            <a:off x="762120" y="5002200"/>
            <a:ext cx="7845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4 Pearson Education, Inc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ing as Prenti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Mike Mitri</dc:creator>
  <dc:description/>
  <dc:language>en-US</dc:language>
  <cp:lastModifiedBy>Kate Stephenson</cp:lastModifiedBy>
  <dcterms:modified xsi:type="dcterms:W3CDTF">2013-02-08T00:52:49Z</dcterms:modified>
  <cp:revision>206</cp:revision>
  <dc:subject/>
  <dc:title>Modern Systems Analysis and Design Ch1</dc:title>
</cp:coreProperties>
</file>