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65FC-ED95-4CBE-84F5-2E23E6EDB8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E58-F8FF-47CC-B3D5-82CA0F4BF7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F8F0-93E1-4847-B1B0-36CC4E317C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4493-4488-4234-A8F8-1319AB9DBD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D033-7EC3-47E1-8C27-D023452905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98BD-96FF-4AEB-A5A3-89E1B7CCA1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055-926B-407F-A4F0-4F6C2AF318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1051-E60D-44CF-8AB3-06A870EE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5BF1-6AEE-44AC-94CB-F0712114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01EC-BE96-48EE-85B0-F4851ACA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BFAF-9785-41EA-BDE3-8D4135BC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57F3-22DA-468F-95D6-5B8891E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660A-F480-4787-BC44-722442D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ECEA-B14F-4A25-B68D-BC9DFE3D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6675-AED9-45A8-8B83-D924FFE9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0EC7-FD1A-41FD-AFE2-B1BEC3A3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9855-3D25-42ED-9D09-6CA48FA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13BC-1FB5-4600-B523-755B96B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1E5B-4C9F-4AF3-9051-5FB54CD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4379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9F9D-76DA-40B2-A8DE-D8E1B9A83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169A-C2D8-4D09-9BD5-87CF8BC88E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800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-Oriented Analysis and  Design: Sequenc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14400" y="45720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Edit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rey A. Hoff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y F. Geor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ph S. Valac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 appendix you lear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system logic with sequence dia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EE4D-CF5E-45A7-A51B-386D64608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id:3287383400_2177562"/>
          <p:cNvPicPr/>
          <p:nvPr/>
        </p:nvPicPr>
        <p:blipFill>
          <a:blip r:embed="rId1"/>
          <a:stretch/>
        </p:blipFill>
        <p:spPr>
          <a:xfrm>
            <a:off x="1066680" y="914400"/>
            <a:ext cx="724212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7" name="Rectangle 5"/>
          <p:cNvSpPr/>
          <p:nvPr/>
        </p:nvSpPr>
        <p:spPr>
          <a:xfrm>
            <a:off x="762120" y="5002200"/>
            <a:ext cx="7845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4 Pearson Education, Inc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ing as Prenti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A051-1D86-406B-B033-E8A0D11CE2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a221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how to represent system logic with sequence diagr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Modeling: Sequenc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ce diagra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s the interactions among objects during a certain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presented either in a generic form or in an instance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ic fo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all possible sequences of interactions – sequences corresponding to all the scenarios of a us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 fo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the sequence for only one sce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666-ADFB-448B-B4D7-7BEAA34A5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Modeling: Sequence Diagr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presented by boxes at top of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time during which an objec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by which objects communic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679-C05D-4AB1-AF13-5F783BFDD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Modeling: Sequence Diagr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time period during which an object performs an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nchronous mess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type of message in which the caller has to wait for the receiving object to finish executing the called operation before it can resume execution it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605F-CA24-43E8-A271-D4B068B93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Modeling: Sequence Diagr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 mess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message that transfers control from the sender to the recipient without describing the details of the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ynchronous mess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message in which the sender does not have to wait for the recipient to handle the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0D52-7AB0-4260-8B66-27046CCE0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5634-F1D3-423D-A4F1-3FFC60913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Noname.gif"/>
          <p:cNvPicPr/>
          <p:nvPr/>
        </p:nvPicPr>
        <p:blipFill>
          <a:blip r:embed="rId1"/>
          <a:stretch/>
        </p:blipFill>
        <p:spPr>
          <a:xfrm>
            <a:off x="304920" y="642960"/>
            <a:ext cx="6086520" cy="5572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6095880" y="41148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iagram for a class registration scenario without prerequi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93D3-2B88-4D11-B0AD-B2B477BCF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Noname.gif"/>
          <p:cNvPicPr/>
          <p:nvPr/>
        </p:nvPicPr>
        <p:blipFill>
          <a:blip r:embed="rId1"/>
          <a:stretch/>
        </p:blipFill>
        <p:spPr>
          <a:xfrm>
            <a:off x="609480" y="838080"/>
            <a:ext cx="6257880" cy="5067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5943600" y="144792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eneric sequence diagram for the prereq courses not completed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43828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4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CB2A-DBB2-40F7-ADA5-144E71B28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Appendix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Noname.gif"/>
          <p:cNvPicPr/>
          <p:nvPr/>
        </p:nvPicPr>
        <p:blipFill>
          <a:blip r:embed="rId1"/>
          <a:stretch/>
        </p:blipFill>
        <p:spPr>
          <a:xfrm>
            <a:off x="533520" y="533520"/>
            <a:ext cx="5645160" cy="5672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5715000" y="4419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-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iagram for Hoosier Burger’s Hire employee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Mike Mitri</dc:creator>
  <dc:description/>
  <dc:language>en-US</dc:language>
  <cp:lastModifiedBy>Kate Stephenson</cp:lastModifiedBy>
  <dcterms:modified xsi:type="dcterms:W3CDTF">2013-02-08T01:22:06Z</dcterms:modified>
  <cp:revision>207</cp:revision>
  <dc:subject/>
  <dc:title>Modern Systems Analysis and Design Ch1</dc:title>
</cp:coreProperties>
</file>