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8B8A-3A29-4AF8-84CA-CE85587BA4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BBB8-E2FE-42C2-8771-D11596B4A5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2B78-DDC8-4151-ABA8-87E855599C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ACA9-3881-4CEC-B346-EEE596642F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5CD2-5E62-448E-B5DA-D03A7C8539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0FBA-629A-4318-9BCF-A672605D22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0CCF-5D95-47A9-A821-487129129B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D9AD-9528-4FB6-A33E-5C613ABF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853D-07E5-490D-8530-31B1133F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C438-4B88-4370-812A-2D0B9C34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D940-14E8-470E-8AD4-40A83D1E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CEBB-257C-4000-A3FF-2D37A536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E46D-685C-4B5F-BA2B-BD29A5C9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3C5F-4569-49C6-AC1E-88CCC22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98D9-903F-413E-9FB7-CAA9F324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4286-A02C-4FD4-8D2D-99CD242B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583F-867D-4051-8D58-FEC83B59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749B-7EC1-4867-BAD3-E25D54AD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565D-60FD-41DB-9CD4-020CDDD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4379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7A08-6938-4A2A-85B7-4BB5BE6BA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8735-832C-44FB-917D-3EC9D8E218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8006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Analysis and  Design: Sequenc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14400" y="45720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Ed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rey A. Hoff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y F. Geor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ph S. Valac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is appendix you learn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present system logic with sequence dia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5809-5833-41C0-AB7B-1DF6DD964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id:3287383400_2177562"/>
          <p:cNvPicPr/>
          <p:nvPr/>
        </p:nvPicPr>
        <p:blipFill>
          <a:blip r:embed="rId1"/>
          <a:stretch/>
        </p:blipFill>
        <p:spPr>
          <a:xfrm>
            <a:off x="1066680" y="914400"/>
            <a:ext cx="724212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7" name="Rectangle 5"/>
          <p:cNvSpPr/>
          <p:nvPr/>
        </p:nvSpPr>
        <p:spPr>
          <a:xfrm>
            <a:off x="762120" y="5002200"/>
            <a:ext cx="7845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4 Pearson Education, Inc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ing as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4F78-7D8A-4497-859B-DC11D0B66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 how to represent system logic with sequence diagr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Modeling: Sequenc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ce diagra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icts the interactions among objects during a certain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presented either in a generic form or in an instance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ic fo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all possible sequences of interactions – sequences corresponding to all the scenarios of a us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 fo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the sequence for only one sce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5777-572B-4D95-8A9D-B604A0C644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Modeling: Sequence Diagram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a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presented by boxes at top of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time during which an object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by which objects communica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E49F-8ECF-4B14-BD02-16F47E634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Modeling: Sequence Diagram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time period during which an object performs an 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nchronous mess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type of message in which the caller has to wait for the receiving object to finish executing the called operation before it can resume execution it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CB02-42F2-4F00-873E-356B4351A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Modeling: Sequence Diagram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e mess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message that transfers control from the sender to the recipient without describing the details of the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ynchronous mess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message in which the sender does not have to wait for the recipient to handle the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ECBD-99C3-4753-A74C-93C2D335F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106-BB69-4574-8718-BBF8788D4D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Noname.gif"/>
          <p:cNvPicPr/>
          <p:nvPr/>
        </p:nvPicPr>
        <p:blipFill>
          <a:blip r:embed="rId1"/>
          <a:stretch/>
        </p:blipFill>
        <p:spPr>
          <a:xfrm>
            <a:off x="304920" y="642960"/>
            <a:ext cx="6086520" cy="5572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6095880" y="41148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iagram for a class registration scenario without prerequi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FEC4-6E97-47D4-AFA4-5579FA1F1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Noname.gif"/>
          <p:cNvPicPr/>
          <p:nvPr/>
        </p:nvPicPr>
        <p:blipFill>
          <a:blip r:embed="rId1"/>
          <a:stretch/>
        </p:blipFill>
        <p:spPr>
          <a:xfrm>
            <a:off x="609480" y="838080"/>
            <a:ext cx="6257880" cy="5067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5943600" y="144792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eneric sequence diagram for the prereq courses not completed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800A-C7FE-4DC5-B2C8-009934191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Noname.gif"/>
          <p:cNvPicPr/>
          <p:nvPr/>
        </p:nvPicPr>
        <p:blipFill>
          <a:blip r:embed="rId1"/>
          <a:stretch/>
        </p:blipFill>
        <p:spPr>
          <a:xfrm>
            <a:off x="533520" y="533520"/>
            <a:ext cx="5645160" cy="5672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5715000" y="4419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iagram for Hoosier Burger’s Hire employee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Mike Mitri</dc:creator>
  <dc:description/>
  <dc:language>en-US</dc:language>
  <cp:lastModifiedBy>Kate Stephenson</cp:lastModifiedBy>
  <dcterms:modified xsi:type="dcterms:W3CDTF">2013-02-08T01:22:06Z</dcterms:modified>
  <cp:revision>207</cp:revision>
  <dc:subject/>
  <dc:title>Modern Systems Analysis and Design Ch1</dc:title>
</cp:coreProperties>
</file>