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F932-E45D-40B1-92E5-777094C8E6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A7F5-2030-4AE8-A63D-4DAB5D6AD7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F913-4992-494D-9BA7-7DA4C36DF5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F2C84-1964-4176-AFEE-FBC51B0C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30879-61A1-4E33-8A7D-C1D3F637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63684-EB94-4BB4-ABEA-8CC86562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CB98-2443-4A58-87C8-B8FDEA29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10A8F-B121-4ACA-9DB4-45380580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B1A19-3FAC-4136-B29C-9F71C141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AB157-AC82-401E-9388-97D33322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21586-016F-45E4-A13B-77B381DA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1103D-E59B-437E-B5FE-AE34D182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2CE5B-8F7F-4BD9-AF6E-33E3BDA0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57F3D-8028-477B-BFA7-0A228CBA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39971-28D9-4AF9-8B36-062FAA58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53F4B-8FE6-4A96-B541-F48F9DF7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DE369-5F55-4C55-8022-7BCCC5D8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FAE30-5BC9-4476-99DA-BCB2FB66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AC799-CF9B-4497-A7C2-B318A12C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C4ECB-E3EF-44C2-B966-2A755313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25644-E7E8-4084-A71E-3F70033A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3E3BE-0BD7-4E7F-96AC-241512F5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F61E-5F3F-480C-A08C-98DA5A8A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C685-40E5-4CA4-8FDF-3158016A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761E-0CF9-4D18-A095-C4C044D8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CBB29-4152-4A72-ABB9-C9F1CD32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26692-A4C3-47F9-8352-FD50B11D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43792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F3C5-2739-40BA-A7B6-A94FDD6B86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4"/>
          </p:nvPr>
        </p:nvSpPr>
        <p:spPr>
          <a:xfrm>
            <a:off x="243792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2573-2F9E-415D-8A64-B6217350E9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28240" y="48006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914400" y="457200"/>
            <a:ext cx="7467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Edition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ffrey A. Hoff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ey F. Geor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seph S. Valac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B1AF-4676-4FF2-B47D-03AF8F8A95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 how to represent business processes with business process diagra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usiness Proc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method for accomplishing a particular task necessary for an organization to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usiness Process Modeling Notation (BPMN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siness processing modeling approach established by the Object Modeling Group (O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35D2-03A8-45FC-87F0-4C37D9A6A8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600" y="17521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trigger that initiates the start of 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n action that must take place for a process to be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te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decisio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hows the sequence of action in 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A847-86E9-4F66-A2F0-9BBCA058ED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629400" y="2286000"/>
            <a:ext cx="2486160" cy="3371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772080" cy="4143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Not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600" y="175212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event notation (e.g from message, or at particular tim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flow notation (sequence, default, or message f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93F4-91E9-4CBC-87C5-299E5C088A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847960" y="2590920"/>
            <a:ext cx="5610240" cy="3238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Not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600" y="1599840"/>
            <a:ext cx="601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mla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way to visually encapsulate 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way to encapsulate a process with two or more participants (collaborative diag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42E6-541F-48C0-A247-6CFD04D06D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DCD9-1A0B-4E8A-A1C3-ECB741902E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5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33520" y="487440"/>
            <a:ext cx="7924680" cy="52275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1447920" y="567864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icting a recruiting process with BP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is appendix you learn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present business processes with business process dia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72E9-4396-4C1B-869B-018774474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id:3287383400_2177562"/>
          <p:cNvPicPr/>
          <p:nvPr/>
        </p:nvPicPr>
        <p:blipFill>
          <a:blip r:embed="rId1"/>
          <a:stretch/>
        </p:blipFill>
        <p:spPr>
          <a:xfrm>
            <a:off x="1066680" y="914400"/>
            <a:ext cx="7242120" cy="236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1" name="Rectangle 5"/>
          <p:cNvSpPr/>
          <p:nvPr/>
        </p:nvSpPr>
        <p:spPr>
          <a:xfrm>
            <a:off x="762120" y="5002200"/>
            <a:ext cx="7845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4 Pearson Education, Inc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shing as Prentice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Mike Mitri</dc:creator>
  <dc:description/>
  <dc:language>en-US</dc:language>
  <cp:lastModifiedBy>Kate Stephenson</cp:lastModifiedBy>
  <dcterms:modified xsi:type="dcterms:W3CDTF">2013-02-08T01:23:49Z</dcterms:modified>
  <cp:revision>240</cp:revision>
  <dc:subject/>
  <dc:title>Modern Systems Analysis and Design Ch1</dc:title>
</cp:coreProperties>
</file>