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1CF7-B7A0-4486-8D7C-A7886AF84C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2DF2-BEF6-44DB-8B05-DFF26431B7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06E4-DC3F-4286-B2B8-3DD1528160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AC7AE-3AAC-4C62-A0A5-D18B466D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1F9E7-4AE5-45D9-8714-8AB23E31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0815C-59D9-48CE-8AEB-036D8187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AF50-16A2-4EF6-96B1-65F7061A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4450C-0A40-41C1-BF77-1D06D6C4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53792-FA9E-4A7B-AEB0-F3B13D1C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A01BB-F743-4479-9625-E15B71A6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986D1-AAB6-4512-B7D6-7DBE28E3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868D6-3892-4E14-8B87-802714DB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874D1-6A7F-49EB-9E42-EBD88A3B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05A32-9D8A-4456-9A78-E1D21175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9E3B5-4968-4FBF-922E-30BBDE88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F5772-7D7A-4434-9BD0-8ED09426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840FB-EF98-4E88-A2F2-D4DFA038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BDBC4-5C1B-465D-8FF8-C2BC779D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A8053-01CC-430F-9725-EBA32633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8BD45-8DFB-4C75-9CD1-B067B66E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5AB49-7E8F-40E7-B45B-3D26B7BB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09800-693D-49BE-93A7-8CE2DCCE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3AEED-1563-4AFA-A214-891C5AF7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3716D-CD45-4C9E-B8FE-8D68F024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53240-5BC4-49A9-8C40-3BC48301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2B8CC-37E1-4AB2-BC75-9290EC35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B6E10-DC14-411F-B064-9E59C383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43792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35BF-3BF1-4EEB-B176-385B50F092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4"/>
          </p:nvPr>
        </p:nvSpPr>
        <p:spPr>
          <a:xfrm>
            <a:off x="243792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AE73-25D4-4B4F-BF79-788F575E86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dt" idx="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28240" y="480060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914400" y="457200"/>
            <a:ext cx="7467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Edition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ffrey A. Hoff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ey F. Geor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seph S. Valac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97C3-B8EA-44DF-8BBF-BAF0B31148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 how to represent business processes with business process diagra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usiness Proces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method for accomplishing a particular task necessary for an organization to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usiness Process Modeling Notation (BPMN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siness processing modeling approach established by the Object Modeling Group (O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FF99-7479-4394-9B3A-8F7ADAFFB1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600" y="17521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trigger that initiates the start of a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n action that must take place for a process to be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te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decisio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hows the sequence of action in a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03FF-D2CC-48CE-BCBB-141676FE08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629400" y="2286000"/>
            <a:ext cx="2486160" cy="3371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772080" cy="4143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Not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8600" y="175212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event notation (e.g from message, or at particular tim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flow notation (sequence, default, or message fl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CA9B-E657-4C5B-ADE7-EE9CF48700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847960" y="2590920"/>
            <a:ext cx="5610240" cy="3238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Not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600" y="1599840"/>
            <a:ext cx="601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mla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way to visually encapsulate a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way to encapsulate a process with two or more participants (collaborative diag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445E-E95C-46AC-8AA3-8AC2C428AE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C832-9663-426C-B7D1-000B0D19EC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5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33520" y="487440"/>
            <a:ext cx="7924680" cy="52275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1447920" y="567864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-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icting a recruiting process with BP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is appendix you learn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represent business processes with business process dia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D0D9-9B6E-40D9-A6F3-7819BC119A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cid:3287383400_2177562"/>
          <p:cNvPicPr/>
          <p:nvPr/>
        </p:nvPicPr>
        <p:blipFill>
          <a:blip r:embed="rId1"/>
          <a:stretch/>
        </p:blipFill>
        <p:spPr>
          <a:xfrm>
            <a:off x="1066680" y="914400"/>
            <a:ext cx="7242120" cy="2363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1" name="Rectangle 5"/>
          <p:cNvSpPr/>
          <p:nvPr/>
        </p:nvSpPr>
        <p:spPr>
          <a:xfrm>
            <a:off x="762120" y="5002200"/>
            <a:ext cx="7845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right © 2014 Pearson Education, Inc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shing as Prentice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Mike Mitri</dc:creator>
  <dc:description/>
  <dc:language>en-US</dc:language>
  <cp:lastModifiedBy>Kate Stephenson</cp:lastModifiedBy>
  <dcterms:modified xsi:type="dcterms:W3CDTF">2013-02-08T01:23:49Z</dcterms:modified>
  <cp:revision>240</cp:revision>
  <dc:subject/>
  <dc:title>Modern Systems Analysis and Design Ch1</dc:title>
</cp:coreProperties>
</file>