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3202-3A19-4C81-BCF5-194C32DD17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711-3C61-4FD0-8A99-F1DB348428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3E14-2817-4EA2-8C25-6A0B912C84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54CC-1C78-49AE-B21B-8652C42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8978-9563-49B5-B248-5E4E8C0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C30A-421C-4C17-8231-B14A29F6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5499-4449-4C4E-97A3-AFD95FD5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E2E1-E027-4AD0-950F-D84B0A26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AC2C-2423-4CBF-AF7C-02DFD1A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A395-1130-4D57-A97E-4714389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D1CD-4B48-4007-8E86-3077320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6C2D-207A-4E67-8D31-23BBF406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2C63-08F1-42B9-A024-E233DF9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D860-39A0-448E-97C7-59EC742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8220-F3D6-4062-8E16-B277765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40C-3C80-47F0-A579-42BA69B67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FD3-EB37-4591-A832-8E4C9FFA0E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419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De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Modeling – Cla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F53-914A-4DA2-B036-17CAD04F2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dicates how many objects participate in a given relation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.10 means minimum of 0 and maximum of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 2   means can be either 1 or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means any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associations are analogous to E-R relationships and UML multiplicities are analogous to E-R cardin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785-3E8D-4513-80E7-67223AA3F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57200" y="23623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association relationships  of different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Noname.gif"/>
          <p:cNvPicPr/>
          <p:nvPr/>
        </p:nvPicPr>
        <p:blipFill>
          <a:blip r:embed="rId1"/>
          <a:stretch/>
        </p:blipFill>
        <p:spPr>
          <a:xfrm>
            <a:off x="3048120" y="1066680"/>
            <a:ext cx="5190840" cy="536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060C-0654-4BB8-9A1A-24423D922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Associatio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160000" y="1523880"/>
            <a:ext cx="47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binary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Noname.gif"/>
          <p:cNvPicPr/>
          <p:nvPr/>
        </p:nvPicPr>
        <p:blipFill>
          <a:blip r:embed="rId1"/>
          <a:stretch/>
        </p:blipFill>
        <p:spPr>
          <a:xfrm>
            <a:off x="609480" y="2209680"/>
            <a:ext cx="8229600" cy="381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ssociativ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ociative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association that has attributes or operations of its own or that participates in relationships with oth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association classes are analogous to E-R associative 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and inheritance are implemented via superclass/subclasses in UML and via supertypes/subtypes in E-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B4B-9226-43B5-B57D-79AC1B13A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Associative Class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B6C-9EF5-405D-B0AF-530D5DF4C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608840" y="1905120"/>
            <a:ext cx="58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iagram showing associativ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Noname.gif"/>
          <p:cNvPicPr/>
          <p:nvPr/>
        </p:nvPicPr>
        <p:blipFill>
          <a:blip r:embed="rId1"/>
          <a:stretch/>
        </p:blipFill>
        <p:spPr>
          <a:xfrm>
            <a:off x="304920" y="2438280"/>
            <a:ext cx="8229600" cy="37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Stereotypes fo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98CC-17DA-4AD0-ACBB-454CAFD4E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79960" y="4419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1 Stere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Noname.gif"/>
          <p:cNvPicPr/>
          <p:nvPr/>
        </p:nvPicPr>
        <p:blipFill>
          <a:blip r:embed="rId1"/>
          <a:stretch/>
        </p:blipFill>
        <p:spPr>
          <a:xfrm>
            <a:off x="942840" y="2495520"/>
            <a:ext cx="7258320" cy="18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FAC-5A97-41F7-90C3-C058696BD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stract 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class that has no direct instances but whose descendants may have direct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rete 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class that can have direct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FC7-6EF9-4051-A2A9-F74F4BF0E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986760" y="205740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generalizations, inheritance,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Noname.gif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AD3-A2D4-45D7-84CA-F98290291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key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scendant may be descended from more than one of the sub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descendant may not be descended from more than one of the sub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ll subclasses have been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me subclasses have been specified, but the list is known to be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153-D9C2-4D72-9DAD-0D16F5B11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scope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ttribute of a class that specifies a value common to an entity class, rather than a specific value for an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88B-7E49-438C-B54E-22062E9FB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sely define each of the following key data modeling terms: object, state, behavior, object class, class diagram, operation, encapsulation, association role, abstract class, polymorphism, aggregation, and 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lass diagram to represent common business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unique capabilities of class diagrams compared with E-R diagrams for model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Noname.gif"/>
          <p:cNvPicPr/>
          <p:nvPr/>
        </p:nvPicPr>
        <p:blipFill>
          <a:blip r:embed="rId1"/>
          <a:stretch/>
        </p:blipFill>
        <p:spPr>
          <a:xfrm>
            <a:off x="762120" y="1600200"/>
            <a:ext cx="6705360" cy="4610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99E1-A484-48EC-814A-72105E802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5410080" y="4495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-33 Polymorphism, abstract operation, class-scope attribute, and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8DD-BAC4-47C8-ABF6-4D870E269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Generaliz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stract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the form or protocol of the operation, but not its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implementation of 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same operation may apply to two or more classes in different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rt-of relationship between a component object and an aggregat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with open 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art object that belongs to only one whole object and that lives and dies with the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with filled 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53B-5E65-4C43-9374-78070F61B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and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B73-1C97-4E60-A8EB-F5A38F9A6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235240" y="190512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 and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Noname.gif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34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Noname.gif"/>
          <p:cNvPicPr/>
          <p:nvPr/>
        </p:nvPicPr>
        <p:blipFill>
          <a:blip r:embed="rId1"/>
          <a:stretch/>
        </p:blipFill>
        <p:spPr>
          <a:xfrm>
            <a:off x="1143000" y="1828800"/>
            <a:ext cx="6896160" cy="3971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Conceptual Data Modeling at Hoosier Bu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236-F928-4165-B1EA-656724F1E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310040" y="5638680"/>
            <a:ext cx="67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0 data flow diagram for Hoosier Burger’s n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inventory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Conceptual Data Modeling at Hoosier Burge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489-BBDE-471A-8CAC-1525967B3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fg09_03600"/>
          <p:cNvPicPr/>
          <p:nvPr/>
        </p:nvPicPr>
        <p:blipFill>
          <a:blip r:embed="rId1"/>
          <a:stretch/>
        </p:blipFill>
        <p:spPr>
          <a:xfrm>
            <a:off x="914400" y="1828800"/>
            <a:ext cx="7486560" cy="4232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557280" y="5943600"/>
            <a:ext cx="80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decision table for Hoosier Burger’s inventory re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Noname.gif"/>
          <p:cNvPicPr/>
          <p:nvPr/>
        </p:nvPicPr>
        <p:blipFill>
          <a:blip r:embed="rId1"/>
          <a:stretch/>
        </p:blipFill>
        <p:spPr>
          <a:xfrm>
            <a:off x="2819520" y="1539720"/>
            <a:ext cx="5105160" cy="4827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Conceptual Data Modeling at Hoosier Burger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D96-54D6-449D-852F-738DB8807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0880" y="2743200"/>
            <a:ext cx="167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lass diagram for Hoosier Burger’s inventory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appendix you learned how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sely define each of the following key data modeling terms: object, state, behavior, object class, class diagram, operation, encapsulation, association role, abstract class, polymorphism, aggregation, and 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lass diagram to represent common business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unique capabilities of class diagrams compared with E-R diagrams for model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C5E-F06C-4BCD-B2D9-60022970A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DA1-35F9-4DD1-BF18-2EECA6ABE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entity with a well-defined role in an application domain; has state, behavior, and identity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ncompasses an object’s properties (attributes and relationships) and the values of thos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071A-062F-4B3D-A98F-9E2BCF91C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hav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: represents how an object acts and re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niqueness—no two objects are the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 clas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: a logical grouping of objects that have the same (or similar) attributes, relationships, and behaviors (metho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8C7C-2310-4E27-8738-09EF12B93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diagram that shows the static structure of object classes, their internal structure, and the relationships in which they particip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L classes are analogous to E-R ent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55D0-2883-47CC-8CC4-3BCB7B8B6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678320" y="213372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8-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L class diagram showing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Noname.gif"/>
          <p:cNvPicPr/>
          <p:nvPr/>
        </p:nvPicPr>
        <p:blipFill>
          <a:blip r:embed="rId1"/>
          <a:stretch/>
        </p:blipFill>
        <p:spPr>
          <a:xfrm>
            <a:off x="533520" y="2666880"/>
            <a:ext cx="815184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CCB4-BFB9-4520-B6A3-6C22A1A87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Objects and Clas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unction or a service that is provided by all the instances of a class to invoke behavior in an object by passing a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technique of hiding the internal implementation details of an object from its externa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FF15-530C-4C60-AD7A-22E99F40B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creates a new instance of a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ccesses the state of an object but does not alter the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date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lters the state of an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 Scope Op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n operation that applies to a class rather than an object in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EBC-7055-4D69-8BAE-D1CA3435B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Appen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Assoc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relationship among instances of object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sociation ro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name given to the end of an association where it connects to a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36:27Z</dcterms:modified>
  <cp:revision>243</cp:revision>
  <dc:subject/>
  <dc:title>Modern Systems Analysis and Design Ch1</dc:title>
</cp:coreProperties>
</file>