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F023-222C-48AA-A34A-8B8C0A771B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05DD-812D-4EAE-86C7-2117BF6C81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2045-636D-4465-B5DF-58A67996B5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A811-6B6D-46C8-824B-45CB576E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489D-3757-4DE0-B885-D4E0BCC5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FE5E-5490-4ACC-9CD9-E06AD361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9935-03CC-4890-9F9F-7E729921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80D9-87ED-4D44-BCDD-C445494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C7F0-F9D2-4295-9F77-FBD1B392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595B-E942-4F63-83BD-A93C18FF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36C5-C03B-46B3-BDE4-4073D32B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2ECF-2245-4AD1-AE66-EFD2554E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F51C-39BB-4AF4-BA2B-2B8F3CB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A900-5856-4AEC-918B-33E75419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83DD-E726-4638-87FA-21839A5F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1EFC-DCB4-41E9-87F0-1D71DD477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0C26-4FF7-4887-BA9D-1508FB3032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4197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Analysis and De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Modeling – Cla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14400" y="457200"/>
            <a:ext cx="74674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F7AA-7A85-4726-A981-9076BDEA6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Association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dicates how many objects participate in a given relation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.10 means minimum of 0 and maximum of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, 2   means can be either 1 or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means any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associations are analogous to E-R relationships and UML multiplicities are analogous to E-R cardin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4F34-95B8-4FDC-8C76-FA7C0CF97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ing Association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457200" y="23623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association relationships  of different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Noname.gif"/>
          <p:cNvPicPr/>
          <p:nvPr/>
        </p:nvPicPr>
        <p:blipFill>
          <a:blip r:embed="rId1"/>
          <a:stretch/>
        </p:blipFill>
        <p:spPr>
          <a:xfrm>
            <a:off x="3048120" y="1066680"/>
            <a:ext cx="5190840" cy="536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5D23-5C6E-443E-B434-CC93EC58B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ing Association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160000" y="1523880"/>
            <a:ext cx="47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binary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Noname.gif"/>
          <p:cNvPicPr/>
          <p:nvPr/>
        </p:nvPicPr>
        <p:blipFill>
          <a:blip r:embed="rId1"/>
          <a:stretch/>
        </p:blipFill>
        <p:spPr>
          <a:xfrm>
            <a:off x="609480" y="2209680"/>
            <a:ext cx="8229600" cy="381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Associativ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ociative 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association that has attributes or operations of its own or that participates in relationships with other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association classes are analogous to E-R associative ent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and inheritance are implemented via superclass/subclasses in UML and via supertypes/subtypes in E-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7105-2573-4C63-8611-A5D017064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Associative Class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BF49-E28E-4029-BE39-75628A7B7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608840" y="1905120"/>
            <a:ext cx="58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iagram showing associativ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Noname.gif"/>
          <p:cNvPicPr/>
          <p:nvPr/>
        </p:nvPicPr>
        <p:blipFill>
          <a:blip r:embed="rId1"/>
          <a:stretch/>
        </p:blipFill>
        <p:spPr>
          <a:xfrm>
            <a:off x="304920" y="2438280"/>
            <a:ext cx="8229600" cy="37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Stereotypes for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C0B5-F85D-4D5E-BE29-BDF6701CB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79960" y="4419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31 Stere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Noname.gif"/>
          <p:cNvPicPr/>
          <p:nvPr/>
        </p:nvPicPr>
        <p:blipFill>
          <a:blip r:embed="rId1"/>
          <a:stretch/>
        </p:blipFill>
        <p:spPr>
          <a:xfrm>
            <a:off x="942840" y="2495520"/>
            <a:ext cx="7258320" cy="18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53C9-9FC3-4093-8FD0-B3C6BAB30A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stract cl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class that has no direct instances but whose descendants may have direct inst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rete cl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class that can have direct inst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B100-E1E0-478B-9D30-55F622034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986760" y="2057400"/>
            <a:ext cx="71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generalizations, inheritance, an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Noname.gif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8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0011-F347-481F-932E-C02C30A08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key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descendant may be descended from more than one of the sub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descendant may not be descended from more than one of the sub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ll subclasses have been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me subclasses have been specified, but the list is known to be 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D874-6F18-4D5F-8F64-596EC6E29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-scope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attribute of a class that specifies a value common to an entity class, rather than a specific value for an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1C8-D7F1-4B37-BFC8-B7F0A2FF9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sely define each of the following key data modeling terms: object, state, behavior, object class, class diagram, operation, encapsulation, association role, abstract class, polymorphism, aggregation, and com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class diagram to represent common business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unique capabilities of class diagrams compared with E-R diagrams for model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Noname.gif"/>
          <p:cNvPicPr/>
          <p:nvPr/>
        </p:nvPicPr>
        <p:blipFill>
          <a:blip r:embed="rId1"/>
          <a:stretch/>
        </p:blipFill>
        <p:spPr>
          <a:xfrm>
            <a:off x="762120" y="1600200"/>
            <a:ext cx="6705360" cy="4610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BAAF-534D-4AD1-876E-B8E307E3B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5410080" y="4495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33 Polymorphism, abstract operation, class-scope attribute, and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8BF4-FF82-43D3-9C73-A59098A8E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stract op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the form or protocol of the operation, but not its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implementation of an 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same operation may apply to two or more classes in different 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art-of relationship between a component object and an aggregat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with open diam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art object that belongs to only one whole object and that lives and dies with the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with filled diam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7E9C-F3A7-4FCA-9DA0-4FA79911E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and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3208-B860-4794-8858-87C50665F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235240" y="190512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ion and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Noname.gif"/>
          <p:cNvPicPr/>
          <p:nvPr/>
        </p:nvPicPr>
        <p:blipFill>
          <a:blip r:embed="rId1"/>
          <a:stretch/>
        </p:blipFill>
        <p:spPr>
          <a:xfrm>
            <a:off x="1066680" y="2514600"/>
            <a:ext cx="7315200" cy="34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Noname.gif"/>
          <p:cNvPicPr/>
          <p:nvPr/>
        </p:nvPicPr>
        <p:blipFill>
          <a:blip r:embed="rId1"/>
          <a:stretch/>
        </p:blipFill>
        <p:spPr>
          <a:xfrm>
            <a:off x="1143000" y="1828800"/>
            <a:ext cx="6896160" cy="3971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of Conceptual Data Modeling at Hoosier Bu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2EB3-4CF5-49D7-8F7C-3C107D2CE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310040" y="5638680"/>
            <a:ext cx="67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0 data flow diagram for Hoosier Burger’s n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inventory 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of Conceptual Data Modeling at Hoosier Burger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2198-44D4-43CA-8031-5BD7FFD33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fg09_03600"/>
          <p:cNvPicPr/>
          <p:nvPr/>
        </p:nvPicPr>
        <p:blipFill>
          <a:blip r:embed="rId1"/>
          <a:stretch/>
        </p:blipFill>
        <p:spPr>
          <a:xfrm>
            <a:off x="914400" y="1828800"/>
            <a:ext cx="7486560" cy="4232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557280" y="5943600"/>
            <a:ext cx="80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decision table for Hoosier Burger’s inventory re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Noname.gif"/>
          <p:cNvPicPr/>
          <p:nvPr/>
        </p:nvPicPr>
        <p:blipFill>
          <a:blip r:embed="rId1"/>
          <a:stretch/>
        </p:blipFill>
        <p:spPr>
          <a:xfrm>
            <a:off x="2819520" y="1539720"/>
            <a:ext cx="5105160" cy="4827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of Conceptual Data Modeling at Hoosier Burger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1758-C83F-489F-A77E-15FE20378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80880" y="2743200"/>
            <a:ext cx="167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lass diagram for Hoosier Burger’s inventory 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appendix you learned how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sely define each of the following key data modeling terms: object, state, behavior, object class, class diagram, operation, encapsulation, association role, abstract class, polymorphism, aggregation, and com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class diagram to represent common business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unique capabilities of class diagrams compared with E-R diagrams for model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978D-FFED-4CBF-8F70-496F8FA08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6F69-94C9-46DE-B296-11A3345B2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entity with a well-defined role in an application domain; has state, behavior, and identity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encompasses an object’s properties (attributes and relationships) and the values of thos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4E1F-CFD7-4F87-A36D-52275D6F7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havi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: represents how an object acts and re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niqueness—no two objects are the s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 clas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: a logical grouping of objects that have the same (or similar) attributes, relationships, and behaviors (metho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D8F0-386B-4AD9-8D19-F7279AC96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 dia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diagram that shows the static structure of object classes, their internal structure, and the relationships in which they particip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L classes are analogous to E-R ent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D342-181E-4049-BD58-1EC7F0603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678320" y="213372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 class diagram showing two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Noname.gif"/>
          <p:cNvPicPr/>
          <p:nvPr/>
        </p:nvPicPr>
        <p:blipFill>
          <a:blip r:embed="rId1"/>
          <a:stretch/>
        </p:blipFill>
        <p:spPr>
          <a:xfrm>
            <a:off x="533520" y="2666880"/>
            <a:ext cx="8151840" cy="312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7BA8-0CCE-438B-9D56-2C8D22A926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function or a service that is provided by all the instances of a class to invoke behavior in an object by passing a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technique of hiding the internal implementation details of an object from its external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6E13-BE86-4748-A4B5-0FDEAB754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operation that creates a new instance of a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operation that accesses the state of an object but does not alter the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date Op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operation that alters the state of an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 Scope Op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operation that applies to a class rather than an object in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9BD1-2EE0-4930-A9AD-B4B012A66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Assoc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relationship among instances of object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sociation ro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name given to the end of an association where it connects to a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1:36:27Z</dcterms:modified>
  <cp:revision>243</cp:revision>
  <dc:subject/>
  <dc:title>Modern Systems Analysis and Design Ch1</dc:title>
</cp:coreProperties>
</file>