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32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328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E0C8-0168-4C36-AE9E-AA7A6F443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AED6-AC5E-44A7-99C1-4504B27C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E272-276A-4C81-B384-B4D0B5BA2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1BD6-4F16-46D7-BA74-DDFE2263B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45BE-901E-4578-8E92-2D0851BE8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4647-FFEE-4F5E-A823-CA2658FEC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DD2A-F16B-428C-AA8B-FE29B45E4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004D-CA7F-405F-8A1D-F5648DF3C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7126-FBF5-41B3-8D99-1F30E058E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2E9B-627D-4231-BA4B-C17AD0AA3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DF3F-30EB-49F6-B716-3F3368F12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07E5-A720-44C0-A4C3-9AC6F600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2B9A-55BC-47B1-968A-568E03764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40FB-4AC8-448E-9F79-FC87949B1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6817-E1BF-423B-B74B-04B12995C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FB1E-D77B-4FF6-B830-283B14A81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EF6-8952-430C-AE7C-A6FBE404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0C6-2659-453D-8D4E-8D72047B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925-9642-4D78-96C2-24B369D1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E6E-638F-4C42-8CFD-D1866D95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8EE-CAA9-4116-A1F8-9531ED06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936-F496-4C8F-937C-0ACF3AF9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DC5-8B8D-48FF-ADFF-8753C9D7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3F1-2931-45E3-9239-49BD4135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C41-15F4-4AD8-8447-4AADEC9A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43E-B798-4EE2-B730-2E093EC2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B17-F0EB-409F-9490-E5B7427F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E23-790F-403E-A503-9980CE1C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D5C4-D417-4ACB-A3FF-FF8F00CD1E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0"/>
          <p:cNvSpPr/>
          <p:nvPr/>
        </p:nvSpPr>
        <p:spPr>
          <a:xfrm>
            <a:off x="1476360" y="-56880"/>
            <a:ext cx="766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Home visiting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84360" y="435780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0" y="303048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inical Application of Community Health Nursing (NUR 4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ome visiting eval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(chronic cas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887886E-98BA-4187-B9B5-83943991277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26" descr="شعار الكلية"/>
          <p:cNvPicPr/>
          <p:nvPr/>
        </p:nvPicPr>
        <p:blipFill>
          <a:blip r:embed="rId2"/>
          <a:stretch/>
        </p:blipFill>
        <p:spPr>
          <a:xfrm>
            <a:off x="3309840" y="709560"/>
            <a:ext cx="22622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2"/>
          <p:cNvSpPr/>
          <p:nvPr/>
        </p:nvSpPr>
        <p:spPr>
          <a:xfrm>
            <a:off x="250920" y="1341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8532720" y="1268280"/>
            <a:ext cx="306360" cy="122400"/>
            <a:chOff x="8532720" y="1268280"/>
            <a:chExt cx="306360" cy="122400"/>
          </a:xfrm>
        </p:grpSpPr>
        <p:sp>
          <p:nvSpPr>
            <p:cNvPr id="180" name="AutoShape 7"/>
            <p:cNvSpPr/>
            <p:nvPr/>
          </p:nvSpPr>
          <p:spPr>
            <a:xfrm>
              <a:off x="8532720" y="126828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861840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870408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11280" y="620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s in conducting home vis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285840" y="157176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t the patient and introduce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the purpose of th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patient and determine the health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the bag in a convenient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the nursing care needed and give health teac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all important date, observation and care rend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appointment for a return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8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5B65B4F-FCD5-49F3-B539-90E803CD6A0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2"/>
          <p:cNvSpPr/>
          <p:nvPr/>
        </p:nvSpPr>
        <p:spPr>
          <a:xfrm>
            <a:off x="250920" y="1341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8532720" y="1268280"/>
            <a:ext cx="306360" cy="122400"/>
            <a:chOff x="8532720" y="1268280"/>
            <a:chExt cx="306360" cy="122400"/>
          </a:xfrm>
        </p:grpSpPr>
        <p:sp>
          <p:nvSpPr>
            <p:cNvPr id="194" name="AutoShape 7"/>
            <p:cNvSpPr/>
            <p:nvPr/>
          </p:nvSpPr>
          <p:spPr>
            <a:xfrm>
              <a:off x="8532720" y="126828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8"/>
            <p:cNvSpPr/>
            <p:nvPr/>
          </p:nvSpPr>
          <p:spPr>
            <a:xfrm>
              <a:off x="861840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9"/>
            <p:cNvSpPr/>
            <p:nvPr/>
          </p:nvSpPr>
          <p:spPr>
            <a:xfrm>
              <a:off x="870408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0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F80393C-DD6F-4CD5-80D0-21DB9DC1D28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4"/>
          <p:cNvSpPr/>
          <p:nvPr/>
        </p:nvSpPr>
        <p:spPr>
          <a:xfrm>
            <a:off x="457200" y="1628640"/>
            <a:ext cx="8435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visits cost less than hospital care, with better outcomes, especially when chronic health issues are invol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have greater control over their health and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unity health nurse gains access to families to provide health education and other prevention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can observe family and environment factors that influence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visits allow for primary intervention, to prevent disease or injury from occur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visits facilitate family participation and promote family foc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1130400" y="476280"/>
            <a:ext cx="57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dvantages of home visi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250920" y="1341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8532720" y="1268280"/>
            <a:ext cx="306360" cy="122400"/>
            <a:chOff x="8532720" y="1268280"/>
            <a:chExt cx="306360" cy="122400"/>
          </a:xfrm>
        </p:grpSpPr>
        <p:sp>
          <p:nvSpPr>
            <p:cNvPr id="208" name="AutoShape 7"/>
            <p:cNvSpPr/>
            <p:nvPr/>
          </p:nvSpPr>
          <p:spPr>
            <a:xfrm>
              <a:off x="8532720" y="126828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861840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870408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1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23E463D-2A26-4CE4-801D-08F16A56940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14"/>
          <p:cNvSpPr/>
          <p:nvPr/>
        </p:nvSpPr>
        <p:spPr>
          <a:xfrm>
            <a:off x="250920" y="1628640"/>
            <a:ext cx="87138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visits are time consuming; travel time is required to get to the persons needing ca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easy access to emergency equipment or consultation with other health professionals if need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visits may present issues regarding the nurse personal safety in some community or family setting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has less control over the care setting (for example, cleanliness, noise, privacy, or distraction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1105200" y="47628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sadvantages of home vis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250920" y="1341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8532720" y="1268280"/>
            <a:ext cx="306360" cy="122400"/>
            <a:chOff x="8532720" y="1268280"/>
            <a:chExt cx="306360" cy="122400"/>
          </a:xfrm>
        </p:grpSpPr>
        <p:sp>
          <p:nvSpPr>
            <p:cNvPr id="222" name="AutoShape 7"/>
            <p:cNvSpPr/>
            <p:nvPr/>
          </p:nvSpPr>
          <p:spPr>
            <a:xfrm>
              <a:off x="8532720" y="126828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8"/>
            <p:cNvSpPr/>
            <p:nvPr/>
          </p:nvSpPr>
          <p:spPr>
            <a:xfrm>
              <a:off x="861840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9"/>
            <p:cNvSpPr/>
            <p:nvPr/>
          </p:nvSpPr>
          <p:spPr>
            <a:xfrm>
              <a:off x="870408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2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3CD7298-3D2D-4120-B569-FE1CBF265DB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14"/>
          <p:cNvSpPr/>
          <p:nvPr/>
        </p:nvSpPr>
        <p:spPr>
          <a:xfrm>
            <a:off x="250920" y="836640"/>
            <a:ext cx="8642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include equipment for basic assessment, medical asepsis, and waste dis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recautions must be followed to avoid contamination from blood, body secretions, excretions, or contaminated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ash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se gl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ar eye and fac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ar g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ndle client care equipment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ean environmental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se proper sharps disposal conta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821520" y="46656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mmunity health nurse 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2"/>
          <p:cNvSpPr/>
          <p:nvPr/>
        </p:nvSpPr>
        <p:spPr>
          <a:xfrm>
            <a:off x="250920" y="1341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6"/>
          <p:cNvGrpSpPr/>
          <p:nvPr/>
        </p:nvGrpSpPr>
        <p:grpSpPr>
          <a:xfrm>
            <a:off x="8532720" y="1268280"/>
            <a:ext cx="306360" cy="122400"/>
            <a:chOff x="8532720" y="1268280"/>
            <a:chExt cx="306360" cy="122400"/>
          </a:xfrm>
        </p:grpSpPr>
        <p:sp>
          <p:nvSpPr>
            <p:cNvPr id="236" name="AutoShape 7"/>
            <p:cNvSpPr/>
            <p:nvPr/>
          </p:nvSpPr>
          <p:spPr>
            <a:xfrm>
              <a:off x="8532720" y="126828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>
              <a:off x="861840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>
              <a:off x="870408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42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43FE711-5743-4F9F-87D8-B2FF4050B44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4"/>
          <p:cNvSpPr/>
          <p:nvPr/>
        </p:nvSpPr>
        <p:spPr>
          <a:xfrm>
            <a:off x="574560" y="1925640"/>
            <a:ext cx="826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ing families deal with stress created by health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referrals for community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and educating clients, with the focus on strengths rather than weak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714240" y="345960"/>
            <a:ext cx="70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three most common intervention in home health care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250920" y="47628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6"/>
          <p:cNvGrpSpPr/>
          <p:nvPr/>
        </p:nvGrpSpPr>
        <p:grpSpPr>
          <a:xfrm>
            <a:off x="8610480" y="414360"/>
            <a:ext cx="306360" cy="122040"/>
            <a:chOff x="8610480" y="414360"/>
            <a:chExt cx="306360" cy="122040"/>
          </a:xfrm>
        </p:grpSpPr>
        <p:sp>
          <p:nvSpPr>
            <p:cNvPr id="250" name="AutoShape 7"/>
            <p:cNvSpPr/>
            <p:nvPr/>
          </p:nvSpPr>
          <p:spPr>
            <a:xfrm>
              <a:off x="8610480" y="41436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8"/>
            <p:cNvSpPr/>
            <p:nvPr/>
          </p:nvSpPr>
          <p:spPr>
            <a:xfrm>
              <a:off x="8696160" y="41436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9"/>
            <p:cNvSpPr/>
            <p:nvPr/>
          </p:nvSpPr>
          <p:spPr>
            <a:xfrm>
              <a:off x="8781840" y="41436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5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9B14261-2A3E-4394-AD0E-D83E560672E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14"/>
          <p:cNvSpPr/>
          <p:nvPr/>
        </p:nvSpPr>
        <p:spPr>
          <a:xfrm>
            <a:off x="312840" y="836640"/>
            <a:ext cx="8723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valu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ongoing process that continually assesses clients progress toward expected 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rminatio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ome visits occurs when both client and nurse are satisfied that goals have been met or that appropriate referrals have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lemedicin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use phone and computer technologies to monitor clients and provide care without the nurse making a home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24000" y="105264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8604360" y="981000"/>
            <a:ext cx="306360" cy="122400"/>
            <a:chOff x="8604360" y="981000"/>
            <a:chExt cx="306360" cy="122400"/>
          </a:xfrm>
        </p:grpSpPr>
        <p:sp>
          <p:nvSpPr>
            <p:cNvPr id="67" name="AutoShape 7"/>
            <p:cNvSpPr/>
            <p:nvPr/>
          </p:nvSpPr>
          <p:spPr>
            <a:xfrm>
              <a:off x="8604360" y="98100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8"/>
            <p:cNvSpPr/>
            <p:nvPr/>
          </p:nvSpPr>
          <p:spPr>
            <a:xfrm>
              <a:off x="869004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"/>
            <p:cNvSpPr/>
            <p:nvPr/>
          </p:nvSpPr>
          <p:spPr>
            <a:xfrm>
              <a:off x="877572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10"/>
          <p:cNvSpPr/>
          <p:nvPr/>
        </p:nvSpPr>
        <p:spPr>
          <a:xfrm>
            <a:off x="468360" y="208080"/>
            <a:ext cx="8605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9528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fter completion the lecture the students en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250920" y="1628640"/>
            <a:ext cx="8759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ine the home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ribe objectives of the hom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 the purpose of hom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 phases of home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 the Advantages and disadvantage of home visits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7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C255A68-1BC1-4DD2-9811-029130DE292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>
            <a:off x="179280" y="141300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8532720" y="1341360"/>
            <a:ext cx="306360" cy="122400"/>
            <a:chOff x="8532720" y="1341360"/>
            <a:chExt cx="306360" cy="122400"/>
          </a:xfrm>
        </p:grpSpPr>
        <p:sp>
          <p:nvSpPr>
            <p:cNvPr id="82" name="AutoShape 7"/>
            <p:cNvSpPr/>
            <p:nvPr/>
          </p:nvSpPr>
          <p:spPr>
            <a:xfrm>
              <a:off x="8532720" y="1341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8"/>
            <p:cNvSpPr/>
            <p:nvPr/>
          </p:nvSpPr>
          <p:spPr>
            <a:xfrm>
              <a:off x="861840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9"/>
            <p:cNvSpPr/>
            <p:nvPr/>
          </p:nvSpPr>
          <p:spPr>
            <a:xfrm>
              <a:off x="870408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Line 12"/>
          <p:cNvSpPr/>
          <p:nvPr/>
        </p:nvSpPr>
        <p:spPr>
          <a:xfrm>
            <a:off x="312840" y="6237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179280" y="857160"/>
            <a:ext cx="885672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 vis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 family-nurse contact which allows the health worker to assess the home and family situations in order to provide the necessary nursing care and health related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erforming this activity, it is essential to prepare a plan of visit to meet the needs of the client and achieve the best results of desired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8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5AAD654-FAD2-487C-850B-66A31871A67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179280" y="126828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8604360" y="1197000"/>
            <a:ext cx="306360" cy="122040"/>
            <a:chOff x="8604360" y="1197000"/>
            <a:chExt cx="306360" cy="122040"/>
          </a:xfrm>
        </p:grpSpPr>
        <p:sp>
          <p:nvSpPr>
            <p:cNvPr id="95" name="AutoShape 7"/>
            <p:cNvSpPr/>
            <p:nvPr/>
          </p:nvSpPr>
          <p:spPr>
            <a:xfrm>
              <a:off x="8604360" y="11970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>
              <a:off x="8690040" y="11970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9"/>
            <p:cNvSpPr/>
            <p:nvPr/>
          </p:nvSpPr>
          <p:spPr>
            <a:xfrm>
              <a:off x="8775720" y="11970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Line 12"/>
          <p:cNvSpPr/>
          <p:nvPr/>
        </p:nvSpPr>
        <p:spPr>
          <a:xfrm>
            <a:off x="312840" y="652464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755640" y="476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10960" y="1641600"/>
            <a:ext cx="878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f11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professional contact between the community health nurse and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f11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ices provided is an extension of the health services agency  ( Health cent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f11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f11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unity health nurse doing home visits usually works as part of a home health care team that can includes social workers, rehabilitation specialists, and home health nurses or aides. Cooperation and communication with other care providers are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0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A87B4F4-AD4F-4627-9B7F-ACDE4621D61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"/>
          <p:cNvSpPr/>
          <p:nvPr/>
        </p:nvSpPr>
        <p:spPr>
          <a:xfrm>
            <a:off x="678600" y="59832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2"/>
          <p:cNvSpPr/>
          <p:nvPr/>
        </p:nvSpPr>
        <p:spPr>
          <a:xfrm>
            <a:off x="250920" y="1125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8604360" y="1052640"/>
            <a:ext cx="306360" cy="122040"/>
            <a:chOff x="8604360" y="1052640"/>
            <a:chExt cx="306360" cy="122040"/>
          </a:xfrm>
        </p:grpSpPr>
        <p:sp>
          <p:nvSpPr>
            <p:cNvPr id="110" name="AutoShape 7"/>
            <p:cNvSpPr/>
            <p:nvPr/>
          </p:nvSpPr>
          <p:spPr>
            <a:xfrm>
              <a:off x="860436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>
              <a:off x="869004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877572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0"/>
          <p:cNvSpPr/>
          <p:nvPr/>
        </p:nvSpPr>
        <p:spPr>
          <a:xfrm>
            <a:off x="684360" y="361800"/>
            <a:ext cx="838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95280" y="404640"/>
            <a:ext cx="842472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s of the home vis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al (if care fai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1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BDCD0B7-A2E6-4C8C-ABFD-D0A25CC27D5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250920" y="119700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8604360" y="1125360"/>
            <a:ext cx="306360" cy="122400"/>
            <a:chOff x="8604360" y="1125360"/>
            <a:chExt cx="306360" cy="122400"/>
          </a:xfrm>
        </p:grpSpPr>
        <p:sp>
          <p:nvSpPr>
            <p:cNvPr id="124" name="AutoShape 7"/>
            <p:cNvSpPr/>
            <p:nvPr/>
          </p:nvSpPr>
          <p:spPr>
            <a:xfrm>
              <a:off x="8604360" y="1125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8"/>
            <p:cNvSpPr/>
            <p:nvPr/>
          </p:nvSpPr>
          <p:spPr>
            <a:xfrm>
              <a:off x="8690040" y="1125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>
              <a:off x="8775720" y="1125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684360" y="4046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pose of home vis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312840" y="1268280"/>
            <a:ext cx="8820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ive care to the sick, to a postpartum mother and her newborn with the view teach a responsible family member to give the subsequent c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ssess the living condition of the patient and his family and their health  practices in order to provide the appropriate health teac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ive health teachings regarding the prevention and control of dise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close relationship between the health agencies and the public for the promotion of heal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use of the inter-referral system and to promote the utilization of community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32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393EFF0-C187-4F02-8D1D-BAF050CC407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2"/>
          <p:cNvSpPr/>
          <p:nvPr/>
        </p:nvSpPr>
        <p:spPr>
          <a:xfrm>
            <a:off x="439560" y="240192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8758080" y="2363760"/>
            <a:ext cx="306360" cy="122400"/>
            <a:chOff x="8758080" y="2363760"/>
            <a:chExt cx="306360" cy="122400"/>
          </a:xfrm>
        </p:grpSpPr>
        <p:sp>
          <p:nvSpPr>
            <p:cNvPr id="138" name="AutoShape 7"/>
            <p:cNvSpPr/>
            <p:nvPr/>
          </p:nvSpPr>
          <p:spPr>
            <a:xfrm>
              <a:off x="8758080" y="23637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8"/>
            <p:cNvSpPr/>
            <p:nvPr/>
          </p:nvSpPr>
          <p:spPr>
            <a:xfrm>
              <a:off x="8843760" y="23637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8929440" y="23637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477720" y="2486160"/>
            <a:ext cx="835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ing nurse assoc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health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health agen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distric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4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05021B5-46F3-473B-AB0A-D53B98FD62F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"/>
          <p:cNvSpPr/>
          <p:nvPr/>
        </p:nvSpPr>
        <p:spPr>
          <a:xfrm>
            <a:off x="312840" y="549360"/>
            <a:ext cx="8362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The goals of primary health nursing 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often met through providing health care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families in their home. It can be provid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244440" y="14367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8101080" y="1302480"/>
            <a:ext cx="787680" cy="269280"/>
            <a:chOff x="8101080" y="1302480"/>
            <a:chExt cx="787680" cy="269280"/>
          </a:xfrm>
        </p:grpSpPr>
        <p:sp>
          <p:nvSpPr>
            <p:cNvPr id="152" name="AutoShape 7"/>
            <p:cNvSpPr/>
            <p:nvPr/>
          </p:nvSpPr>
          <p:spPr>
            <a:xfrm flipV="1">
              <a:off x="8101080" y="1302480"/>
              <a:ext cx="346320" cy="2692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"/>
            <p:cNvSpPr/>
            <p:nvPr/>
          </p:nvSpPr>
          <p:spPr>
            <a:xfrm flipV="1">
              <a:off x="8321400" y="1302480"/>
              <a:ext cx="347040" cy="2692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9"/>
            <p:cNvSpPr/>
            <p:nvPr/>
          </p:nvSpPr>
          <p:spPr>
            <a:xfrm flipV="1">
              <a:off x="8541720" y="1302480"/>
              <a:ext cx="347040" cy="2692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95280" y="404640"/>
            <a:ext cx="796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inciples involved in preparing for a home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285840" y="1571760"/>
            <a:ext cx="872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ome visit must have a purpose or ob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for a home visit should make use of all available information about the patient and his family through family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lanning for a home visit, we should consider and give priority to the essential needs if the individual and his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and delivery of care should involve the individual and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an should b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D49BCD8-B55F-4330-AEEE-3E1EA569A1C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179280" y="141300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6"/>
          <p:cNvGrpSpPr/>
          <p:nvPr/>
        </p:nvGrpSpPr>
        <p:grpSpPr>
          <a:xfrm>
            <a:off x="8604360" y="1341360"/>
            <a:ext cx="306360" cy="122400"/>
            <a:chOff x="8604360" y="1341360"/>
            <a:chExt cx="306360" cy="122400"/>
          </a:xfrm>
        </p:grpSpPr>
        <p:sp>
          <p:nvSpPr>
            <p:cNvPr id="166" name="AutoShape 7"/>
            <p:cNvSpPr/>
            <p:nvPr/>
          </p:nvSpPr>
          <p:spPr>
            <a:xfrm>
              <a:off x="8604360" y="1341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8"/>
            <p:cNvSpPr/>
            <p:nvPr/>
          </p:nvSpPr>
          <p:spPr>
            <a:xfrm>
              <a:off x="869004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9"/>
            <p:cNvSpPr/>
            <p:nvPr/>
          </p:nvSpPr>
          <p:spPr>
            <a:xfrm>
              <a:off x="877572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12"/>
          <p:cNvSpPr/>
          <p:nvPr/>
        </p:nvSpPr>
        <p:spPr>
          <a:xfrm>
            <a:off x="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57200" y="333360"/>
            <a:ext cx="796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uidelines to consider regarding the frequency of home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08000" y="1571760"/>
            <a:ext cx="892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needs, psychological needs, and educational needs of the individual and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ceptance of the family for the services to be rendered, their interest and the willingness to coope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into account other health agencies and the number of health personnel already involved in the care of a specific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ful evaluation of past services given to the family and how the family avails of the nursing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the patient and his family to recognize their own needs, their knowledge of available resources and their ability to make use of their resources for their bene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7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D9B987E-3712-4DA1-A1BE-CB586082957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7:47:33Z</dcterms:created>
  <dc:creator>Carole Morrison</dc:creator>
  <dc:description/>
  <dc:language>en-US</dc:language>
  <cp:lastModifiedBy>User-PC</cp:lastModifiedBy>
  <cp:lastPrinted>2008-03-05T21:18:32Z</cp:lastPrinted>
  <dcterms:modified xsi:type="dcterms:W3CDTF">2016-09-29T04:53:15Z</dcterms:modified>
  <cp:revision>296</cp:revision>
  <dc:subject/>
  <dc:title>Slide 1</dc:title>
</cp:coreProperties>
</file>