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B4D8-E180-4773-9E62-FA28F4BE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E855-61AC-4A87-A9D9-18901CF87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3A20-3A95-4101-AD24-8F8C08EA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8C7F-6D08-465C-B205-EEE82A823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C8DC-BF70-4226-8EA6-61F6CA42F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CD0-2115-4FB0-90C0-D37FD502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E940-9163-4F65-A4DF-9D6D46054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19C9-14E5-4356-942D-333B43D04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A1C4-875C-40FF-AF2C-A937A7D15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656B-34E2-4DFF-9D2D-AA8C816A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4748-5FC8-4B0B-AF2B-2EE09FB2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3BC3-C399-457C-B0EE-8D87E4D16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3D55-9D48-480B-9C85-75B5210B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CDB8-DF71-4BA3-9AAB-6E6DCF14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8F37-D7B8-4EA9-9084-E0F036A3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EEC1-D2C4-4E7A-B7C8-AC9063C9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3FE-3281-4895-B710-424B0439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F0C-6E24-4948-BB58-7BBA140A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C07-0EED-4D20-9252-F4CD0D64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CFB-B1BB-4E43-8F5D-961AF7D3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B64-6875-4894-8A22-ACDE9B0D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99A-52FF-4CD9-A610-9B6DC978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A9B-A101-4D7E-AB4B-E0A1A41C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04A-5810-4DDF-ABBE-35C506EC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B5A-968D-4E06-81CD-6A2C91E9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5F7-6E6F-43F1-B031-60127C96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166-88CD-4C12-A340-4F3A908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F1C-2F09-478D-B79F-7148F5BC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3D0A-E4CA-49D9-BD26-C2A6454E6D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0"/>
          <p:cNvSpPr/>
          <p:nvPr/>
        </p:nvSpPr>
        <p:spPr>
          <a:xfrm>
            <a:off x="1476360" y="-56880"/>
            <a:ext cx="766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Home visiting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84360" y="435780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0" y="303048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inical Application of Community Health Nursing (NUR 4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ome visiting eval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(chronic ca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0B9F0E6-EC31-4694-91AB-F604E5406DB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26" descr="شعار الكلية"/>
          <p:cNvPicPr/>
          <p:nvPr/>
        </p:nvPicPr>
        <p:blipFill>
          <a:blip r:embed="rId2"/>
          <a:stretch/>
        </p:blipFill>
        <p:spPr>
          <a:xfrm>
            <a:off x="3309840" y="709560"/>
            <a:ext cx="22622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250920" y="1341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8532720" y="1268280"/>
            <a:ext cx="306360" cy="122400"/>
            <a:chOff x="8532720" y="1268280"/>
            <a:chExt cx="306360" cy="122400"/>
          </a:xfrm>
        </p:grpSpPr>
        <p:sp>
          <p:nvSpPr>
            <p:cNvPr id="180" name="AutoShape 7"/>
            <p:cNvSpPr/>
            <p:nvPr/>
          </p:nvSpPr>
          <p:spPr>
            <a:xfrm>
              <a:off x="8532720" y="126828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861840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870408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11280" y="620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s in conducting home vis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285840" y="157176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t the patient and 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the purpose of th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patient and determine the health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the bag in a convenient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the nursing care needed and give health teac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all important date, observation and care rend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ppointment for a return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8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DF17B93-F6A1-486D-9C3B-3A70CA10239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2"/>
          <p:cNvSpPr/>
          <p:nvPr/>
        </p:nvSpPr>
        <p:spPr>
          <a:xfrm>
            <a:off x="250920" y="1341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8532720" y="1268280"/>
            <a:ext cx="306360" cy="122400"/>
            <a:chOff x="8532720" y="1268280"/>
            <a:chExt cx="306360" cy="122400"/>
          </a:xfrm>
        </p:grpSpPr>
        <p:sp>
          <p:nvSpPr>
            <p:cNvPr id="194" name="AutoShape 7"/>
            <p:cNvSpPr/>
            <p:nvPr/>
          </p:nvSpPr>
          <p:spPr>
            <a:xfrm>
              <a:off x="8532720" y="126828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8"/>
            <p:cNvSpPr/>
            <p:nvPr/>
          </p:nvSpPr>
          <p:spPr>
            <a:xfrm>
              <a:off x="861840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9"/>
            <p:cNvSpPr/>
            <p:nvPr/>
          </p:nvSpPr>
          <p:spPr>
            <a:xfrm>
              <a:off x="870408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0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355A4F7-2F31-4786-A859-578099A4837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4"/>
          <p:cNvSpPr/>
          <p:nvPr/>
        </p:nvSpPr>
        <p:spPr>
          <a:xfrm>
            <a:off x="457200" y="1628640"/>
            <a:ext cx="8435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visits cost less than hospital care, with better outcomes, especially when chronic health issues are invol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have greater control over their health and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unity health nurse gains access to families to provide health education and other prevention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can observe family and environment factors that influence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visits allow for primary intervention, to prevent disease or injury from oc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visits facilitate family participation and promote family foc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130400" y="476280"/>
            <a:ext cx="57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dvantages of home visi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250920" y="1341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8532720" y="1268280"/>
            <a:ext cx="306360" cy="122400"/>
            <a:chOff x="8532720" y="1268280"/>
            <a:chExt cx="306360" cy="122400"/>
          </a:xfrm>
        </p:grpSpPr>
        <p:sp>
          <p:nvSpPr>
            <p:cNvPr id="208" name="AutoShape 7"/>
            <p:cNvSpPr/>
            <p:nvPr/>
          </p:nvSpPr>
          <p:spPr>
            <a:xfrm>
              <a:off x="8532720" y="126828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861840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870408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1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26AF637-9724-4EA4-941D-EE798872CD7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14"/>
          <p:cNvSpPr/>
          <p:nvPr/>
        </p:nvSpPr>
        <p:spPr>
          <a:xfrm>
            <a:off x="250920" y="1628640"/>
            <a:ext cx="87138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visits are time consuming; travel time is required to get to the persons needing ca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easy access to emergency equipment or consultation with other health professionals if need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visits may present issues regarding the nurse personal safety in some community or family setting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has less control over the care setting (for example, cleanliness, noise, privacy, or distraction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1105200" y="47628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sadvantages of home vis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250920" y="1341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8532720" y="1268280"/>
            <a:ext cx="306360" cy="122400"/>
            <a:chOff x="8532720" y="1268280"/>
            <a:chExt cx="306360" cy="122400"/>
          </a:xfrm>
        </p:grpSpPr>
        <p:sp>
          <p:nvSpPr>
            <p:cNvPr id="222" name="AutoShape 7"/>
            <p:cNvSpPr/>
            <p:nvPr/>
          </p:nvSpPr>
          <p:spPr>
            <a:xfrm>
              <a:off x="8532720" y="126828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8"/>
            <p:cNvSpPr/>
            <p:nvPr/>
          </p:nvSpPr>
          <p:spPr>
            <a:xfrm>
              <a:off x="861840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9"/>
            <p:cNvSpPr/>
            <p:nvPr/>
          </p:nvSpPr>
          <p:spPr>
            <a:xfrm>
              <a:off x="870408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2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9248E45-6664-421F-A9A7-6DE995B2650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14"/>
          <p:cNvSpPr/>
          <p:nvPr/>
        </p:nvSpPr>
        <p:spPr>
          <a:xfrm>
            <a:off x="250920" y="836640"/>
            <a:ext cx="8642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include equipment for basic assessment, medical asepsis, and waste dis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recautions must be followed to avoid contamination from blood, body secretions, excretions, or contaminated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ash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se gl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ar eye and fac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ar g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ndle client care equipment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ean environmental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se proper sharps disposal conta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821520" y="46656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munity health nurse 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2"/>
          <p:cNvSpPr/>
          <p:nvPr/>
        </p:nvSpPr>
        <p:spPr>
          <a:xfrm>
            <a:off x="250920" y="1341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6"/>
          <p:cNvGrpSpPr/>
          <p:nvPr/>
        </p:nvGrpSpPr>
        <p:grpSpPr>
          <a:xfrm>
            <a:off x="8532720" y="1268280"/>
            <a:ext cx="306360" cy="122400"/>
            <a:chOff x="8532720" y="1268280"/>
            <a:chExt cx="306360" cy="122400"/>
          </a:xfrm>
        </p:grpSpPr>
        <p:sp>
          <p:nvSpPr>
            <p:cNvPr id="236" name="AutoShape 7"/>
            <p:cNvSpPr/>
            <p:nvPr/>
          </p:nvSpPr>
          <p:spPr>
            <a:xfrm>
              <a:off x="8532720" y="126828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>
              <a:off x="861840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>
              <a:off x="8704080" y="126828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42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8711BB2-0077-40E6-B5B5-57617F5A406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4"/>
          <p:cNvSpPr/>
          <p:nvPr/>
        </p:nvSpPr>
        <p:spPr>
          <a:xfrm>
            <a:off x="574560" y="1925640"/>
            <a:ext cx="826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ing families deal with stress created by health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referrals for community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and educating clients, with the focus on strengths rather than weak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714240" y="345960"/>
            <a:ext cx="70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three most common intervention in home health care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250920" y="47628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6"/>
          <p:cNvGrpSpPr/>
          <p:nvPr/>
        </p:nvGrpSpPr>
        <p:grpSpPr>
          <a:xfrm>
            <a:off x="8610480" y="414360"/>
            <a:ext cx="306360" cy="122040"/>
            <a:chOff x="8610480" y="414360"/>
            <a:chExt cx="306360" cy="122040"/>
          </a:xfrm>
        </p:grpSpPr>
        <p:sp>
          <p:nvSpPr>
            <p:cNvPr id="250" name="AutoShape 7"/>
            <p:cNvSpPr/>
            <p:nvPr/>
          </p:nvSpPr>
          <p:spPr>
            <a:xfrm>
              <a:off x="8610480" y="41436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8"/>
            <p:cNvSpPr/>
            <p:nvPr/>
          </p:nvSpPr>
          <p:spPr>
            <a:xfrm>
              <a:off x="8696160" y="41436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9"/>
            <p:cNvSpPr/>
            <p:nvPr/>
          </p:nvSpPr>
          <p:spPr>
            <a:xfrm>
              <a:off x="8781840" y="41436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5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EB77D20-8D1C-4267-A1D8-E6BA0BB8B28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14"/>
          <p:cNvSpPr/>
          <p:nvPr/>
        </p:nvSpPr>
        <p:spPr>
          <a:xfrm>
            <a:off x="312840" y="836640"/>
            <a:ext cx="8723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valu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ongoing process that continually assesses clients progress toward expected 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rminatio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ome visits occurs when both client and nurse are satisfied that goals have been met or that appropriate referrals have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lemedicin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use phone and computer technologies to monitor clients and provide care without the nurse making a home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24000" y="105264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8604360" y="981000"/>
            <a:ext cx="306360" cy="122400"/>
            <a:chOff x="8604360" y="981000"/>
            <a:chExt cx="306360" cy="122400"/>
          </a:xfrm>
        </p:grpSpPr>
        <p:sp>
          <p:nvSpPr>
            <p:cNvPr id="67" name="AutoShape 7"/>
            <p:cNvSpPr/>
            <p:nvPr/>
          </p:nvSpPr>
          <p:spPr>
            <a:xfrm>
              <a:off x="8604360" y="98100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8"/>
            <p:cNvSpPr/>
            <p:nvPr/>
          </p:nvSpPr>
          <p:spPr>
            <a:xfrm>
              <a:off x="869004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"/>
            <p:cNvSpPr/>
            <p:nvPr/>
          </p:nvSpPr>
          <p:spPr>
            <a:xfrm>
              <a:off x="877572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10"/>
          <p:cNvSpPr/>
          <p:nvPr/>
        </p:nvSpPr>
        <p:spPr>
          <a:xfrm>
            <a:off x="468360" y="208080"/>
            <a:ext cx="8605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9528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fter completion the lecture the students en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250920" y="1628640"/>
            <a:ext cx="8759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e the home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ribe objectives of the hom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 the purpose of hom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 phases of home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 the Advantages and disadvantage of home visits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7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851F656-67C4-4068-AE76-675CE151A25D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>
            <a:off x="179280" y="141300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8532720" y="1341360"/>
            <a:ext cx="306360" cy="122400"/>
            <a:chOff x="8532720" y="1341360"/>
            <a:chExt cx="306360" cy="122400"/>
          </a:xfrm>
        </p:grpSpPr>
        <p:sp>
          <p:nvSpPr>
            <p:cNvPr id="82" name="AutoShape 7"/>
            <p:cNvSpPr/>
            <p:nvPr/>
          </p:nvSpPr>
          <p:spPr>
            <a:xfrm>
              <a:off x="8532720" y="1341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8"/>
            <p:cNvSpPr/>
            <p:nvPr/>
          </p:nvSpPr>
          <p:spPr>
            <a:xfrm>
              <a:off x="861840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9"/>
            <p:cNvSpPr/>
            <p:nvPr/>
          </p:nvSpPr>
          <p:spPr>
            <a:xfrm>
              <a:off x="870408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12"/>
          <p:cNvSpPr/>
          <p:nvPr/>
        </p:nvSpPr>
        <p:spPr>
          <a:xfrm>
            <a:off x="312840" y="6237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179280" y="857160"/>
            <a:ext cx="88567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 vis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s a family-nurse contact which allows the health worker to assess the home and family situations in order to provide the necessary nursing care and health related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erforming this activity, it is essential to prepare a plan of visit to meet the needs of the client and achieve the best results of desired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8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5445958-34C0-497B-9981-C62E9EF7A67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179280" y="126828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8604360" y="1197000"/>
            <a:ext cx="306360" cy="122040"/>
            <a:chOff x="8604360" y="1197000"/>
            <a:chExt cx="306360" cy="122040"/>
          </a:xfrm>
        </p:grpSpPr>
        <p:sp>
          <p:nvSpPr>
            <p:cNvPr id="95" name="AutoShape 7"/>
            <p:cNvSpPr/>
            <p:nvPr/>
          </p:nvSpPr>
          <p:spPr>
            <a:xfrm>
              <a:off x="8604360" y="11970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8690040" y="11970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8775720" y="11970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Line 12"/>
          <p:cNvSpPr/>
          <p:nvPr/>
        </p:nvSpPr>
        <p:spPr>
          <a:xfrm>
            <a:off x="312840" y="652464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755640" y="476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10960" y="1641600"/>
            <a:ext cx="878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f11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professional contact between the community health nurse and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f11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ices provided is an extension of the health services agency  ( Health cent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f11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f11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unity health nurse doing home visits usually works as part of a home health care team that can includes social workers, rehabilitation specialists, and home health nurses or aides. Cooperation and communication with other care providers are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0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C3CAD86-3762-45CE-858F-19535262E37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"/>
          <p:cNvSpPr/>
          <p:nvPr/>
        </p:nvSpPr>
        <p:spPr>
          <a:xfrm>
            <a:off x="678600" y="59832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2"/>
          <p:cNvSpPr/>
          <p:nvPr/>
        </p:nvSpPr>
        <p:spPr>
          <a:xfrm>
            <a:off x="250920" y="1125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8604360" y="1052640"/>
            <a:ext cx="306360" cy="122040"/>
            <a:chOff x="8604360" y="1052640"/>
            <a:chExt cx="306360" cy="122040"/>
          </a:xfrm>
        </p:grpSpPr>
        <p:sp>
          <p:nvSpPr>
            <p:cNvPr id="110" name="AutoShape 7"/>
            <p:cNvSpPr/>
            <p:nvPr/>
          </p:nvSpPr>
          <p:spPr>
            <a:xfrm>
              <a:off x="860436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>
              <a:off x="869004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877572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0"/>
          <p:cNvSpPr/>
          <p:nvPr/>
        </p:nvSpPr>
        <p:spPr>
          <a:xfrm>
            <a:off x="684360" y="361800"/>
            <a:ext cx="838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95280" y="404640"/>
            <a:ext cx="842472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s of the home vis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al (if care fai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1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C3C3F22-0021-4C09-8790-1B925BA3451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50920" y="119700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8604360" y="1125360"/>
            <a:ext cx="306360" cy="122400"/>
            <a:chOff x="8604360" y="1125360"/>
            <a:chExt cx="306360" cy="122400"/>
          </a:xfrm>
        </p:grpSpPr>
        <p:sp>
          <p:nvSpPr>
            <p:cNvPr id="124" name="AutoShape 7"/>
            <p:cNvSpPr/>
            <p:nvPr/>
          </p:nvSpPr>
          <p:spPr>
            <a:xfrm>
              <a:off x="8604360" y="1125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8"/>
            <p:cNvSpPr/>
            <p:nvPr/>
          </p:nvSpPr>
          <p:spPr>
            <a:xfrm>
              <a:off x="8690040" y="1125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8775720" y="1125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684360" y="4046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 of home vis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312840" y="1268280"/>
            <a:ext cx="8820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ive care to the sick, to a postpartum mother and her newborn with the view teach a responsible family member to give the subsequent c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ssess the living condition of the patient and his family and their health  practices in order to provide the appropriate health teac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ive health teachings regarding the prevention and control of dise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close relationship between the health agencies and the public for the promotion of heal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use of the inter-referral system and to promote the utilization of community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32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9D56CE1-9433-49EF-9F3B-49900CFF5F2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2"/>
          <p:cNvSpPr/>
          <p:nvPr/>
        </p:nvSpPr>
        <p:spPr>
          <a:xfrm>
            <a:off x="439560" y="240192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8758080" y="2363760"/>
            <a:ext cx="306360" cy="122400"/>
            <a:chOff x="8758080" y="2363760"/>
            <a:chExt cx="306360" cy="122400"/>
          </a:xfrm>
        </p:grpSpPr>
        <p:sp>
          <p:nvSpPr>
            <p:cNvPr id="138" name="AutoShape 7"/>
            <p:cNvSpPr/>
            <p:nvPr/>
          </p:nvSpPr>
          <p:spPr>
            <a:xfrm>
              <a:off x="8758080" y="23637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8"/>
            <p:cNvSpPr/>
            <p:nvPr/>
          </p:nvSpPr>
          <p:spPr>
            <a:xfrm>
              <a:off x="8843760" y="23637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8929440" y="23637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77720" y="2486160"/>
            <a:ext cx="835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ing nurse assoc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health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health agen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distric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4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9F208AB-A32B-4B5F-B79A-173D109DDF3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"/>
          <p:cNvSpPr/>
          <p:nvPr/>
        </p:nvSpPr>
        <p:spPr>
          <a:xfrm>
            <a:off x="312840" y="549360"/>
            <a:ext cx="8362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The goals of primary health nursing 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often met through providing health care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families in their home. It can be provid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244440" y="14367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8101080" y="1302480"/>
            <a:ext cx="787680" cy="269280"/>
            <a:chOff x="8101080" y="1302480"/>
            <a:chExt cx="787680" cy="269280"/>
          </a:xfrm>
        </p:grpSpPr>
        <p:sp>
          <p:nvSpPr>
            <p:cNvPr id="152" name="AutoShape 7"/>
            <p:cNvSpPr/>
            <p:nvPr/>
          </p:nvSpPr>
          <p:spPr>
            <a:xfrm flipV="1">
              <a:off x="8101080" y="1302480"/>
              <a:ext cx="346320" cy="2692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"/>
            <p:cNvSpPr/>
            <p:nvPr/>
          </p:nvSpPr>
          <p:spPr>
            <a:xfrm flipV="1">
              <a:off x="8321400" y="1302480"/>
              <a:ext cx="347040" cy="2692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9"/>
            <p:cNvSpPr/>
            <p:nvPr/>
          </p:nvSpPr>
          <p:spPr>
            <a:xfrm flipV="1">
              <a:off x="8541720" y="1302480"/>
              <a:ext cx="347040" cy="2692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95280" y="404640"/>
            <a:ext cx="796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inciples involved in preparing for a home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285840" y="1571760"/>
            <a:ext cx="872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ome visit must have a purpose or 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for a home visit should make use of all available information about the patient and his family through family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lanning for a home visit, we should consider and give priority to the essential needs if the individual and his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and delivery of care should involve the individual and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an should b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58F5FEA-39BF-47E4-A1C8-B57CE0934F8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179280" y="141300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6"/>
          <p:cNvGrpSpPr/>
          <p:nvPr/>
        </p:nvGrpSpPr>
        <p:grpSpPr>
          <a:xfrm>
            <a:off x="8604360" y="1341360"/>
            <a:ext cx="306360" cy="122400"/>
            <a:chOff x="8604360" y="1341360"/>
            <a:chExt cx="306360" cy="122400"/>
          </a:xfrm>
        </p:grpSpPr>
        <p:sp>
          <p:nvSpPr>
            <p:cNvPr id="166" name="AutoShape 7"/>
            <p:cNvSpPr/>
            <p:nvPr/>
          </p:nvSpPr>
          <p:spPr>
            <a:xfrm>
              <a:off x="8604360" y="1341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8"/>
            <p:cNvSpPr/>
            <p:nvPr/>
          </p:nvSpPr>
          <p:spPr>
            <a:xfrm>
              <a:off x="869004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9"/>
            <p:cNvSpPr/>
            <p:nvPr/>
          </p:nvSpPr>
          <p:spPr>
            <a:xfrm>
              <a:off x="877572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12"/>
          <p:cNvSpPr/>
          <p:nvPr/>
        </p:nvSpPr>
        <p:spPr>
          <a:xfrm>
            <a:off x="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57200" y="333360"/>
            <a:ext cx="796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uidelines to consider regarding the frequency of home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08000" y="1571760"/>
            <a:ext cx="892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needs, psychological needs, and educational needs of the individual and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ceptance of the family for the services to be rendered, their interest and the willingness to coope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into account other health agencies and the number of health personnel already involved in the care of a specific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ful evaluation of past services given to the family and how the family avails of the nursing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the patient and his family to recognize their own needs, their knowledge of available resources and their ability to make use of their resources for their bene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7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17824CF-42E3-41B9-B3F9-8AE3BE19C29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7:47:33Z</dcterms:created>
  <dc:creator>Carole Morrison</dc:creator>
  <dc:description/>
  <dc:language>en-US</dc:language>
  <cp:lastModifiedBy>User-PC</cp:lastModifiedBy>
  <cp:lastPrinted>2008-03-05T21:18:32Z</cp:lastPrinted>
  <dcterms:modified xsi:type="dcterms:W3CDTF">2016-09-29T04:53:15Z</dcterms:modified>
  <cp:revision>296</cp:revision>
  <dc:subject/>
  <dc:title>Slide 1</dc:title>
</cp:coreProperties>
</file>