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F0B-2DE5-456E-8A39-567848B9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DDB-D5DC-4D28-B763-7935B5B9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FA3-29EB-4A8C-B086-BD5A9CEF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019-1AC2-4DC6-A037-0D878A2B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480-BD22-4FDE-AD0A-49D034BC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9B1-5DE5-4F6D-844B-FBBFF7D5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304-8F05-4609-A9F3-EC42E190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2D1-B5CF-49FC-9F6A-7FFD648D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645-6471-499B-9D64-D60BC6EA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908-F990-48F6-B0CF-FE87AD9F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D1B-86AA-480A-871C-F1285A27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1FD-79B8-4C7F-8C75-BADF670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3E48C-D931-4FE1-8ECD-F05FBA449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diPtsUv3s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©2008 N.AlJaffan®K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03FCC-DCBA-49E5-85A9-4EC880E3E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971080" y="9079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story of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9640" y="1557360"/>
            <a:ext cx="74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95280" y="1916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w Cen MT Condensed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 the following video, then Write a one-page report about history of compu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4diPtsUv3s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8:09:38Z</dcterms:created>
  <dc:creator>Nawal</dc:creator>
  <dc:description/>
  <dc:language>en-US</dc:language>
  <cp:lastModifiedBy>Nawal</cp:lastModifiedBy>
  <dcterms:modified xsi:type="dcterms:W3CDTF">2014-02-04T18:16:50Z</dcterms:modified>
  <cp:revision>1</cp:revision>
  <dc:subject/>
  <dc:title>PowerPoint Presentation</dc:title>
</cp:coreProperties>
</file>