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80B-BCD2-40FC-9C3C-544FD151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F6E-FC65-4686-92F9-33356F1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158-F471-4487-8A44-D1BF6A27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141-B074-4602-A76F-2B6538C8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1C0-8BC6-49DD-9031-A7AB47C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0A3-E0BC-4FC3-81D5-76A6FD2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5B5-DD45-44EA-A4CE-9F9CCC6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854-878C-44BE-8EBC-29DB760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1DC-D44A-4887-9192-25DD8722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6ED-C33A-4B5E-8716-0558F52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2AF-D0D8-429D-BC37-9BF8DB9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6B3-BBE9-4475-8005-0407D0D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B48FC-19C5-4B76-BA1A-442B66F7D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diPtsUv3s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©2008 N.AlJaffan®K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AE685-A1C6-42A7-9899-09A5D4C12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71080" y="9079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story of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9640" y="155736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95280" y="19162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w Cen MT Condensed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 the following video, then Write a one-page report about history of compu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4diPtsUv3s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8:09:38Z</dcterms:created>
  <dc:creator>Nawal</dc:creator>
  <dc:description/>
  <dc:language>en-US</dc:language>
  <cp:lastModifiedBy>Nawal</cp:lastModifiedBy>
  <dcterms:modified xsi:type="dcterms:W3CDTF">2014-02-04T18:16:50Z</dcterms:modified>
  <cp:revision>1</cp:revision>
  <dc:subject/>
  <dc:title>PowerPoint Presentation</dc:title>
</cp:coreProperties>
</file>