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CC03A-816E-4090-9509-7B382E507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B426-EE1A-421B-BE82-6220F4C04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8D7D0-2A4B-446F-AD14-E3096B39A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D962A-2A45-4990-8E7C-8E49ED5C7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521B4-2941-40A6-84ED-2860A0692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673B-8F80-48A7-89F6-300FC625D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FA21C-EA05-4DA3-B380-7828A5D7E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A3BB8-2292-411D-9B20-14966C8E7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4CC1A-1CE6-442D-B204-9CB994C9E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80489-A8D3-4720-B745-81AC015BD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86102-FF1F-455E-B3AE-0D3657DAA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FFFE1-836F-4D75-8FCC-AD02AEB4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83293-A156-4FA8-B193-429477229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4D84C-0A0D-4AE5-B66C-7510402D6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7D666-9E75-4593-9899-DE9FCEED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1C283-29AD-4B12-A907-79C9AF239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17588-6D99-4AFF-8A32-846DD157B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D92C5E-3422-45BA-95EC-2A865A003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E6186-77E7-44C7-800C-BF8617379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4C3AF-F229-471A-B8CC-445AB3832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E08B9-B1BD-4918-830F-949C5B496A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54253-F302-430E-A2EE-0D06AC7C3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673D-28DB-49E0-BA26-09421588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CC937-41E0-41A7-B78A-69BDC5AF2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6A6ED-EB37-496A-970E-0950F538B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37D2D-E719-46C4-A64B-C18A19F2E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F8EA7-0A7E-4A72-8532-F279579EB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D36F1-DC8D-4C50-941B-787BCFD3A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EC438B-0003-4CCB-BB21-1D1AE3E273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85CF5E-2298-4C17-A0D7-29E3038BF7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7A900-CE22-498A-AA67-772A66971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076AB-1C4E-4F55-923E-6DC989380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1956B-561B-433D-AE73-CE4D5309B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B45E2-F156-4C6D-9280-8C1821CE9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99D3F9-7E8D-4C0B-8B42-64B59053A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76638-A306-46DD-A8E6-79E41B19D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B58CA-79F3-4826-BBBC-A0FE40B3C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00174-ADBB-416F-9EC3-A29BF718A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19710-D350-40C6-B212-62457C1CA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8CF85-6837-45CA-9F5C-2C3CF8BB8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1AFC8-9E26-4A41-8B15-D79ED1285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22ECDE-FD02-47EF-9277-F9E9A2AD9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68B230-B512-40CA-A395-3BD2179DD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D015B-FD61-4A40-B6C5-EC84E96BA6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40894-5D1E-4370-9EC9-1BDC391D8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BA71D7-7BB3-4485-B4BA-E88D2AF18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90682-36F9-4D57-864D-1D2159EF4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C0D40-0A4E-40F3-BA2E-8324B9CF4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FC348-BDD3-4B29-8549-571E55590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05CC2-0BD2-4376-AD7C-0FFC6BA1C6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9032B-5AEA-431F-9F6F-B3E2B1013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D2B27-0C4F-4C10-8272-9B62EC073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2C062-DB43-43FF-86A1-749C89E28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784DD-4553-40B7-89CD-82B89B833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A6DDD5-0B24-4982-BA1D-6BD3FE5EA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A16B6-A323-4ED9-82E1-AF60AD31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12DF09-A87E-427B-8388-0A056BE0AA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363E0F-05BB-4507-ACA5-3F9378354B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5D931-588A-4277-9B0C-388897F03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B7193-0CF2-45E4-8338-004B7B801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B6A5A-C2B1-4097-A858-94D3D087E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D6978-E24E-4F6D-8A38-78461B080E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732E0-C703-452F-89BA-1E4FB514E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C58AA-1EC7-4DC7-8211-0BCBD108C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9C25FA-0011-4D0E-BB6D-0A276995B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1E273-EEA9-4E50-8ABC-F518960FA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0B8C-0C19-4462-8E3F-9DD8E1F0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4E369-D520-475D-B4EE-84FA2A63CF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A773AB-3B5A-4440-83C7-0F5BBEF29A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9A2708-D8EE-40FD-AE16-CA4D86105E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BF3582-4B82-4934-8DB0-889F9B628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A02F6-3D0A-4C92-A39A-82D745C0F0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51C13-12BD-4EE2-BAF6-8E90C43BBC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BA545-9688-4140-BF34-72E762438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30088-3311-44DC-8745-ADB5893129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349CB7-3086-4470-B916-7BC143375F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FCCC7-0D14-4D00-AD32-4933AC1BE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0151-0601-49C8-B2E6-19585985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94B29-DB5B-40FA-B04A-17BCD694A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D8389-A12A-4E83-94D1-6E67E9C3F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7100A-5273-4249-8200-C93135B02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21069F-55DD-4646-9589-094C440569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26CC9F-0D51-4AC2-B99F-0759F7542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4DA64-ACB3-4ED0-A2EA-D14AE1CC6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A450-83A3-43E1-BF6C-CC1D2403E131}"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6C2D-0553-4CC3-B68B-B7DEB2C70AF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9A9F-40FA-4DEB-B6B2-61608AEEFAF7}"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6832-6A09-4FF1-8966-764A302716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0759-0378-4ECF-BB30-98EAC1D156D5}"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5184-96D3-488D-BE87-7372777C782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55C6-6BB5-427D-AF8D-B0331C7EEEC7}"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8138-EC05-443D-9004-F91E5860D1C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A4FD-84DD-4B53-8C53-B6CC18E4023B}"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7348-9CAA-4C23-BBC8-1FAF159EA33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0066-ACB2-4517-8D62-47247A6A6410}"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889A-C654-4247-B098-AF5C04BF874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A61F-0C1D-4B58-84EA-AD3E2A28A5E5}" type="datetime">
              <a:rPr b="0" lang="en-US" sz="1200" spc="-1" strike="noStrike">
                <a:solidFill>
                  <a:srgbClr val="b5a788"/>
                </a:solidFill>
                <a:latin typeface="Times New Roman"/>
              </a:rPr>
              <a:t>07/30/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25DA-B306-4C89-8720-7CBB1043CCA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alnaif@ksu.edu.sa"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b050"/>
                </a:solidFill>
                <a:latin typeface="Arial"/>
              </a:rPr>
              <a:t>EPIDEMIOLOGY</a:t>
            </a:r>
            <a:endParaRPr b="0" lang="en-US" sz="4300" spc="-1" strike="noStrike">
              <a:solidFill>
                <a:srgbClr val="572314"/>
              </a:solidFill>
              <a:latin typeface="Arial"/>
            </a:endParaRPr>
          </a:p>
        </p:txBody>
      </p:sp>
      <p:sp>
        <p:nvSpPr>
          <p:cNvPr id="319" name="PlaceHolder 2"/>
          <p:cNvSpPr>
            <a:spLocks noGrp="1"/>
          </p:cNvSpPr>
          <p:nvPr>
            <p:ph type="subTitle"/>
          </p:nvPr>
        </p:nvSpPr>
        <p:spPr>
          <a:xfrm>
            <a:off x="857160" y="1773000"/>
            <a:ext cx="7500960" cy="3865320"/>
          </a:xfrm>
          <a:prstGeom prst="rect">
            <a:avLst/>
          </a:prstGeom>
          <a:noFill/>
          <a:ln w="0">
            <a:noFill/>
          </a:ln>
        </p:spPr>
        <p:txBody>
          <a:bodyPr lIns="90000" rIns="90000" tIns="0" bIns="4680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KSU</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College of Applied Medical Sciences</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CHS 334</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Epidemiology</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Mohammed S. Alnaif, PhD</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8dc765"/>
                </a:solidFill>
                <a:uFillTx/>
                <a:latin typeface="Times New Roman"/>
                <a:hlinkClick r:id="rId1"/>
              </a:rPr>
              <a:t>alnaif@ksu.edu.sa</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2465-5555-4B52-B646-788FD5A93F37}" type="datetime">
              <a:rPr b="0" lang="ar-SA" sz="1200" spc="-1" strike="noStrike">
                <a:solidFill>
                  <a:srgbClr val="b5a788"/>
                </a:solidFill>
                <a:latin typeface="Arial"/>
              </a:rPr>
              <a:t>١٤٤٨/٠٢/١٦</a:t>
            </a:fld>
            <a:endParaRPr b="0" lang="en-US" sz="1200" spc="-1" strike="noStrike">
              <a:solidFill>
                <a:srgbClr val="000000"/>
              </a:solidFill>
              <a:latin typeface="Arial"/>
            </a:endParaRPr>
          </a:p>
        </p:txBody>
      </p:sp>
      <p:sp>
        <p:nvSpPr>
          <p:cNvPr id="32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22" name="Slide Number Placeholder 4"/>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5000-9EA8-4E55-9EF8-0539B90C14FF}"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4BBE-FC7C-4D17-BDC5-8570DF31334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p:nvPr>
        </p:nvSpPr>
        <p:spPr>
          <a:xfrm>
            <a:off x="971280" y="1915920"/>
            <a:ext cx="7848360" cy="3840120"/>
          </a:xfrm>
          <a:prstGeom prst="rect">
            <a:avLst/>
          </a:prstGeom>
          <a:noFill/>
          <a:ln w="0">
            <a:noFill/>
          </a:ln>
        </p:spPr>
        <p:txBody>
          <a:bodyPr lIns="90000" rIns="90000" tIns="46800" bIns="46800" anchor="t">
            <a:normAutofit/>
          </a:bodyPr>
          <a:p>
            <a:pPr marL="81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Responsibilities of the Infection Control Program</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ucation of hospital staff on infection control</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going review of all aseptic, isolation and sanitation technique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 of antibiotic utilization</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 of antibiotic resistant organism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wasteful or unnecessary practices </a:t>
            </a:r>
            <a:endParaRPr b="0" lang="en-US" sz="2800" spc="-1" strike="noStrike">
              <a:solidFill>
                <a:srgbClr val="000000"/>
              </a:solidFill>
              <a:latin typeface="Times New Roman"/>
            </a:endParaRPr>
          </a:p>
        </p:txBody>
      </p:sp>
      <p:sp>
        <p:nvSpPr>
          <p:cNvPr id="350"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6B9A-B93F-45B5-AD18-4F4F3ACC4B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p:nvPr>
        </p:nvSpPr>
        <p:spPr>
          <a:xfrm>
            <a:off x="971280" y="1628640"/>
            <a:ext cx="7848360" cy="460872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c1cfa"/>
                </a:solidFill>
                <a:latin typeface="Times New Roman"/>
              </a:rPr>
              <a:t>Areas of interest to a hospital epidemiologist</a:t>
            </a:r>
            <a:endParaRPr b="0" lang="en-US" sz="2600" spc="-1" strike="noStrike">
              <a:solidFill>
                <a:srgbClr val="000000"/>
              </a:solidFill>
              <a:latin typeface="Times New Roman"/>
            </a:endParaRPr>
          </a:p>
          <a:p>
            <a:pPr marL="81000">
              <a:spcBef>
                <a:spcPts val="601"/>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urveillance for nosocomial infection</a:t>
            </a:r>
            <a:endParaRPr b="0" lang="en-US" sz="26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loodstream infections</a:t>
            </a:r>
            <a:endParaRPr b="0" lang="en-US" sz="22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neumonia</a:t>
            </a:r>
            <a:endParaRPr b="0" lang="en-US" sz="22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rinary tract infections</a:t>
            </a:r>
            <a:endParaRPr b="0" lang="en-US" sz="22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rgical wound infections</a:t>
            </a:r>
            <a:endParaRPr b="0" lang="en-US" sz="2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tterns of transmission of nosocomial infections</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utbreak investigation</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olation precautions</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valuation of exposures</a:t>
            </a:r>
            <a:endParaRPr b="0" lang="en-US" sz="2600" spc="-1" strike="noStrike">
              <a:solidFill>
                <a:srgbClr val="000000"/>
              </a:solidFill>
              <a:latin typeface="Times New Roman"/>
            </a:endParaRPr>
          </a:p>
        </p:txBody>
      </p:sp>
      <p:sp>
        <p:nvSpPr>
          <p:cNvPr id="353"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CF98-B660-46BC-B10D-67B92E7C0B0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p:nvPr>
        </p:nvSpPr>
        <p:spPr>
          <a:xfrm>
            <a:off x="1042560" y="1599840"/>
            <a:ext cx="7898040" cy="426708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Areas of interest to a hospital epidemiologist</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loyee health</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infection and sterilization</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spital engineering and environment</a:t>
            </a:r>
            <a:endParaRPr b="0" lang="en-US" sz="28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er supply</a:t>
            </a:r>
            <a:endParaRPr b="0" lang="en-US" sz="24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 filtration</a:t>
            </a:r>
            <a:endParaRPr b="0" lang="en-US" sz="24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ing policies and procedures for patient care</a:t>
            </a:r>
            <a:endParaRPr b="0" lang="en-US" sz="2800" spc="-1" strike="noStrike">
              <a:solidFill>
                <a:srgbClr val="000000"/>
              </a:solidFill>
              <a:latin typeface="Times New Roman"/>
            </a:endParaRPr>
          </a:p>
        </p:txBody>
      </p:sp>
      <p:sp>
        <p:nvSpPr>
          <p:cNvPr id="356"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07EF-CA45-4758-B5B6-133CF51C2D4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p:nvPr>
        </p:nvSpPr>
        <p:spPr>
          <a:xfrm>
            <a:off x="826560" y="1599840"/>
            <a:ext cx="8114040" cy="426708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Areas of interest to a hospital epidemiologist</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ibiotic use</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ibiotic resistant pathogens</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crobiology support</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regulations on infection control</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ection control committee</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ntitative methods in epidemiology</a:t>
            </a:r>
            <a:endParaRPr b="0" lang="en-US" sz="2800" spc="-1" strike="noStrike">
              <a:solidFill>
                <a:srgbClr val="000000"/>
              </a:solidFill>
              <a:latin typeface="Times New Roman"/>
            </a:endParaRPr>
          </a:p>
        </p:txBody>
      </p:sp>
      <p:sp>
        <p:nvSpPr>
          <p:cNvPr id="359"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6310-784D-4221-8B2F-A18C5A060F2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p:nvPr>
        </p:nvSpPr>
        <p:spPr>
          <a:xfrm>
            <a:off x="826560" y="1447560"/>
            <a:ext cx="8107560" cy="4800600"/>
          </a:xfrm>
          <a:prstGeom prst="rect">
            <a:avLst/>
          </a:prstGeom>
          <a:noFill/>
          <a:ln w="0">
            <a:noFill/>
          </a:ln>
        </p:spPr>
        <p:txBody>
          <a:bodyPr lIns="90000" rIns="90000" tIns="46800" bIns="46800" anchor="t">
            <a:normAutofit/>
          </a:bodyPr>
          <a:p>
            <a:pPr marL="81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Organizing for Infection Control</a:t>
            </a:r>
            <a:endParaRPr b="0" lang="en-US" sz="32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cooperation, understanding and support of hospital  administration and medical/surgical/nursing leadership</a:t>
            </a:r>
            <a:endParaRPr b="0" lang="en-US" sz="32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is no simple formula:</a:t>
            </a:r>
            <a:endParaRPr b="0" lang="en-US" sz="3200" spc="-1" strike="noStrike">
              <a:solidFill>
                <a:srgbClr val="000000"/>
              </a:solidFill>
              <a:latin typeface="Times New Roman"/>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ry hospital is different</a:t>
            </a:r>
            <a:endParaRPr b="0" lang="en-US" sz="2800" spc="-1" strike="noStrike">
              <a:solidFill>
                <a:srgbClr val="000000"/>
              </a:solidFill>
              <a:latin typeface="Times New Roman"/>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ry hospital’s problems are different</a:t>
            </a:r>
            <a:endParaRPr b="0" lang="en-US" sz="2800" spc="-1" strike="noStrike">
              <a:solidFill>
                <a:srgbClr val="000000"/>
              </a:solidFill>
              <a:latin typeface="Times New Roman"/>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ry hospital’s personnel are different</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ospital must develop its own unique program</a:t>
            </a:r>
            <a:endParaRPr b="0" lang="en-US" sz="3200" spc="-1" strike="noStrike">
              <a:solidFill>
                <a:srgbClr val="000000"/>
              </a:solidFill>
              <a:latin typeface="Times New Roman"/>
            </a:endParaRPr>
          </a:p>
        </p:txBody>
      </p:sp>
      <p:sp>
        <p:nvSpPr>
          <p:cNvPr id="362"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A6FB-506F-4827-9FE1-2611461DDE8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p:nvPr>
        </p:nvSpPr>
        <p:spPr>
          <a:xfrm>
            <a:off x="900000" y="1557000"/>
            <a:ext cx="7920000" cy="4608360"/>
          </a:xfrm>
          <a:prstGeom prst="rect">
            <a:avLst/>
          </a:prstGeom>
          <a:noFill/>
          <a:ln w="0">
            <a:noFill/>
          </a:ln>
        </p:spPr>
        <p:txBody>
          <a:bodyPr lIns="90000" rIns="90000" tIns="46800" bIns="46800" anchor="t">
            <a:normAutofit/>
          </a:bodyPr>
          <a:p>
            <a:pPr marL="8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1cfa"/>
                </a:solidFill>
                <a:latin typeface="Times New Roman"/>
              </a:rPr>
              <a:t>Essential Components of an Effective Infection Control Program </a:t>
            </a:r>
            <a:endParaRPr b="0" lang="en-US" sz="30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e full time infection control practitioner per 250 beds</a:t>
            </a:r>
            <a:endParaRPr b="0" lang="en-US" sz="30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ptimal ratio may be different</a:t>
            </a:r>
            <a:endParaRPr b="0" lang="en-US" sz="26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physician with training and expertise in infection control</a:t>
            </a:r>
            <a:endParaRPr b="0" lang="en-US" sz="30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urveillance and feedback of rates to clinicians</a:t>
            </a:r>
            <a:endParaRPr b="0" lang="en-US" sz="30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trol activities (interventions, policies, training)</a:t>
            </a:r>
            <a:endParaRPr b="0" lang="en-US" sz="3000" spc="-1" strike="noStrike">
              <a:solidFill>
                <a:srgbClr val="000000"/>
              </a:solidFill>
              <a:latin typeface="Times New Roman"/>
            </a:endParaRPr>
          </a:p>
        </p:txBody>
      </p:sp>
      <p:sp>
        <p:nvSpPr>
          <p:cNvPr id="365"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4360" y="333360"/>
            <a:ext cx="7772400" cy="100800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67" name="PlaceHolder 2"/>
          <p:cNvSpPr>
            <a:spLocks noGrp="1"/>
          </p:cNvSpPr>
          <p:nvPr>
            <p:ph type="subTitle"/>
          </p:nvPr>
        </p:nvSpPr>
        <p:spPr>
          <a:xfrm>
            <a:off x="1042920" y="2060280"/>
            <a:ext cx="7345440" cy="3578040"/>
          </a:xfrm>
          <a:prstGeom prst="rect">
            <a:avLst/>
          </a:prstGeom>
          <a:noFill/>
          <a:ln w="0">
            <a:noFill/>
          </a:ln>
        </p:spPr>
        <p:txBody>
          <a:bodyPr lIns="90000" rIns="90000" tIns="0" bIns="46800" anchor="t">
            <a:noAutofit/>
          </a:bodyPr>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quality of a hospital's or health center's infection control program is a reflection of the overall standard of care provided by that institution.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ood infection control programs reduce nosocomial infections, length of stay in the hospital, and costs associated with hospitalization. </a:t>
            </a:r>
            <a:endParaRPr b="0" lang="en-US" sz="2800" spc="-1" strike="noStrike">
              <a:solidFill>
                <a:srgbClr val="000000"/>
              </a:solidFill>
              <a:latin typeface="Times New Roman"/>
            </a:endParaRPr>
          </a:p>
        </p:txBody>
      </p:sp>
      <p:sp>
        <p:nvSpPr>
          <p:cNvPr id="3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8C73-11B3-4C2B-BAE9-A850D4B72C8B}"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6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7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0E10-15D1-46F0-9DB5-17E27E2783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72" name="PlaceHolder 2"/>
          <p:cNvSpPr>
            <a:spLocks noGrp="1"/>
          </p:cNvSpPr>
          <p:nvPr>
            <p:ph type="subTitle"/>
          </p:nvPr>
        </p:nvSpPr>
        <p:spPr>
          <a:xfrm>
            <a:off x="1042560" y="1628280"/>
            <a:ext cx="7304040" cy="4295880"/>
          </a:xfrm>
          <a:prstGeom prst="rect">
            <a:avLst/>
          </a:prstGeom>
          <a:noFill/>
          <a:ln w="0">
            <a:noFill/>
          </a:ln>
        </p:spPr>
        <p:txBody>
          <a:bodyPr lIns="90000" rIns="90000" tIns="0" bIns="46800" anchor="t">
            <a:noAutofit/>
          </a:bodyPr>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untries with developed health care systems have responded to the need to control hospital infections, by establishing infection control programs that span the spectrum of hospital practice and clinical activity and provide means of evaluating the outcome of infection by clinical audit. </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ood programs develop standards for quality care of patients that are integrated into clinical practice. </a:t>
            </a:r>
            <a:endParaRPr b="0" lang="en-US" sz="2800" spc="-1" strike="noStrike">
              <a:solidFill>
                <a:srgbClr val="000000"/>
              </a:solidFill>
              <a:latin typeface="Times New Roman"/>
            </a:endParaRPr>
          </a:p>
        </p:txBody>
      </p:sp>
      <p:sp>
        <p:nvSpPr>
          <p:cNvPr id="3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A7E0-0647-45E8-8A1A-16B31C61A79D}"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7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7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9CFC-AE6D-44B8-8E41-A8AF9AF53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77" name="PlaceHolder 2"/>
          <p:cNvSpPr>
            <a:spLocks noGrp="1"/>
          </p:cNvSpPr>
          <p:nvPr>
            <p:ph type="subTitle"/>
          </p:nvPr>
        </p:nvSpPr>
        <p:spPr>
          <a:xfrm>
            <a:off x="1042920" y="1700280"/>
            <a:ext cx="7345440" cy="3938400"/>
          </a:xfrm>
          <a:prstGeom prst="rect">
            <a:avLst/>
          </a:prstGeom>
          <a:noFill/>
          <a:ln w="0">
            <a:noFill/>
          </a:ln>
        </p:spPr>
        <p:txBody>
          <a:bodyPr lIns="90000" rIns="90000" tIns="0" bIns="46800" anchor="t">
            <a:noAutofit/>
          </a:bodyPr>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developing health care programs, however, the situation is different. Infection control programs are either in their infancy or nonexistent.</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dividual hospitals and physicians struggle to establish programs with little support from policy makers and government officials. </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fection control is considered a low priorit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25B0-F912-429D-9793-22B0A99FC914}"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7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8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BBB2-F953-4CE7-8D81-7BD9CBFBC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82" name="PlaceHolder 2"/>
          <p:cNvSpPr>
            <a:spLocks noGrp="1"/>
          </p:cNvSpPr>
          <p:nvPr>
            <p:ph type="subTitle"/>
          </p:nvPr>
        </p:nvSpPr>
        <p:spPr>
          <a:xfrm>
            <a:off x="971640" y="1628280"/>
            <a:ext cx="7632720" cy="40100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ssion</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mission of the Department of Hospital Epidemiology and Infection Control at the Johns Hopkins Hospital is to support the institution's tripartite mission of research, teaching, and patient care; to promote patient safety by reducing the risk of acquiring and transmitting infections; and to be a leader in healthcare epidemiology and infection control.</a:t>
            </a:r>
            <a:endParaRPr b="0" lang="en-US" sz="2800" spc="-1" strike="noStrike">
              <a:solidFill>
                <a:srgbClr val="000000"/>
              </a:solidFill>
              <a:latin typeface="Times New Roman"/>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CFA9-F947-48E6-B8D0-9CC12ED056F5}"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8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8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9A46-C580-4CFC-B909-E88612AC7C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3FFB-97B9-49BA-96CA-F64BEF65EB8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1068480" y="2060280"/>
            <a:ext cx="7199280" cy="290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1cfa"/>
                </a:solidFill>
                <a:latin typeface="Times New Roman"/>
              </a:rPr>
              <a:t>Nosocomial infection</a:t>
            </a:r>
            <a:br>
              <a:rPr sz="3600"/>
            </a:br>
            <a:r>
              <a:rPr b="1" lang="en-US" sz="3600" spc="-1" strike="noStrike">
                <a:solidFill>
                  <a:srgbClr val="000000"/>
                </a:solidFill>
                <a:latin typeface="Times New Roman"/>
              </a:rPr>
              <a:t>Any infection that is not present or incubating at the time the patient is admitted to the hospital</a:t>
            </a:r>
            <a:endParaRPr b="0" lang="en-US" sz="3600" spc="-1" strike="noStrike">
              <a:solidFill>
                <a:srgbClr val="572314"/>
              </a:solidFill>
              <a:latin typeface="Arial"/>
            </a:endParaRPr>
          </a:p>
        </p:txBody>
      </p:sp>
      <p:sp>
        <p:nvSpPr>
          <p:cNvPr id="325" name="Rectangle 3"/>
          <p:cNvSpPr/>
          <p:nvPr/>
        </p:nvSpPr>
        <p:spPr>
          <a:xfrm>
            <a:off x="1068480" y="1496880"/>
            <a:ext cx="7016760" cy="381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b">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87" name="PlaceHolder 2"/>
          <p:cNvSpPr>
            <a:spLocks noGrp="1"/>
          </p:cNvSpPr>
          <p:nvPr>
            <p:ph type="subTitle"/>
          </p:nvPr>
        </p:nvSpPr>
        <p:spPr>
          <a:xfrm>
            <a:off x="1042560" y="1267920"/>
            <a:ext cx="7705800" cy="475308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c1cfa"/>
                </a:solidFill>
                <a:latin typeface="Times New Roman"/>
                <a:ea typeface="Times New Roman"/>
              </a:rPr>
              <a:t>The Department of Hospital Epidemiology Hospital Epidemiology Departmental Functions</a:t>
            </a:r>
            <a:endParaRPr b="0" lang="en-US" sz="26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Perform comprehensive surveillance for healthcare-associated infections and epidemiologically significant organisms</a:t>
            </a:r>
            <a:endParaRPr b="0" lang="en-US" sz="29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Identify and investigate clusters or outbreaks of infection</a:t>
            </a:r>
            <a:endParaRPr b="0" lang="en-US" sz="29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Analyze procedure and device-associated infections</a:t>
            </a:r>
            <a:endParaRPr b="0" lang="en-US" sz="29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Create evidence-based interventions to prevent healthcare-associated infections</a:t>
            </a:r>
            <a:endParaRPr b="0" lang="en-US" sz="2900" spc="-1" strike="noStrike">
              <a:solidFill>
                <a:srgbClr val="000000"/>
              </a:solidFill>
              <a:latin typeface="Times New Roman"/>
            </a:endParaRPr>
          </a:p>
        </p:txBody>
      </p:sp>
      <p:sp>
        <p:nvSpPr>
          <p:cNvPr id="3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15CB-23B7-48EB-8AAD-FBB1ACC68A82}"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8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9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2255-DB6E-4AFF-92F5-CE1C106D2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92" name="PlaceHolder 2"/>
          <p:cNvSpPr>
            <a:spLocks noGrp="1"/>
          </p:cNvSpPr>
          <p:nvPr>
            <p:ph type="subTitle"/>
          </p:nvPr>
        </p:nvSpPr>
        <p:spPr>
          <a:xfrm>
            <a:off x="1042560" y="1483920"/>
            <a:ext cx="7705800" cy="4537080"/>
          </a:xfrm>
          <a:prstGeom prst="rect">
            <a:avLst/>
          </a:prstGeom>
          <a:noFill/>
          <a:ln w="0">
            <a:noFill/>
          </a:ln>
        </p:spPr>
        <p:txBody>
          <a:bodyPr lIns="90000" rIns="90000" tIns="0" bIns="4680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1cfa"/>
                </a:solidFill>
                <a:latin typeface="Times New Roman"/>
                <a:ea typeface="Times New Roman"/>
              </a:rPr>
              <a:t>The Department of Hospital Epidemiology Hospital Epidemiology Departmental Functions</a:t>
            </a:r>
            <a:endParaRPr b="0" lang="en-US" sz="24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Evaluate methods and technologies to reduce transmission of pathogens within the institution</a:t>
            </a:r>
            <a:endParaRPr b="0" lang="en-US" sz="26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reate and maintain appropriate infection control policies</a:t>
            </a:r>
            <a:endParaRPr b="0" lang="en-US" sz="26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Develop and maintain educational programs regarding infection control for all hospital employees, physicians, and trainees</a:t>
            </a:r>
            <a:endParaRPr b="0" lang="en-US" sz="27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rovide consultation to health care providers in the assessment and management of patients and employees with communicable diseases</a:t>
            </a:r>
            <a:endParaRPr b="0" lang="en-US" sz="2700" spc="-1" strike="noStrike">
              <a:solidFill>
                <a:srgbClr val="000000"/>
              </a:solidFill>
              <a:latin typeface="Times New Roman"/>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A3AB-8E55-4ADF-AFF7-ECF837C0EFFF}"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9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02CA-6977-4CAD-9A6B-72BF31EAA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333360"/>
            <a:ext cx="7772400" cy="57456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pital Epidemiology </a:t>
            </a:r>
            <a:endParaRPr b="0" lang="en-US" sz="3200" spc="-1" strike="noStrike">
              <a:solidFill>
                <a:srgbClr val="572314"/>
              </a:solidFill>
              <a:latin typeface="Arial"/>
            </a:endParaRPr>
          </a:p>
        </p:txBody>
      </p:sp>
      <p:sp>
        <p:nvSpPr>
          <p:cNvPr id="397" name="PlaceHolder 2"/>
          <p:cNvSpPr>
            <a:spLocks noGrp="1"/>
          </p:cNvSpPr>
          <p:nvPr>
            <p:ph type="subTitle"/>
          </p:nvPr>
        </p:nvSpPr>
        <p:spPr>
          <a:xfrm>
            <a:off x="971280" y="1268280"/>
            <a:ext cx="7777080" cy="511344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The Department of Hospital Epidemiology Hospital Epidemiology Departmental Functions</a:t>
            </a:r>
            <a:endParaRPr b="0" lang="en-US" sz="28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vide input for the content and scope of occupational health and safety programs related to infection control and prevention</a:t>
            </a:r>
            <a:endParaRPr b="0" lang="en-US" sz="28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ise senior leadership on issues related to reduction of infection risks and regulatory requirements</a:t>
            </a:r>
            <a:endParaRPr b="0" lang="en-US" sz="28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minister ongoing programs and initiatives for continuous quality assessment, quality improvement, and infection risk reduction (e.g. hand hygiene promotion and monitoring).</a:t>
            </a:r>
            <a:endParaRPr b="0" lang="en-US" sz="2800" spc="-1" strike="noStrike">
              <a:solidFill>
                <a:srgbClr val="000000"/>
              </a:solidFill>
              <a:latin typeface="Times New Roman"/>
            </a:endParaRPr>
          </a:p>
        </p:txBody>
      </p:sp>
      <p:sp>
        <p:nvSpPr>
          <p:cNvPr id="3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393B-EFB1-4076-AA72-70E389A9E2AA}"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39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50E9-78A6-4F7A-9F3C-36F4962D1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682560" y="334800"/>
            <a:ext cx="7772400" cy="1165320"/>
          </a:xfrm>
          <a:prstGeom prst="rect">
            <a:avLst/>
          </a:prstGeom>
          <a:ln w="0">
            <a:noFill/>
          </a:ln>
        </p:spPr>
      </p:pic>
      <p:sp>
        <p:nvSpPr>
          <p:cNvPr id="402" name="PlaceHolder 1"/>
          <p:cNvSpPr>
            <a:spLocks noGrp="1"/>
          </p:cNvSpPr>
          <p:nvPr>
            <p:ph type="subTitle"/>
          </p:nvPr>
        </p:nvSpPr>
        <p:spPr>
          <a:xfrm>
            <a:off x="971640" y="1700280"/>
            <a:ext cx="7416720" cy="3938400"/>
          </a:xfrm>
          <a:prstGeom prst="rect">
            <a:avLst/>
          </a:prstGeom>
          <a:noFill/>
          <a:ln w="0">
            <a:noFill/>
          </a:ln>
        </p:spPr>
        <p:txBody>
          <a:bodyPr lIns="90000" rIns="90000" tIns="0" bIns="46800" anchor="t">
            <a:noAutofit/>
          </a:bodyPr>
          <a:p>
            <a:pPr marL="2700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modern hospital epidemiologist has broad perspectives and influence across clinical departmental lines. </a:t>
            </a:r>
            <a:endParaRPr b="0" lang="en-US" sz="2800" spc="-1" strike="noStrike">
              <a:solidFill>
                <a:srgbClr val="000000"/>
              </a:solidFill>
              <a:latin typeface="Times New Roman"/>
            </a:endParaRPr>
          </a:p>
          <a:p>
            <a:pPr marL="2700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opportunities to improve patient care by expanding traditional areas of focus beyond infection control are great.</a:t>
            </a:r>
            <a:endParaRPr b="0" lang="en-US" sz="2800" spc="-1" strike="noStrike">
              <a:solidFill>
                <a:srgbClr val="000000"/>
              </a:solidFill>
              <a:latin typeface="Times New Roman"/>
            </a:endParaRPr>
          </a:p>
          <a:p>
            <a:pPr marL="2700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seful skills include epidemiology, communication, and respect for colleagues.</a:t>
            </a:r>
            <a:endParaRPr b="0" lang="en-US" sz="2800" spc="-1" strike="noStrike">
              <a:solidFill>
                <a:srgbClr val="000000"/>
              </a:solidFill>
              <a:latin typeface="Times New Roman"/>
            </a:endParaRPr>
          </a:p>
        </p:txBody>
      </p:sp>
      <p:sp>
        <p:nvSpPr>
          <p:cNvPr id="4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541D-78DE-40EA-86F4-D76A8D2247D7}"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0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0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71AA-8794-4CE9-85B3-5504F24D4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682560" y="249120"/>
            <a:ext cx="7772400" cy="1030320"/>
          </a:xfrm>
          <a:prstGeom prst="rect">
            <a:avLst/>
          </a:prstGeom>
          <a:ln w="0">
            <a:noFill/>
          </a:ln>
        </p:spPr>
      </p:pic>
      <p:sp>
        <p:nvSpPr>
          <p:cNvPr id="407" name="PlaceHolder 1"/>
          <p:cNvSpPr>
            <a:spLocks noGrp="1"/>
          </p:cNvSpPr>
          <p:nvPr>
            <p:ph type="subTitle"/>
          </p:nvPr>
        </p:nvSpPr>
        <p:spPr>
          <a:xfrm>
            <a:off x="971640" y="1773000"/>
            <a:ext cx="7416720" cy="3865320"/>
          </a:xfrm>
          <a:prstGeom prst="rect">
            <a:avLst/>
          </a:prstGeom>
          <a:noFill/>
          <a:ln w="0">
            <a:noFill/>
          </a:ln>
        </p:spPr>
        <p:txBody>
          <a:bodyPr lIns="90000" rIns="90000" tIns="0" bIns="46800" anchor="t">
            <a:noAutofit/>
          </a:bodyPr>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needs training in methods for surveillance, prevention, and control of nosocomial infections.</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also must know how to apply these methods to other areas, including the epidemiology of noninfectious adverse outcomes of medical care.</a:t>
            </a:r>
            <a:endParaRPr b="0" lang="en-US" sz="2800" spc="-1" strike="noStrike">
              <a:solidFill>
                <a:srgbClr val="000000"/>
              </a:solidFill>
              <a:latin typeface="Times New Roman"/>
            </a:endParaRPr>
          </a:p>
        </p:txBody>
      </p:sp>
      <p:sp>
        <p:nvSpPr>
          <p:cNvPr id="4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9531-607C-4986-94F3-B1CE944CBA13}"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0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1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704B-C291-46B5-B84E-CFF16AD744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682560" y="334800"/>
            <a:ext cx="7772400" cy="1165320"/>
          </a:xfrm>
          <a:prstGeom prst="rect">
            <a:avLst/>
          </a:prstGeom>
          <a:ln w="0">
            <a:noFill/>
          </a:ln>
        </p:spPr>
      </p:pic>
      <p:sp>
        <p:nvSpPr>
          <p:cNvPr id="412" name="PlaceHolder 1"/>
          <p:cNvSpPr>
            <a:spLocks noGrp="1"/>
          </p:cNvSpPr>
          <p:nvPr>
            <p:ph type="subTitle"/>
          </p:nvPr>
        </p:nvSpPr>
        <p:spPr>
          <a:xfrm>
            <a:off x="755640" y="1700280"/>
            <a:ext cx="7632720" cy="3938400"/>
          </a:xfrm>
          <a:prstGeom prst="rect">
            <a:avLst/>
          </a:prstGeom>
          <a:noFill/>
          <a:ln w="0">
            <a:noFill/>
          </a:ln>
        </p:spPr>
        <p:txBody>
          <a:bodyPr lIns="90000" rIns="90000" tIns="0" bIns="46800" anchor="t">
            <a:noAutofit/>
          </a:bodyPr>
          <a:p>
            <a:pPr marL="455760" indent="-45576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spital epidemiologists are professionals who use their knowledge and skills to determine the potential causes of disease and find out how diseases spread. </a:t>
            </a:r>
            <a:endParaRPr b="0" lang="en-US" sz="2800" spc="-1" strike="noStrike">
              <a:solidFill>
                <a:srgbClr val="000000"/>
              </a:solidFill>
              <a:latin typeface="Times New Roman"/>
            </a:endParaRPr>
          </a:p>
          <a:p>
            <a:pPr marL="455760" indent="-45576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spital epidemiologists translate their expertise into institutional policy and gain the support of administrators through the infection control committee. </a:t>
            </a:r>
            <a:endParaRPr b="0" lang="en-US" sz="2800" spc="-1" strike="noStrike">
              <a:solidFill>
                <a:srgbClr val="000000"/>
              </a:solidFill>
              <a:latin typeface="Times New Roman"/>
            </a:endParaRPr>
          </a:p>
        </p:txBody>
      </p:sp>
      <p:sp>
        <p:nvSpPr>
          <p:cNvPr id="41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881D-BC08-4F0B-9EB2-437F003D2AC5}"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1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1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7790-1C91-48AA-A431-D43020B7B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682560" y="334800"/>
            <a:ext cx="7772400" cy="1092240"/>
          </a:xfrm>
          <a:prstGeom prst="rect">
            <a:avLst/>
          </a:prstGeom>
          <a:ln w="0">
            <a:noFill/>
          </a:ln>
        </p:spPr>
      </p:pic>
      <p:sp>
        <p:nvSpPr>
          <p:cNvPr id="417" name="PlaceHolder 1"/>
          <p:cNvSpPr>
            <a:spLocks noGrp="1"/>
          </p:cNvSpPr>
          <p:nvPr>
            <p:ph type="subTitle"/>
          </p:nvPr>
        </p:nvSpPr>
        <p:spPr>
          <a:xfrm>
            <a:off x="1042920" y="2060280"/>
            <a:ext cx="7345440" cy="3578040"/>
          </a:xfrm>
          <a:prstGeom prst="rect">
            <a:avLst/>
          </a:prstGeom>
          <a:noFill/>
          <a:ln w="0">
            <a:noFill/>
          </a:ln>
        </p:spPr>
        <p:txBody>
          <a:bodyPr lIns="90000" rIns="90000" tIns="0" bIns="46800" anchor="t">
            <a:noAutofit/>
          </a:bodyPr>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fection control committee is the arm of hospital administration that regulates most infection control activities throughout the organization.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ittee members have the important task of helping disseminate information to all important hospital constituencies</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6D32-E5A7-433D-95D2-A91DEC3AE257}"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1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2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846B-B5D7-4912-AA67-D65CA0C08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682560" y="334800"/>
            <a:ext cx="7772400" cy="1092240"/>
          </a:xfrm>
          <a:prstGeom prst="rect">
            <a:avLst/>
          </a:prstGeom>
          <a:ln w="0">
            <a:noFill/>
          </a:ln>
        </p:spPr>
      </p:pic>
      <p:sp>
        <p:nvSpPr>
          <p:cNvPr id="422" name="PlaceHolder 1"/>
          <p:cNvSpPr>
            <a:spLocks noGrp="1"/>
          </p:cNvSpPr>
          <p:nvPr>
            <p:ph type="subTitle"/>
          </p:nvPr>
        </p:nvSpPr>
        <p:spPr>
          <a:xfrm>
            <a:off x="899640" y="1857240"/>
            <a:ext cx="751860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Purpose of the Infection Control Committe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fection control committee is responsible for assuring that the internal hospital environment minimizes the exposure of both patients and hospital personnel to infectious complications. It therefore develops policies and procedures relative to infection control and assures accurate reporting of infections occurring in the hospital.</a:t>
            </a:r>
            <a:endParaRPr b="0" lang="en-US" sz="2800" spc="-1" strike="noStrike">
              <a:solidFill>
                <a:srgbClr val="000000"/>
              </a:solidFill>
              <a:latin typeface="Times New Roman"/>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A8A7-3357-4944-9502-1E4093B16E91}"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2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2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7A81-3BEB-41D8-93D4-9BA7F9A21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ectangle 2" descr=""/>
          <p:cNvPicPr/>
          <p:nvPr/>
        </p:nvPicPr>
        <p:blipFill>
          <a:blip r:embed="rId1"/>
          <a:stretch/>
        </p:blipFill>
        <p:spPr>
          <a:xfrm>
            <a:off x="682560" y="334800"/>
            <a:ext cx="7772400" cy="1238400"/>
          </a:xfrm>
          <a:prstGeom prst="rect">
            <a:avLst/>
          </a:prstGeom>
          <a:ln w="0">
            <a:noFill/>
          </a:ln>
        </p:spPr>
      </p:pic>
      <p:sp>
        <p:nvSpPr>
          <p:cNvPr id="427" name="PlaceHolder 1"/>
          <p:cNvSpPr>
            <a:spLocks noGrp="1"/>
          </p:cNvSpPr>
          <p:nvPr>
            <p:ph type="subTitle"/>
          </p:nvPr>
        </p:nvSpPr>
        <p:spPr>
          <a:xfrm>
            <a:off x="899640" y="1857240"/>
            <a:ext cx="751860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Purpose of the Infection Control Committe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s purpose is to ratify the ideas of the infection control team and to disseminate infection control information.</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provides the political support that empowers the infection control team to implement infection control policies. </a:t>
            </a:r>
            <a:endParaRPr b="0" lang="en-US" sz="2800" spc="-1" strike="noStrike">
              <a:solidFill>
                <a:srgbClr val="000000"/>
              </a:solidFill>
              <a:latin typeface="Times New Roman"/>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9D1B-3B1E-426A-BB63-2206418D0C5E}"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2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3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DD81-8EEC-43A2-9753-3E3AC6C91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682560" y="334800"/>
            <a:ext cx="7772400" cy="1238400"/>
          </a:xfrm>
          <a:prstGeom prst="rect">
            <a:avLst/>
          </a:prstGeom>
          <a:ln w="0">
            <a:noFill/>
          </a:ln>
        </p:spPr>
      </p:pic>
      <p:sp>
        <p:nvSpPr>
          <p:cNvPr id="432" name="PlaceHolder 1"/>
          <p:cNvSpPr>
            <a:spLocks noGrp="1"/>
          </p:cNvSpPr>
          <p:nvPr>
            <p:ph type="subTitle"/>
          </p:nvPr>
        </p:nvSpPr>
        <p:spPr>
          <a:xfrm>
            <a:off x="971640" y="1857240"/>
            <a:ext cx="744696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Purpose of the Infection Control Committe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ittee members who understand the policies will take critical information to their work areas where they can relay it to peers.</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itself does not do the actual work of infection control and rarely generates independent ideas. </a:t>
            </a:r>
            <a:endParaRPr b="0" lang="en-US" sz="2800" spc="-1" strike="noStrike">
              <a:solidFill>
                <a:srgbClr val="000000"/>
              </a:solidFill>
              <a:latin typeface="Times New Roman"/>
            </a:endParaRPr>
          </a:p>
        </p:txBody>
      </p:sp>
      <p:sp>
        <p:nvSpPr>
          <p:cNvPr id="43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6C62-CF44-460B-94D9-DABEEDDC3F66}"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3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3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F00E-9607-48EA-A48B-62692B802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1F41-3D25-4248-BD52-1EF6BB5C0DA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p:nvPr>
        </p:nvSpPr>
        <p:spPr>
          <a:xfrm>
            <a:off x="982800" y="1628280"/>
            <a:ext cx="7981920" cy="4464360"/>
          </a:xfrm>
          <a:prstGeom prst="rect">
            <a:avLst/>
          </a:prstGeom>
          <a:noFill/>
          <a:ln w="0">
            <a:noFill/>
          </a:ln>
        </p:spPr>
        <p:txBody>
          <a:bodyPr lIns="90000" rIns="90000" tIns="46800" bIns="4680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Why do we need hospital epidemiology??</a:t>
            </a:r>
            <a:endParaRPr b="0" lang="en-US" sz="32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spitals are complex institutions where patients go to have their health problem diagnosed and treated</a:t>
            </a:r>
            <a:endParaRPr b="0" lang="en-US" sz="32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ever</a:t>
            </a:r>
            <a:r>
              <a:rPr b="1" lang="en-US" sz="3200" spc="-1" strike="noStrike">
                <a:solidFill>
                  <a:srgbClr val="000000"/>
                </a:solidFill>
                <a:latin typeface="Times New Roman"/>
              </a:rPr>
              <a:t>, hospitals and medical/surgical interventions </a:t>
            </a:r>
            <a:r>
              <a:rPr b="1" i="1" lang="en-US" sz="3200" spc="-1" strike="noStrike">
                <a:solidFill>
                  <a:srgbClr val="000000"/>
                </a:solidFill>
                <a:latin typeface="Times New Roman"/>
              </a:rPr>
              <a:t>introduce risks </a:t>
            </a:r>
            <a:r>
              <a:rPr b="1" lang="en-US" sz="3200" spc="-1" strike="noStrike">
                <a:solidFill>
                  <a:srgbClr val="000000"/>
                </a:solidFill>
                <a:latin typeface="Times New Roman"/>
              </a:rPr>
              <a:t>that may harm a patient’s health</a:t>
            </a:r>
            <a:endParaRPr b="0" lang="en-US" sz="3200" spc="-1" strike="noStrike">
              <a:solidFill>
                <a:srgbClr val="000000"/>
              </a:solidFill>
              <a:latin typeface="Times New Roman"/>
            </a:endParaRPr>
          </a:p>
        </p:txBody>
      </p:sp>
      <p:sp>
        <p:nvSpPr>
          <p:cNvPr id="329" name="Rectangle 2"/>
          <p:cNvSpPr/>
          <p:nvPr/>
        </p:nvSpPr>
        <p:spPr>
          <a:xfrm>
            <a:off x="1476360" y="345960"/>
            <a:ext cx="6908760" cy="1008000"/>
          </a:xfrm>
          <a:prstGeom prst="rect">
            <a:avLst/>
          </a:prstGeom>
          <a:noFill/>
          <a:ln w="0">
            <a:noFill/>
          </a:ln>
        </p:spPr>
        <p:style>
          <a:lnRef idx="0"/>
          <a:fillRef idx="0"/>
          <a:effectRef idx="0"/>
          <a:fontRef idx="minor"/>
        </p:style>
        <p:txBody>
          <a:bodyPr lIns="90360" rIns="90360" tIns="44280" bIns="44280" anchor="ctr">
            <a:norm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spital Epidemiology </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682560" y="334800"/>
            <a:ext cx="7772400" cy="1092240"/>
          </a:xfrm>
          <a:prstGeom prst="rect">
            <a:avLst/>
          </a:prstGeom>
          <a:ln w="0">
            <a:noFill/>
          </a:ln>
        </p:spPr>
      </p:pic>
      <p:sp>
        <p:nvSpPr>
          <p:cNvPr id="437" name="PlaceHolder 1"/>
          <p:cNvSpPr>
            <a:spLocks noGrp="1"/>
          </p:cNvSpPr>
          <p:nvPr>
            <p:ph type="subTitle"/>
          </p:nvPr>
        </p:nvSpPr>
        <p:spPr>
          <a:xfrm>
            <a:off x="1115640" y="1857240"/>
            <a:ext cx="730260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Membership</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should recruit people who can help the committee meet its goals.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include a core group that does the real day-to-day work of infection control. </a:t>
            </a:r>
            <a:endParaRPr b="0" lang="en-US" sz="2800" spc="-1" strike="noStrike">
              <a:solidFill>
                <a:srgbClr val="000000"/>
              </a:solidFill>
              <a:latin typeface="Times New Roman"/>
            </a:endParaRPr>
          </a:p>
        </p:txBody>
      </p:sp>
      <p:sp>
        <p:nvSpPr>
          <p:cNvPr id="43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7D29-0BC8-4F08-970F-B4BCF47740B9}"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3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4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C3AB-204D-4298-A30B-2212A3791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682560" y="334800"/>
            <a:ext cx="7772400" cy="1165320"/>
          </a:xfrm>
          <a:prstGeom prst="rect">
            <a:avLst/>
          </a:prstGeom>
          <a:ln w="0">
            <a:noFill/>
          </a:ln>
        </p:spPr>
      </p:pic>
      <p:sp>
        <p:nvSpPr>
          <p:cNvPr id="442" name="PlaceHolder 1"/>
          <p:cNvSpPr>
            <a:spLocks noGrp="1"/>
          </p:cNvSpPr>
          <p:nvPr>
            <p:ph type="subTitle"/>
          </p:nvPr>
        </p:nvSpPr>
        <p:spPr>
          <a:xfrm>
            <a:off x="1042920" y="1857240"/>
            <a:ext cx="737568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Membership</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fection control "team" should includes the hospital epidemiologist, the infection control professionals, the clinical microbiologist, and the employee health director, the people who perform surveillance, analyze trends, and develop policies. </a:t>
            </a:r>
            <a:endParaRPr b="0" lang="en-US" sz="2800" spc="-1" strike="noStrike">
              <a:solidFill>
                <a:srgbClr val="000000"/>
              </a:solidFill>
              <a:latin typeface="Times New Roman"/>
            </a:endParaRPr>
          </a:p>
        </p:txBody>
      </p:sp>
      <p:sp>
        <p:nvSpPr>
          <p:cNvPr id="44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3FE3-2D63-422A-889F-39A270C67582}"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4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4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1132-95E9-4CBD-A228-D83C5A0EB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682560" y="334800"/>
            <a:ext cx="7772400" cy="1165320"/>
          </a:xfrm>
          <a:prstGeom prst="rect">
            <a:avLst/>
          </a:prstGeom>
          <a:ln w="0">
            <a:noFill/>
          </a:ln>
        </p:spPr>
      </p:pic>
      <p:sp>
        <p:nvSpPr>
          <p:cNvPr id="447" name="PlaceHolder 1"/>
          <p:cNvSpPr>
            <a:spLocks noGrp="1"/>
          </p:cNvSpPr>
          <p:nvPr>
            <p:ph type="subTitle"/>
          </p:nvPr>
        </p:nvSpPr>
        <p:spPr>
          <a:xfrm>
            <a:off x="1042920" y="1857240"/>
            <a:ext cx="737568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Membership</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ther members should represent important department, depending on the structure of the health care organization; administration, nursing, family practice, internal medicine, surgery, pediatrics, pharmacy, and central services. </a:t>
            </a:r>
            <a:endParaRPr b="0" lang="en-US" sz="2800" spc="-1" strike="noStrike">
              <a:solidFill>
                <a:srgbClr val="000000"/>
              </a:solidFill>
              <a:latin typeface="Times New Roman"/>
            </a:endParaRPr>
          </a:p>
        </p:txBody>
      </p:sp>
      <p:sp>
        <p:nvSpPr>
          <p:cNvPr id="4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10DA-BEAE-4BB6-B5B0-31F98B0A3F11}"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4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D9C5-939D-41B1-B3CB-2F7BC2A4B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682560" y="334800"/>
            <a:ext cx="7772400" cy="1165320"/>
          </a:xfrm>
          <a:prstGeom prst="rect">
            <a:avLst/>
          </a:prstGeom>
          <a:ln w="0">
            <a:noFill/>
          </a:ln>
        </p:spPr>
      </p:pic>
      <p:sp>
        <p:nvSpPr>
          <p:cNvPr id="452" name="PlaceHolder 1"/>
          <p:cNvSpPr>
            <a:spLocks noGrp="1"/>
          </p:cNvSpPr>
          <p:nvPr>
            <p:ph type="subTitle"/>
          </p:nvPr>
        </p:nvSpPr>
        <p:spPr>
          <a:xfrm>
            <a:off x="1115640" y="2285640"/>
            <a:ext cx="7302600" cy="371484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Chair</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hair of the infection control committee is usually the hospital epidemiologist.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 or she is often an infectious disease specialist or medical microbiologist with training in infection control. </a:t>
            </a:r>
            <a:endParaRPr b="0" lang="en-US" sz="2800" spc="-1" strike="noStrike">
              <a:solidFill>
                <a:srgbClr val="000000"/>
              </a:solidFill>
              <a:latin typeface="Times New Roman"/>
            </a:endParaRPr>
          </a:p>
        </p:txBody>
      </p:sp>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D32F-3D75-4719-8B9C-4045B5B9E10F}"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5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5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D0CB-F864-4EA9-9077-2A93214BEB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682560" y="324000"/>
            <a:ext cx="7772400" cy="1028520"/>
          </a:xfrm>
          <a:prstGeom prst="rect">
            <a:avLst/>
          </a:prstGeom>
          <a:ln w="0">
            <a:noFill/>
          </a:ln>
        </p:spPr>
      </p:pic>
      <p:sp>
        <p:nvSpPr>
          <p:cNvPr id="457" name="PlaceHolder 1"/>
          <p:cNvSpPr>
            <a:spLocks noGrp="1"/>
          </p:cNvSpPr>
          <p:nvPr>
            <p:ph type="subTitle"/>
          </p:nvPr>
        </p:nvSpPr>
        <p:spPr>
          <a:xfrm>
            <a:off x="1042920" y="1857240"/>
            <a:ext cx="737568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Logistics</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meet at a set time and place monthly or quarterly, on the same week of the same month and day of the week.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members should receive the agenda several days in advance to remind them of the meeting and to allow them to prepare for it. </a:t>
            </a:r>
            <a:endParaRPr b="0" lang="en-US" sz="2800" spc="-1" strike="noStrike">
              <a:solidFill>
                <a:srgbClr val="000000"/>
              </a:solidFill>
              <a:latin typeface="Times New Roman"/>
            </a:endParaRPr>
          </a:p>
        </p:txBody>
      </p:sp>
      <p:sp>
        <p:nvSpPr>
          <p:cNvPr id="45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E892-D52E-4234-A3A2-59DFF5CEF0CF}"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5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6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79DC-16A6-487A-9232-782F4B1E2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682560" y="324000"/>
            <a:ext cx="7772400" cy="1028520"/>
          </a:xfrm>
          <a:prstGeom prst="rect">
            <a:avLst/>
          </a:prstGeom>
          <a:ln w="0">
            <a:noFill/>
          </a:ln>
        </p:spPr>
      </p:pic>
      <p:sp>
        <p:nvSpPr>
          <p:cNvPr id="462" name="PlaceHolder 1"/>
          <p:cNvSpPr>
            <a:spLocks noGrp="1"/>
          </p:cNvSpPr>
          <p:nvPr>
            <p:ph type="subTitle"/>
          </p:nvPr>
        </p:nvSpPr>
        <p:spPr>
          <a:xfrm>
            <a:off x="1042560" y="2143080"/>
            <a:ext cx="7458120" cy="385776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Getting Things Don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keep things running smoothly in today's bureaucratic environment, the hospital epidemiologists must prepare extensively before each meeting. </a:t>
            </a:r>
            <a:endParaRPr b="0" lang="en-US" sz="24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e or she must know who is in the power structure and gain their support ahead of time. </a:t>
            </a:r>
            <a:endParaRPr b="0" lang="en-US" sz="24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nce he or she has gained the administrator's approval, you should have the authority to implement the policy as needed. </a:t>
            </a:r>
            <a:endParaRPr b="0" lang="en-US" sz="2400" spc="-1" strike="noStrike">
              <a:solidFill>
                <a:srgbClr val="000000"/>
              </a:solidFill>
              <a:latin typeface="Times New Roman"/>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8209-4F8C-41ED-A2C1-672E3F2CD33D}"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6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6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C96B-8EF9-48C7-BF42-97E152919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682560" y="324000"/>
            <a:ext cx="7772400" cy="1028520"/>
          </a:xfrm>
          <a:prstGeom prst="rect">
            <a:avLst/>
          </a:prstGeom>
          <a:ln w="0">
            <a:noFill/>
          </a:ln>
        </p:spPr>
      </p:pic>
      <p:sp>
        <p:nvSpPr>
          <p:cNvPr id="467" name="PlaceHolder 1"/>
          <p:cNvSpPr>
            <a:spLocks noGrp="1"/>
          </p:cNvSpPr>
          <p:nvPr>
            <p:ph type="subTitle"/>
          </p:nvPr>
        </p:nvSpPr>
        <p:spPr>
          <a:xfrm>
            <a:off x="971640" y="2356920"/>
            <a:ext cx="7386480" cy="364356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Getting Things Don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should consult with persons who have expertise in the area addressed by the proposed policy.</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 would be wise to have the expert present relevant background data at the infection control meeting</a:t>
            </a:r>
            <a:r>
              <a:rPr b="1"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p:txBody>
      </p:sp>
      <p:sp>
        <p:nvSpPr>
          <p:cNvPr id="4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A4D7-7EED-44C7-86A3-A5CBF473196A}"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6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7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24FB-30E5-40A9-BEE3-7332E5A61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682560" y="334800"/>
            <a:ext cx="7772400" cy="1092240"/>
          </a:xfrm>
          <a:prstGeom prst="rect">
            <a:avLst/>
          </a:prstGeom>
          <a:ln w="0">
            <a:noFill/>
          </a:ln>
        </p:spPr>
      </p:pic>
      <p:sp>
        <p:nvSpPr>
          <p:cNvPr id="472" name="PlaceHolder 1"/>
          <p:cNvSpPr>
            <a:spLocks noGrp="1"/>
          </p:cNvSpPr>
          <p:nvPr>
            <p:ph type="subTitle"/>
          </p:nvPr>
        </p:nvSpPr>
        <p:spPr>
          <a:xfrm>
            <a:off x="1115640" y="1700280"/>
            <a:ext cx="7242120" cy="430056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Getting Things Done</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nally, you should identify people who are likely to oppose your goal. </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f you talk with opponents individually in a non-confrontational manner before the meeting, you may disarm them and win their support. </a:t>
            </a:r>
            <a:endParaRPr b="0" lang="en-US" sz="3200" spc="-1" strike="noStrike">
              <a:solidFill>
                <a:srgbClr val="000000"/>
              </a:solidFill>
              <a:latin typeface="Times New Roman"/>
            </a:endParaRPr>
          </a:p>
        </p:txBody>
      </p:sp>
      <p:sp>
        <p:nvSpPr>
          <p:cNvPr id="4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34E1-2A03-4615-9939-F4C5A43FB74B}"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7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7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D8D8-B4E2-4A02-874B-12E1D99CC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b">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The Infection Control Committee</a:t>
            </a:r>
            <a:endParaRPr b="0" lang="en-US" sz="3600" spc="-1" strike="noStrike">
              <a:solidFill>
                <a:srgbClr val="572314"/>
              </a:solidFill>
              <a:latin typeface="Arial"/>
            </a:endParaRPr>
          </a:p>
        </p:txBody>
      </p:sp>
      <p:sp>
        <p:nvSpPr>
          <p:cNvPr id="477" name="PlaceHolder 2"/>
          <p:cNvSpPr>
            <a:spLocks noGrp="1"/>
          </p:cNvSpPr>
          <p:nvPr>
            <p:ph type="subTitle"/>
          </p:nvPr>
        </p:nvSpPr>
        <p:spPr>
          <a:xfrm>
            <a:off x="999720" y="1773000"/>
            <a:ext cx="7286760" cy="422748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inutes</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minutes of the infection control committee are a legal document.</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y record the topics that the committee discussed and the policies or procedures that the committee approved. </a:t>
            </a:r>
            <a:endParaRPr b="0" lang="en-US" sz="3200" spc="-1" strike="noStrike">
              <a:solidFill>
                <a:srgbClr val="000000"/>
              </a:solidFill>
              <a:latin typeface="Times New Roman"/>
            </a:endParaRPr>
          </a:p>
        </p:txBody>
      </p:sp>
      <p:sp>
        <p:nvSpPr>
          <p:cNvPr id="4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9C5D-6EBE-4912-B07F-09D2DFE0A571}"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7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8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25FA-94BF-4DDD-877C-A99CCEB2F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682560" y="334800"/>
            <a:ext cx="7772400" cy="1165320"/>
          </a:xfrm>
          <a:prstGeom prst="rect">
            <a:avLst/>
          </a:prstGeom>
          <a:ln w="0">
            <a:noFill/>
          </a:ln>
        </p:spPr>
      </p:pic>
      <p:sp>
        <p:nvSpPr>
          <p:cNvPr id="482" name="PlaceHolder 1"/>
          <p:cNvSpPr>
            <a:spLocks noGrp="1"/>
          </p:cNvSpPr>
          <p:nvPr>
            <p:ph type="subTitle"/>
          </p:nvPr>
        </p:nvSpPr>
        <p:spPr>
          <a:xfrm>
            <a:off x="999720" y="1773000"/>
            <a:ext cx="7286760" cy="422748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inutes</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 appointed secretary should compose them with care.</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pies should be sent to committee members for review.</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mmittee should approve the minutes at the next scheduled meeting. </a:t>
            </a:r>
            <a:endParaRPr b="0" lang="en-US" sz="3200" spc="-1" strike="noStrike">
              <a:solidFill>
                <a:srgbClr val="000000"/>
              </a:solidFill>
              <a:latin typeface="Times New Roman"/>
            </a:endParaRPr>
          </a:p>
        </p:txBody>
      </p:sp>
      <p:sp>
        <p:nvSpPr>
          <p:cNvPr id="4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84C8-A607-41D0-972F-85C9ACBAA158}"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8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8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8EC2-E568-4407-BECD-7FB7A5A72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EA9F-5E6D-4069-A3AA-E9D4C7667D6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p:nvPr>
        </p:nvSpPr>
        <p:spPr>
          <a:xfrm>
            <a:off x="1042920" y="1905120"/>
            <a:ext cx="7153200" cy="411480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Consequences of Nosocomial Infections</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ditional morbidity</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longed hospitalization</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physical, developmental and neurological sequelae</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reased cost of hospitalization</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ath</a:t>
            </a:r>
            <a:endParaRPr b="0" lang="en-US" sz="3200" spc="-1" strike="noStrike">
              <a:solidFill>
                <a:srgbClr val="000000"/>
              </a:solidFill>
              <a:latin typeface="Times New Roman"/>
            </a:endParaRPr>
          </a:p>
        </p:txBody>
      </p:sp>
      <p:sp>
        <p:nvSpPr>
          <p:cNvPr id="332"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b">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Rectangle 2" descr=""/>
          <p:cNvPicPr/>
          <p:nvPr/>
        </p:nvPicPr>
        <p:blipFill>
          <a:blip r:embed="rId1"/>
          <a:stretch/>
        </p:blipFill>
        <p:spPr>
          <a:xfrm>
            <a:off x="682560" y="334800"/>
            <a:ext cx="7772400" cy="1092240"/>
          </a:xfrm>
          <a:prstGeom prst="rect">
            <a:avLst/>
          </a:prstGeom>
          <a:ln w="0">
            <a:noFill/>
          </a:ln>
        </p:spPr>
      </p:pic>
      <p:sp>
        <p:nvSpPr>
          <p:cNvPr id="487" name="PlaceHolder 1"/>
          <p:cNvSpPr>
            <a:spLocks noGrp="1"/>
          </p:cNvSpPr>
          <p:nvPr>
            <p:ph type="subTitle"/>
          </p:nvPr>
        </p:nvSpPr>
        <p:spPr>
          <a:xfrm>
            <a:off x="1042920" y="1628280"/>
            <a:ext cx="7243920" cy="43722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Meeting Agenda</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agenda should be structured so that the meeting will finish within its allotted tim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Old business" should be limited to updates on items of ongoing interest, for example outbreaks, TB, or antibiotic-resistant organisms. "New business" at each meeting should include a brief summary of surveillance data. </a:t>
            </a:r>
            <a:endParaRPr b="0" lang="en-US" sz="2800" spc="-1" strike="noStrike">
              <a:solidFill>
                <a:srgbClr val="000000"/>
              </a:solidFill>
              <a:latin typeface="Times New Roman"/>
            </a:endParaRPr>
          </a:p>
        </p:txBody>
      </p:sp>
      <p:sp>
        <p:nvSpPr>
          <p:cNvPr id="4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DE42-86DD-44EB-ADF2-96E5466EFB02}"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8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9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33C2-F820-4B79-B4EC-2682C9514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Rectangle 2" descr=""/>
          <p:cNvPicPr/>
          <p:nvPr/>
        </p:nvPicPr>
        <p:blipFill>
          <a:blip r:embed="rId1"/>
          <a:stretch/>
        </p:blipFill>
        <p:spPr>
          <a:xfrm>
            <a:off x="682560" y="334800"/>
            <a:ext cx="7772400" cy="1238400"/>
          </a:xfrm>
          <a:prstGeom prst="rect">
            <a:avLst/>
          </a:prstGeom>
          <a:ln w="0">
            <a:noFill/>
          </a:ln>
        </p:spPr>
      </p:pic>
      <p:sp>
        <p:nvSpPr>
          <p:cNvPr id="492" name="PlaceHolder 1"/>
          <p:cNvSpPr>
            <a:spLocks noGrp="1"/>
          </p:cNvSpPr>
          <p:nvPr>
            <p:ph type="subTitle"/>
          </p:nvPr>
        </p:nvSpPr>
        <p:spPr>
          <a:xfrm>
            <a:off x="971640" y="1844280"/>
            <a:ext cx="7315200" cy="41562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eeting Agenda</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verly detailed reports of infection rates usually do not interest the full committee. </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You should discuss new policies or procedures and substantial revisions to current protocols.</a:t>
            </a:r>
            <a:endParaRPr b="0" lang="en-US" sz="3200" spc="-1" strike="noStrike">
              <a:solidFill>
                <a:srgbClr val="000000"/>
              </a:solidFill>
              <a:latin typeface="Times New Roman"/>
            </a:endParaRPr>
          </a:p>
        </p:txBody>
      </p:sp>
      <p:sp>
        <p:nvSpPr>
          <p:cNvPr id="4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EE29-DF0D-43EA-9F90-E0F17C02559D}"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9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2376-D6D6-421B-BD3C-6CE965258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Rectangle 2" descr=""/>
          <p:cNvPicPr/>
          <p:nvPr/>
        </p:nvPicPr>
        <p:blipFill>
          <a:blip r:embed="rId1"/>
          <a:stretch/>
        </p:blipFill>
        <p:spPr>
          <a:xfrm>
            <a:off x="682560" y="324000"/>
            <a:ext cx="7772400" cy="1028520"/>
          </a:xfrm>
          <a:prstGeom prst="rect">
            <a:avLst/>
          </a:prstGeom>
          <a:ln w="0">
            <a:noFill/>
          </a:ln>
        </p:spPr>
      </p:pic>
      <p:sp>
        <p:nvSpPr>
          <p:cNvPr id="497" name="PlaceHolder 1"/>
          <p:cNvSpPr>
            <a:spLocks noGrp="1"/>
          </p:cNvSpPr>
          <p:nvPr>
            <p:ph type="subTitle"/>
          </p:nvPr>
        </p:nvSpPr>
        <p:spPr>
          <a:xfrm>
            <a:off x="1042920" y="1773000"/>
            <a:ext cx="7243920" cy="422748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eeting Agenda</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You should try approving one new policy or procedure per meeting and do not schedule a policy for discussion until your team has thoroughly reviewed the literature and sought the advice of clinical experts.</a:t>
            </a:r>
            <a:endParaRPr b="0" lang="en-US" sz="3200" spc="-1" strike="noStrike">
              <a:solidFill>
                <a:srgbClr val="000000"/>
              </a:solidFill>
              <a:latin typeface="Times New Roman"/>
            </a:endParaRPr>
          </a:p>
        </p:txBody>
      </p:sp>
      <p:sp>
        <p:nvSpPr>
          <p:cNvPr id="4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36D3-953A-4E73-9A8F-C2C8EFB2C937}"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49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5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B1D4-595C-4B56-A842-152914FFC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Rectangle 2" descr=""/>
          <p:cNvPicPr/>
          <p:nvPr/>
        </p:nvPicPr>
        <p:blipFill>
          <a:blip r:embed="rId1"/>
          <a:stretch/>
        </p:blipFill>
        <p:spPr>
          <a:xfrm>
            <a:off x="682560" y="334800"/>
            <a:ext cx="7772400" cy="1128960"/>
          </a:xfrm>
          <a:prstGeom prst="rect">
            <a:avLst/>
          </a:prstGeom>
          <a:ln w="0">
            <a:noFill/>
          </a:ln>
        </p:spPr>
      </p:pic>
      <p:sp>
        <p:nvSpPr>
          <p:cNvPr id="502" name="PlaceHolder 1"/>
          <p:cNvSpPr>
            <a:spLocks noGrp="1"/>
          </p:cNvSpPr>
          <p:nvPr>
            <p:ph type="subTitle"/>
          </p:nvPr>
        </p:nvSpPr>
        <p:spPr>
          <a:xfrm>
            <a:off x="1042920" y="1628280"/>
            <a:ext cx="7850160" cy="43722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Reassessment</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infection control committee should periodically reassess its performance. </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fection control team members should list and evaluate their accomplishments and state their priorities.</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is way the infection control committee can adapt to changes in the health care environment.</a:t>
            </a:r>
            <a:endParaRPr b="0" lang="en-US" sz="3200" spc="-1" strike="noStrike">
              <a:solidFill>
                <a:srgbClr val="000000"/>
              </a:solidFill>
              <a:latin typeface="Times New Roman"/>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F3F7-4330-4297-98C7-7D4B92DA8A9B}"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50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50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C824-C8F3-4BF8-9BBA-47F5F25CC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56760" y="3000240"/>
            <a:ext cx="851076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c1cfa"/>
                </a:solidFill>
                <a:latin typeface="Blackadder ITC"/>
              </a:rPr>
              <a:t>THANK YOU</a:t>
            </a:r>
            <a:endParaRPr b="0" lang="en-US" sz="4300" spc="-1" strike="noStrike">
              <a:solidFill>
                <a:srgbClr val="572314"/>
              </a:solidFill>
              <a:latin typeface="Arial"/>
            </a:endParaRPr>
          </a:p>
        </p:txBody>
      </p:sp>
      <p:sp>
        <p:nvSpPr>
          <p:cNvPr id="507" name="Date Placeholder 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AE70-0941-46F3-9802-AED0BE6D1B40}" type="datetime">
              <a:rPr b="0" lang="en-US" sz="1200" spc="-1" strike="noStrike">
                <a:solidFill>
                  <a:srgbClr val="b5a788"/>
                </a:solidFill>
                <a:latin typeface="Arial"/>
              </a:rPr>
              <a:t>07/30/26</a:t>
            </a:fld>
            <a:endParaRPr b="0" lang="en-US" sz="1200" spc="-1" strike="noStrike">
              <a:solidFill>
                <a:srgbClr val="000000"/>
              </a:solidFill>
              <a:latin typeface="Arial"/>
            </a:endParaRPr>
          </a:p>
        </p:txBody>
      </p:sp>
      <p:sp>
        <p:nvSpPr>
          <p:cNvPr id="5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50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CADB-7F65-4FFF-8B50-64190BEA8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B5EE-E413-4DC9-9152-8AD9EF8F12E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p:nvPr>
        </p:nvSpPr>
        <p:spPr>
          <a:xfrm>
            <a:off x="899640" y="1523880"/>
            <a:ext cx="7775640" cy="464184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Challenges to the hospital epidemiologist</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e a hospital safe </a:t>
            </a:r>
            <a:endParaRPr b="0" lang="en-US" sz="32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ent harm to the patient and employees</a:t>
            </a:r>
            <a:endParaRPr b="0" lang="en-US" sz="2800" spc="-1" strike="noStrike">
              <a:solidFill>
                <a:srgbClr val="000000"/>
              </a:solidFill>
              <a:latin typeface="Times New Roman"/>
            </a:endParaRPr>
          </a:p>
          <a:p>
            <a:pPr lvl="2" marL="885960" indent="-228600">
              <a:spcBef>
                <a:spcPts val="6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itial focus on infectious diseases</a:t>
            </a:r>
            <a:endParaRPr b="0" lang="en-US" sz="2600" spc="-1" strike="noStrike">
              <a:solidFill>
                <a:srgbClr val="000000"/>
              </a:solidFill>
              <a:latin typeface="Times New Roman"/>
            </a:endParaRPr>
          </a:p>
          <a:p>
            <a:pPr lvl="2" marL="885960" indent="-228600">
              <a:spcBef>
                <a:spcPts val="6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creasingly all adverse (harmful) events are targets</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 hospital efficiency</a:t>
            </a:r>
            <a:endParaRPr b="0" lang="en-US" sz="32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unnecessary costs</a:t>
            </a:r>
            <a:endParaRPr b="0" lang="en-US" sz="28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wasteful practices</a:t>
            </a:r>
            <a:endParaRPr b="0" lang="en-US" sz="2800" spc="-1" strike="noStrike">
              <a:solidFill>
                <a:srgbClr val="000000"/>
              </a:solidFill>
              <a:latin typeface="Times New Roman"/>
            </a:endParaRPr>
          </a:p>
        </p:txBody>
      </p:sp>
      <p:sp>
        <p:nvSpPr>
          <p:cNvPr id="335"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12B7-CDD3-4684-939B-498177EA5E8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p:nvPr>
        </p:nvSpPr>
        <p:spPr>
          <a:xfrm>
            <a:off x="1042920" y="2057400"/>
            <a:ext cx="7561440" cy="4114800"/>
          </a:xfrm>
          <a:prstGeom prst="rect">
            <a:avLst/>
          </a:prstGeom>
          <a:noFill/>
          <a:ln w="0">
            <a:noFill/>
          </a:ln>
        </p:spPr>
        <p:txBody>
          <a:bodyPr lIns="90000" rIns="90000" tIns="46800" bIns="4680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What is hospital epidemiology?</a:t>
            </a:r>
            <a:endParaRPr b="0" lang="en-US" sz="32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undamental roles of hospital epidemiology are to:</a:t>
            </a:r>
            <a:endParaRPr b="0" lang="en-US" sz="32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dentify risks</a:t>
            </a:r>
            <a:endParaRPr b="0" lang="en-US" sz="32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Understand risks</a:t>
            </a:r>
            <a:endParaRPr b="0" lang="en-US" sz="32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liminate or minimize risks</a:t>
            </a:r>
            <a:endParaRPr b="0" lang="en-US" sz="3200" spc="-1" strike="noStrike">
              <a:solidFill>
                <a:srgbClr val="000000"/>
              </a:solidFill>
              <a:latin typeface="Times New Roman"/>
            </a:endParaRPr>
          </a:p>
        </p:txBody>
      </p:sp>
      <p:sp>
        <p:nvSpPr>
          <p:cNvPr id="338"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907B-22C6-431D-A2AB-F0829C64130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p:nvPr>
        </p:nvSpPr>
        <p:spPr>
          <a:xfrm>
            <a:off x="899640" y="1557000"/>
            <a:ext cx="7939080" cy="4824360"/>
          </a:xfrm>
          <a:prstGeom prst="rect">
            <a:avLst/>
          </a:prstGeom>
          <a:noFill/>
          <a:ln w="0">
            <a:noFill/>
          </a:ln>
        </p:spPr>
        <p:txBody>
          <a:bodyPr lIns="90000" rIns="90000" tIns="46800" bIns="46800"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1cfa"/>
                </a:solidFill>
                <a:latin typeface="Times New Roman"/>
              </a:rPr>
              <a:t>What is the role of hospital epidemiology?</a:t>
            </a:r>
            <a:endParaRPr b="0" lang="en-US" sz="3000" spc="-1" strike="noStrike">
              <a:solidFill>
                <a:srgbClr val="000000"/>
              </a:solidFill>
              <a:latin typeface="Times New Roman"/>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c1cfa"/>
                </a:solidFill>
                <a:uFillTx/>
                <a:latin typeface="Times New Roman"/>
              </a:rPr>
              <a:t>Identify risks to patient’s health</a:t>
            </a:r>
            <a:endParaRPr b="0" lang="en-US" sz="3000" spc="-1" strike="noStrike">
              <a:solidFill>
                <a:srgbClr val="000000"/>
              </a:solidFill>
              <a:latin typeface="Times New Roman"/>
            </a:endParaRPr>
          </a:p>
          <a:p>
            <a:pPr marL="365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ind nosocomial infections</a:t>
            </a:r>
            <a:endParaRPr b="0" lang="en-US" sz="30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urveillance</a:t>
            </a:r>
            <a:endParaRPr b="0" lang="en-US" sz="2600" spc="-1" strike="noStrike">
              <a:solidFill>
                <a:srgbClr val="000000"/>
              </a:solidFill>
              <a:latin typeface="Times New Roman"/>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dentify and study risk factors for nosocomial infection</a:t>
            </a:r>
            <a:endParaRPr b="0" lang="en-US" sz="30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derstand epidemiologic principles and methods</a:t>
            </a:r>
            <a:endParaRPr b="0" lang="en-US" sz="2600" spc="-1" strike="noStrike">
              <a:solidFill>
                <a:srgbClr val="000000"/>
              </a:solidFill>
              <a:latin typeface="Times New Roman"/>
            </a:endParaRPr>
          </a:p>
          <a:p>
            <a:pPr lvl="2" marL="885960" indent="-228600">
              <a:lnSpc>
                <a:spcPct val="80000"/>
              </a:lnSpc>
              <a:spcBef>
                <a:spcPts val="601"/>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e-control and cohort studies, bias, confounding</a:t>
            </a:r>
            <a:endParaRPr b="0" lang="en-US" sz="24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derstand nosocomial pathogens</a:t>
            </a:r>
            <a:endParaRPr b="0" lang="en-US" sz="26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is it about hospitalization that increases risk?</a:t>
            </a:r>
            <a:endParaRPr b="0" lang="en-US" sz="2600" spc="-1" strike="noStrike">
              <a:solidFill>
                <a:srgbClr val="000000"/>
              </a:solidFill>
              <a:latin typeface="Times New Roman"/>
            </a:endParaRPr>
          </a:p>
        </p:txBody>
      </p:sp>
      <p:sp>
        <p:nvSpPr>
          <p:cNvPr id="341"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D3C1-55AA-4230-8411-76A36955AD4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p:nvPr>
        </p:nvSpPr>
        <p:spPr>
          <a:xfrm>
            <a:off x="826560" y="1371600"/>
            <a:ext cx="8137800" cy="5081760"/>
          </a:xfrm>
          <a:prstGeom prst="rect">
            <a:avLst/>
          </a:prstGeom>
          <a:noFill/>
          <a:ln w="0">
            <a:noFill/>
          </a:ln>
        </p:spPr>
        <p:txBody>
          <a:bodyPr lIns="90000" rIns="90000" tIns="46800" bIns="4680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What is the role of hospital epidemiology?</a:t>
            </a:r>
            <a:endParaRPr b="0" lang="en-US" sz="28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c1cfa"/>
                </a:solidFill>
                <a:uFillTx/>
                <a:latin typeface="Times New Roman"/>
              </a:rPr>
              <a:t>Eliminate or minimize risks to a patient’s health</a:t>
            </a:r>
            <a:endParaRPr b="0" lang="en-US" sz="28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1" lang="en-US" sz="2800" spc="-1" strike="noStrike">
                <a:solidFill>
                  <a:srgbClr val="000000"/>
                </a:solidFill>
                <a:latin typeface="Times New Roman"/>
              </a:rPr>
              <a:t>rganize care to minimize risk</a:t>
            </a:r>
            <a:endParaRPr b="0" lang="en-US" sz="2800" spc="-1" strike="noStrike">
              <a:solidFill>
                <a:srgbClr val="000000"/>
              </a:solidFill>
              <a:latin typeface="Times New Roman"/>
            </a:endParaRPr>
          </a:p>
          <a:p>
            <a:pPr lvl="3" marL="639720" indent="-457200">
              <a:spcBef>
                <a:spcPts val="70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risk factors</a:t>
            </a:r>
            <a:endParaRPr b="0" lang="en-US" sz="2800" spc="-1" strike="noStrike">
              <a:solidFill>
                <a:srgbClr val="000000"/>
              </a:solidFill>
              <a:latin typeface="Times New Roman"/>
            </a:endParaRPr>
          </a:p>
          <a:p>
            <a:pPr lvl="3" marL="639720" indent="-457200">
              <a:spcBef>
                <a:spcPts val="70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 around risk factors</a:t>
            </a:r>
            <a:endParaRPr b="0" lang="en-US" sz="2800" spc="-1" strike="noStrike">
              <a:solidFill>
                <a:srgbClr val="000000"/>
              </a:solidFill>
              <a:latin typeface="Times New Roman"/>
            </a:endParaRPr>
          </a:p>
          <a:p>
            <a:pPr lvl="3" marL="639720" indent="-457200">
              <a:spcBef>
                <a:spcPts val="70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improved policies and procedures</a:t>
            </a:r>
            <a:endParaRPr b="0" lang="en-US" sz="28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ucate physicians and nurses regarding risks</a:t>
            </a:r>
            <a:endParaRPr b="0" lang="en-US" sz="28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y risk factors to learn more about them and how to eliminate them</a:t>
            </a:r>
            <a:endParaRPr b="0" lang="en-US" sz="2800" spc="-1" strike="noStrike">
              <a:solidFill>
                <a:srgbClr val="000000"/>
              </a:solidFill>
              <a:latin typeface="Times New Roman"/>
            </a:endParaRPr>
          </a:p>
        </p:txBody>
      </p:sp>
      <p:sp>
        <p:nvSpPr>
          <p:cNvPr id="344"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493E-2167-49B6-973E-60FB9DA5BC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p:nvPr>
        </p:nvSpPr>
        <p:spPr>
          <a:xfrm>
            <a:off x="900000" y="1700280"/>
            <a:ext cx="7848720" cy="4465440"/>
          </a:xfrm>
          <a:prstGeom prst="rect">
            <a:avLst/>
          </a:prstGeom>
          <a:noFill/>
          <a:ln w="0">
            <a:noFill/>
          </a:ln>
        </p:spPr>
        <p:txBody>
          <a:bodyPr lIns="90000" rIns="90000" tIns="46800" bIns="46800" anchor="t">
            <a:normAutofit/>
          </a:bodyPr>
          <a:p>
            <a:pPr marL="81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Responsibilities of the Infection Control Program</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rveillance of nosocomial infection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break investigation</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written policies for isolation of patient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ment of written policies to reduce risk from patient care practice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peration with occupational health</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peration with quality improvement program</a:t>
            </a:r>
            <a:endParaRPr b="0" lang="en-US" sz="2800" spc="-1" strike="noStrike">
              <a:solidFill>
                <a:srgbClr val="000000"/>
              </a:solidFill>
              <a:latin typeface="Times New Roman"/>
            </a:endParaRPr>
          </a:p>
        </p:txBody>
      </p:sp>
      <p:sp>
        <p:nvSpPr>
          <p:cNvPr id="347"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0:56:35Z</dcterms:created>
  <dc:creator>Dr.</dc:creator>
  <dc:description/>
  <dc:language>en-US</dc:language>
  <cp:lastModifiedBy>alnaif</cp:lastModifiedBy>
  <dcterms:modified xsi:type="dcterms:W3CDTF">2016-03-07T22:14:41Z</dcterms:modified>
  <cp:revision>17</cp:revision>
  <dc:subject/>
  <dc:title>CHAPTER 5 The Infection Control Committee</dc:title>
</cp:coreProperties>
</file>