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1D2E-D7AB-4159-A153-43ECE5F589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5AE1-923E-4079-AF8E-8A4CFD3DE4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A497-D260-436E-B8D7-98DC5FEA95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AB41-25CF-4948-A9E7-E7419D942E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B776-B3C6-44E6-8661-8E61373420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2AED-2E86-428A-9FAB-971BC4188F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0715-379E-4B33-8F22-BBBCDE4BA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3F2F-EC10-4F02-8762-28E91B177F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6734-3B6D-4091-B1CC-45FDAAEBFC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0A71-1A8B-4144-AD7A-BA007F6BDC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D8E8-5982-46C2-A7BC-61F4AEB21B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BC2B-12AF-40BF-874F-BCFD9AA479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CF80-705B-4F0E-9DCC-A0F0FC6765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E13E-B4AF-4AD4-89B5-FB669CE205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9393-743A-4B35-93BD-80A78C71F9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DA18-8513-4F25-9E8F-7B9977B5E7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A74C-AEAB-48D8-BB8D-05C599E52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34F8-E4B7-4142-B01A-4F22695471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4CDA-4066-44BA-BACF-B82790584A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A164-F1EA-404A-9659-CB98FEF9B9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557B-4B84-4DBC-A1E8-0A7E494F7C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33DC-80F3-4436-A4D3-500825DB56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FAE3-30A9-4467-A27B-F57A98A28C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8541-BCF3-41E6-88FC-EAC831D067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lways_Learning_Text_Orange_RGB"/>
          <p:cNvPicPr/>
          <p:nvPr/>
        </p:nvPicPr>
        <p:blipFill>
          <a:blip r:embed="rId4"/>
          <a:stretch/>
        </p:blipFill>
        <p:spPr>
          <a:xfrm>
            <a:off x="957240" y="23302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782360"/>
            <a:ext cx="8229600" cy="3008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80000"/>
          </a:bodyPr>
          <a:p>
            <a:pPr marL="274320" indent="-274320" algn="r">
              <a:spcBef>
                <a:spcPts val="1500"/>
              </a:spcBef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43280" indent="-14220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280800" indent="-135720" algn="r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433080" indent="-151200" algn="r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1645920" indent="-18288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1645920" indent="-18288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1645920" indent="-18288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C091-0BDA-4D96-83CB-788EC092B2B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© Pearson Education 20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1B96-FC66-45A2-8061-1C00DEAA04A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8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© Pearson Education 20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1C40-0EA2-41B5-84E3-3F3F515785A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65040" y="1863360"/>
            <a:ext cx="8407440" cy="3683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roduction to Human Resource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047-E116-4D78-95FD-1F1A4608BF3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e and Staff Aspects of HRM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3111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ine manager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35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nager who is authorized to direct the work of subordinates and is responsible for accomplishing the organization’s task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aff manag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35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nager who assists and advises line manag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8FA8-4FA5-4E53-9B0B-A0A179F855C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ne Managers’ Human Resource Duties: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6600" y="13111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the right person in the right jo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 new employees in the organization (orienta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employees for jobs that are new to th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the job performance of each p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ing creative cooperation and developing smooth working relationship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3502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ff Managers’ Human Resource Duties: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ing the company’s policies and proced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labor cos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the abilities of each p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maintaining department mor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ng employees’ health and physical condi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8798-11C7-4856-890B-88FADE4A0B9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5ED1-93B9-424D-8CAF-1C85E9CED92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uman Resource Managers’ Dutie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30" name="Group 14"/>
          <p:cNvGrpSpPr/>
          <p:nvPr/>
        </p:nvGrpSpPr>
        <p:grpSpPr>
          <a:xfrm>
            <a:off x="1073160" y="1417680"/>
            <a:ext cx="7181640" cy="4727520"/>
            <a:chOff x="1073160" y="1417680"/>
            <a:chExt cx="7181640" cy="4727520"/>
          </a:xfrm>
        </p:grpSpPr>
        <p:sp>
          <p:nvSpPr>
            <p:cNvPr id="231" name="_s1028"/>
            <p:cNvSpPr/>
            <p:nvPr/>
          </p:nvSpPr>
          <p:spPr>
            <a:xfrm flipV="1">
              <a:off x="5497200" y="2484360"/>
              <a:ext cx="1046520" cy="877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_s1028"/>
            <p:cNvSpPr/>
            <p:nvPr/>
          </p:nvSpPr>
          <p:spPr>
            <a:xfrm flipH="1" flipV="1">
              <a:off x="2786040" y="2487240"/>
              <a:ext cx="1041120" cy="874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_s1032"/>
            <p:cNvSpPr/>
            <p:nvPr/>
          </p:nvSpPr>
          <p:spPr>
            <a:xfrm>
              <a:off x="4650480" y="4167360"/>
              <a:ext cx="0" cy="703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3211560" y="3166920"/>
              <a:ext cx="2870640" cy="1092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unctions of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R Manager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1073160" y="1417680"/>
              <a:ext cx="2870280" cy="1090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 Fun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70c0"/>
                  </a:solidFill>
                  <a:latin typeface="Arial"/>
                </a:rPr>
                <a:t>Line Authority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Text Box 11"/>
            <p:cNvSpPr/>
            <p:nvPr/>
          </p:nvSpPr>
          <p:spPr>
            <a:xfrm>
              <a:off x="3211560" y="4894200"/>
              <a:ext cx="2870640" cy="1251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ff Functions</a:t>
              </a:r>
              <a:br>
                <a:rPr sz="2000"/>
              </a:br>
              <a:r>
                <a:rPr b="1" lang="en-US" sz="2000" spc="-1" strike="noStrike">
                  <a:solidFill>
                    <a:srgbClr val="0070c0"/>
                  </a:solidFill>
                  <a:latin typeface="Arial"/>
                </a:rPr>
                <a:t>Staff Authority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5384520" y="1419120"/>
              <a:ext cx="2870280" cy="1090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rdinative Fun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70c0"/>
                  </a:solidFill>
                  <a:latin typeface="Arial"/>
                </a:rPr>
                <a:t>Functional Author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FB47-5BCA-4CDD-A2CB-4569958D83B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uman Resource Specialtie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40" name="Group 27"/>
          <p:cNvGrpSpPr/>
          <p:nvPr/>
        </p:nvGrpSpPr>
        <p:grpSpPr>
          <a:xfrm>
            <a:off x="336600" y="1587600"/>
            <a:ext cx="8378280" cy="4142880"/>
            <a:chOff x="336600" y="1587600"/>
            <a:chExt cx="8378280" cy="4142880"/>
          </a:xfrm>
        </p:grpSpPr>
        <p:grpSp>
          <p:nvGrpSpPr>
            <p:cNvPr id="241" name="Group 6"/>
            <p:cNvGrpSpPr/>
            <p:nvPr/>
          </p:nvGrpSpPr>
          <p:grpSpPr>
            <a:xfrm>
              <a:off x="2588760" y="2691720"/>
              <a:ext cx="3920040" cy="2471040"/>
              <a:chOff x="2588760" y="2691720"/>
              <a:chExt cx="3920040" cy="2471040"/>
            </a:xfrm>
          </p:grpSpPr>
          <p:sp>
            <p:nvSpPr>
              <p:cNvPr id="242" name="_s1028"/>
              <p:cNvSpPr/>
              <p:nvPr/>
            </p:nvSpPr>
            <p:spPr>
              <a:xfrm flipH="1" flipV="1">
                <a:off x="2588760" y="3513240"/>
                <a:ext cx="981360" cy="411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_s1030"/>
              <p:cNvSpPr/>
              <p:nvPr/>
            </p:nvSpPr>
            <p:spPr>
              <a:xfrm flipH="1">
                <a:off x="2588760" y="4750920"/>
                <a:ext cx="981360" cy="4118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_s1034"/>
              <p:cNvSpPr/>
              <p:nvPr/>
            </p:nvSpPr>
            <p:spPr>
              <a:xfrm>
                <a:off x="5529960" y="4750920"/>
                <a:ext cx="978840" cy="4118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_s1036"/>
              <p:cNvSpPr/>
              <p:nvPr/>
            </p:nvSpPr>
            <p:spPr>
              <a:xfrm flipV="1">
                <a:off x="5529960" y="3515400"/>
                <a:ext cx="978840" cy="4118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_s1038"/>
              <p:cNvSpPr/>
              <p:nvPr/>
            </p:nvSpPr>
            <p:spPr>
              <a:xfrm flipV="1">
                <a:off x="4427640" y="2691720"/>
                <a:ext cx="0" cy="8233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Text Box 13"/>
            <p:cNvSpPr/>
            <p:nvPr/>
          </p:nvSpPr>
          <p:spPr>
            <a:xfrm>
              <a:off x="3258360" y="1587600"/>
              <a:ext cx="2436480" cy="1108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cruiter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346320" y="2972520"/>
              <a:ext cx="2244240" cy="1108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abor Relations Specialist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336600" y="4621680"/>
              <a:ext cx="2244240" cy="1108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aining Specialist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Text Box 21"/>
            <p:cNvSpPr/>
            <p:nvPr/>
          </p:nvSpPr>
          <p:spPr>
            <a:xfrm>
              <a:off x="6470640" y="2922120"/>
              <a:ext cx="2244240" cy="1109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Job Analyst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6470640" y="4621680"/>
              <a:ext cx="2244240" cy="1108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mpensation Manager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3428640" y="3483000"/>
              <a:ext cx="2244600" cy="1707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uman Resource Specialtie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ADDE-FB0B-47DC-AFFD-BCFBA93AA83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" name="Group 15"/>
          <p:cNvGrpSpPr/>
          <p:nvPr/>
        </p:nvGrpSpPr>
        <p:grpSpPr>
          <a:xfrm>
            <a:off x="336600" y="1955880"/>
            <a:ext cx="8378280" cy="3406320"/>
            <a:chOff x="336600" y="1955880"/>
            <a:chExt cx="8378280" cy="3406320"/>
          </a:xfrm>
        </p:grpSpPr>
        <p:sp>
          <p:nvSpPr>
            <p:cNvPr id="255" name="Text Box 5"/>
            <p:cNvSpPr/>
            <p:nvPr/>
          </p:nvSpPr>
          <p:spPr>
            <a:xfrm>
              <a:off x="4887720" y="1955880"/>
              <a:ext cx="3827160" cy="776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ization Tren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4887720" y="3291840"/>
              <a:ext cx="3827160" cy="775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chnological Tren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Text Box 7"/>
            <p:cNvSpPr/>
            <p:nvPr/>
          </p:nvSpPr>
          <p:spPr>
            <a:xfrm>
              <a:off x="4887720" y="4586040"/>
              <a:ext cx="3827160" cy="77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ends in the Nature of Work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58" name="AutoShape 9"/>
            <p:cNvCxnSpPr>
              <a:stCxn id="259" idx="0"/>
              <a:endCxn id="255" idx="1"/>
            </p:cNvCxnSpPr>
            <p:nvPr/>
          </p:nvCxnSpPr>
          <p:spPr>
            <a:xfrm flipH="1" flipV="1" rot="5400000">
              <a:off x="2954520" y="1483560"/>
              <a:ext cx="1073160" cy="2793240"/>
            </a:xfrm>
            <a:prstGeom prst="bentConnector2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60" name="AutoShape 11"/>
            <p:cNvCxnSpPr>
              <a:stCxn id="259" idx="7"/>
              <a:endCxn id="256" idx="1"/>
            </p:cNvCxnSpPr>
            <p:nvPr/>
          </p:nvCxnSpPr>
          <p:spPr>
            <a:xfrm flipV="1">
              <a:off x="3337560" y="3678840"/>
              <a:ext cx="1550880" cy="61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61" name="AutoShape 12"/>
            <p:cNvCxnSpPr>
              <a:stCxn id="259" idx="5"/>
              <a:endCxn id="257" idx="1"/>
            </p:cNvCxnSpPr>
            <p:nvPr/>
          </p:nvCxnSpPr>
          <p:spPr>
            <a:xfrm flipV="1">
              <a:off x="3337560" y="4973040"/>
              <a:ext cx="1550880" cy="1188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sp>
          <p:nvSpPr>
            <p:cNvPr id="259" name="Oval 14"/>
            <p:cNvSpPr/>
            <p:nvPr/>
          </p:nvSpPr>
          <p:spPr>
            <a:xfrm>
              <a:off x="336600" y="3416400"/>
              <a:ext cx="3516480" cy="1837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s and the new Trends in Human Resource Manag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Rectangle 2"/>
          <p:cNvSpPr/>
          <p:nvPr/>
        </p:nvSpPr>
        <p:spPr>
          <a:xfrm>
            <a:off x="365040" y="395280"/>
            <a:ext cx="84423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anging Environment of Human Resource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EE0B-7569-41D5-8592-BEA775F3761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377640"/>
            <a:ext cx="821052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Role of Human Resource Management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65" name="Group 18"/>
          <p:cNvGrpSpPr/>
          <p:nvPr/>
        </p:nvGrpSpPr>
        <p:grpSpPr>
          <a:xfrm>
            <a:off x="428760" y="1495440"/>
            <a:ext cx="8377920" cy="4695120"/>
            <a:chOff x="428760" y="1495440"/>
            <a:chExt cx="8377920" cy="4695120"/>
          </a:xfrm>
        </p:grpSpPr>
        <p:sp>
          <p:nvSpPr>
            <p:cNvPr id="266" name="Text Box 6"/>
            <p:cNvSpPr/>
            <p:nvPr/>
          </p:nvSpPr>
          <p:spPr>
            <a:xfrm>
              <a:off x="3418560" y="3266280"/>
              <a:ext cx="2398320" cy="1155600"/>
            </a:xfrm>
            <a:prstGeom prst="rect">
              <a:avLst/>
            </a:prstGeom>
            <a:solidFill>
              <a:srgbClr val="b2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New Responsibilities for HR Managers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Line 7"/>
            <p:cNvSpPr/>
            <p:nvPr/>
          </p:nvSpPr>
          <p:spPr>
            <a:xfrm>
              <a:off x="5816880" y="3857400"/>
              <a:ext cx="587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Line 8"/>
            <p:cNvSpPr/>
            <p:nvPr/>
          </p:nvSpPr>
          <p:spPr>
            <a:xfrm>
              <a:off x="4619880" y="4420440"/>
              <a:ext cx="0" cy="612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Text Box 9"/>
            <p:cNvSpPr/>
            <p:nvPr/>
          </p:nvSpPr>
          <p:spPr>
            <a:xfrm>
              <a:off x="3421080" y="5034960"/>
              <a:ext cx="2397600" cy="1155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asuring the HRM Team’s Performan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428760" y="3261960"/>
              <a:ext cx="2397600" cy="1155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naging with the HR Scorecard Proc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 flipH="1">
              <a:off x="2826000" y="3859560"/>
              <a:ext cx="587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Text Box 14"/>
            <p:cNvSpPr/>
            <p:nvPr/>
          </p:nvSpPr>
          <p:spPr>
            <a:xfrm>
              <a:off x="6409080" y="3261960"/>
              <a:ext cx="2397600" cy="1155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ating High- Performance Work System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3418560" y="1495440"/>
              <a:ext cx="2398320" cy="1155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ategic Human Resource Manag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 flipV="1">
              <a:off x="4619880" y="2649240"/>
              <a:ext cx="0" cy="612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4F23-480B-4053-A3A4-BDC24A55774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-Performance Work System Practic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5040" y="1679040"/>
            <a:ext cx="8229600" cy="45118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secur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hi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train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managed teams/decentralized decision mak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h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-for-performance rewa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 on high-quality 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850-0723-4BEB-BBB8-9B7FE080C10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77640"/>
            <a:ext cx="821052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nefits of a High-Performance Work System (HPWS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5040" y="16920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s more job applica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s candidates more effectiv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ore/better training and lower employee turnov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pay more clearly to performance and apprais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more qualified applicants per posi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in higher profits and lower operating cos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more self-managing work tea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B92E-3F80-4ADC-9DB0-7F4A2672555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390600"/>
            <a:ext cx="813744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Resource Manager’s Proficienci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36600" y="140292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our Categories of Pro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81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63600" y="2048040"/>
            <a:ext cx="82296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hip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36600" y="388944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pecific Pro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44440" y="4533840"/>
            <a:ext cx="82296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 cert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within the la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ethic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2B98-DE33-4A77-9179-007BC3AEF6E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6600" y="1587240"/>
            <a:ext cx="8470800" cy="4327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what human resource management is and how it relates to the management proc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t least eight examples of how all managers can use human resource management concepts and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human resource responsibilities of line and staff (HR) manag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65040" y="48276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tudying this chapter, you should be able to:</a:t>
            </a:r>
            <a:br>
              <a:rPr sz="2800"/>
            </a:b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F11E-0909-439E-BF1B-4B5D409ED5C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65040" y="1546200"/>
            <a:ext cx="7405920" cy="419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87000"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R Certific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12720" y="390240"/>
            <a:ext cx="813744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Resource Manager’s Proficiencies (cont.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65040" y="2232000"/>
            <a:ext cx="7405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3" marL="355680" indent="-35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abian Society for Human Resource Management (ASHR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45960" y="3152880"/>
            <a:ext cx="740592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3" marL="1077840" indent="-35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Human Resource Development (HRD) Certific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77840" indent="-3538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 of Science in H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77840" indent="-35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Human Resource Management (HRM) Certific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77840" indent="-353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5B21-4C46-4CF3-ADDE-199AD04B233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65040" y="154764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naging within the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378000"/>
            <a:ext cx="8137440" cy="93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Resource Manager’s Proficiencies (cont.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5040" y="2139840"/>
            <a:ext cx="82296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gration la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al safety and health la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 la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36600" y="37972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naging Eth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44440" y="4441680"/>
            <a:ext cx="82296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al scandals have occurred in major corpor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rious ethical scandals are HR-rel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 world ethics are influenced by religion and cultu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98C-1AA0-4B48-ABC4-FAFC09180D7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63600" y="1547280"/>
            <a:ext cx="4114800" cy="445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83000"/>
          </a:bodyPr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authority or functional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performance work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R Score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resource manag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HRM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37040" y="1547640"/>
            <a:ext cx="3975120" cy="4664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author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manag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 authorit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human resource management (SHR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Key Term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74BE-E5E4-43C8-B6E6-8BC0303681C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600" y="48276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Management Function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174" name="Group 14"/>
          <p:cNvGrpSpPr/>
          <p:nvPr/>
        </p:nvGrpSpPr>
        <p:grpSpPr>
          <a:xfrm>
            <a:off x="336600" y="1311120"/>
            <a:ext cx="8412120" cy="4479840"/>
            <a:chOff x="336600" y="1311120"/>
            <a:chExt cx="8412120" cy="4479840"/>
          </a:xfrm>
        </p:grpSpPr>
        <p:sp>
          <p:nvSpPr>
            <p:cNvPr id="175" name="Oval 3"/>
            <p:cNvSpPr/>
            <p:nvPr/>
          </p:nvSpPr>
          <p:spPr>
            <a:xfrm>
              <a:off x="1306440" y="1766520"/>
              <a:ext cx="6134400" cy="3405240"/>
            </a:xfrm>
            <a:prstGeom prst="ellipse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6" name="Picture 4" descr="Boxshdow05"/>
            <p:cNvPicPr/>
            <p:nvPr/>
          </p:nvPicPr>
          <p:blipFill>
            <a:blip r:embed="rId1"/>
            <a:stretch/>
          </p:blipFill>
          <p:spPr>
            <a:xfrm>
              <a:off x="3181320" y="1311120"/>
              <a:ext cx="270684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5"/>
            <p:cNvSpPr/>
            <p:nvPr/>
          </p:nvSpPr>
          <p:spPr>
            <a:xfrm>
              <a:off x="3326040" y="1364760"/>
              <a:ext cx="2224080" cy="101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8" name="Picture 6" descr="Boxshdow05"/>
            <p:cNvPicPr/>
            <p:nvPr/>
          </p:nvPicPr>
          <p:blipFill>
            <a:blip r:embed="rId3"/>
            <a:stretch/>
          </p:blipFill>
          <p:spPr>
            <a:xfrm>
              <a:off x="6043680" y="2747520"/>
              <a:ext cx="27050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7"/>
            <p:cNvSpPr/>
            <p:nvPr/>
          </p:nvSpPr>
          <p:spPr>
            <a:xfrm>
              <a:off x="6186600" y="2801520"/>
              <a:ext cx="2224080" cy="1017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0" name="Picture 8" descr="Boxshdow05"/>
            <p:cNvPicPr/>
            <p:nvPr/>
          </p:nvPicPr>
          <p:blipFill>
            <a:blip r:embed="rId5"/>
            <a:stretch/>
          </p:blipFill>
          <p:spPr>
            <a:xfrm>
              <a:off x="336600" y="2747520"/>
              <a:ext cx="27050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Boxshdow05"/>
            <p:cNvPicPr/>
            <p:nvPr/>
          </p:nvPicPr>
          <p:blipFill>
            <a:blip r:embed="rId6"/>
            <a:stretch/>
          </p:blipFill>
          <p:spPr>
            <a:xfrm>
              <a:off x="1179720" y="4458960"/>
              <a:ext cx="27050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0"/>
            <p:cNvSpPr/>
            <p:nvPr/>
          </p:nvSpPr>
          <p:spPr>
            <a:xfrm>
              <a:off x="1322280" y="4512960"/>
              <a:ext cx="2224080" cy="1017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ad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3" name="Picture 11" descr="Boxshdow05"/>
            <p:cNvPicPr/>
            <p:nvPr/>
          </p:nvPicPr>
          <p:blipFill>
            <a:blip r:embed="rId8"/>
            <a:stretch/>
          </p:blipFill>
          <p:spPr>
            <a:xfrm>
              <a:off x="5175360" y="4449600"/>
              <a:ext cx="270504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2"/>
            <p:cNvSpPr/>
            <p:nvPr/>
          </p:nvSpPr>
          <p:spPr>
            <a:xfrm>
              <a:off x="5319720" y="4503240"/>
              <a:ext cx="2224080" cy="1017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ff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479520" y="2801520"/>
              <a:ext cx="2225520" cy="1017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l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4030-994D-44E3-A9F8-337B5B19746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5040" y="39060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Management at Work</a:t>
            </a:r>
            <a:br>
              <a:rPr sz="2800"/>
            </a:b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4440" y="1311120"/>
            <a:ext cx="8562960" cy="488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Human Resource Management (HRM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uman Resource Management includes all activities used to attract &amp; retain employees and to ensure they perform at a high level in meeting organizational go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se activities are made up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Recruitment &amp;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raining and develop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Performance evalu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Pay and benefits (compensatio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labor rel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354B-6C8B-4E93-BF5F-B904901C95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Human Resource Management at Work</a:t>
            </a:r>
            <a:endParaRPr b="1" lang="en-US" sz="26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191" name="Group 26"/>
          <p:cNvGrpSpPr/>
          <p:nvPr/>
        </p:nvGrpSpPr>
        <p:grpSpPr>
          <a:xfrm>
            <a:off x="428760" y="1035000"/>
            <a:ext cx="8378280" cy="5248080"/>
            <a:chOff x="428760" y="1035000"/>
            <a:chExt cx="8378280" cy="5248080"/>
          </a:xfrm>
        </p:grpSpPr>
        <p:sp>
          <p:nvSpPr>
            <p:cNvPr id="192" name="_s1028"/>
            <p:cNvSpPr/>
            <p:nvPr/>
          </p:nvSpPr>
          <p:spPr>
            <a:xfrm flipH="1" flipV="1">
              <a:off x="2868480" y="2724840"/>
              <a:ext cx="875160" cy="541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_s1032"/>
            <p:cNvSpPr/>
            <p:nvPr/>
          </p:nvSpPr>
          <p:spPr>
            <a:xfrm flipH="1">
              <a:off x="3650760" y="4600440"/>
              <a:ext cx="482040" cy="787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102280" y="4600440"/>
              <a:ext cx="487800" cy="785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1040"/>
            <p:cNvSpPr/>
            <p:nvPr/>
          </p:nvSpPr>
          <p:spPr>
            <a:xfrm flipV="1">
              <a:off x="4618080" y="1892880"/>
              <a:ext cx="0" cy="108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8"/>
            <p:cNvSpPr/>
            <p:nvPr/>
          </p:nvSpPr>
          <p:spPr>
            <a:xfrm flipV="1">
              <a:off x="5493240" y="2723040"/>
              <a:ext cx="873360" cy="543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3545280" y="1035000"/>
              <a:ext cx="2134440" cy="980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6366960" y="2244240"/>
              <a:ext cx="2134800" cy="979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672600" y="3803400"/>
              <a:ext cx="2134440" cy="979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rais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5365080" y="5303160"/>
              <a:ext cx="2134440" cy="979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ensat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1734120" y="5303160"/>
              <a:ext cx="2134800" cy="979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bor Relation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9"/>
            <p:cNvSpPr/>
            <p:nvPr/>
          </p:nvSpPr>
          <p:spPr>
            <a:xfrm>
              <a:off x="428760" y="3808800"/>
              <a:ext cx="2134800" cy="979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lth and Safe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21"/>
            <p:cNvSpPr/>
            <p:nvPr/>
          </p:nvSpPr>
          <p:spPr>
            <a:xfrm>
              <a:off x="737640" y="2250000"/>
              <a:ext cx="2134800" cy="979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ir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_s1030"/>
            <p:cNvSpPr/>
            <p:nvPr/>
          </p:nvSpPr>
          <p:spPr>
            <a:xfrm flipH="1">
              <a:off x="2559240" y="4029120"/>
              <a:ext cx="963000" cy="173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>
              <a:off x="5709600" y="4026960"/>
              <a:ext cx="963000" cy="173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Text Box 25"/>
            <p:cNvSpPr/>
            <p:nvPr/>
          </p:nvSpPr>
          <p:spPr>
            <a:xfrm>
              <a:off x="3502080" y="2980440"/>
              <a:ext cx="2235240" cy="1749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uma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 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HRM)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4A51-76E5-4A20-8A58-7736316D8B4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5040" y="298440"/>
            <a:ext cx="8229600" cy="64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nel Aspects of a Manager’s Job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5040" y="103500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 job analys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labor needs and recruiting job candida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job candida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ing and training employ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wages and sala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centives and benefi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aising perform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 (interviewing, counseling, disciplining)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and developing manag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employee commi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5AB5-D59D-41F2-BF75-51F71846558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nel Mistak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6600" y="140328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re the wrong person for the jo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high turnover.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ان العم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r people not doing their b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te time with useless intervie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r company taken to court because of unfair actions against employ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482760"/>
            <a:ext cx="8229600" cy="62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nel Mistak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r company taken to court for unsafe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employees think their salaries are unfair relative to others’ in the organiz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a lack of training to weaken your department’s effectiven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y unfair labor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06FA-5D0B-4241-B22A-D3E02C67A28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9316-181C-4A8B-A896-CD1A69025EC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HR Concept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5040" y="1402920"/>
            <a:ext cx="795672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 creates value by engaging in activities that produce the employee behaviors that the company needs, to achieve its strategic go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06:55Z</dcterms:created>
  <dc:creator>Charlie Cook, The University of West Alabama</dc:creator>
  <dc:description/>
  <dc:language>en-US</dc:language>
  <cp:lastModifiedBy>User</cp:lastModifiedBy>
  <dcterms:modified xsi:type="dcterms:W3CDTF">2014-07-05T13:06:35Z</dcterms:modified>
  <cp:revision>349</cp:revision>
  <dc:subject>Chapter 1</dc:subject>
  <dc:title>Human Resource Management 11e.</dc:title>
</cp:coreProperties>
</file>