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9342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0BA8C-07A0-4FA2-B4E2-C4007AA41B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36609-E330-49FB-A12C-7929654363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95DAF-F0E8-4F06-84A9-BB45A6A10D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7B501-03AB-46BB-BF46-2A3393A785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0D387-FA65-421A-9DC6-8D9C7FEBA0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88645-852D-4F1E-B791-D55C0824AD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65F9D-94BB-42A5-9A33-C9EED3885A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3E2C4-5FE1-46E1-89EB-B911F70C3E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7EFBA-A25B-457A-8718-98EECC23A1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7518D-177E-4691-847E-67FBD5B53A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D8E12-7F7A-4D1F-8B8C-44FE2A5555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ADC1C-2EE7-4C09-90BB-84AE9AAFBB1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D46CB-1BD2-453F-8087-75F3B8EE2E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FBF74-C543-4999-A865-7FC2FFE2B61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0C1CF-790D-4FE6-A13E-C0E1AEFC020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231D0-1437-4F0C-A0E5-D95233AD0A1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0D11D-2CAB-44E3-8244-69D382EDFD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AA0BE-31C6-4F7B-BFF7-2AB3F95C18D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371C2-8925-488E-91B8-69D076465DA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7B513-23A8-41C1-BD47-7345F666EB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E87A9-1FB7-4359-93FA-664576AB0A9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C14BB-7794-4DDE-B9DA-73FCF3A199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7ACF3-E66C-4C88-AB4B-0D785527AE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BD5EB-8316-47F9-B974-7CB6F289913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10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2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Always_Learning_Text_Orange_RGB"/>
          <p:cNvPicPr/>
          <p:nvPr/>
        </p:nvPicPr>
        <p:blipFill>
          <a:blip r:embed="rId4"/>
          <a:stretch/>
        </p:blipFill>
        <p:spPr>
          <a:xfrm>
            <a:off x="957240" y="2330280"/>
            <a:ext cx="7211880" cy="173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1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65040" y="1782360"/>
            <a:ext cx="8229600" cy="3008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 fontScale="80000"/>
          </a:bodyPr>
          <a:p>
            <a:pPr marL="274320" indent="-274320" algn="r">
              <a:spcBef>
                <a:spcPts val="1500"/>
              </a:spcBef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43280" indent="-142200" algn="r">
              <a:spcBef>
                <a:spcPts val="15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280800" indent="-135720" algn="r">
              <a:spcBef>
                <a:spcPts val="15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433080" indent="-151200" algn="r">
              <a:spcBef>
                <a:spcPts val="150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1645920" indent="-182880" algn="r">
              <a:spcBef>
                <a:spcPts val="15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1645920" indent="-182880" algn="r">
              <a:spcBef>
                <a:spcPts val="15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1645920" indent="-182880" algn="r">
              <a:spcBef>
                <a:spcPts val="15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15228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6770-7320-4084-A0A2-A8B66A737B65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2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4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© Pearson Education 2012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15084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B940-4717-4D2F-9520-C0C879A0DC3B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9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8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© Pearson Education 2012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10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4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1"/>
          <p:cNvSpPr/>
          <p:nvPr/>
        </p:nvSpPr>
        <p:spPr>
          <a:xfrm>
            <a:off x="15084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D048-25A5-451A-8B29-3F62A92214E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365040" y="1863360"/>
            <a:ext cx="8407440" cy="3683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roduction to Human Resource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3"/>
          <p:cNvSpPr/>
          <p:nvPr/>
        </p:nvSpPr>
        <p:spPr>
          <a:xfrm>
            <a:off x="15084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9F5A-48A4-4169-AAAA-0419A40AA0D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ine and Staff Aspects of HRM</a:t>
            </a:r>
            <a:endParaRPr b="1" lang="en-US" sz="32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65040" y="131112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Line manager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77840" indent="-353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anager who is authorized to direct the work of subordinates and is responsible for accomplishing the organization’s task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aff manag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77840" indent="-353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anager who assists and advises line manager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3"/>
          <p:cNvSpPr/>
          <p:nvPr/>
        </p:nvSpPr>
        <p:spPr>
          <a:xfrm>
            <a:off x="15084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90F9-C47B-4C3E-835D-825828BE771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ine Managers’ Human Resource Duties: </a:t>
            </a:r>
            <a:endParaRPr b="1" lang="en-US" sz="28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36600" y="131112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ing the right person in the right job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ing new employees in the organization (orientation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ing employees for jobs that are new to th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ing the job performance of each pers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ning creative cooperation and developing smooth working relationship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18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83502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ff Managers’ Human Resource Duties: </a:t>
            </a:r>
            <a:endParaRPr b="1" lang="en-US" sz="28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aining the company’s policies and procedur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ling labor cos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the abilities of each pers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maintaining department mora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ng employees’ health and physical condi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15084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77DD-F856-427F-98B5-FF44D944502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2"/>
          <p:cNvSpPr/>
          <p:nvPr/>
        </p:nvSpPr>
        <p:spPr>
          <a:xfrm>
            <a:off x="15084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29E7-EACF-4790-95AF-BEB4E9CC588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uman Resource Managers’ Duties</a:t>
            </a:r>
            <a:endParaRPr b="1" lang="en-US" sz="3200" spc="-1" strike="noStrike">
              <a:solidFill>
                <a:srgbClr val="ed6b06"/>
              </a:solidFill>
              <a:latin typeface="Verdana"/>
            </a:endParaRPr>
          </a:p>
        </p:txBody>
      </p:sp>
      <p:grpSp>
        <p:nvGrpSpPr>
          <p:cNvPr id="230" name="Group 14"/>
          <p:cNvGrpSpPr/>
          <p:nvPr/>
        </p:nvGrpSpPr>
        <p:grpSpPr>
          <a:xfrm>
            <a:off x="1073160" y="1417680"/>
            <a:ext cx="7181640" cy="4727520"/>
            <a:chOff x="1073160" y="1417680"/>
            <a:chExt cx="7181640" cy="4727520"/>
          </a:xfrm>
        </p:grpSpPr>
        <p:sp>
          <p:nvSpPr>
            <p:cNvPr id="231" name="_s1028"/>
            <p:cNvSpPr/>
            <p:nvPr/>
          </p:nvSpPr>
          <p:spPr>
            <a:xfrm flipV="1">
              <a:off x="5497200" y="2484360"/>
              <a:ext cx="1046520" cy="87732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_s1028"/>
            <p:cNvSpPr/>
            <p:nvPr/>
          </p:nvSpPr>
          <p:spPr>
            <a:xfrm flipH="1" flipV="1">
              <a:off x="2786040" y="2487240"/>
              <a:ext cx="1041120" cy="8740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_s1032"/>
            <p:cNvSpPr/>
            <p:nvPr/>
          </p:nvSpPr>
          <p:spPr>
            <a:xfrm>
              <a:off x="4650480" y="4167360"/>
              <a:ext cx="0" cy="7030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4" name="Text Box 7"/>
            <p:cNvSpPr/>
            <p:nvPr/>
          </p:nvSpPr>
          <p:spPr>
            <a:xfrm>
              <a:off x="3211560" y="3166920"/>
              <a:ext cx="2870640" cy="109224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unctions of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HR Manager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9"/>
            <p:cNvSpPr/>
            <p:nvPr/>
          </p:nvSpPr>
          <p:spPr>
            <a:xfrm>
              <a:off x="1073160" y="1417680"/>
              <a:ext cx="2870280" cy="10904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ine Function</a:t>
              </a:r>
              <a:br>
                <a:rPr sz="2000"/>
              </a:br>
              <a:r>
                <a:rPr b="1" lang="en-US" sz="2000" spc="-1" strike="noStrike">
                  <a:solidFill>
                    <a:srgbClr val="0070c0"/>
                  </a:solidFill>
                  <a:latin typeface="Arial"/>
                </a:rPr>
                <a:t>Line Authority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Text Box 11"/>
            <p:cNvSpPr/>
            <p:nvPr/>
          </p:nvSpPr>
          <p:spPr>
            <a:xfrm>
              <a:off x="3211560" y="4894200"/>
              <a:ext cx="2870640" cy="1251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aff Functions</a:t>
              </a:r>
              <a:br>
                <a:rPr sz="2000"/>
              </a:br>
              <a:r>
                <a:rPr b="1" lang="en-US" sz="2000" spc="-1" strike="noStrike">
                  <a:solidFill>
                    <a:srgbClr val="0070c0"/>
                  </a:solidFill>
                  <a:latin typeface="Arial"/>
                </a:rPr>
                <a:t>Staff Authority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Text Box 13"/>
            <p:cNvSpPr/>
            <p:nvPr/>
          </p:nvSpPr>
          <p:spPr>
            <a:xfrm>
              <a:off x="5384520" y="1419120"/>
              <a:ext cx="2870280" cy="1090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rdinative Function</a:t>
              </a:r>
              <a:br>
                <a:rPr sz="2000"/>
              </a:br>
              <a:r>
                <a:rPr b="1" lang="en-US" sz="2000" spc="-1" strike="noStrike">
                  <a:solidFill>
                    <a:srgbClr val="0070c0"/>
                  </a:solidFill>
                  <a:latin typeface="Arial"/>
                </a:rPr>
                <a:t>Functional Authority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2"/>
          <p:cNvSpPr/>
          <p:nvPr/>
        </p:nvSpPr>
        <p:spPr>
          <a:xfrm>
            <a:off x="15084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1940-FB55-4E72-8296-7C51ABE0F8FE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uman Resource Specialties</a:t>
            </a:r>
            <a:endParaRPr b="1" lang="en-US" sz="3200" spc="-1" strike="noStrike">
              <a:solidFill>
                <a:srgbClr val="ed6b06"/>
              </a:solidFill>
              <a:latin typeface="Verdana"/>
            </a:endParaRPr>
          </a:p>
        </p:txBody>
      </p:sp>
      <p:grpSp>
        <p:nvGrpSpPr>
          <p:cNvPr id="240" name="Group 27"/>
          <p:cNvGrpSpPr/>
          <p:nvPr/>
        </p:nvGrpSpPr>
        <p:grpSpPr>
          <a:xfrm>
            <a:off x="336600" y="1587600"/>
            <a:ext cx="8378280" cy="4142880"/>
            <a:chOff x="336600" y="1587600"/>
            <a:chExt cx="8378280" cy="4142880"/>
          </a:xfrm>
        </p:grpSpPr>
        <p:grpSp>
          <p:nvGrpSpPr>
            <p:cNvPr id="241" name="Group 6"/>
            <p:cNvGrpSpPr/>
            <p:nvPr/>
          </p:nvGrpSpPr>
          <p:grpSpPr>
            <a:xfrm>
              <a:off x="2588760" y="2691720"/>
              <a:ext cx="3920040" cy="2471040"/>
              <a:chOff x="2588760" y="2691720"/>
              <a:chExt cx="3920040" cy="2471040"/>
            </a:xfrm>
          </p:grpSpPr>
          <p:sp>
            <p:nvSpPr>
              <p:cNvPr id="242" name="_s1028"/>
              <p:cNvSpPr/>
              <p:nvPr/>
            </p:nvSpPr>
            <p:spPr>
              <a:xfrm flipH="1" flipV="1">
                <a:off x="2588760" y="3513240"/>
                <a:ext cx="981360" cy="41112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" name="_s1030"/>
              <p:cNvSpPr/>
              <p:nvPr/>
            </p:nvSpPr>
            <p:spPr>
              <a:xfrm flipH="1">
                <a:off x="2588760" y="4750920"/>
                <a:ext cx="981360" cy="41184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" name="_s1034"/>
              <p:cNvSpPr/>
              <p:nvPr/>
            </p:nvSpPr>
            <p:spPr>
              <a:xfrm>
                <a:off x="5529960" y="4750920"/>
                <a:ext cx="978840" cy="41184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_s1036"/>
              <p:cNvSpPr/>
              <p:nvPr/>
            </p:nvSpPr>
            <p:spPr>
              <a:xfrm flipV="1">
                <a:off x="5529960" y="3515400"/>
                <a:ext cx="978840" cy="41184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_s1038"/>
              <p:cNvSpPr/>
              <p:nvPr/>
            </p:nvSpPr>
            <p:spPr>
              <a:xfrm flipV="1">
                <a:off x="4427640" y="2691720"/>
                <a:ext cx="0" cy="82332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7" name="Text Box 13"/>
            <p:cNvSpPr/>
            <p:nvPr/>
          </p:nvSpPr>
          <p:spPr>
            <a:xfrm>
              <a:off x="3258360" y="1587600"/>
              <a:ext cx="2436480" cy="11088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Recruiters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Text Box 17"/>
            <p:cNvSpPr/>
            <p:nvPr/>
          </p:nvSpPr>
          <p:spPr>
            <a:xfrm>
              <a:off x="346320" y="2972520"/>
              <a:ext cx="2244240" cy="11088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Labor Relations Specialists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Text Box 19"/>
            <p:cNvSpPr/>
            <p:nvPr/>
          </p:nvSpPr>
          <p:spPr>
            <a:xfrm>
              <a:off x="336600" y="4621680"/>
              <a:ext cx="2244240" cy="11088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raining Specialists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Text Box 21"/>
            <p:cNvSpPr/>
            <p:nvPr/>
          </p:nvSpPr>
          <p:spPr>
            <a:xfrm>
              <a:off x="6470640" y="2922120"/>
              <a:ext cx="2244240" cy="11091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Job Analysts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6470640" y="4621680"/>
              <a:ext cx="2244240" cy="11088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mpensation Managers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Text Box 24"/>
            <p:cNvSpPr/>
            <p:nvPr/>
          </p:nvSpPr>
          <p:spPr>
            <a:xfrm>
              <a:off x="3428640" y="3483000"/>
              <a:ext cx="2244600" cy="17071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Human Resource Specialties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2"/>
          <p:cNvSpPr/>
          <p:nvPr/>
        </p:nvSpPr>
        <p:spPr>
          <a:xfrm>
            <a:off x="15084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5F2F-B098-4BAD-BCCB-D5DCBA3AFD9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4" name="Group 15"/>
          <p:cNvGrpSpPr/>
          <p:nvPr/>
        </p:nvGrpSpPr>
        <p:grpSpPr>
          <a:xfrm>
            <a:off x="336600" y="1955880"/>
            <a:ext cx="8378280" cy="3406320"/>
            <a:chOff x="336600" y="1955880"/>
            <a:chExt cx="8378280" cy="3406320"/>
          </a:xfrm>
        </p:grpSpPr>
        <p:sp>
          <p:nvSpPr>
            <p:cNvPr id="255" name="Text Box 5"/>
            <p:cNvSpPr/>
            <p:nvPr/>
          </p:nvSpPr>
          <p:spPr>
            <a:xfrm>
              <a:off x="4887720" y="1955880"/>
              <a:ext cx="3827160" cy="7761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lobalization Trend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Text Box 6"/>
            <p:cNvSpPr/>
            <p:nvPr/>
          </p:nvSpPr>
          <p:spPr>
            <a:xfrm>
              <a:off x="4887720" y="3291840"/>
              <a:ext cx="3827160" cy="775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chnological Trend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Text Box 7"/>
            <p:cNvSpPr/>
            <p:nvPr/>
          </p:nvSpPr>
          <p:spPr>
            <a:xfrm>
              <a:off x="4887720" y="4586040"/>
              <a:ext cx="3827160" cy="7761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rends in the Nature of Work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58" name="AutoShape 9"/>
            <p:cNvCxnSpPr>
              <a:stCxn id="259" idx="0"/>
              <a:endCxn id="255" idx="1"/>
            </p:cNvCxnSpPr>
            <p:nvPr/>
          </p:nvCxnSpPr>
          <p:spPr>
            <a:xfrm flipH="1" flipV="1" rot="5400000">
              <a:off x="2954520" y="1483560"/>
              <a:ext cx="1073160" cy="2793240"/>
            </a:xfrm>
            <a:prstGeom prst="bentConnector2">
              <a:avLst/>
            </a:prstGeom>
            <a:ln w="38160">
              <a:solidFill>
                <a:srgbClr val="008000"/>
              </a:solidFill>
              <a:miter/>
              <a:tailEnd len="lg" type="stealth" w="lg"/>
            </a:ln>
          </p:spPr>
        </p:cxnSp>
        <p:cxnSp>
          <p:nvCxnSpPr>
            <p:cNvPr id="260" name="AutoShape 11"/>
            <p:cNvCxnSpPr>
              <a:stCxn id="259" idx="7"/>
              <a:endCxn id="256" idx="1"/>
            </p:cNvCxnSpPr>
            <p:nvPr/>
          </p:nvCxnSpPr>
          <p:spPr>
            <a:xfrm flipV="1">
              <a:off x="3337560" y="3678840"/>
              <a:ext cx="1550880" cy="6120"/>
            </a:xfrm>
            <a:prstGeom prst="straightConnector1">
              <a:avLst/>
            </a:prstGeom>
            <a:ln w="38160">
              <a:solidFill>
                <a:srgbClr val="008000"/>
              </a:solidFill>
              <a:miter/>
              <a:tailEnd len="lg" type="stealth" w="lg"/>
            </a:ln>
          </p:spPr>
        </p:cxnSp>
        <p:cxnSp>
          <p:nvCxnSpPr>
            <p:cNvPr id="261" name="AutoShape 12"/>
            <p:cNvCxnSpPr>
              <a:stCxn id="259" idx="5"/>
              <a:endCxn id="257" idx="1"/>
            </p:cNvCxnSpPr>
            <p:nvPr/>
          </p:nvCxnSpPr>
          <p:spPr>
            <a:xfrm flipV="1">
              <a:off x="3337560" y="4973040"/>
              <a:ext cx="1550880" cy="11880"/>
            </a:xfrm>
            <a:prstGeom prst="straightConnector1">
              <a:avLst/>
            </a:prstGeom>
            <a:ln w="38160">
              <a:solidFill>
                <a:srgbClr val="008000"/>
              </a:solidFill>
              <a:miter/>
              <a:tailEnd len="lg" type="stealth" w="lg"/>
            </a:ln>
          </p:spPr>
        </p:cxnSp>
        <p:sp>
          <p:nvSpPr>
            <p:cNvPr id="259" name="Oval 14"/>
            <p:cNvSpPr/>
            <p:nvPr/>
          </p:nvSpPr>
          <p:spPr>
            <a:xfrm>
              <a:off x="336600" y="3416400"/>
              <a:ext cx="3516480" cy="1837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hanges and the new Trends in Human Resource Manag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2" name="Rectangle 2"/>
          <p:cNvSpPr/>
          <p:nvPr/>
        </p:nvSpPr>
        <p:spPr>
          <a:xfrm>
            <a:off x="365040" y="395280"/>
            <a:ext cx="844236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Changing Environment of Human Resource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2"/>
          <p:cNvSpPr/>
          <p:nvPr/>
        </p:nvSpPr>
        <p:spPr>
          <a:xfrm>
            <a:off x="15084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F211-C8C1-4558-B6C3-4146D9C8FCA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377640"/>
            <a:ext cx="8210520" cy="10666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hanging Role of Human Resource Management</a:t>
            </a:r>
            <a:endParaRPr b="1" lang="en-US" sz="2800" spc="-1" strike="noStrike">
              <a:solidFill>
                <a:srgbClr val="ed6b06"/>
              </a:solidFill>
              <a:latin typeface="Verdana"/>
            </a:endParaRPr>
          </a:p>
        </p:txBody>
      </p:sp>
      <p:grpSp>
        <p:nvGrpSpPr>
          <p:cNvPr id="265" name="Group 18"/>
          <p:cNvGrpSpPr/>
          <p:nvPr/>
        </p:nvGrpSpPr>
        <p:grpSpPr>
          <a:xfrm>
            <a:off x="428760" y="1495440"/>
            <a:ext cx="8377920" cy="4695120"/>
            <a:chOff x="428760" y="1495440"/>
            <a:chExt cx="8377920" cy="4695120"/>
          </a:xfrm>
        </p:grpSpPr>
        <p:sp>
          <p:nvSpPr>
            <p:cNvPr id="266" name="Text Box 6"/>
            <p:cNvSpPr/>
            <p:nvPr/>
          </p:nvSpPr>
          <p:spPr>
            <a:xfrm>
              <a:off x="3418560" y="3266280"/>
              <a:ext cx="2398320" cy="1155600"/>
            </a:xfrm>
            <a:prstGeom prst="rect">
              <a:avLst/>
            </a:prstGeom>
            <a:solidFill>
              <a:srgbClr val="b2f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Arial"/>
                </a:rPr>
                <a:t>New Responsibilities for HR Managers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Line 7"/>
            <p:cNvSpPr/>
            <p:nvPr/>
          </p:nvSpPr>
          <p:spPr>
            <a:xfrm>
              <a:off x="5816880" y="3857400"/>
              <a:ext cx="58788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Line 8"/>
            <p:cNvSpPr/>
            <p:nvPr/>
          </p:nvSpPr>
          <p:spPr>
            <a:xfrm>
              <a:off x="4619880" y="4420440"/>
              <a:ext cx="0" cy="6127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Text Box 9"/>
            <p:cNvSpPr/>
            <p:nvPr/>
          </p:nvSpPr>
          <p:spPr>
            <a:xfrm>
              <a:off x="3421080" y="5034960"/>
              <a:ext cx="2397600" cy="1155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asuring the HRM Team’s Performanc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Text Box 11"/>
            <p:cNvSpPr/>
            <p:nvPr/>
          </p:nvSpPr>
          <p:spPr>
            <a:xfrm>
              <a:off x="428760" y="3261960"/>
              <a:ext cx="2397600" cy="1155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naging with the HR Scorecard Proces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Line 12"/>
            <p:cNvSpPr/>
            <p:nvPr/>
          </p:nvSpPr>
          <p:spPr>
            <a:xfrm flipH="1">
              <a:off x="2826000" y="3859560"/>
              <a:ext cx="58788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Text Box 14"/>
            <p:cNvSpPr/>
            <p:nvPr/>
          </p:nvSpPr>
          <p:spPr>
            <a:xfrm>
              <a:off x="6409080" y="3261960"/>
              <a:ext cx="2397600" cy="1155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reating High- Performance Work System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Text Box 16"/>
            <p:cNvSpPr/>
            <p:nvPr/>
          </p:nvSpPr>
          <p:spPr>
            <a:xfrm>
              <a:off x="3418560" y="1495440"/>
              <a:ext cx="2398320" cy="1155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rategic Human Resource Manag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Line 17"/>
            <p:cNvSpPr/>
            <p:nvPr/>
          </p:nvSpPr>
          <p:spPr>
            <a:xfrm flipV="1">
              <a:off x="4619880" y="2649240"/>
              <a:ext cx="0" cy="6127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3"/>
          <p:cNvSpPr/>
          <p:nvPr/>
        </p:nvSpPr>
        <p:spPr>
          <a:xfrm>
            <a:off x="15084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EAF4-3F94-48C2-984A-509C12F49FF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igh-Performance Work System Practices</a:t>
            </a:r>
            <a:endParaRPr b="1" lang="en-US" sz="28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65040" y="1679040"/>
            <a:ext cx="8229600" cy="45118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loyment securit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ve hir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ve train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f-managed teams/decentralized decision mak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shar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-for-performance reward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ss on high-quality wor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3"/>
          <p:cNvSpPr/>
          <p:nvPr/>
        </p:nvSpPr>
        <p:spPr>
          <a:xfrm>
            <a:off x="15084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20C4-7FDD-4D18-AF17-182AB2278D9D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377640"/>
            <a:ext cx="8210520" cy="10666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enefits of a High-Performance Work System (HPWS)</a:t>
            </a:r>
            <a:endParaRPr b="1" lang="en-US" sz="28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65040" y="169200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s more job applica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ens candidates more effectiv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more/better training and lower employee turnov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s pay more clearly to performance and appraisal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more qualified applicants per posi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in higher profits and lower operating cos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more self-managing work team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3"/>
          <p:cNvSpPr/>
          <p:nvPr/>
        </p:nvSpPr>
        <p:spPr>
          <a:xfrm>
            <a:off x="15084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02C2-0895-44CA-B592-265E810A6EB4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28760" y="390600"/>
            <a:ext cx="8137440" cy="736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0" t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uman Resource Manager’s Proficiencies</a:t>
            </a:r>
            <a:endParaRPr b="1" lang="en-US" sz="28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36600" y="140292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our Categories of Profici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81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363600" y="2048040"/>
            <a:ext cx="82296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lvl="2" marL="355680" indent="-35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 proficienc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55680" indent="-35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iness proficienc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55680" indent="-35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ship proficienc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55680" indent="-35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rning proficienc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5680" indent="-35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336600" y="3889440"/>
            <a:ext cx="82296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pecific Profici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8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244440" y="4533840"/>
            <a:ext cx="8229600" cy="14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lvl="2" marL="351000" indent="-351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 certific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351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within the law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351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ethic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351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15084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3A46-C324-4AD5-8935-96F45B1E359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36600" y="1587240"/>
            <a:ext cx="8470800" cy="4327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55680" indent="-3556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ain what human resource management is and how it relates to the management proces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 at least eight examples of how all managers can use human resource management concepts and techniq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the human resource responsibilities of line and staff (HR) manag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365040" y="48276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studying this chapter, you should be able to:</a:t>
            </a:r>
            <a:br>
              <a:rPr sz="2800"/>
            </a:br>
            <a:endParaRPr b="1" lang="en-US" sz="28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3"/>
          <p:cNvSpPr/>
          <p:nvPr/>
        </p:nvSpPr>
        <p:spPr>
          <a:xfrm>
            <a:off x="15084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1BE2-801F-4A3F-BB28-1E3829581CC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65040" y="1546200"/>
            <a:ext cx="7405920" cy="4190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87000"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R Certifica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612720" y="390240"/>
            <a:ext cx="8137440" cy="1066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0" t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uman Resource Manager’s Proficiencies (cont.)</a:t>
            </a:r>
            <a:endParaRPr b="1" lang="en-US" sz="28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365040" y="2232000"/>
            <a:ext cx="74059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lvl="3" marL="355680" indent="-3556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abian Society for Human Resource Management (ASHRM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45960" y="3152880"/>
            <a:ext cx="7405920" cy="31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lvl="3" marL="1077840" indent="-353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sional Human Resource Development (HRD) Certifica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77840" indent="-3538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er of Science in HR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77840" indent="-353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sional Human Resource Management (HRM) Certifica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77840" indent="-353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3"/>
          <p:cNvSpPr/>
          <p:nvPr/>
        </p:nvSpPr>
        <p:spPr>
          <a:xfrm>
            <a:off x="15084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925D-73DD-4167-A2EE-A7795882CB23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65040" y="154764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anaging within the La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457200" y="378000"/>
            <a:ext cx="8137440" cy="933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0" t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uman Resource Manager’s Proficiencies (cont.)</a:t>
            </a:r>
            <a:endParaRPr b="1" lang="en-US" sz="28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365040" y="2139840"/>
            <a:ext cx="822960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lvl="2" marL="351000" indent="-3510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igration law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3510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pational safety and health law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3510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 law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336600" y="3797280"/>
            <a:ext cx="8229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anaging Eth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244440" y="4441680"/>
            <a:ext cx="822960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lvl="2" marL="351000" indent="-3510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ical scandals have occurred in major corpora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3510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serious ethical scandals are HR-rel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3510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ab world ethics are influenced by religion and cultu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4"/>
          <p:cNvSpPr/>
          <p:nvPr/>
        </p:nvSpPr>
        <p:spPr>
          <a:xfrm>
            <a:off x="15084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7DBB-6A2F-435F-A32E-7889502AEC1C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63600" y="1547280"/>
            <a:ext cx="4114800" cy="445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83000"/>
          </a:bodyPr>
          <a:p>
            <a:pPr marL="1922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hor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22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th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22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al authority or functional contr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22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lobal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22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-performance work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22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R Scorec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22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uman capi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22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uman resource manage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HRM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2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92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66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92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37040" y="1547640"/>
            <a:ext cx="3975120" cy="4664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318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ne authorit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ne manag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agement 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ff authority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ff mana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ategic human resource management (SHR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ategic pl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ate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Key Terms</a:t>
            </a:r>
            <a:endParaRPr b="1" lang="en-US" sz="28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15084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486F-0894-4F40-8354-CC42D84C199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36600" y="48276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Management Functions</a:t>
            </a:r>
            <a:endParaRPr b="1" lang="en-US" sz="2800" spc="-1" strike="noStrike">
              <a:solidFill>
                <a:srgbClr val="ed6b06"/>
              </a:solidFill>
              <a:latin typeface="Verdana"/>
            </a:endParaRPr>
          </a:p>
        </p:txBody>
      </p:sp>
      <p:grpSp>
        <p:nvGrpSpPr>
          <p:cNvPr id="174" name="Group 14"/>
          <p:cNvGrpSpPr/>
          <p:nvPr/>
        </p:nvGrpSpPr>
        <p:grpSpPr>
          <a:xfrm>
            <a:off x="336600" y="1311120"/>
            <a:ext cx="8412120" cy="4479840"/>
            <a:chOff x="336600" y="1311120"/>
            <a:chExt cx="8412120" cy="4479840"/>
          </a:xfrm>
        </p:grpSpPr>
        <p:sp>
          <p:nvSpPr>
            <p:cNvPr id="175" name="Oval 3"/>
            <p:cNvSpPr/>
            <p:nvPr/>
          </p:nvSpPr>
          <p:spPr>
            <a:xfrm>
              <a:off x="1306440" y="1766520"/>
              <a:ext cx="6134400" cy="3405240"/>
            </a:xfrm>
            <a:prstGeom prst="ellipse">
              <a:avLst/>
            </a:prstGeom>
            <a:noFill/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76" name="Picture 4" descr="Boxshdow05"/>
            <p:cNvPicPr/>
            <p:nvPr/>
          </p:nvPicPr>
          <p:blipFill>
            <a:blip r:embed="rId1"/>
            <a:stretch/>
          </p:blipFill>
          <p:spPr>
            <a:xfrm>
              <a:off x="3181320" y="1311120"/>
              <a:ext cx="270684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5"/>
            <p:cNvSpPr/>
            <p:nvPr/>
          </p:nvSpPr>
          <p:spPr>
            <a:xfrm>
              <a:off x="3326040" y="1364760"/>
              <a:ext cx="2224080" cy="101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78" name="Picture 6" descr="Boxshdow05"/>
            <p:cNvPicPr/>
            <p:nvPr/>
          </p:nvPicPr>
          <p:blipFill>
            <a:blip r:embed="rId3"/>
            <a:stretch/>
          </p:blipFill>
          <p:spPr>
            <a:xfrm>
              <a:off x="6043680" y="2747520"/>
              <a:ext cx="2705040" cy="13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7"/>
            <p:cNvSpPr/>
            <p:nvPr/>
          </p:nvSpPr>
          <p:spPr>
            <a:xfrm>
              <a:off x="6186600" y="2801520"/>
              <a:ext cx="2224080" cy="1017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ganizing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80" name="Picture 8" descr="Boxshdow05"/>
            <p:cNvPicPr/>
            <p:nvPr/>
          </p:nvPicPr>
          <p:blipFill>
            <a:blip r:embed="rId5"/>
            <a:stretch/>
          </p:blipFill>
          <p:spPr>
            <a:xfrm>
              <a:off x="336600" y="2747520"/>
              <a:ext cx="2705040" cy="13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9" descr="Boxshdow05"/>
            <p:cNvPicPr/>
            <p:nvPr/>
          </p:nvPicPr>
          <p:blipFill>
            <a:blip r:embed="rId6"/>
            <a:stretch/>
          </p:blipFill>
          <p:spPr>
            <a:xfrm>
              <a:off x="1179720" y="4458960"/>
              <a:ext cx="2705040" cy="13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10"/>
            <p:cNvSpPr/>
            <p:nvPr/>
          </p:nvSpPr>
          <p:spPr>
            <a:xfrm>
              <a:off x="1322280" y="4512960"/>
              <a:ext cx="2224080" cy="10177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eading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83" name="Picture 11" descr="Boxshdow05"/>
            <p:cNvPicPr/>
            <p:nvPr/>
          </p:nvPicPr>
          <p:blipFill>
            <a:blip r:embed="rId8"/>
            <a:stretch/>
          </p:blipFill>
          <p:spPr>
            <a:xfrm>
              <a:off x="5175360" y="4449600"/>
              <a:ext cx="270504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2"/>
            <p:cNvSpPr/>
            <p:nvPr/>
          </p:nvSpPr>
          <p:spPr>
            <a:xfrm>
              <a:off x="5319720" y="4503240"/>
              <a:ext cx="2224080" cy="10177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affing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3"/>
            <p:cNvSpPr/>
            <p:nvPr/>
          </p:nvSpPr>
          <p:spPr>
            <a:xfrm>
              <a:off x="479520" y="2801520"/>
              <a:ext cx="2225520" cy="101772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olling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15084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8325-3A82-4575-8934-1736BF5D775B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65040" y="390600"/>
            <a:ext cx="8229600" cy="736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0" t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Resource Management at Work</a:t>
            </a:r>
            <a:br>
              <a:rPr sz="2800"/>
            </a:br>
            <a:endParaRPr b="1" lang="en-US" sz="28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44440" y="1311120"/>
            <a:ext cx="8562960" cy="4880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1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Human Resource Management (HRM)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uman Resource Management includes all activities used to attract &amp; retain employees and to ensure they perform at a high level in meeting organizational goal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hese activities are made up of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36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. Recruitment &amp; selec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36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. Training and develop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36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. Performance evalu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36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. Pay and benefits (compensation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36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. labor rela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2"/>
          <p:cNvSpPr/>
          <p:nvPr/>
        </p:nvSpPr>
        <p:spPr>
          <a:xfrm>
            <a:off x="15084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B8C2-1EB8-46CE-B105-A9AE826347F3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Human Resource Management at Work</a:t>
            </a:r>
            <a:endParaRPr b="1" lang="en-US" sz="2600" spc="-1" strike="noStrike">
              <a:solidFill>
                <a:srgbClr val="ed6b06"/>
              </a:solidFill>
              <a:latin typeface="Verdana"/>
            </a:endParaRPr>
          </a:p>
        </p:txBody>
      </p:sp>
      <p:grpSp>
        <p:nvGrpSpPr>
          <p:cNvPr id="191" name="Group 26"/>
          <p:cNvGrpSpPr/>
          <p:nvPr/>
        </p:nvGrpSpPr>
        <p:grpSpPr>
          <a:xfrm>
            <a:off x="428760" y="1035000"/>
            <a:ext cx="8378280" cy="5248080"/>
            <a:chOff x="428760" y="1035000"/>
            <a:chExt cx="8378280" cy="5248080"/>
          </a:xfrm>
        </p:grpSpPr>
        <p:sp>
          <p:nvSpPr>
            <p:cNvPr id="192" name="_s1028"/>
            <p:cNvSpPr/>
            <p:nvPr/>
          </p:nvSpPr>
          <p:spPr>
            <a:xfrm flipH="1" flipV="1">
              <a:off x="2868480" y="2724840"/>
              <a:ext cx="875160" cy="5418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_s1032"/>
            <p:cNvSpPr/>
            <p:nvPr/>
          </p:nvSpPr>
          <p:spPr>
            <a:xfrm flipH="1">
              <a:off x="3650760" y="4600440"/>
              <a:ext cx="482040" cy="78768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_s1034"/>
            <p:cNvSpPr/>
            <p:nvPr/>
          </p:nvSpPr>
          <p:spPr>
            <a:xfrm>
              <a:off x="5102280" y="4600440"/>
              <a:ext cx="487800" cy="78588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_s1040"/>
            <p:cNvSpPr/>
            <p:nvPr/>
          </p:nvSpPr>
          <p:spPr>
            <a:xfrm flipV="1">
              <a:off x="4618080" y="1892880"/>
              <a:ext cx="0" cy="10872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_s1038"/>
            <p:cNvSpPr/>
            <p:nvPr/>
          </p:nvSpPr>
          <p:spPr>
            <a:xfrm flipV="1">
              <a:off x="5493240" y="2723040"/>
              <a:ext cx="873360" cy="5436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Text Box 10"/>
            <p:cNvSpPr/>
            <p:nvPr/>
          </p:nvSpPr>
          <p:spPr>
            <a:xfrm>
              <a:off x="3545280" y="1035000"/>
              <a:ext cx="2134440" cy="980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cquisitio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Text Box 12"/>
            <p:cNvSpPr/>
            <p:nvPr/>
          </p:nvSpPr>
          <p:spPr>
            <a:xfrm>
              <a:off x="6366960" y="2244240"/>
              <a:ext cx="2134800" cy="979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Text Box 14"/>
            <p:cNvSpPr/>
            <p:nvPr/>
          </p:nvSpPr>
          <p:spPr>
            <a:xfrm>
              <a:off x="6672600" y="3803400"/>
              <a:ext cx="2134440" cy="9799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ppraisal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Text Box 16"/>
            <p:cNvSpPr/>
            <p:nvPr/>
          </p:nvSpPr>
          <p:spPr>
            <a:xfrm>
              <a:off x="5365080" y="5303160"/>
              <a:ext cx="2134440" cy="979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mpensating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Text Box 18"/>
            <p:cNvSpPr/>
            <p:nvPr/>
          </p:nvSpPr>
          <p:spPr>
            <a:xfrm>
              <a:off x="1734120" y="5303160"/>
              <a:ext cx="2134800" cy="979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abor Relation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Text Box 19"/>
            <p:cNvSpPr/>
            <p:nvPr/>
          </p:nvSpPr>
          <p:spPr>
            <a:xfrm>
              <a:off x="428760" y="3808800"/>
              <a:ext cx="2134800" cy="979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ealth and Safety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Text Box 21"/>
            <p:cNvSpPr/>
            <p:nvPr/>
          </p:nvSpPr>
          <p:spPr>
            <a:xfrm>
              <a:off x="737640" y="2250000"/>
              <a:ext cx="2134800" cy="979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airnes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_s1030"/>
            <p:cNvSpPr/>
            <p:nvPr/>
          </p:nvSpPr>
          <p:spPr>
            <a:xfrm flipH="1">
              <a:off x="2559240" y="4029120"/>
              <a:ext cx="963000" cy="1735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_s1030"/>
            <p:cNvSpPr/>
            <p:nvPr/>
          </p:nvSpPr>
          <p:spPr>
            <a:xfrm>
              <a:off x="5709600" y="4026960"/>
              <a:ext cx="963000" cy="17388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Text Box 25"/>
            <p:cNvSpPr/>
            <p:nvPr/>
          </p:nvSpPr>
          <p:spPr>
            <a:xfrm>
              <a:off x="3502080" y="2980440"/>
              <a:ext cx="2235240" cy="17496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Huma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 Management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(HRM)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15084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B833-0412-40ED-8356-12CC8829555E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65040" y="298440"/>
            <a:ext cx="8229600" cy="64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0" t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nel Aspects of a Manager’s Job</a:t>
            </a:r>
            <a:endParaRPr b="1" lang="en-US" sz="32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65040" y="1035000"/>
            <a:ext cx="8229600" cy="5524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cting job analyses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ing labor needs and recruiting job candida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job candida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enting and training employe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wages and salar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ing incentives and benefi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aising performan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ng (interviewing, counseling, disciplining)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ing and developing manag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ing employee commit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15084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657D-2F51-4D1D-B4E9-7DCE7DA4A146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229600" cy="639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ersonnel Mistakes</a:t>
            </a:r>
            <a:endParaRPr b="1" lang="en-US" sz="28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36600" y="140328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re the wrong person for the job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ence high turnover. (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ران العم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your people not doing their bes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te time with useless interview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your company taken to court because of unfair actions against employe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482760"/>
            <a:ext cx="8229600" cy="628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ersonnel Mistakes</a:t>
            </a:r>
            <a:endParaRPr b="1" lang="en-US" sz="28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65040" y="140292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your company taken to court for unsafe pract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some employees think their salaries are unfair relative to others’ in the organiz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a lack of training to weaken your department’s effectivenes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any unfair labor pract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15084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00A5-C579-4614-A2E7-C7F8417D8366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15084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CCD5-2A4A-4C9C-991B-4AB5EF4E067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sic HR Concept</a:t>
            </a:r>
            <a:endParaRPr b="1" lang="en-US" sz="32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65040" y="1402920"/>
            <a:ext cx="7956720" cy="46688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 creates value by engaging in activities that produce the employee behaviors that the company needs, to achieve its strategic goal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7T02:06:55Z</dcterms:created>
  <dc:creator>Charlie Cook, The University of West Alabama</dc:creator>
  <dc:description/>
  <dc:language>en-US</dc:language>
  <cp:lastModifiedBy>User</cp:lastModifiedBy>
  <dcterms:modified xsi:type="dcterms:W3CDTF">2014-07-05T13:06:35Z</dcterms:modified>
  <cp:revision>349</cp:revision>
  <dc:subject>Chapter 1</dc:subject>
  <dc:title>Human Resource Management 11e.</dc:title>
</cp:coreProperties>
</file>