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4B1-F965-475C-B84C-FF921722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1C7-E321-4BAA-B71E-A3B880BE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F11-657D-445F-BB3D-3EA9B5B1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13A-ACC5-4A42-9C32-262E5AA3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04AB-07E9-49AE-AE15-302DE588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8DBB-0585-48C3-BA56-1397D252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AD5D-B8FE-472F-86DB-1603F27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1A4B-B177-4152-87DA-E196A77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78D0-0995-4549-A9AF-309579A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6617-BDDE-4AFE-A8C9-B3CAB1E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7B8-70E8-4360-BB43-9FA3C4E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AC0-9027-4754-88C3-AF03C57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935A-86DF-4977-98F7-66FD501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8A15-CC10-48DF-962F-0D6DA5E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37D4-01CB-49BA-886F-D157740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1339-8EDE-4763-81F5-BF41D76A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A42F-88D1-4A78-AF38-4AD44F3D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354-7B16-41B3-A9FD-E901640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53C-1354-464C-88F6-86BD76D5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476-E32B-425E-BD65-E3501F83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72B-2F3E-4A59-B2B6-86D103CF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CAF-A330-4DD0-8C42-ED5CCBD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8A5-1F87-49A9-9F91-054506D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A5E-5411-4CE5-8895-CA834F4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5D9-C3D3-4D13-9180-06741BE21E1F}" type="slidenum"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62A4-DEB9-43FE-8515-D895AC38622A}" type="slidenum"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Human Respiration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Meetu Walia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 "/>
          <p:cNvPicPr/>
          <p:nvPr/>
        </p:nvPicPr>
        <p:blipFill>
          <a:blip r:embed="rId1"/>
          <a:stretch/>
        </p:blipFill>
        <p:spPr>
          <a:xfrm>
            <a:off x="936720" y="2286000"/>
            <a:ext cx="2035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06880" y="167040"/>
            <a:ext cx="811584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udents will be able to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fine Human Respir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itor the Respiratory Cyc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termine the effect of holding of breath on the respiratory cyc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termine the effect of re-breathing of air on the respiratory cyc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is Human Respiratio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19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human respiratory system allows one to obtain oxygen, eliminate carbon dioxide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eathing consists of two phases,  inspiration and expiratio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spiration- the process of taking in ai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xpiration- the process of blowing out ai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60400" y="327240"/>
            <a:ext cx="780408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rgans in the Respiratory System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666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332000"/>
            <a:ext cx="7772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762120"/>
          <a:ext cx="8381880" cy="5866920"/>
        </p:xfrm>
        <a:graphic>
          <a:graphicData uri="http://schemas.openxmlformats.org/drawingml/2006/table">
            <a:tbl>
              <a:tblPr/>
              <a:tblGrid>
                <a:gridCol w="3178440"/>
                <a:gridCol w="5203440"/>
              </a:tblGrid>
              <a:tr h="40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nose / nasal cavity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warms, moistens, &amp; filters air as it is inhaled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pharynx (throat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passageway for air, leads to trache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larynx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he voice box, where vocal chords are located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28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rachea (windpipe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keeps the windpipe "open"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trachea is lined with fine hairs called </a:t>
                      </a:r>
                      <a:r>
                        <a:rPr b="0" i="1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cilia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 which filter air before it reaches the lung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bronch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wo branches at the end of the trachea, each lead to a lung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bronchiole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a network of smaller branches leading from the bronchi into the lung tissue &amp; ultimately to air sac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alveol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he functional respiratory units in the lung where gases are exchanged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3280" y="2363760"/>
            <a:ext cx="71326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831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Malfunctions &amp; Diseases of the Respiratory System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severe allergic reaction characterized by the constriction of bronchiol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inflammation of the lining of the bronchiol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condition in which the alveoli deteriorate, causing the lungs to lose their elastici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condition in which the alveoli become filled with fluid, preventing the exchange of gas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1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lung canc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irregular &amp; uncontrolled growth of tumors in the lung tissu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piratory Cyc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iration rate is the number of breaths per minu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uman respiration rate is controlled by a part of the brain called t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medull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nds signals to adjust levels of oxygen present in your body by changing your breathing r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ab experi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4" name="ShockwaveFlash1"/>
          <p:cNvGraphicFramePr/>
          <p:nvPr/>
        </p:nvGraphicFramePr>
        <p:xfrm>
          <a:off x="1066680" y="1600200"/>
          <a:ext cx="7164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164360" cy="4572000"/>
                  </a:xfrm>
                  <a:prstGeom prst="rect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6:53:00Z</dcterms:created>
  <dc:creator> </dc:creator>
  <dc:description/>
  <dc:language>en-US</dc:language>
  <cp:lastModifiedBy>ZonaNet</cp:lastModifiedBy>
  <dcterms:modified xsi:type="dcterms:W3CDTF">2008-05-02T21:57:02Z</dcterms:modified>
  <cp:revision>15</cp:revision>
  <dc:subject/>
  <dc:title>Human Respiration</dc:title>
</cp:coreProperties>
</file>