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6AD-3BAF-4FAA-A56A-C8C73FF2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150-6527-4FEE-ABE4-40BD2CA9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101-CE2D-43A7-BEF8-D5306D38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FB5-1038-49B1-8272-118D4123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F66-5198-470E-91C7-76C60F81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B2F-EC8F-4D37-8E6C-382B3F2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CAEA-CE2B-4857-A537-948BBB9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089-AA2F-44D8-A709-B7CE050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B8C-7F4F-4FFE-A9F7-B42B03D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18C-ECA2-4040-9EED-8BBF167E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B710-C09E-456D-AD34-5E4BC44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A1A-679A-4DB3-968A-7410127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DDCC-0E5D-46A8-904B-6BCAAAF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3A4-98B2-4CE1-BA07-0EF52E5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B8C1-1C32-4707-B155-47E9F263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7EAA-AF9E-48E3-BC05-C661BE37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9F5-A4F3-439F-BA9C-41FDDE44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20F-5F62-448B-8EB7-7BD777B0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746-2FBD-4A25-A98A-ADC217B6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032-966E-4C3D-AECE-F28BFDEE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FB7-46A7-4C54-8C08-A0A158B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00D-481A-4AF8-B66F-4272B9B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C2D-E7C0-4512-86CE-E83518D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1B4-C375-4FA5-AD75-C267D70B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660-CD54-4EFD-B390-CBFC07C0203B}" type="slidenum"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36C-92CA-4C09-9711-F613630240A6}" type="slidenum">
              <a:rPr b="0" lang="ar-SA" sz="1400" spc="-1" strike="noStrike">
                <a:solidFill>
                  <a:srgbClr val="006699"/>
                </a:solidFill>
                <a:latin typeface="Verdan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Human Respiration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Meetu Walia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 "/>
          <p:cNvPicPr/>
          <p:nvPr/>
        </p:nvPicPr>
        <p:blipFill>
          <a:blip r:embed="rId1"/>
          <a:stretch/>
        </p:blipFill>
        <p:spPr>
          <a:xfrm>
            <a:off x="936720" y="2286000"/>
            <a:ext cx="2035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06880" y="167040"/>
            <a:ext cx="811584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udents will be able to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fine Human Respir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itor the Respiratory Cyc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termine the effect of holding of breath on the respiratory cyc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termine the effect of re-breathing of air on the respiratory cyc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is Human Respiratio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19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human respiratory system allows one to obtain oxygen, eliminate carbon dioxide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consists of two phases,  inspiration and expiratio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spiration- the process of taking in ai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xpiration- the process of blowing out ai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60400" y="327240"/>
            <a:ext cx="780408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Organs in the Respiratory System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666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332000"/>
            <a:ext cx="7772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762120"/>
          <a:ext cx="8381880" cy="5866920"/>
        </p:xfrm>
        <a:graphic>
          <a:graphicData uri="http://schemas.openxmlformats.org/drawingml/2006/table">
            <a:tbl>
              <a:tblPr/>
              <a:tblGrid>
                <a:gridCol w="3178440"/>
                <a:gridCol w="5203440"/>
              </a:tblGrid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nose / nasal cavity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warms, moistens, &amp; filters air as it is inhal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pharynx (throat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passageway for air, leads to trachea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larynx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he voice box, where vocal chords are locat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28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rachea (windpipe)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keeps the windpipe "open"</a:t>
                      </a: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trachea is lined with fine hairs called </a:t>
                      </a:r>
                      <a:r>
                        <a:rPr b="0" i="1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cilia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 which filter air before it reaches the lung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bronch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wo branches at the end of the trachea, each lead to a lung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bronchiole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a network of smaller branches leading from the bronchi into the lung tissue &amp; ultimately to air sacs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alveoli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 Black"/>
                          <a:ea typeface="Times New Roman"/>
                        </a:rPr>
                        <a:t>the functional respiratory units in the lung where gases are exchanged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3280" y="2363760"/>
            <a:ext cx="713268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831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Malfunctions &amp; Diseases of the Respiratory System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severe allergic reaction characterized by the constriction of bronchiol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inflammation of the lining of the bronchiol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condition in which the alveoli deteriorate, causing the lungs to lose their elastic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condition in which the alveoli become filled with fluid, preventing the exchange of gas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1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lung cancer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Arial Black"/>
                          <a:ea typeface="Times New Roman"/>
                        </a:rPr>
                        <a:t>irregular &amp; uncontrolled growth of tumors in the lung tissu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spiratory Cyc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iration rate is the number of breaths per minu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uman respiration rate is controlled by a part of the brain called t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medulla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nds signals to adjust levels of oxygen present in your body by changing your breathing r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Lab experi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4" name="ShockwaveFlash1"/>
          <p:cNvGraphicFramePr/>
          <p:nvPr/>
        </p:nvGraphicFramePr>
        <p:xfrm>
          <a:off x="1066680" y="1600200"/>
          <a:ext cx="7164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164360" cy="4572000"/>
                  </a:xfrm>
                  <a:prstGeom prst="rect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6:53:00Z</dcterms:created>
  <dc:creator> </dc:creator>
  <dc:description/>
  <dc:language>en-US</dc:language>
  <cp:lastModifiedBy>ZonaNet</cp:lastModifiedBy>
  <dcterms:modified xsi:type="dcterms:W3CDTF">2008-05-02T21:57:02Z</dcterms:modified>
  <cp:revision>15</cp:revision>
  <dc:subject/>
  <dc:title>Human Respiration</dc:title>
</cp:coreProperties>
</file>