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CF254-6991-47DF-A677-547E00F56E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4FA12-8AFB-4F82-899F-593723B3E0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FB00A-0B94-4F89-8CEA-FF87C57381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E13CB-EDC1-45F2-A66F-4359340423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CDB548-9796-45D3-9724-DD94FC11B5F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E559D3-7F24-4B8D-ADBD-C4A8CAD3204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982038-70B8-4C6B-A093-1B12B42876E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6EF955-B24A-4D83-9F6B-7E0A2CC01F7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0B1CF-B60B-47E9-BA09-49DECD29A7C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A561C3-9AEB-4961-A4D4-895D88E5595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9E5DC7-D40D-46BD-B11E-2C643B1C313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7BBE3-8900-4AE3-8448-A7D72DE2C4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DE9FB6-3B7B-46BA-B114-0426E4CDBFA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DD3629-B52B-40FE-A30E-F6F86C0D134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71C325-A7EE-4967-9F6A-308394A682B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DDFC24-D3C4-4AF5-97AC-BAF07A59A7B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DFB290-8F1D-4129-8B21-AD1B3C80A90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AC77-1A3B-4EC3-9A1B-43952347170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93D7-B3C8-4D06-A3AD-4395E73EE59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7C53-5772-4526-ABEF-4ADC061A8EC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0859-B12C-45D5-9809-D03874684F2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A5FE-B27D-458C-99F3-20E821568E1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0DC5F-CFFE-4D0C-A3AC-29242B89D9E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B297-AAA3-4A99-8B4D-E73CAD7EAA3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D0A6-3D16-431B-93B0-8A16D14439C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FFB1-FC33-43B7-B315-431380505AE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850B-EEC1-4F73-9D51-D7A2DC6DD32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1A3B-AEC1-499D-88F0-93491370708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85B2-9AA0-4301-82A6-F4B934A041D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A436-4C55-4504-938E-E9914D096DD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B9A859-C70D-42A3-B054-F37F7AC861B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708CA7-50D3-4B5C-9E17-43649322894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F06058-3BA8-4366-9BE7-066017DC32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D2F36-0FCB-4134-A850-7DCCF9B2AC0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1EEF1C-60FD-4EA5-98A8-CA1F0659257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0CC105-3CBF-4147-B8AA-D96ED5DCECE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491B11-8C64-45AD-8B27-CBA80FDA63F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27DE5A-0E51-4051-A1BA-DB09F17DEA3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9E0293-C786-4804-924C-C3C29593D94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6F0E4E-F0F8-48B0-ACBF-B6BA3AC150A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023FCD-5B40-4389-A125-C67D0618205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4CD25E-E89C-4137-9E15-FE4E040CED3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040327-FBF4-4FE1-AA7F-A1E64B277D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58976-0804-4FF0-A70B-86676B7F23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EE6E6-8365-464B-B108-5060BBF62D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5594D-9D05-4DB7-97FB-AF54E31D27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1EF79-9D0C-4163-9470-F7FFF690FF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DA3A9-B4C1-42BC-A32A-079E11DA91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16447-13E5-454E-95AE-DAAD71EEB51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Line 2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2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39C30-D42A-4456-852C-0BAACC0656FC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Line 2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FF73E-7343-456C-A76F-F6F905A63E4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Line 2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Num" idx="4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D6168-9F3C-4A3B-B7EF-D0266345D174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c6c6c"/>
            </a:gs>
            <a:gs pos="50000">
              <a:srgbClr val="eaeaea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Line 2"/>
          <p:cNvSpPr/>
          <p:nvPr/>
        </p:nvSpPr>
        <p:spPr>
          <a:xfrm>
            <a:off x="27000" y="3429000"/>
            <a:ext cx="797400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ER Modeling Case Studie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6E2A0-DE93-4829-9717-63ACF7A53BAE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21ef"/>
                </a:solidFill>
                <a:latin typeface="Times New Roman"/>
              </a:rPr>
              <a:t>Journal </a:t>
            </a:r>
            <a:r>
              <a:rPr b="1" lang="en-US" sz="3200" spc="-1" strike="noStrike">
                <a:solidFill>
                  <a:srgbClr val="3a21ef"/>
                </a:solidFill>
                <a:latin typeface="Times New Roman"/>
              </a:rPr>
              <a:t>:ER Case Study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27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Identify the entities and relationships for the following description and draw an ER diagram.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Persons, described by their name, SSN, and address, subscribe to various journals. Each journal, identified by a title and an ISBN, has a set of numbered volumes and each of these has a set of numbered issues. Subscribers have an initial subscription date and a termination date for each journal to which they subscribe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2T14:58:02Z</dcterms:created>
  <dc:creator>Thomas Connolly and Carolyn Begg</dc:creator>
  <dc:description>Transparencies for Chapter 11 of textbook
Database Systems: A Practical Approach to Design, Implementation, and Management</dc:description>
  <dc:language>en-US</dc:language>
  <cp:lastModifiedBy>abeer bin humaid</cp:lastModifiedBy>
  <cp:lastPrinted>1998-06-24T16:37:58Z</cp:lastPrinted>
  <dcterms:modified xsi:type="dcterms:W3CDTF">2015-02-20T08:24:08Z</dcterms:modified>
  <cp:revision>105</cp:revision>
  <dc:subject>Database Systems</dc:subject>
  <dc:title>Chapter 11</dc:title>
</cp:coreProperties>
</file>