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76F9-1891-4673-8DCD-34EF29A4A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B212-8181-4403-A796-C841EC052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895F-A44F-41EC-BC53-EB608F26E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39EF-5944-421E-B6FF-7806811DD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3541-9F9E-4128-8A54-36F73CD078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EDB43-B56F-4F20-A3AB-7C14CBC8FA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10248-2B35-4619-9FDD-BB7706EE9F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315B3-FCFE-4E5C-83AB-F528515608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0C87-F415-4274-922C-273B2C71E2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4ECD7-D299-4E5E-9E9D-C53DA5E2D7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F5452-29A9-420B-876A-2594562FEB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4DD98-2F5F-45D9-8207-78975E92A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A7E69-5410-4B3F-B626-54183E7BD1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18D09-A4BF-4644-B2CE-D76220A7D1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EF411-296E-4A61-8B3A-43A398C3F1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C0DC7-564B-4717-830A-A229CE8FE5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6B656-6CBA-48E2-8BFC-5973E768455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FA2-BD99-44E8-A7AF-F76AE551F5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D1B-6141-48C6-9520-09C148AB67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B88-809D-433A-8A4C-A1FC8E20EC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0D7-8FA5-4641-A5F7-9993F4DDBF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313-A554-490D-94CF-7F70C9B3A4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AB4F-1624-478C-BE42-1F524BB746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5B61-A3D1-460C-9EEB-4E6F8CFF6B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042-E8E9-40CD-AB70-1ABFA3E787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578-3E2A-4745-8BD8-62106A2C2E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A86D-E325-44E0-AC47-5DB2838AAE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3AE-F509-4D29-82FD-C419570306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59F-BBE0-42C4-B45E-38116104D7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4C9-2BA6-4BE2-901B-957B1F2AFF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09A9F-BFD1-410C-9C19-32B20B8B27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E8FE9-2F16-41AC-A806-3F7C28D4DB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91A11-1AE8-451F-9E67-690162CFD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99BA0-D761-444B-B0F5-2961592A6F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FBFAC-438E-470D-9FFA-859C7CEC87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01273-0B91-404F-A9B8-9F736AB3C2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0B84B-B6EB-4D71-B1A7-CF5784C6FC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6AEE5-7D1C-43F5-8C9A-641F53B8F3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94766-B190-4D6B-A83E-0DEFB9BD8B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EB1FE-D17D-40EA-8538-894F031065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CF7A3-BAFA-4435-A416-FA71C23852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FC498-DE08-424A-A20B-21B42EE412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28A61-9E3C-48CE-8C25-8C87ABAD4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0AB4-A5F0-4111-B91A-A7D897CC6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6BFB-2B3E-4A40-801F-BE36620D7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50C7-7ED4-4AB3-9940-98F7708C8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3D85-DC7F-4C0A-BA74-BF252463C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F50E-DF88-495B-A0F0-88CCD76F9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3C87-E9BB-4F10-806B-F79C1865F9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F6F2-5398-4373-A3C7-719DC03C0CA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5CC2-41CF-483B-B2FF-8C95D77220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FE17-228F-4E67-A261-91E9A2B0056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R Modeling Case Stud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6A02-3FA4-460F-A7B7-540B2B5290D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Journal </a:t>
            </a: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:ER Case Stud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dentify the entities and relationships for the following description and draw an ER diagram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ersons, described by their name, SSN, and address, subscribe to various journals. Each journal, identified by a title and an ISBN, has a set of numbered volumes and each of these has a set of numbered issues. Subscribers have an initial subscription date and a termination date for each journal to which they subscrib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14:58:02Z</dcterms:created>
  <dc:creator>Thomas Connolly and Carolyn Begg</dc:creator>
  <dc:description>Transparencies for Chapter 11 of textbook
Database Systems: A Practical Approach to Design, Implementation, and Management</dc:description>
  <dc:language>en-US</dc:language>
  <cp:lastModifiedBy>abeer bin humaid</cp:lastModifiedBy>
  <cp:lastPrinted>1998-06-24T16:37:58Z</cp:lastPrinted>
  <dcterms:modified xsi:type="dcterms:W3CDTF">2015-02-20T08:24:08Z</dcterms:modified>
  <cp:revision>105</cp:revision>
  <dc:subject>Database Systems</dc:subject>
  <dc:title>Chapter 11</dc:title>
</cp:coreProperties>
</file>