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9BFA-BF13-436D-9B77-63A84E731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FFC6-E5C8-4843-AB86-83ED8C20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2FB2-244D-4691-B80B-A35D5B702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E196-C47D-4784-AF64-ACB6B3E45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C5C5-4AF3-4D64-B0CE-E187D14C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C2B5-7037-4604-B158-C190C482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17CB-1278-4E1C-803F-74A4C235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27D2-15DE-4A28-87F2-C3A347B5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C016-F871-4AB4-8E83-2E079AC7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6FF9-2C40-41D9-ADB8-34466D93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E9E8-C51C-4EE8-BD9F-07EC44F7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5779-BEE9-42E8-AB1F-F7396233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1BAD-0C2F-41A4-8CF1-23513B1B8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Hypothalamic – pituitary ax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Robert Schmidl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B ChB, MRCP, FRACP, P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onsultant endocrinolog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44040" y="5348160"/>
            <a:ext cx="449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ffff00"/>
                </a:solidFill>
                <a:latin typeface="Arial"/>
              </a:rPr>
              <a:t>http://www.schmidli.com.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Structure and fun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The hypothalamus and pituitar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62440" y="114300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Higher cen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76440" y="11430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Autonom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72200" y="190512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Environmental c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1905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Endocrine 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723920" y="2133720"/>
            <a:ext cx="838440" cy="685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2133720"/>
            <a:ext cx="838440" cy="685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2209680"/>
            <a:ext cx="1066680" cy="6098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333760" y="2209680"/>
            <a:ext cx="1066680" cy="6098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97160" y="3164040"/>
            <a:ext cx="2784600" cy="533160"/>
          </a:xfrm>
          <a:prstGeom prst="rect">
            <a:avLst/>
          </a:prstGeom>
          <a:solidFill>
            <a:srgbClr val="00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YPOTHALA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68760" y="4495680"/>
            <a:ext cx="1851120" cy="533520"/>
          </a:xfrm>
          <a:prstGeom prst="rect">
            <a:avLst/>
          </a:prstGeom>
          <a:solidFill>
            <a:srgbClr val="00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ITUI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3809880"/>
            <a:ext cx="0" cy="5335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65600" y="5867280"/>
            <a:ext cx="3429000" cy="533520"/>
          </a:xfrm>
          <a:prstGeom prst="rect">
            <a:avLst/>
          </a:prstGeom>
          <a:solidFill>
            <a:srgbClr val="00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NDOCRINE G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49680" y="5181480"/>
            <a:ext cx="0" cy="5335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Pituitary Glan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mall outgrowth of the forebr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ize of half a p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wo functional p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enohypophysis (anterior pituitar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hke’s pouch – ectoderm above mou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urohypophysis (posterior pituitar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thalam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 together during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Blood and nerve suppl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Hypothalam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Hypothalamic neurons release hormones directly into capillary plexus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nterior pituit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od supply from median eminence of hypothalamus – portal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mones from hypothalamus to pituit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mpathetic/parasympathetic ner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erior pituit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raoptic and paraventricular nuclei in hypothalam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Structure of pituitar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0" name="portal" descr=""/>
          <p:cNvPicPr/>
          <p:nvPr/>
        </p:nvPicPr>
        <p:blipFill>
          <a:blip r:embed="rId1"/>
          <a:stretch/>
        </p:blipFill>
        <p:spPr>
          <a:xfrm>
            <a:off x="2641680" y="1295280"/>
            <a:ext cx="4227480" cy="4876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26880" y="5410080"/>
            <a:ext cx="1676520" cy="914400"/>
          </a:xfrm>
          <a:prstGeom prst="borderCallout1">
            <a:avLst>
              <a:gd name="adj1" fmla="val 18750"/>
              <a:gd name="adj2" fmla="val -8333"/>
              <a:gd name="adj3" fmla="val -26041"/>
              <a:gd name="adj4" fmla="val 159657"/>
            </a:avLst>
          </a:prstGeom>
          <a:solidFill>
            <a:srgbClr val="00cc99"/>
          </a:solidFill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nterior pitui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99280" y="5322960"/>
            <a:ext cx="1676520" cy="914400"/>
          </a:xfrm>
          <a:prstGeom prst="borderCallout1">
            <a:avLst>
              <a:gd name="adj1" fmla="val 18750"/>
              <a:gd name="adj2" fmla="val -8333"/>
              <a:gd name="adj3" fmla="val -40972"/>
              <a:gd name="adj4" fmla="val -88921"/>
            </a:avLst>
          </a:prstGeom>
          <a:solidFill>
            <a:srgbClr val="00cc99"/>
          </a:solidFill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osterior pitui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99280" y="2881440"/>
            <a:ext cx="1676520" cy="914400"/>
          </a:xfrm>
          <a:prstGeom prst="borderCallout1">
            <a:avLst>
              <a:gd name="adj1" fmla="val 18750"/>
              <a:gd name="adj2" fmla="val -8333"/>
              <a:gd name="adj3" fmla="val 42013"/>
              <a:gd name="adj4" fmla="val -104925"/>
            </a:avLst>
          </a:prstGeom>
          <a:solidFill>
            <a:srgbClr val="00cc99"/>
          </a:solidFill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ituitary sta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6880" y="3730680"/>
            <a:ext cx="1676520" cy="914400"/>
          </a:xfrm>
          <a:prstGeom prst="borderCallout1">
            <a:avLst>
              <a:gd name="adj1" fmla="val 18750"/>
              <a:gd name="adj2" fmla="val -8333"/>
              <a:gd name="adj3" fmla="val -69791"/>
              <a:gd name="adj4" fmla="val 268467"/>
            </a:avLst>
          </a:prstGeom>
          <a:solidFill>
            <a:srgbClr val="00cc99"/>
          </a:solidFill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ortal vess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133720" y="4190760"/>
            <a:ext cx="1600200" cy="152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6880" y="1871640"/>
            <a:ext cx="2111400" cy="1219320"/>
          </a:xfrm>
          <a:prstGeom prst="borderCallout1">
            <a:avLst>
              <a:gd name="adj1" fmla="val 18750"/>
              <a:gd name="adj2" fmla="val -8333"/>
              <a:gd name="adj3" fmla="val 8074"/>
              <a:gd name="adj4" fmla="val 210300"/>
            </a:avLst>
          </a:prstGeom>
          <a:solidFill>
            <a:srgbClr val="00cc99"/>
          </a:solidFill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ypothalamic releasing horm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Function of anterior pituitary glan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228564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emoval results in atrophy and hormone deficiency of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yro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renal cort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n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wth horm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ath may occur due to cortisol de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410080" y="2590920"/>
            <a:ext cx="1730520" cy="3886200"/>
          </a:xfrm>
          <a:custGeom>
            <a:avLst/>
            <a:gdLst/>
            <a:ahLst/>
            <a:rect l="l" t="t" r="r" b="b"/>
            <a:pathLst>
              <a:path w="1090" h="2448">
                <a:moveTo>
                  <a:pt x="0" y="2448"/>
                </a:moveTo>
                <a:cubicBezTo>
                  <a:pt x="134" y="2350"/>
                  <a:pt x="624" y="2067"/>
                  <a:pt x="805" y="1863"/>
                </a:cubicBezTo>
                <a:cubicBezTo>
                  <a:pt x="986" y="1659"/>
                  <a:pt x="1090" y="1532"/>
                  <a:pt x="1084" y="1222"/>
                </a:cubicBezTo>
                <a:cubicBezTo>
                  <a:pt x="1078" y="912"/>
                  <a:pt x="834" y="255"/>
                  <a:pt x="768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Regulation of secre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66880" y="1143000"/>
            <a:ext cx="3886200" cy="571680"/>
          </a:xfrm>
          <a:prstGeom prst="rect">
            <a:avLst/>
          </a:prstGeom>
          <a:solidFill>
            <a:srgbClr val="00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igher cen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2286000"/>
            <a:ext cx="3886200" cy="571680"/>
          </a:xfrm>
          <a:prstGeom prst="rect">
            <a:avLst/>
          </a:prstGeom>
          <a:solidFill>
            <a:srgbClr val="00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ypothala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66880" y="3581280"/>
            <a:ext cx="3886200" cy="571680"/>
          </a:xfrm>
          <a:prstGeom prst="rect">
            <a:avLst/>
          </a:prstGeom>
          <a:solidFill>
            <a:srgbClr val="00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itui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66880" y="6172200"/>
            <a:ext cx="38862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Horm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4267080"/>
            <a:ext cx="38862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Pituitary     horm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2895480"/>
            <a:ext cx="38862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Releasing     horm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48320" y="1809720"/>
            <a:ext cx="0" cy="3808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48320" y="2952720"/>
            <a:ext cx="0" cy="55260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5" idx="1"/>
            <a:endCxn id="102" idx="1"/>
          </p:cNvCxnSpPr>
          <p:nvPr/>
        </p:nvCxnSpPr>
        <p:spPr>
          <a:xfrm rot="10800000">
            <a:off x="2647080" y="2571120"/>
            <a:ext cx="19800" cy="1981800"/>
          </a:xfrm>
          <a:prstGeom prst="curvedConnector5">
            <a:avLst>
              <a:gd name="adj1" fmla="val 1200000"/>
              <a:gd name="adj2" fmla="val 50000"/>
              <a:gd name="adj3" fmla="val 1200000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7010280" y="3809880"/>
            <a:ext cx="1905120" cy="16002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Long feedbac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eg. Thyroxine, Cortis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2666880"/>
            <a:ext cx="2057400" cy="1676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Short feedbac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eg. LH, ACTH, 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248000"/>
            <a:ext cx="0" cy="55260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5562720"/>
            <a:ext cx="0" cy="55224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66880" y="4876920"/>
            <a:ext cx="3886200" cy="571320"/>
          </a:xfrm>
          <a:prstGeom prst="rect">
            <a:avLst/>
          </a:prstGeom>
          <a:solidFill>
            <a:srgbClr val="00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arget g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Pituitary and hypothalamic releasing hormon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osterior pituitary hormon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sopressin/Antidiuretic hormone (AD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ed by supraoptic nucle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erves water - concentrates u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reabsorption by collecting tub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ciency: diabetes insipid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reme thirst and polyu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asma sodium and osmol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ss: inappropriate ADH “water intoxication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ytoc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k let-d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Anterior pituitary hormon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200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SH: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hyroid stimulating horm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200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CTH: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drenocorticotrophic horm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200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LH: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Luteinising horm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200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SH: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ollicle stimulating horm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200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Prolact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200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GH: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Growth horm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00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Lecture outlin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ase 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tructure and fu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Pituitary and hypothalamic horm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Disorders of pituitary fu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Discussion – case 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yrotrophin (TSH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timulates: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hyroxine synth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yroid grow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ul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H: stimulates rel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hibited by thyroid hormones (T3, T4) – feedback inhib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s via cAM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rticotrophin (ACTH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eleased as prohormone: pro-opio-melanocort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Maintenance of adrenal cortical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ortis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Other adrenocortical hormones (eg androge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ontrol of ACTH secre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R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ortisol (feedback inhibi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Luteinising hormone: LH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al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Leydig/interstitial cells – testoster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hibited by testoster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ma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stitial cells – estrogen, androgens, progest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hibited by estro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ollicle stimulating hormone: FSH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Regulation of gametogen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a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ertoli cells – development of spermatozo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hibited by inhib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ema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Granulosa cell of ovarian folli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hibition compl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orks synergistically with L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olacti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ecreted by lactotrophs of ant. Pituit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Lactation: only known fu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hibits reproductive hormone secre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Release inhibited by dopamine “prolactin inhibitory facto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imals: osmoregulation, grow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lk transection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rolact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Growth hormon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Promotes growth: skeleton, muscles, visc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ffects mediated by somatomed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eleased at night during grow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Variety of metabolic eff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bolic, positive nitrogen 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-insul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imulated by GHRH, stress, exerc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hibited by somatostat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Pituitary releasing hormon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mall pept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ctive at relative high concent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Rapidly degra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Low concentration in peripheral circ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pecial circulation allows high concentrations to reach targ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Pituitary releasing hormon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19840" indent="-519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RH: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orticotrophin releasing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hormone (ACT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9840" indent="-519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RH: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yrotrophin releasing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horm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9840" indent="-519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GHRH: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GH releasing horm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9840" indent="-519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omatostatin: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GH inhib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9840" indent="-519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GnRH: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Gonadotrophin (LH, FSH)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eleasing horm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9840" indent="-519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pamin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lactin inhib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9840" indent="-519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sopressi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H rel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76680" y="2286000"/>
            <a:ext cx="39625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Pituitary disorder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yperfun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caused by tum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lactin: common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lactorrho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ert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H: syndrome of inappropriate ADH secretion (nonpituitary caus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romegaly: growth horm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shings syndrome: AC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also have adrenal or ectopic 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SH, LH, FSH, oxytocin: exceedingly r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Case histor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Hypofun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ny hormone except prolactin, oxytocin (no recognised clinical syndro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Range from mild (GH) to lethal (ACT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auses: tumour, trauma, infection, developmental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ay be combined: panhypopituitar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495320" y="6091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Acromegal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4197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Don Fermin y Urieta (1870-191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he Giant of Aragorn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229 cm t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09480" y="604800"/>
          <a:ext cx="3486240" cy="564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04800"/>
                    <a:ext cx="3486240" cy="56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cromegal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Growth hormone excess in ad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hildren: gigant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Often not recognised for 10-20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Linear bone growth not possible after fusion of epiphy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Growth hormone relea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53960" y="2514600"/>
            <a:ext cx="0" cy="2819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53960" y="5334120"/>
            <a:ext cx="6096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30280" y="5334120"/>
            <a:ext cx="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97560" y="5334120"/>
            <a:ext cx="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63920" y="5334120"/>
            <a:ext cx="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30920" y="5334120"/>
            <a:ext cx="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97280" y="5334120"/>
            <a:ext cx="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25360" y="556272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06: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93000" y="556272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06: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45080" y="556272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24: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97160" y="556272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18: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73280" y="556272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12: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30280" y="3003480"/>
            <a:ext cx="5867280" cy="2360520"/>
          </a:xfrm>
          <a:custGeom>
            <a:avLst/>
            <a:gdLst/>
            <a:ahLst/>
            <a:rect l="l" t="t" r="r" b="b"/>
            <a:pathLst>
              <a:path w="3696" h="1487">
                <a:moveTo>
                  <a:pt x="0" y="1372"/>
                </a:moveTo>
                <a:cubicBezTo>
                  <a:pt x="25" y="1372"/>
                  <a:pt x="107" y="1434"/>
                  <a:pt x="152" y="1372"/>
                </a:cubicBezTo>
                <a:cubicBezTo>
                  <a:pt x="197" y="1310"/>
                  <a:pt x="231" y="995"/>
                  <a:pt x="270" y="1000"/>
                </a:cubicBezTo>
                <a:cubicBezTo>
                  <a:pt x="309" y="1005"/>
                  <a:pt x="297" y="1337"/>
                  <a:pt x="387" y="1402"/>
                </a:cubicBezTo>
                <a:cubicBezTo>
                  <a:pt x="477" y="1467"/>
                  <a:pt x="717" y="1457"/>
                  <a:pt x="808" y="1389"/>
                </a:cubicBezTo>
                <a:cubicBezTo>
                  <a:pt x="899" y="1321"/>
                  <a:pt x="889" y="998"/>
                  <a:pt x="930" y="994"/>
                </a:cubicBezTo>
                <a:cubicBezTo>
                  <a:pt x="971" y="990"/>
                  <a:pt x="923" y="1294"/>
                  <a:pt x="1054" y="1363"/>
                </a:cubicBezTo>
                <a:cubicBezTo>
                  <a:pt x="1185" y="1432"/>
                  <a:pt x="1548" y="1417"/>
                  <a:pt x="1714" y="1409"/>
                </a:cubicBezTo>
                <a:cubicBezTo>
                  <a:pt x="1880" y="1401"/>
                  <a:pt x="1981" y="1441"/>
                  <a:pt x="2050" y="1312"/>
                </a:cubicBezTo>
                <a:cubicBezTo>
                  <a:pt x="2119" y="1183"/>
                  <a:pt x="2101" y="638"/>
                  <a:pt x="2128" y="632"/>
                </a:cubicBezTo>
                <a:cubicBezTo>
                  <a:pt x="2155" y="626"/>
                  <a:pt x="2158" y="1145"/>
                  <a:pt x="2212" y="1273"/>
                </a:cubicBezTo>
                <a:cubicBezTo>
                  <a:pt x="2266" y="1401"/>
                  <a:pt x="2358" y="1414"/>
                  <a:pt x="2451" y="1402"/>
                </a:cubicBezTo>
                <a:cubicBezTo>
                  <a:pt x="2544" y="1390"/>
                  <a:pt x="2698" y="1434"/>
                  <a:pt x="2769" y="1202"/>
                </a:cubicBezTo>
                <a:cubicBezTo>
                  <a:pt x="2840" y="970"/>
                  <a:pt x="2835" y="0"/>
                  <a:pt x="2880" y="10"/>
                </a:cubicBezTo>
                <a:cubicBezTo>
                  <a:pt x="2925" y="20"/>
                  <a:pt x="2940" y="1033"/>
                  <a:pt x="3040" y="1260"/>
                </a:cubicBezTo>
                <a:cubicBezTo>
                  <a:pt x="3140" y="1487"/>
                  <a:pt x="3371" y="1348"/>
                  <a:pt x="3480" y="1372"/>
                </a:cubicBezTo>
                <a:cubicBezTo>
                  <a:pt x="3589" y="1396"/>
                  <a:pt x="3651" y="1396"/>
                  <a:pt x="3696" y="1402"/>
                </a:cubicBezTo>
              </a:path>
            </a:pathLst>
          </a:custGeom>
          <a:noFill/>
          <a:ln w="38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06600" y="3430440"/>
            <a:ext cx="5772240" cy="540000"/>
          </a:xfrm>
          <a:custGeom>
            <a:avLst/>
            <a:gdLst/>
            <a:ahLst/>
            <a:rect l="l" t="t" r="r" b="b"/>
            <a:pathLst>
              <a:path w="3636" h="340">
                <a:moveTo>
                  <a:pt x="0" y="239"/>
                </a:moveTo>
                <a:cubicBezTo>
                  <a:pt x="48" y="264"/>
                  <a:pt x="96" y="290"/>
                  <a:pt x="192" y="287"/>
                </a:cubicBezTo>
                <a:cubicBezTo>
                  <a:pt x="288" y="284"/>
                  <a:pt x="428" y="214"/>
                  <a:pt x="576" y="221"/>
                </a:cubicBezTo>
                <a:cubicBezTo>
                  <a:pt x="724" y="228"/>
                  <a:pt x="915" y="318"/>
                  <a:pt x="1080" y="329"/>
                </a:cubicBezTo>
                <a:cubicBezTo>
                  <a:pt x="1245" y="340"/>
                  <a:pt x="1414" y="309"/>
                  <a:pt x="1566" y="287"/>
                </a:cubicBezTo>
                <a:cubicBezTo>
                  <a:pt x="1718" y="265"/>
                  <a:pt x="1832" y="243"/>
                  <a:pt x="1992" y="197"/>
                </a:cubicBezTo>
                <a:cubicBezTo>
                  <a:pt x="2152" y="151"/>
                  <a:pt x="2387" y="22"/>
                  <a:pt x="2526" y="11"/>
                </a:cubicBezTo>
                <a:cubicBezTo>
                  <a:pt x="2665" y="0"/>
                  <a:pt x="2726" y="105"/>
                  <a:pt x="2826" y="131"/>
                </a:cubicBezTo>
                <a:cubicBezTo>
                  <a:pt x="2926" y="157"/>
                  <a:pt x="3021" y="143"/>
                  <a:pt x="3126" y="167"/>
                </a:cubicBezTo>
                <a:cubicBezTo>
                  <a:pt x="3231" y="191"/>
                  <a:pt x="3371" y="254"/>
                  <a:pt x="3456" y="275"/>
                </a:cubicBezTo>
                <a:cubicBezTo>
                  <a:pt x="3541" y="296"/>
                  <a:pt x="3588" y="294"/>
                  <a:pt x="3636" y="293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242120" y="48769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ffff"/>
                </a:solidFill>
                <a:latin typeface="Arial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932880" y="32767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Acromeg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Clinical featur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crease in ring, shoe, glove, hat 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crease in size of nose, lips, soft tissue of face, tongue, jaw (prognathism) </a:t>
            </a:r>
            <a:r>
              <a:rPr b="0" lang="en-A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coarse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Deep cavernous v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leshy, enlarged hands and f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etabolic rate: sweating, warm sk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kin ta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Joint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Metabolic/visceral featur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yperte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Glucose intole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ardiac enlargement, fail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Enlargement of liver, spleen, kidneys, thyroid, adre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ortality doubled, 50% die &lt; 50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Mass effec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52480" y="2057400"/>
            <a:ext cx="60199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Tumour often lar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Headach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Bitemporal hemianop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Hypopituitar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Visual fields – bitemporal hemianopi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276200" y="2362320"/>
          <a:ext cx="6648480" cy="361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6200" y="2362320"/>
                    <a:ext cx="6648480" cy="36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Treatme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urgery: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rans-sphenoid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ransfron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omatostatin agon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Radiotherapy – several years for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Dopamine agonists – Bromocriptine, Cabergoline (not very effectiv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Mrs “R” – 64 year-old lad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ttended diabetes clinic for routine re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blood glucose 1997 – incidental fi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Daughter has type 1 diabe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On oral hypoglycaemic ag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Diabetes well control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yperte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Assessment - 1998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Unusual facial appearance, deep nasal vo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Denied any other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inus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nlarged n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ickened sk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Deep vo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pade-like” h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Visual fields nor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Investiga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5337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Growth hormon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5337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59.3 mU/l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[&lt;25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5337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sulin-like growth factor-1(IGF-1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5337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862 </a:t>
            </a:r>
            <a:r>
              <a:rPr b="0" lang="en-AU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g/l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[98-390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5337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kull X-ray: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5337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rosion of dorsum sella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5337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and X-ra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5337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prominent tufts of the terminal phal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Magnetic resonance scan pituitar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4876560" cy="4876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74760" y="5232240"/>
            <a:ext cx="1447560" cy="433440"/>
          </a:xfrm>
          <a:prstGeom prst="borderCallout1">
            <a:avLst>
              <a:gd name="adj1" fmla="val 18750"/>
              <a:gd name="adj2" fmla="val -8333"/>
              <a:gd name="adj3" fmla="val -220513"/>
              <a:gd name="adj4" fmla="val 265569"/>
            </a:avLst>
          </a:prstGeom>
          <a:solidFill>
            <a:srgbClr val="00cc99"/>
          </a:solidFill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um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3720" y="3471840"/>
            <a:ext cx="1447920" cy="914400"/>
          </a:xfrm>
          <a:prstGeom prst="borderCallout1">
            <a:avLst>
              <a:gd name="adj1" fmla="val 18750"/>
              <a:gd name="adj2" fmla="val -8333"/>
              <a:gd name="adj3" fmla="val 27953"/>
              <a:gd name="adj4" fmla="val 256796"/>
            </a:avLst>
          </a:prstGeom>
          <a:solidFill>
            <a:srgbClr val="00cc99"/>
          </a:solidFill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ituitary sta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7760" y="1646280"/>
            <a:ext cx="1447560" cy="914400"/>
          </a:xfrm>
          <a:prstGeom prst="borderCallout1">
            <a:avLst>
              <a:gd name="adj1" fmla="val 18750"/>
              <a:gd name="adj2" fmla="val -8333"/>
              <a:gd name="adj3" fmla="val 201217"/>
              <a:gd name="adj4" fmla="val 260634"/>
            </a:avLst>
          </a:prstGeom>
          <a:solidFill>
            <a:srgbClr val="00cc99"/>
          </a:solidFill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ptic chia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Normal pituitary</a:t>
            </a:r>
            <a:br>
              <a:rPr sz="4400"/>
            </a:b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Magnetic resonance sca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733840" y="2209680"/>
          <a:ext cx="367632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3840" y="2209680"/>
                    <a:ext cx="367632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7315200" y="4038480"/>
            <a:ext cx="1447920" cy="433440"/>
          </a:xfrm>
          <a:prstGeom prst="borderCallout1">
            <a:avLst>
              <a:gd name="adj1" fmla="val 18750"/>
              <a:gd name="adj2" fmla="val -8333"/>
              <a:gd name="adj3" fmla="val -74361"/>
              <a:gd name="adj4" fmla="val -183444"/>
            </a:avLst>
          </a:prstGeom>
          <a:solidFill>
            <a:srgbClr val="00cc99"/>
          </a:solidFill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itui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15200" y="5105520"/>
            <a:ext cx="1523880" cy="838080"/>
          </a:xfrm>
          <a:prstGeom prst="borderCallout1">
            <a:avLst>
              <a:gd name="adj1" fmla="val 18750"/>
              <a:gd name="adj2" fmla="val -8333"/>
              <a:gd name="adj3" fmla="val -131250"/>
              <a:gd name="adj4" fmla="val -178333"/>
            </a:avLst>
          </a:prstGeom>
          <a:solidFill>
            <a:srgbClr val="00cc99"/>
          </a:solidFill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phenoid sin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2666880"/>
            <a:ext cx="1447920" cy="914400"/>
          </a:xfrm>
          <a:prstGeom prst="borderCallout1">
            <a:avLst>
              <a:gd name="adj1" fmla="val 18750"/>
              <a:gd name="adj2" fmla="val -8333"/>
              <a:gd name="adj3" fmla="val 90625"/>
              <a:gd name="adj4" fmla="val -185527"/>
            </a:avLst>
          </a:prstGeom>
          <a:solidFill>
            <a:srgbClr val="00cc99"/>
          </a:solidFill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ituitary sta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3657600"/>
            <a:ext cx="1447920" cy="914400"/>
          </a:xfrm>
          <a:prstGeom prst="borderCallout1">
            <a:avLst>
              <a:gd name="adj1" fmla="val 18750"/>
              <a:gd name="adj2" fmla="val -8333"/>
              <a:gd name="adj3" fmla="val -26912"/>
              <a:gd name="adj4" fmla="val 260634"/>
            </a:avLst>
          </a:prstGeom>
          <a:solidFill>
            <a:srgbClr val="00cc99"/>
          </a:solidFill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ptic chia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5029200"/>
            <a:ext cx="1447920" cy="914400"/>
          </a:xfrm>
          <a:prstGeom prst="borderCallout1">
            <a:avLst>
              <a:gd name="adj1" fmla="val 18750"/>
              <a:gd name="adj2" fmla="val -8333"/>
              <a:gd name="adj3" fmla="val -131078"/>
              <a:gd name="adj4" fmla="val 250439"/>
            </a:avLst>
          </a:prstGeom>
          <a:solidFill>
            <a:srgbClr val="00cc99"/>
          </a:solidFill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ternal carot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1447920" cy="914400"/>
          </a:xfrm>
          <a:prstGeom prst="borderCallout1">
            <a:avLst>
              <a:gd name="adj1" fmla="val 18750"/>
              <a:gd name="adj2" fmla="val -8333"/>
              <a:gd name="adj3" fmla="val 31250"/>
              <a:gd name="adj4" fmla="val 265680"/>
            </a:avLst>
          </a:prstGeom>
          <a:solidFill>
            <a:srgbClr val="00cc99"/>
          </a:solidFill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ateral ventr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Progres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rans-sphenoidal surg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weating impro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Face less puf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Hypertensive: 184/104 – later impro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GH 2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GF-1 3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ble to stop oral hypoglycaem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emains free of symptoms (200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7T09:41:07Z</dcterms:created>
  <dc:creator>Robert Schmidli</dc:creator>
  <dc:description/>
  <dc:language>en-US</dc:language>
  <cp:lastModifiedBy>ZonaNet</cp:lastModifiedBy>
  <dcterms:modified xsi:type="dcterms:W3CDTF">2008-05-01T10:03:40Z</dcterms:modified>
  <cp:revision>19</cp:revision>
  <dc:subject/>
  <dc:title>Normal pituitary Magnetic resonance scan</dc:title>
</cp:coreProperties>
</file>