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994-E3B9-499A-80BF-871E152F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8D3-C207-42E9-AABD-873E8BDB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F72-BC3C-46ED-B25A-69BB3C9F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E7B-D057-47E2-885F-0B77BD68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495-A926-40D4-BCB2-156BF1CD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26B-AC7E-4B32-988E-4545960D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59D-5508-4BED-9254-E80CB446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987-9035-4E55-9871-57983FD0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359-F22C-4184-B10A-A869D17D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7FD-6EDF-4E3C-AB9A-B2810B91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40A-C154-4CA9-93C2-F511A003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AE1-B3A4-40A4-A415-3742F35E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A406-0EBC-4E4D-98B0-3FA7428F7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Hypothalamic – pituitary ax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obert Schmidl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B ChB, MRCP, FRACP, P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nsultant endocrinolog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4040" y="5348160"/>
            <a:ext cx="44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00"/>
                </a:solidFill>
                <a:latin typeface="Arial"/>
              </a:rPr>
              <a:t>http://www.schmidli.com.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Structure and fun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The hypothalamus and pituit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62440" y="11430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igher cen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440" y="11430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utonom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19051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nvironmental c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905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ndocrine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723920" y="2133720"/>
            <a:ext cx="83844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133720"/>
            <a:ext cx="83844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2209680"/>
            <a:ext cx="1066680" cy="60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33760" y="2209680"/>
            <a:ext cx="1066680" cy="60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97160" y="3164040"/>
            <a:ext cx="2784600" cy="53316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68760" y="4495680"/>
            <a:ext cx="1851120" cy="53352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809880"/>
            <a:ext cx="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65600" y="5867280"/>
            <a:ext cx="3429000" cy="53352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NDOCRINE G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49680" y="5181480"/>
            <a:ext cx="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ituitary Gla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all outgrowth of the foreb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ize of half a p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wo functional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nohypophysis (anterior pituita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ke’s pouch – ectoderm above mo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hypophysis (posterior pituita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ala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together during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Blood and nerve suppl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ypothala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Hypothalamic neurons release hormones directly into capillary plexus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terior pitui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supply from median eminence of hypothalamus – port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mones from hypothalamus to pituit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pathetic/parasympathetic ne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erior pitui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raoptic and paraventricular nuclei in hypothala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Structure of pituit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portal" descr=""/>
          <p:cNvPicPr/>
          <p:nvPr/>
        </p:nvPicPr>
        <p:blipFill>
          <a:blip r:embed="rId1"/>
          <a:stretch/>
        </p:blipFill>
        <p:spPr>
          <a:xfrm>
            <a:off x="2641680" y="1295280"/>
            <a:ext cx="4227480" cy="4876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6880" y="5410080"/>
            <a:ext cx="1676520" cy="914400"/>
          </a:xfrm>
          <a:prstGeom prst="borderCallout1">
            <a:avLst>
              <a:gd name="adj1" fmla="val 18750"/>
              <a:gd name="adj2" fmla="val -8333"/>
              <a:gd name="adj3" fmla="val -26041"/>
              <a:gd name="adj4" fmla="val 159657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terior 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9280" y="5322960"/>
            <a:ext cx="1676520" cy="914400"/>
          </a:xfrm>
          <a:prstGeom prst="borderCallout1">
            <a:avLst>
              <a:gd name="adj1" fmla="val 18750"/>
              <a:gd name="adj2" fmla="val -8333"/>
              <a:gd name="adj3" fmla="val -40972"/>
              <a:gd name="adj4" fmla="val -88921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sterior 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99280" y="2881440"/>
            <a:ext cx="1676520" cy="914400"/>
          </a:xfrm>
          <a:prstGeom prst="borderCallout1">
            <a:avLst>
              <a:gd name="adj1" fmla="val 18750"/>
              <a:gd name="adj2" fmla="val -8333"/>
              <a:gd name="adj3" fmla="val 42013"/>
              <a:gd name="adj4" fmla="val -104925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tuitary s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6880" y="3730680"/>
            <a:ext cx="1676520" cy="914400"/>
          </a:xfrm>
          <a:prstGeom prst="borderCallout1">
            <a:avLst>
              <a:gd name="adj1" fmla="val 18750"/>
              <a:gd name="adj2" fmla="val -8333"/>
              <a:gd name="adj3" fmla="val -69791"/>
              <a:gd name="adj4" fmla="val 268467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rtal ve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33720" y="4190760"/>
            <a:ext cx="160020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6880" y="1871640"/>
            <a:ext cx="2111400" cy="1219320"/>
          </a:xfrm>
          <a:prstGeom prst="borderCallout1">
            <a:avLst>
              <a:gd name="adj1" fmla="val 18750"/>
              <a:gd name="adj2" fmla="val -8333"/>
              <a:gd name="adj3" fmla="val 8074"/>
              <a:gd name="adj4" fmla="val 210300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ypothalamic releasing horm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Function of anterior pituitary gla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moval results in atrophy and hormone deficiency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yro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ren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n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th horm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 may occur due to cortisol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410080" y="2590920"/>
            <a:ext cx="1730520" cy="3886200"/>
          </a:xfrm>
          <a:custGeom>
            <a:avLst/>
            <a:gdLst/>
            <a:ahLst/>
            <a:rect l="l" t="t" r="r" b="b"/>
            <a:pathLst>
              <a:path w="1090" h="2448">
                <a:moveTo>
                  <a:pt x="0" y="2448"/>
                </a:moveTo>
                <a:cubicBezTo>
                  <a:pt x="134" y="2350"/>
                  <a:pt x="624" y="2067"/>
                  <a:pt x="805" y="1863"/>
                </a:cubicBezTo>
                <a:cubicBezTo>
                  <a:pt x="986" y="1659"/>
                  <a:pt x="1090" y="1532"/>
                  <a:pt x="1084" y="1222"/>
                </a:cubicBezTo>
                <a:cubicBezTo>
                  <a:pt x="1078" y="912"/>
                  <a:pt x="834" y="255"/>
                  <a:pt x="768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Regulation of secre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1143000"/>
            <a:ext cx="3886200" cy="5716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igher cen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286000"/>
            <a:ext cx="3886200" cy="5716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3581280"/>
            <a:ext cx="3886200" cy="5716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6172200"/>
            <a:ext cx="38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orm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4267080"/>
            <a:ext cx="38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ituitary     horm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895480"/>
            <a:ext cx="38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leasing     horm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180972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2952720"/>
            <a:ext cx="0" cy="5526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5" idx="1"/>
            <a:endCxn id="102" idx="1"/>
          </p:cNvCxnSpPr>
          <p:nvPr/>
        </p:nvCxnSpPr>
        <p:spPr>
          <a:xfrm rot="10800000">
            <a:off x="2647080" y="2571120"/>
            <a:ext cx="19800" cy="1981800"/>
          </a:xfrm>
          <a:prstGeom prst="curvedConnector5">
            <a:avLst>
              <a:gd name="adj1" fmla="val 1200000"/>
              <a:gd name="adj2" fmla="val 50000"/>
              <a:gd name="adj3" fmla="val 120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7010280" y="3809880"/>
            <a:ext cx="1905120" cy="1600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Long feedb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g. Thyroxine, Cortis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2057400" cy="1676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hort feedb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g. LH, ACTH, 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248000"/>
            <a:ext cx="0" cy="5526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5562720"/>
            <a:ext cx="0" cy="5522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4876920"/>
            <a:ext cx="3886200" cy="57132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arget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Pituitary and hypothalamic releasing horm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terior pituitary horm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opressin/Antidiuretic hormone (AD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d by supraoptic nuc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rves water - concentrates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reabsorption by collecting tub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ciency: diabetes insipid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reme thirst and polyu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sma sodium and osmol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ss: inappropriate ADH “water intoxic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toc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k let-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Anterior pituitary horm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SH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yroid stimulating horm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CTH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drenocorticotrophic horm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H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uteinising horm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SH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ollicle stimulating horm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lac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H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rowth horm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Lecture outli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se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ructure and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ituitary and hypothalamic horm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isorders of pituitary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iscussion – case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yrotrophin (TSH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imulates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yroxine 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yroid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H: stimulates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by thyroid hormones (T3, T4) – feedback inhi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via cA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rticotrophin (ACTH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leased as prohormone: pro-opio-melanocor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intenance of adrenal cortic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rtis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ther adrenocortical hormones (eg androge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ntrol of ACTH secre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R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rtisol (feedback inhib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Luteinising hormone: L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l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eydig/interstitial cells – testoste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by testoste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stitial cells – estrogen, androgens, progest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by est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llicle stimulating hormone: FS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gulation of gametoge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ertoli cells – development of spermatozo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hibited by inhi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em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ranulosa cell of ovarian foll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hibition comp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orks synergistically with L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lacti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ecreted by lactotrophs of ant. Pitui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actation: only known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hibits reproductive hormone secr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lease inhibited by dopamine “prolactin inhibitory facto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s: osmoregulation,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lk transecti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lac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rowth hormo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motes growth: skeleton, muscles, visc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ffects mediated by somatomed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leased at night during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Variety of metabolic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bolic, positive nitrogen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-insu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ated by GHRH, stress,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by somatosta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Pituitary releasing horm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all pept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ctive at relative high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apidly degr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ow concentration in peripheral circ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pecial circulation allows high concentrations to reach tar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Pituitary releasing hormo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19840" indent="-51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H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rticotrophin releasing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rmone (AC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9840" indent="-51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RH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yrotrophin releasing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rm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9840" indent="-51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HRH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H releasing horm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9840" indent="-51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omatostatin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H inhi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9840" indent="-51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nRH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onadotrophin (LH, FSH)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leasing horm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9840" indent="-51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pamin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actin inhi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9840" indent="-51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opressi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H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76680" y="2286000"/>
            <a:ext cx="3962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Pituitary disord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yperfun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caused by tum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actin: common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actorrho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H: syndrome of inappropriate ADH secretion (nonpituitary ca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romegaly: growth horm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hings syndrome: AC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also have adrenal or ectopic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SH, LH, FSH, oxytocin: exceedingly r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Case histo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Hypofun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ny hormone except prolactin, oxytocin (no recognised clinical syndro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ange from mild (GH) to lethal (AC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uses: tumour, trauma, infection, developmental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y be combined: panhypopituita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9532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Acromegal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on Fermin y Urieta (1870-191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Giant of Aragor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229 cm 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9480" y="604800"/>
          <a:ext cx="3486240" cy="56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4800"/>
                    <a:ext cx="348624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romegal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rowth hormone excess in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hildren: gigan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ften not recognised for 10-2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inear bone growth not possible after fusion of epiphy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Growth hormone relea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53960" y="2514600"/>
            <a:ext cx="0" cy="2819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53960" y="5334120"/>
            <a:ext cx="6096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30280" y="533412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97560" y="533412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63920" y="533412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30920" y="533412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7280" y="533412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25360" y="5562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06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93000" y="5562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06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45080" y="5562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24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97160" y="5562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18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73280" y="5562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12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30280" y="3003480"/>
            <a:ext cx="5867280" cy="2360520"/>
          </a:xfrm>
          <a:custGeom>
            <a:avLst/>
            <a:gdLst/>
            <a:ahLst/>
            <a:rect l="l" t="t" r="r" b="b"/>
            <a:pathLst>
              <a:path w="3696" h="1487">
                <a:moveTo>
                  <a:pt x="0" y="1372"/>
                </a:moveTo>
                <a:cubicBezTo>
                  <a:pt x="25" y="1372"/>
                  <a:pt x="107" y="1434"/>
                  <a:pt x="152" y="1372"/>
                </a:cubicBezTo>
                <a:cubicBezTo>
                  <a:pt x="197" y="1310"/>
                  <a:pt x="231" y="995"/>
                  <a:pt x="270" y="1000"/>
                </a:cubicBezTo>
                <a:cubicBezTo>
                  <a:pt x="309" y="1005"/>
                  <a:pt x="297" y="1337"/>
                  <a:pt x="387" y="1402"/>
                </a:cubicBezTo>
                <a:cubicBezTo>
                  <a:pt x="477" y="1467"/>
                  <a:pt x="717" y="1457"/>
                  <a:pt x="808" y="1389"/>
                </a:cubicBezTo>
                <a:cubicBezTo>
                  <a:pt x="899" y="1321"/>
                  <a:pt x="889" y="998"/>
                  <a:pt x="930" y="994"/>
                </a:cubicBezTo>
                <a:cubicBezTo>
                  <a:pt x="971" y="990"/>
                  <a:pt x="923" y="1294"/>
                  <a:pt x="1054" y="1363"/>
                </a:cubicBezTo>
                <a:cubicBezTo>
                  <a:pt x="1185" y="1432"/>
                  <a:pt x="1548" y="1417"/>
                  <a:pt x="1714" y="1409"/>
                </a:cubicBezTo>
                <a:cubicBezTo>
                  <a:pt x="1880" y="1401"/>
                  <a:pt x="1981" y="1441"/>
                  <a:pt x="2050" y="1312"/>
                </a:cubicBezTo>
                <a:cubicBezTo>
                  <a:pt x="2119" y="1183"/>
                  <a:pt x="2101" y="638"/>
                  <a:pt x="2128" y="632"/>
                </a:cubicBezTo>
                <a:cubicBezTo>
                  <a:pt x="2155" y="626"/>
                  <a:pt x="2158" y="1145"/>
                  <a:pt x="2212" y="1273"/>
                </a:cubicBezTo>
                <a:cubicBezTo>
                  <a:pt x="2266" y="1401"/>
                  <a:pt x="2358" y="1414"/>
                  <a:pt x="2451" y="1402"/>
                </a:cubicBezTo>
                <a:cubicBezTo>
                  <a:pt x="2544" y="1390"/>
                  <a:pt x="2698" y="1434"/>
                  <a:pt x="2769" y="1202"/>
                </a:cubicBezTo>
                <a:cubicBezTo>
                  <a:pt x="2840" y="970"/>
                  <a:pt x="2835" y="0"/>
                  <a:pt x="2880" y="10"/>
                </a:cubicBezTo>
                <a:cubicBezTo>
                  <a:pt x="2925" y="20"/>
                  <a:pt x="2940" y="1033"/>
                  <a:pt x="3040" y="1260"/>
                </a:cubicBezTo>
                <a:cubicBezTo>
                  <a:pt x="3140" y="1487"/>
                  <a:pt x="3371" y="1348"/>
                  <a:pt x="3480" y="1372"/>
                </a:cubicBezTo>
                <a:cubicBezTo>
                  <a:pt x="3589" y="1396"/>
                  <a:pt x="3651" y="1396"/>
                  <a:pt x="3696" y="140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06600" y="3430440"/>
            <a:ext cx="5772240" cy="540000"/>
          </a:xfrm>
          <a:custGeom>
            <a:avLst/>
            <a:gdLst/>
            <a:ahLst/>
            <a:rect l="l" t="t" r="r" b="b"/>
            <a:pathLst>
              <a:path w="3636" h="340">
                <a:moveTo>
                  <a:pt x="0" y="239"/>
                </a:moveTo>
                <a:cubicBezTo>
                  <a:pt x="48" y="264"/>
                  <a:pt x="96" y="290"/>
                  <a:pt x="192" y="287"/>
                </a:cubicBezTo>
                <a:cubicBezTo>
                  <a:pt x="288" y="284"/>
                  <a:pt x="428" y="214"/>
                  <a:pt x="576" y="221"/>
                </a:cubicBezTo>
                <a:cubicBezTo>
                  <a:pt x="724" y="228"/>
                  <a:pt x="915" y="318"/>
                  <a:pt x="1080" y="329"/>
                </a:cubicBezTo>
                <a:cubicBezTo>
                  <a:pt x="1245" y="340"/>
                  <a:pt x="1414" y="309"/>
                  <a:pt x="1566" y="287"/>
                </a:cubicBezTo>
                <a:cubicBezTo>
                  <a:pt x="1718" y="265"/>
                  <a:pt x="1832" y="243"/>
                  <a:pt x="1992" y="197"/>
                </a:cubicBezTo>
                <a:cubicBezTo>
                  <a:pt x="2152" y="151"/>
                  <a:pt x="2387" y="22"/>
                  <a:pt x="2526" y="11"/>
                </a:cubicBezTo>
                <a:cubicBezTo>
                  <a:pt x="2665" y="0"/>
                  <a:pt x="2726" y="105"/>
                  <a:pt x="2826" y="131"/>
                </a:cubicBezTo>
                <a:cubicBezTo>
                  <a:pt x="2926" y="157"/>
                  <a:pt x="3021" y="143"/>
                  <a:pt x="3126" y="167"/>
                </a:cubicBezTo>
                <a:cubicBezTo>
                  <a:pt x="3231" y="191"/>
                  <a:pt x="3371" y="254"/>
                  <a:pt x="3456" y="275"/>
                </a:cubicBezTo>
                <a:cubicBezTo>
                  <a:pt x="3541" y="296"/>
                  <a:pt x="3588" y="294"/>
                  <a:pt x="3636" y="293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42120" y="48769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ffff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32880" y="32767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Acromeg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Clinical featur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crease in ring, shoe, glove, ha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crease in size of nose, lips, soft tissue of face, tongue, jaw (prognathism) </a:t>
            </a:r>
            <a:r>
              <a:rPr b="0" lang="en-A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coars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ep cavernous v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leshy, enlarged hands and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etabolic rate: sweating, warm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kin ta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Joint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Metabolic/visceral featur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lucose in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rdiac enlargement,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nlargement of liver, spleen, kidneys, thyroid, adre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rtality doubled, 50% die &lt; 50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Mass effec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52480" y="2057400"/>
            <a:ext cx="6019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Tumour often l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Bitemporal hemianop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Hypopituitar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Visual fields – bitemporal hemianopi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76200" y="2362320"/>
          <a:ext cx="664848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2362320"/>
                    <a:ext cx="664848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urgery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rans-sphenoid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ransfro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omatostatin agon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adiotherapy – several years for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opamine agonists – Bromocriptine, Cabergoline (not very effec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Mrs “R” – 64 year-old lad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ttended diabetes clinic for routine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lood glucose 1997 – incidental fi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aughter has type 1 diab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n oral hypoglycaemic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iabetes well contro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Assessment - 1998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nusual facial appearance, deep nasal 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nied any other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inus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nlarged n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ickened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ep 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pade-like” h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Visual fields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Investig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rowth hormo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59.3 mU/l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[&lt;2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sulin-like growth factor-1(IGF-1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862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/l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[98-390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kull X-ray: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rosion of dorsum sell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and X-r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5337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minent tufts of the terminal phal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Magnetic resonance scan pituit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4876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4760" y="5232240"/>
            <a:ext cx="1447560" cy="433440"/>
          </a:xfrm>
          <a:prstGeom prst="borderCallout1">
            <a:avLst>
              <a:gd name="adj1" fmla="val 18750"/>
              <a:gd name="adj2" fmla="val -8333"/>
              <a:gd name="adj3" fmla="val -220513"/>
              <a:gd name="adj4" fmla="val 265569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um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720" y="3471840"/>
            <a:ext cx="1447920" cy="914400"/>
          </a:xfrm>
          <a:prstGeom prst="borderCallout1">
            <a:avLst>
              <a:gd name="adj1" fmla="val 18750"/>
              <a:gd name="adj2" fmla="val -8333"/>
              <a:gd name="adj3" fmla="val 27953"/>
              <a:gd name="adj4" fmla="val 256796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tuitary s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7760" y="1646280"/>
            <a:ext cx="1447560" cy="914400"/>
          </a:xfrm>
          <a:prstGeom prst="borderCallout1">
            <a:avLst>
              <a:gd name="adj1" fmla="val 18750"/>
              <a:gd name="adj2" fmla="val -8333"/>
              <a:gd name="adj3" fmla="val 201217"/>
              <a:gd name="adj4" fmla="val 260634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ptic chi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Normal pituitary</a:t>
            </a:r>
            <a:br>
              <a:rPr sz="4400"/>
            </a:b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Magnetic resonance sca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733840" y="2209680"/>
          <a:ext cx="36763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3840" y="2209680"/>
                    <a:ext cx="36763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315200" y="4038480"/>
            <a:ext cx="1447920" cy="433440"/>
          </a:xfrm>
          <a:prstGeom prst="borderCallout1">
            <a:avLst>
              <a:gd name="adj1" fmla="val 18750"/>
              <a:gd name="adj2" fmla="val -8333"/>
              <a:gd name="adj3" fmla="val -74361"/>
              <a:gd name="adj4" fmla="val -183444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5105520"/>
            <a:ext cx="1523880" cy="838080"/>
          </a:xfrm>
          <a:prstGeom prst="borderCallout1">
            <a:avLst>
              <a:gd name="adj1" fmla="val 18750"/>
              <a:gd name="adj2" fmla="val -8333"/>
              <a:gd name="adj3" fmla="val -131250"/>
              <a:gd name="adj4" fmla="val -178333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phenoid si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2666880"/>
            <a:ext cx="1447920" cy="914400"/>
          </a:xfrm>
          <a:prstGeom prst="borderCallout1">
            <a:avLst>
              <a:gd name="adj1" fmla="val 18750"/>
              <a:gd name="adj2" fmla="val -8333"/>
              <a:gd name="adj3" fmla="val 90625"/>
              <a:gd name="adj4" fmla="val -185527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tuitary s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657600"/>
            <a:ext cx="1447920" cy="914400"/>
          </a:xfrm>
          <a:prstGeom prst="borderCallout1">
            <a:avLst>
              <a:gd name="adj1" fmla="val 18750"/>
              <a:gd name="adj2" fmla="val -8333"/>
              <a:gd name="adj3" fmla="val -26912"/>
              <a:gd name="adj4" fmla="val 260634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ptic chi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029200"/>
            <a:ext cx="1447920" cy="914400"/>
          </a:xfrm>
          <a:prstGeom prst="borderCallout1">
            <a:avLst>
              <a:gd name="adj1" fmla="val 18750"/>
              <a:gd name="adj2" fmla="val -8333"/>
              <a:gd name="adj3" fmla="val -131078"/>
              <a:gd name="adj4" fmla="val 250439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nal carot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1447920" cy="914400"/>
          </a:xfrm>
          <a:prstGeom prst="borderCallout1">
            <a:avLst>
              <a:gd name="adj1" fmla="val 18750"/>
              <a:gd name="adj2" fmla="val -8333"/>
              <a:gd name="adj3" fmla="val 31250"/>
              <a:gd name="adj4" fmla="val 265680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teral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Progr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rans-sphenoidal 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weating impr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ace less puf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ypertensive: 184/104 – later impr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H 2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GF-1 3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ble to stop oral hypoglycaem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mains free of symptoms (200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09:41:07Z</dcterms:created>
  <dc:creator>Robert Schmidli</dc:creator>
  <dc:description/>
  <dc:language>en-US</dc:language>
  <cp:lastModifiedBy>ZonaNet</cp:lastModifiedBy>
  <dcterms:modified xsi:type="dcterms:W3CDTF">2008-05-01T10:03:40Z</dcterms:modified>
  <cp:revision>19</cp:revision>
  <dc:subject/>
  <dc:title>Normal pituitary Magnetic resonance scan</dc:title>
</cp:coreProperties>
</file>