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18A37-72A5-4D06-991E-C46A8B06D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726F9-5E79-439D-A026-013C7563E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095D4-84DE-49A9-B306-6DBF36541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3000C-EE8E-47D7-B346-BA77172CF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BA648-9138-4D8E-8CFE-BCF54EB90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B2A5F-CD7B-413F-ACE3-94220F2BC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0C2D-7293-4D54-A0C3-2907851B8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74D0B-2637-4D13-BB84-E503524C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826F1-1CB1-4766-A488-CE3CEF7AF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40B58-3C2E-48AB-AA5B-E317D1980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3B98-EB70-4483-AE5A-50A80A91E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C3C1-3965-49AF-B89A-52A77EF27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EBE5-5D45-48C5-9C74-CC60A958B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38080" y="1371600"/>
            <a:ext cx="769644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ds2005@columbia.edu"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alamus and Limbic System</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iel Salzm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for Neurobiology and Behavio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cds2005@columbia.edu</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543-6931 ext. 400</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s 972-1013 in P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aventricular Nucle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two types of cell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vocellula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lly, parvocellular neurons secrete hypothalamic releasing hormones, such as CRH.</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rsally and ventrally, neurons project to the medulla and spinal cord to exert autonomic control.  Some of these neurons secrete oxytocin and vasopressin, which can act as neuromodulators. </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ocellula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distinct populations control endocrine function by secreting oxytocin and vasopressin directly into the posterior pituitary. </a:t>
            </a:r>
            <a:endParaRPr b="0" lang="en-US" sz="1600" spc="-1" strike="noStrike">
              <a:solidFill>
                <a:srgbClr val="000000"/>
              </a:solidFill>
              <a:latin typeface="Arial"/>
            </a:endParaRPr>
          </a:p>
        </p:txBody>
      </p:sp>
      <p:pic>
        <p:nvPicPr>
          <p:cNvPr id="73" name="49" descr=""/>
          <p:cNvPicPr/>
          <p:nvPr/>
        </p:nvPicPr>
        <p:blipFill>
          <a:blip r:embed="rId1"/>
          <a:stretch/>
        </p:blipFill>
        <p:spPr>
          <a:xfrm>
            <a:off x="4789440" y="1600200"/>
            <a:ext cx="3756240" cy="4525920"/>
          </a:xfrm>
          <a:prstGeom prst="rect">
            <a:avLst/>
          </a:prstGeom>
          <a:ln w="0">
            <a:noFill/>
          </a:ln>
        </p:spPr>
      </p:pic>
      <p:sp>
        <p:nvSpPr>
          <p:cNvPr id="74" name=""/>
          <p:cNvSpPr/>
          <p:nvPr/>
        </p:nvSpPr>
        <p:spPr>
          <a:xfrm>
            <a:off x="4495680" y="3352680"/>
            <a:ext cx="129564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029200" y="3048120"/>
            <a:ext cx="129528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172200" y="3124080"/>
            <a:ext cx="1219320" cy="304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010280" y="3200400"/>
            <a:ext cx="1905120" cy="7621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2">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72">
                                            <p:txEl>
                                              <p:pRg st="1" end="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75"/>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2">
                                            <p:txEl>
                                              <p:pRg st="4" end="4"/>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pathways deliver visceral information to the hypothalamu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952520" y="1600200"/>
            <a:ext cx="403884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cleus of the solitary tract receives visceral information from cranial nerves VII, IX, and 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directly regulating certain autonomic functions, the nucleus of the solitary tract relays information to the parabrachial nucleus, which projects to the hypothalamus and other limbic structures.</a:t>
            </a:r>
            <a:endParaRPr b="0" lang="en-US" sz="2400" spc="-1" strike="noStrike">
              <a:solidFill>
                <a:srgbClr val="000000"/>
              </a:solidFill>
              <a:latin typeface="Arial"/>
            </a:endParaRPr>
          </a:p>
        </p:txBody>
      </p:sp>
      <p:pic>
        <p:nvPicPr>
          <p:cNvPr id="80" name="49" descr=""/>
          <p:cNvPicPr/>
          <p:nvPr/>
        </p:nvPicPr>
        <p:blipFill>
          <a:blip r:embed="rId1"/>
          <a:stretch/>
        </p:blipFill>
        <p:spPr>
          <a:xfrm>
            <a:off x="152280" y="1523880"/>
            <a:ext cx="4641840" cy="5334120"/>
          </a:xfrm>
          <a:prstGeom prst="rect">
            <a:avLst/>
          </a:prstGeom>
          <a:ln w="0">
            <a:noFill/>
          </a:ln>
        </p:spPr>
      </p:pic>
      <p:sp>
        <p:nvSpPr>
          <p:cNvPr id="81" name=""/>
          <p:cNvSpPr/>
          <p:nvPr/>
        </p:nvSpPr>
        <p:spPr>
          <a:xfrm>
            <a:off x="3505320" y="4495680"/>
            <a:ext cx="1218960" cy="5335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809880" y="3276720"/>
            <a:ext cx="12193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62120" y="4038480"/>
            <a:ext cx="11430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28600" y="3886200"/>
            <a:ext cx="83808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8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9">
                                            <p:txEl>
                                              <p:pRg st="0" end="0"/>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81"/>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9">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8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8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pathways control autonomic response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control of autonomic preganglionic neurons arises from the hypothalamus, the parabrachial nucleus, the nucleus of the solitary tract, and neurons in the ventrolateral medull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control of autonomic responses originates from the cortex, amygdala , and the periqueductal gray matter.</a:t>
            </a:r>
            <a:endParaRPr b="0" lang="en-US" sz="2400" spc="-1" strike="noStrike">
              <a:solidFill>
                <a:srgbClr val="000000"/>
              </a:solidFill>
              <a:latin typeface="Arial"/>
            </a:endParaRPr>
          </a:p>
        </p:txBody>
      </p:sp>
      <p:pic>
        <p:nvPicPr>
          <p:cNvPr id="87" name="49" descr=""/>
          <p:cNvPicPr/>
          <p:nvPr/>
        </p:nvPicPr>
        <p:blipFill>
          <a:blip r:embed="rId1"/>
          <a:stretch/>
        </p:blipFill>
        <p:spPr>
          <a:xfrm>
            <a:off x="4648320" y="2009880"/>
            <a:ext cx="4038480" cy="37051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8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Inputs and Outputs</a:t>
            </a:r>
            <a:endParaRPr b="0" lang="en-US" sz="4000" spc="-1" strike="noStrike">
              <a:solidFill>
                <a:srgbClr val="000000"/>
              </a:solidFill>
              <a:latin typeface="Arial"/>
            </a:endParaRPr>
          </a:p>
        </p:txBody>
      </p:sp>
      <p:graphicFrame>
        <p:nvGraphicFramePr>
          <p:cNvPr id="89" name=""/>
          <p:cNvGraphicFramePr/>
          <p:nvPr/>
        </p:nvGraphicFramePr>
        <p:xfrm>
          <a:off x="457200" y="1600200"/>
          <a:ext cx="8229600" cy="5105520"/>
        </p:xfrm>
        <a:graphic>
          <a:graphicData uri="http://schemas.openxmlformats.org/drawingml/2006/table">
            <a:tbl>
              <a:tblPr/>
              <a:tblGrid>
                <a:gridCol w="2743200"/>
                <a:gridCol w="2743200"/>
                <a:gridCol w="2743200"/>
              </a:tblGrid>
              <a:tr h="15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al Outpu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monal Outpu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al Inp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the autonomic nervous system (e.g. emo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release of oxytocin for milk lact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monal Inp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drives and motivated behavi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release of vasopressin for fluid regul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ural Input and Hormonal Output:  oxytocin release and lactation</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raoptic and paraventricular nuclei contain magnocellular neurons that secrete oxytocin into the general circulation in the posterior pituit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baby sucks on a mother’s nipples, mechanoreceptors are stimulated.  These receptors activate neurons that project to the magnocellular hypothalamic neurons, causing those cells to fire brief bursts, releasing oxytoc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tocin, in turn, increases contraction of myoepithelial cells in the mamillary glands, leading to milk ej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sopressin release:  an example of humoral input and humoral output</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ocellular neurons containing vasopressin are sensitive to changes in blood tonicity, releasing more vasopressin upon water loss.  Vasopressin increases water resorption in the kid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ecting the neural inputs to the hypothalamus does not disrupt the ability to increase vasopressin release upon water loss.  This finding confirms that the signal used by hypothalamic neurons is humoral, and not neural, to modulate vasopressin rel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rmonal input and Neural output:  Endocrine Control of Behavior</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c experiments by Geoffrey Harris demonstrated how hormones may influence motivated behavi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ris and colleagues implanted crystals of stilboestrol esters in the hypothalamus of ovariectomized cats.  These cats had atrophic genitalia.  Implantation of these esters elicited full mating behavior from the cats.  Thus although the cats were anestrous from the point of view of the endocrine system in the periphery, the animals were estrous from the point of view of the C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experiments established the concept that the brain is a target for specific feedback action from gonadal steroids, leading to modulations in motivated behavior through neural circuits almost certainly connected to the hypothalam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ypothalamic pathways influence endocrine functio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alamus controls the endocrine system by secreting oxytocin and vasopressin into the general circulation from nerve terminals ending in the posterior pituitary (5 in fig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alamus also secretes regulatory hormones into local portal circulation that drains into the anterior pituitary (3 and 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some hypothalamic neurons influence peptidergic neurons, synapsing at those neurons cell bodies or axon terminals (1 and 2).</a:t>
            </a:r>
            <a:endParaRPr b="0" lang="en-US" sz="2000" spc="-1" strike="noStrike">
              <a:solidFill>
                <a:srgbClr val="000000"/>
              </a:solidFill>
              <a:latin typeface="Arial"/>
            </a:endParaRPr>
          </a:p>
        </p:txBody>
      </p:sp>
      <p:pic>
        <p:nvPicPr>
          <p:cNvPr id="98" name="49" descr=""/>
          <p:cNvPicPr/>
          <p:nvPr/>
        </p:nvPicPr>
        <p:blipFill>
          <a:blip r:embed="rId1"/>
          <a:stretch/>
        </p:blipFill>
        <p:spPr>
          <a:xfrm>
            <a:off x="5245200" y="1600200"/>
            <a:ext cx="2844720" cy="45259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98"/>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regulatory factors travel through the portal circulation to the pituit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ffrey Harris was a famous neurobiologist responsible for showing that that the hypothalamus exerts control of the pituitary gla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50s, Harris and colleagues carried out a series of transplantation experi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d already been shown that endocrine glands (e.g. testes, ovaries, adrenal cortex) can function in a regulated manner when transplanted to a remote location in the bod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ris showed that when the anterior pituitary was transplanted away from its original site, it did not function normall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regulatory factors travel through the portal circulation to the pituitary (2)?</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ris and colleagues then transplanted the anterior pituitary back under the midline hypothalamus, near the portal vessels.  Normal endocrine function was restored, and subsequent histology showed that the restoration of function depended upon the successful revascularization of the anterior pituitary by the primary capillary plexus of portal vessels in the median emin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experiments provided definitive proof of the functional importance of the portal vascular system in connecting hypothalamic regulation to anterior pituitary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I:  The hypothalamu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hypothalamus and limbic system purpose, function and some examples of clinical conditions mediated by hypothalamic and/or limbic system neural circuit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overview of hypothalamus anato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flow into and out of the hypothalamus:  inputs, outputs and pathw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o-control systems as a model for hypothalamic fun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detailed examples of hypothalamic fun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reg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ing behavior</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ostatic processes:  servo-control systems</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ain mechanisms in the hypothalamus make its function analogous to servo-control syste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s sensory information from external body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sensory information with biological set poi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s an array of autonomic, endocrine and behavioral responses aimed at maintaining homeostasis</a:t>
            </a:r>
            <a:endParaRPr b="0" lang="en-US" sz="2000" spc="-1" strike="noStrike">
              <a:solidFill>
                <a:srgbClr val="000000"/>
              </a:solidFill>
              <a:latin typeface="Arial"/>
            </a:endParaRPr>
          </a:p>
        </p:txBody>
      </p:sp>
      <p:pic>
        <p:nvPicPr>
          <p:cNvPr id="105" name="51" descr=""/>
          <p:cNvPicPr/>
          <p:nvPr/>
        </p:nvPicPr>
        <p:blipFill>
          <a:blip r:embed="rId1"/>
          <a:stretch/>
        </p:blipFill>
        <p:spPr>
          <a:xfrm>
            <a:off x="4419720" y="2514600"/>
            <a:ext cx="4572000" cy="3094200"/>
          </a:xfrm>
          <a:prstGeom prst="rect">
            <a:avLst/>
          </a:prstGeom>
          <a:ln w="0">
            <a:noFill/>
          </a:ln>
        </p:spPr>
      </p:pic>
      <p:sp>
        <p:nvSpPr>
          <p:cNvPr id="106" name=""/>
          <p:cNvSpPr/>
          <p:nvPr/>
        </p:nvSpPr>
        <p:spPr>
          <a:xfrm flipV="1">
            <a:off x="4114800" y="28191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657600" y="3809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4343400" y="4038120"/>
            <a:ext cx="2057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05"/>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4">
                                            <p:txEl>
                                              <p:pRg st="0" end="0"/>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06"/>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07"/>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regulation is a good example of a hypothalamic servo-control system</a:t>
            </a: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gulate temperature, integration of autonomic, endocrine, and skelatomotor systems must occur.  The hypothalamus is positioned anatomically to accomplish this control and integ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t point for the system is normal body temper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pothalamus contains “feedback detectors” that collect information about body temperature.  These come from two sourc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pheral receptors transmit information through temperature pathways to the C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receptors are located mainly in the anterior hypothalamus.  Temperature-sensitive neurons in the hypothalamus modulate their activity in relation to local temperature (blood temperatur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10">
                                            <p:txEl>
                                              <p:pRg st="2" end="2"/>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10">
                                            <p:txEl>
                                              <p:pRg st="3" end="3"/>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 regions of the hypothalamus mediate heat dissipation and heat conservation</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erior hypothalamus (preoptic area) mediates decreases in he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ons cau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c hypertherm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stimulation cau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ion of blood vessels in the sk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ion of shiver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51" descr=""/>
          <p:cNvPicPr/>
          <p:nvPr/>
        </p:nvPicPr>
        <p:blipFill>
          <a:blip r:embed="rId1"/>
          <a:stretch/>
        </p:blipFill>
        <p:spPr>
          <a:xfrm>
            <a:off x="4648320" y="1852560"/>
            <a:ext cx="4038480" cy="4021200"/>
          </a:xfrm>
          <a:prstGeom prst="rect">
            <a:avLst/>
          </a:prstGeom>
          <a:ln w="0">
            <a:noFill/>
          </a:ln>
        </p:spPr>
      </p:pic>
      <p:sp>
        <p:nvSpPr>
          <p:cNvPr id="114" name=""/>
          <p:cNvSpPr/>
          <p:nvPr/>
        </p:nvSpPr>
        <p:spPr>
          <a:xfrm>
            <a:off x="4572000" y="3581280"/>
            <a:ext cx="129528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13"/>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12">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1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12">
                                            <p:txEl>
                                              <p:pRg st="1" end="1"/>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12">
                                            <p:txEl>
                                              <p:pRg st="2" end="2"/>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12">
                                            <p:txEl>
                                              <p:pRg st="3" end="3"/>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12">
                                            <p:txEl>
                                              <p:pRg st="4" end="4"/>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12">
                                            <p:txEl>
                                              <p:pRg st="5" end="5"/>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 regions of the hypothalamus mediate heat dissipation and heat conservation (2)</a:t>
            </a:r>
            <a:endParaRPr b="0" lang="en-US" sz="28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terior hypothalamus mediates heat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ons ca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rmia if an animal is placed in a cold environmen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timulation caus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ve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iction of blood vessels in the skin</a:t>
            </a:r>
            <a:endParaRPr b="0" lang="en-US" sz="2000" spc="-1" strike="noStrike">
              <a:solidFill>
                <a:srgbClr val="000000"/>
              </a:solidFill>
              <a:latin typeface="Arial"/>
            </a:endParaRPr>
          </a:p>
        </p:txBody>
      </p:sp>
      <p:pic>
        <p:nvPicPr>
          <p:cNvPr id="117" name="51" descr=""/>
          <p:cNvPicPr/>
          <p:nvPr/>
        </p:nvPicPr>
        <p:blipFill>
          <a:blip r:embed="rId1"/>
          <a:stretch/>
        </p:blipFill>
        <p:spPr>
          <a:xfrm>
            <a:off x="4648320" y="1852560"/>
            <a:ext cx="4038480" cy="4021200"/>
          </a:xfrm>
          <a:prstGeom prst="rect">
            <a:avLst/>
          </a:prstGeom>
          <a:ln w="0">
            <a:noFill/>
          </a:ln>
        </p:spPr>
      </p:pic>
      <p:sp>
        <p:nvSpPr>
          <p:cNvPr id="118" name=""/>
          <p:cNvSpPr/>
          <p:nvPr/>
        </p:nvSpPr>
        <p:spPr>
          <a:xfrm>
            <a:off x="5105520" y="4495680"/>
            <a:ext cx="1371600" cy="5335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17"/>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16">
                                            <p:txEl>
                                              <p:pRg st="0" end="0"/>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18"/>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16">
                                            <p:txEl>
                                              <p:pRg st="1" end="1"/>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16">
                                            <p:txEl>
                                              <p:pRg st="3" end="3"/>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16">
                                            <p:txEl>
                                              <p:pRg st="4" end="4"/>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ocrine responses to temperature chang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exposure to cold can lead to increased hypothalamic secretion of thyrotropin-releasing horm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ults in increased release of thyroxine, which in turns increases body heat by increasing tissue metabol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havioral responses to temperature change</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s can be trained to press a button for cool air if placed in a hot environment.  After training, if in a cool environment, the rat will not push the butt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rm the anterior hypothalamus locally by perfusing it with warm water locally, the rat will push the button for cool air, even though it is already in a cool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alamus integrates peripheral and central temperature information</a:t>
            </a:r>
            <a:endParaRPr b="0" lang="en-US" sz="28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 room temperature lead to an increased in button pushing (response rate) to receive cool a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and decreases in hypothalamic temperature also modulate response rate in a predictable mann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havioral response rate appears to sum inputs from the periphery and the hypothalamus.</a:t>
            </a:r>
            <a:endParaRPr b="0" lang="en-US" sz="2400" spc="-1" strike="noStrike">
              <a:solidFill>
                <a:srgbClr val="000000"/>
              </a:solidFill>
              <a:latin typeface="Arial"/>
            </a:endParaRPr>
          </a:p>
        </p:txBody>
      </p:sp>
      <p:pic>
        <p:nvPicPr>
          <p:cNvPr id="125" name="51" descr=""/>
          <p:cNvPicPr/>
          <p:nvPr/>
        </p:nvPicPr>
        <p:blipFill>
          <a:blip r:embed="rId1"/>
          <a:stretch/>
        </p:blipFill>
        <p:spPr>
          <a:xfrm>
            <a:off x="4648320" y="1727280"/>
            <a:ext cx="4038480" cy="4270320"/>
          </a:xfrm>
          <a:prstGeom prst="rect">
            <a:avLst/>
          </a:prstGeom>
          <a:ln w="0">
            <a:noFill/>
          </a:ln>
        </p:spPr>
      </p:pic>
      <p:sp>
        <p:nvSpPr>
          <p:cNvPr id="126" name=""/>
          <p:cNvSpPr/>
          <p:nvPr/>
        </p:nvSpPr>
        <p:spPr>
          <a:xfrm>
            <a:off x="4267080" y="1905120"/>
            <a:ext cx="1828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4114800" y="2285640"/>
            <a:ext cx="3276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2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26"/>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2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ing behavior can also resemble a servo-control mechanism</a:t>
            </a:r>
            <a:endParaRPr b="0" lang="en-US" sz="2800" spc="-1" strike="noStrike">
              <a:solidFill>
                <a:srgbClr val="000000"/>
              </a:solidFill>
              <a:latin typeface="Arial"/>
            </a:endParaRPr>
          </a:p>
        </p:txBody>
      </p:sp>
      <p:sp>
        <p:nvSpPr>
          <p:cNvPr id="1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s tend to adjust their food intake to achieve a normal body we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ve b = control rats on a normal di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ve a = rats force fed for 15 da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ve c = rats on a restricted diet for 15 da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ats returned to their normal body weight after either force feeding or restriction.</a:t>
            </a:r>
            <a:endParaRPr b="0" lang="en-US" sz="2400" spc="-1" strike="noStrike">
              <a:solidFill>
                <a:srgbClr val="000000"/>
              </a:solidFill>
              <a:latin typeface="Arial"/>
            </a:endParaRPr>
          </a:p>
        </p:txBody>
      </p:sp>
      <p:pic>
        <p:nvPicPr>
          <p:cNvPr id="130" name="51" descr=""/>
          <p:cNvPicPr/>
          <p:nvPr/>
        </p:nvPicPr>
        <p:blipFill>
          <a:blip r:embed="rId1"/>
          <a:stretch/>
        </p:blipFill>
        <p:spPr>
          <a:xfrm>
            <a:off x="4686480" y="1600200"/>
            <a:ext cx="3962160" cy="452592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30"/>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ing behavior can also resemble a servo-control mechanism (2)</a:t>
            </a:r>
            <a:endParaRPr b="0" lang="en-US" sz="32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data demonstrate a biological set point for weight contro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in humans, we know th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set point can vary by individu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set point can vary depending upon a variety of factors, including stress, taste, emotions, social factors, convenience, exercise and other environmental and genetic factors.</a:t>
            </a:r>
            <a:endParaRPr b="0" lang="en-US" sz="2000" spc="-1" strike="noStrike">
              <a:solidFill>
                <a:srgbClr val="000000"/>
              </a:solidFill>
              <a:latin typeface="Arial"/>
            </a:endParaRPr>
          </a:p>
        </p:txBody>
      </p:sp>
      <p:pic>
        <p:nvPicPr>
          <p:cNvPr id="133" name="51" descr=""/>
          <p:cNvPicPr/>
          <p:nvPr/>
        </p:nvPicPr>
        <p:blipFill>
          <a:blip r:embed="rId1"/>
          <a:stretch/>
        </p:blipFill>
        <p:spPr>
          <a:xfrm>
            <a:off x="4686480" y="1600200"/>
            <a:ext cx="3962160" cy="45259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33"/>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32">
                                            <p:txEl>
                                              <p:pRg st="1" end="1"/>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132">
                                            <p:txEl>
                                              <p:pRg st="2" end="2"/>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hypothalamus contribute to the control of food intake?</a:t>
            </a:r>
            <a:endParaRPr b="0" lang="en-US" sz="2800" spc="-1" strike="noStrike">
              <a:solidFill>
                <a:srgbClr val="000000"/>
              </a:solidFill>
              <a:latin typeface="Arial"/>
            </a:endParaRPr>
          </a:p>
        </p:txBody>
      </p:sp>
      <p:sp>
        <p:nvSpPr>
          <p:cNvPr id="135" name="PlaceHolder 2"/>
          <p:cNvSpPr>
            <a:spLocks noGrp="1"/>
          </p:cNvSpPr>
          <p:nvPr>
            <p:ph/>
          </p:nvPr>
        </p:nvSpPr>
        <p:spPr>
          <a:xfrm>
            <a:off x="456840" y="1600200"/>
            <a:ext cx="2133720" cy="45720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y studies of the hypothalamus demonstrated that lesions of the ventromedial hypothalamus produced hyperphagia and obes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ions of the lateral hypothalamus produced aphagia, leading to starvation.  Stimulation produced the opposite effect of these lesio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indings lead to the theory that the hypothalamus contains a “feeding center” and a “satiety center”.</a:t>
            </a:r>
            <a:endParaRPr b="0" lang="en-US" sz="1400" spc="-1" strike="noStrike">
              <a:solidFill>
                <a:srgbClr val="000000"/>
              </a:solidFill>
              <a:latin typeface="Arial"/>
            </a:endParaRPr>
          </a:p>
        </p:txBody>
      </p:sp>
      <p:pic>
        <p:nvPicPr>
          <p:cNvPr id="136" name="49" descr=""/>
          <p:cNvPicPr/>
          <p:nvPr/>
        </p:nvPicPr>
        <p:blipFill>
          <a:blip r:embed="rId1"/>
          <a:stretch/>
        </p:blipFill>
        <p:spPr>
          <a:xfrm>
            <a:off x="2590920" y="1600200"/>
            <a:ext cx="6400800" cy="4589640"/>
          </a:xfrm>
          <a:prstGeom prst="rect">
            <a:avLst/>
          </a:prstGeom>
          <a:ln w="0">
            <a:noFill/>
          </a:ln>
        </p:spPr>
      </p:pic>
      <p:sp>
        <p:nvSpPr>
          <p:cNvPr id="137" name=""/>
          <p:cNvSpPr/>
          <p:nvPr/>
        </p:nvSpPr>
        <p:spPr>
          <a:xfrm>
            <a:off x="7315200" y="2286000"/>
            <a:ext cx="1676520" cy="5335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638680" y="4419720"/>
            <a:ext cx="990720" cy="6094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36"/>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38"/>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37"/>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and Limbic System:  Homeostasi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function of the nervous system is to maintain homeostasis, or the stability of the internal enviro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alamus, which comprises less than 1% of the total volume of the brain, is intimately connected to a number of structures within the limbic system and brains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gether the hypothalamus and the limbic system exert control on the endocrine system the autonomic nervous system to maintain homeosta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hypothalamus contribute to the control of food intake? (2)</a:t>
            </a:r>
            <a:endParaRPr b="0"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subsequent work provided the insight that the results from lesion studies may have been due to damage of fibers of passage rather than due to loss of cell bodies in distinct parts of the hypothalam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articular, hypothalamus lesions may damage fibers of:</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igeminal system which affect sensory processing important for fee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aminergic neurons projecting from the substantia nigra to the striatum, as wells as those that project from the ventral tegmental area to innervate parts of the limbic system.  Dopaminergic neurons are thought to be important for reward processing and arousal, and therefore may affect feeding behav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hypothalamus contribute to the control of food intake? (3)</a:t>
            </a:r>
            <a:endParaRPr b="0" lang="en-US" sz="32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rn view of energy homeostasis now proposes that discrete neuronal pathways generate integrated responses to afferent input related to energy storage.  The hypothalamus plays a prominent role in this integ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alamus is sensitive to adiposity signals supplied by the hormones leptin and insulin, secreted by fat cells and the pancrease respective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lin and leptin both modulate neural activity in the arcuate nucleus of the hypothalamus, which transduces afferent hormonal signals into a neural respon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ptin may also play a role in establishing a biological set point for body weight by modifying the strength and number of synapses onto arcuate neurons and by inducing projections from the arcuate nucleus to the PVN during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odel for energy homeosta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iposity signals modulate anabolic and catabolic pathways in the C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athways control food intake and energy expenditure by influencing behavior, autonomic activity, and metabolic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ety signals terminate feeding, and energy balance and fat storage mechanisms control the amounts of leptin and insulin circulating in the blood (adiposity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odel for energy homeostasis</a:t>
            </a:r>
            <a:endParaRPr b="0" lang="en-US" sz="4400" spc="-1" strike="noStrike">
              <a:solidFill>
                <a:srgbClr val="000000"/>
              </a:solidFill>
              <a:latin typeface="Arial"/>
            </a:endParaRPr>
          </a:p>
        </p:txBody>
      </p:sp>
      <p:sp>
        <p:nvSpPr>
          <p:cNvPr id="146" name="PlaceHolder 2"/>
          <p:cNvSpPr>
            <a:spLocks noGrp="1"/>
          </p:cNvSpPr>
          <p:nvPr>
            <p:ph/>
          </p:nvPr>
        </p:nvSpPr>
        <p:spPr>
          <a:xfrm>
            <a:off x="-76320" y="1523520"/>
            <a:ext cx="289584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ets of signals are important for modulating food intake in response to body adiposity and food intak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iety signals</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term control</a:t>
            </a:r>
            <a:endParaRPr b="0" lang="en-US" sz="18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iposity signals</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ontrol</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Nature feeding fig 6" descr=""/>
          <p:cNvPicPr/>
          <p:nvPr/>
        </p:nvPicPr>
        <p:blipFill>
          <a:blip r:embed="rId1"/>
          <a:stretch/>
        </p:blipFill>
        <p:spPr>
          <a:xfrm>
            <a:off x="2743200" y="1752480"/>
            <a:ext cx="6248520" cy="4249800"/>
          </a:xfrm>
          <a:prstGeom prst="rect">
            <a:avLst/>
          </a:prstGeom>
          <a:ln w="0">
            <a:noFill/>
          </a:ln>
        </p:spPr>
      </p:pic>
      <p:sp>
        <p:nvSpPr>
          <p:cNvPr id="148" name=""/>
          <p:cNvSpPr/>
          <p:nvPr/>
        </p:nvSpPr>
        <p:spPr>
          <a:xfrm>
            <a:off x="2438280" y="3657600"/>
            <a:ext cx="10670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666880" y="5029200"/>
            <a:ext cx="68580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46">
                                            <p:txEl>
                                              <p:pRg st="1" end="1"/>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149"/>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146">
                                            <p:txEl>
                                              <p:pRg st="3" end="3"/>
                                            </p:txEl>
                                          </p:spTgt>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146">
                                            <p:txEl>
                                              <p:pRg st="4" end="4"/>
                                            </p:txEl>
                                          </p:spTgt>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satiety signals control meal size?</a:t>
            </a:r>
            <a:endParaRPr b="0" lang="en-US" sz="4000" spc="-1" strike="noStrike">
              <a:solidFill>
                <a:srgbClr val="000000"/>
              </a:solidFill>
              <a:latin typeface="Arial"/>
            </a:endParaRPr>
          </a:p>
        </p:txBody>
      </p:sp>
      <p:sp>
        <p:nvSpPr>
          <p:cNvPr id="151" name="PlaceHolder 2"/>
          <p:cNvSpPr>
            <a:spLocks noGrp="1"/>
          </p:cNvSpPr>
          <p:nvPr>
            <p:ph/>
          </p:nvPr>
        </p:nvSpPr>
        <p:spPr>
          <a:xfrm>
            <a:off x="-360" y="1600200"/>
            <a:ext cx="3352680" cy="5029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l size tends to be more biologically controlled than meal timing, that depends on numerous emotional and social factors.</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ety signals are probably initially processed by the nucleus of the solitary tract (NTS), which receives afferent input from the vagus nerve and from afferents passing into the spinal cord from the upper gastrointestinal tract.</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posity signals can modulate the response to satiety signals, either indirectly through the hypothalamic pathways we have discussed, or directly, since the NTS does have some leptin receptors.</a:t>
            </a:r>
            <a:endParaRPr b="0" lang="en-US" sz="1800" spc="-1" strike="noStrike">
              <a:solidFill>
                <a:srgbClr val="000000"/>
              </a:solidFill>
              <a:latin typeface="Arial"/>
            </a:endParaRPr>
          </a:p>
        </p:txBody>
      </p:sp>
      <p:pic>
        <p:nvPicPr>
          <p:cNvPr id="152" name="Nature feeding fig 6" descr=""/>
          <p:cNvPicPr/>
          <p:nvPr/>
        </p:nvPicPr>
        <p:blipFill>
          <a:blip r:embed="rId1"/>
          <a:stretch/>
        </p:blipFill>
        <p:spPr>
          <a:xfrm>
            <a:off x="3200400" y="1981080"/>
            <a:ext cx="5943600" cy="4041720"/>
          </a:xfrm>
          <a:prstGeom prst="rect">
            <a:avLst/>
          </a:prstGeom>
          <a:ln w="0">
            <a:noFill/>
          </a:ln>
        </p:spPr>
      </p:pic>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ic neuropeptides that influence caloric homeostasis</a:t>
            </a:r>
            <a:endParaRPr b="0" lang="en-US" sz="4000" spc="-1" strike="noStrike">
              <a:solidFill>
                <a:srgbClr val="000000"/>
              </a:solidFill>
              <a:latin typeface="Arial"/>
            </a:endParaRPr>
          </a:p>
        </p:txBody>
      </p:sp>
      <p:sp>
        <p:nvSpPr>
          <p:cNvPr id="154" name="PlaceHolder 2"/>
          <p:cNvSpPr>
            <a:spLocks noGrp="1"/>
          </p:cNvSpPr>
          <p:nvPr>
            <p:ph/>
          </p:nvPr>
        </p:nvSpPr>
        <p:spPr>
          <a:xfrm>
            <a:off x="0" y="1523880"/>
            <a:ext cx="358128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diposity signals, insulin and leptin, are produced in the periphery and travel through the blood-brain barrier to influence neurons in the arcuate nucle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rcuate neurons synthesize and release neuropeptide Y (NPY) and agouti-related protein (AgRP) and are inhibited by adiposity signa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rcuate neurons synthesize and release </a:t>
            </a:r>
            <a:r>
              <a:rPr b="0" lang="en-US" sz="1800" spc="-1" strike="noStrike">
                <a:solidFill>
                  <a:srgbClr val="000000"/>
                </a:solidFill>
                <a:latin typeface="Symbol"/>
                <a:ea typeface="Symbol"/>
              </a:rPr>
              <a:t></a:t>
            </a:r>
            <a:r>
              <a:rPr b="0" lang="en-US" sz="1800" spc="-1" strike="noStrike">
                <a:solidFill>
                  <a:srgbClr val="000000"/>
                </a:solidFill>
                <a:latin typeface="Arial"/>
              </a:rPr>
              <a:t>-melanocyte-stimulating hormone (</a:t>
            </a:r>
            <a:r>
              <a:rPr b="0" lang="en-US" sz="1800" spc="-1" strike="noStrike">
                <a:solidFill>
                  <a:srgbClr val="000000"/>
                </a:solidFill>
                <a:latin typeface="Symbol"/>
                <a:ea typeface="Symbol"/>
              </a:rPr>
              <a:t></a:t>
            </a:r>
            <a:r>
              <a:rPr b="0" lang="en-US" sz="1800" spc="-1" strike="noStrike">
                <a:solidFill>
                  <a:srgbClr val="000000"/>
                </a:solidFill>
                <a:latin typeface="Arial"/>
              </a:rPr>
              <a:t>MSH) and cocaine-amphetamine-related transcript (CART) and are stimulated by adiposity signals.</a:t>
            </a:r>
            <a:endParaRPr b="0" lang="en-US" sz="1800" spc="-1" strike="noStrike">
              <a:solidFill>
                <a:srgbClr val="000000"/>
              </a:solidFill>
              <a:latin typeface="Arial"/>
            </a:endParaRPr>
          </a:p>
        </p:txBody>
      </p:sp>
      <p:pic>
        <p:nvPicPr>
          <p:cNvPr id="155" name="38" descr=""/>
          <p:cNvPicPr/>
          <p:nvPr/>
        </p:nvPicPr>
        <p:blipFill>
          <a:blip r:embed="rId1"/>
          <a:stretch/>
        </p:blipFill>
        <p:spPr>
          <a:xfrm>
            <a:off x="3809880" y="2133720"/>
            <a:ext cx="5029200" cy="2919240"/>
          </a:xfrm>
          <a:prstGeom prst="rect">
            <a:avLst/>
          </a:prstGeom>
          <a:ln w="0">
            <a:noFill/>
          </a:ln>
        </p:spPr>
      </p:pic>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15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ic neuropeptides that influence caloric homeostasis (2)</a:t>
            </a:r>
            <a:endParaRPr b="0" lang="en-US" sz="4000" spc="-1" strike="noStrike">
              <a:solidFill>
                <a:srgbClr val="000000"/>
              </a:solidFill>
              <a:latin typeface="Arial"/>
            </a:endParaRPr>
          </a:p>
        </p:txBody>
      </p:sp>
      <p:sp>
        <p:nvSpPr>
          <p:cNvPr id="157" name="PlaceHolder 2"/>
          <p:cNvSpPr>
            <a:spLocks noGrp="1"/>
          </p:cNvSpPr>
          <p:nvPr>
            <p:ph/>
          </p:nvPr>
        </p:nvSpPr>
        <p:spPr>
          <a:xfrm>
            <a:off x="0" y="1600200"/>
            <a:ext cx="373392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Y/AgRP neurons inhibit the paraventricular nucleus (PVN) and stimulate the lateral hypothalamic area (LHA).  </a:t>
            </a:r>
            <a:r>
              <a:rPr b="0" lang="en-US" sz="1600" spc="-1" strike="noStrike">
                <a:solidFill>
                  <a:srgbClr val="000000"/>
                </a:solidFill>
                <a:latin typeface="Symbol"/>
                <a:ea typeface="Symbol"/>
              </a:rPr>
              <a:t></a:t>
            </a:r>
            <a:r>
              <a:rPr b="0" lang="en-US" sz="1600" spc="-1" strike="noStrike">
                <a:solidFill>
                  <a:srgbClr val="000000"/>
                </a:solidFill>
                <a:latin typeface="Arial"/>
              </a:rPr>
              <a:t>-MSH/CART neurons do the opposi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VN has a net catabolic action, releasing CRH and oxytocin and thereby decreasing food intake and increasing energy expenditure.  Plasma levels of oxytocin, which we previously discussed with reference to the milk let-down reflex, have also been correlated with food intake in male and female ra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HA has a net anabolic action, releasing two additional neuropeptides, orexin A and melanin-concentrating hormone (MCH), both of which stimulate food intak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38" descr=""/>
          <p:cNvPicPr/>
          <p:nvPr/>
        </p:nvPicPr>
        <p:blipFill>
          <a:blip r:embed="rId1"/>
          <a:stretch/>
        </p:blipFill>
        <p:spPr>
          <a:xfrm>
            <a:off x="3657600" y="2286000"/>
            <a:ext cx="5334120" cy="309564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58"/>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tin deficiency disrupts the normal developmental pattern of projections from the arcuate nucleus to PVN in mice</a:t>
            </a:r>
            <a:endParaRPr b="0" lang="en-US" sz="2400" spc="-1" strike="noStrike">
              <a:solidFill>
                <a:srgbClr val="000000"/>
              </a:solidFill>
              <a:latin typeface="Arial"/>
            </a:endParaRPr>
          </a:p>
        </p:txBody>
      </p:sp>
      <p:pic>
        <p:nvPicPr>
          <p:cNvPr id="160" name="" descr=""/>
          <p:cNvPicPr/>
          <p:nvPr/>
        </p:nvPicPr>
        <p:blipFill>
          <a:blip r:embed="rId1"/>
          <a:stretch/>
        </p:blipFill>
        <p:spPr>
          <a:xfrm>
            <a:off x="2666880" y="1447920"/>
            <a:ext cx="3824280" cy="5410080"/>
          </a:xfrm>
          <a:prstGeom prst="rect">
            <a:avLst/>
          </a:prstGeom>
          <a:ln w="0">
            <a:noFill/>
          </a:ln>
        </p:spPr>
      </p:pic>
      <p:sp>
        <p:nvSpPr>
          <p:cNvPr id="161" name=""/>
          <p:cNvSpPr/>
          <p:nvPr/>
        </p:nvSpPr>
        <p:spPr>
          <a:xfrm>
            <a:off x="228600" y="4800600"/>
            <a:ext cx="2057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ret et al., (2004) Science 304:108-1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tin treatment during development can rescue projections from the arcuate nucleus to PVN</a:t>
            </a:r>
            <a:endParaRPr b="0" lang="en-US" sz="2400" spc="-1" strike="noStrike">
              <a:solidFill>
                <a:srgbClr val="000000"/>
              </a:solidFill>
              <a:latin typeface="Arial"/>
            </a:endParaRPr>
          </a:p>
        </p:txBody>
      </p:sp>
      <p:pic>
        <p:nvPicPr>
          <p:cNvPr id="163" name="" descr=""/>
          <p:cNvPicPr/>
          <p:nvPr/>
        </p:nvPicPr>
        <p:blipFill>
          <a:blip r:embed="rId1"/>
          <a:stretch/>
        </p:blipFill>
        <p:spPr>
          <a:xfrm>
            <a:off x="609480" y="1523880"/>
            <a:ext cx="7391520" cy="5275440"/>
          </a:xfrm>
          <a:prstGeom prst="rect">
            <a:avLst/>
          </a:prstGeom>
          <a:ln w="0">
            <a:noFill/>
          </a:ln>
        </p:spPr>
      </p:pic>
      <p:sp>
        <p:nvSpPr>
          <p:cNvPr id="164" name=""/>
          <p:cNvSpPr/>
          <p:nvPr/>
        </p:nvSpPr>
        <p:spPr>
          <a:xfrm>
            <a:off x="7318440" y="1447920"/>
            <a:ext cx="1825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ret et al., (2004) Science 304:108-1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leptin on hypothalamic neurocircuitry</a:t>
            </a:r>
            <a:endParaRPr b="0" lang="en-US" sz="4000" spc="-1" strike="noStrike">
              <a:solidFill>
                <a:srgbClr val="000000"/>
              </a:solidFill>
              <a:latin typeface="Arial"/>
            </a:endParaRPr>
          </a:p>
        </p:txBody>
      </p:sp>
      <p:pic>
        <p:nvPicPr>
          <p:cNvPr id="166" name="" descr=""/>
          <p:cNvPicPr/>
          <p:nvPr/>
        </p:nvPicPr>
        <p:blipFill>
          <a:blip r:embed="rId1"/>
          <a:stretch/>
        </p:blipFill>
        <p:spPr>
          <a:xfrm>
            <a:off x="2914560" y="1600200"/>
            <a:ext cx="33130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and Limbic System:  Emotion and Motivated Behavior</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otions and motivated behavior are crucial for surviv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responses modulate the autonomic nervous system to respond to threatening stimuli or situ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responses are adaptive.  If you are prepared to deal with threatening stimuli, you are more likely to survive and reprodu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d behavior underlies feeding, sexual and other behaviors integral to promoting survival and reproduc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pothalamus and limbic system mediate these behavio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Hypothalamus Lecture</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basic hypothalamus anatom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basic hypothalamic func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monal and neural inputs and outpu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f autonomic, endocrine, and behavior to maintain homeostasi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regulation is an excellent example of a servo-control mechanism operating in the hypothalamus.  The hypothalamus is sensitive both to hypothalamic and peripheral temperature, and it mediates changes in autonomic, endocrine and behavioral responses in order to maintain homeostas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ehavior is a less good example of a servo-control system, in part because of variable biological set points depending upon numerous factors.  Nonetheless, feeding behavior appears to be influenced by short-term satiety signals, and long-term adiposity signals.  Adiposity signals influence catabolic and anabolic pathways in the hypothalamus that can control a variety of autonomic, endocrine, and behavioral functions to maintain homeostasis.  Emerging evidence implicates leptin as playing an important role in modulating the neurocircuity of the hypothalamus to influence feeding behavi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ver and obesity are two major clinical conditions that are mediated by these neural pathw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and Limbic System:  Clinical Context</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rge number of clinical conditions have symptoms that arise from hypothalamic and/or limbic system brain circu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regardless of medical or dental specialty, all of you will encounter patients who have one or more of the follo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and Limbic System:  Clinical Context (cont.)</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ver</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detect temperature changes and modulate the autonomic nervous system to either retain or dissipate heat.</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c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recreational drugs work through neural pathways involved in reward and motivated behavior that form an important part of limbic system functi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Disorder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anxiety disorders, such as Panic Disorder and Post-traumatic stress disorder have physiological symptoms mediated by the autonomic nervous system and by the limbic system. </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ing behavior is in part controlled by the hypothalamus, and interactions between limbic reward circuitry and the hypothalamus are important to feeding behavio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3">
                                            <p:txEl>
                                              <p:pRg st="3" end="3"/>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3">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3">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pothalamus:  Integrative Function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pothalamus helps regulate five basic physiological need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ntrols blood pressure and electrolyte (drinking and salt appetit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gulates body temperature through influence both of the autonomic nervous system and of brain circuits directing motivated behavior (e.g. behavior that seeks a warmer or cooler environ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gulates energy metabolism through influence on feeding, digestion, and metabolic rat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gulates reproduction through hormonal control of mating, pregnancy and lacta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Directs responses to stress by influencing blood flow to specific tissues, and by stimulating the secretion of adrenal stress horm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alamus Anatom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the walls of 3</a:t>
            </a:r>
            <a:r>
              <a:rPr b="0" lang="en-US" sz="2800" spc="-1" strike="noStrike" baseline="30000">
                <a:solidFill>
                  <a:srgbClr val="000000"/>
                </a:solidFill>
                <a:latin typeface="Arial"/>
              </a:rPr>
              <a:t>rd</a:t>
            </a:r>
            <a:r>
              <a:rPr b="0" lang="en-US" sz="2800" spc="-1" strike="noStrike">
                <a:solidFill>
                  <a:srgbClr val="000000"/>
                </a:solidFill>
                <a:latin typeface="Arial"/>
              </a:rPr>
              <a:t> ventricle, above the pituit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into medial and lateral  regions by the fornix, bundles of fiber tracts that connect the hippocampus to the mamillary bodies.</a:t>
            </a:r>
            <a:endParaRPr b="0" lang="en-US" sz="2800" spc="-1" strike="noStrike">
              <a:solidFill>
                <a:srgbClr val="000000"/>
              </a:solidFill>
              <a:latin typeface="Arial"/>
            </a:endParaRPr>
          </a:p>
        </p:txBody>
      </p:sp>
      <p:pic>
        <p:nvPicPr>
          <p:cNvPr id="58" name="49" descr=""/>
          <p:cNvPicPr/>
          <p:nvPr/>
        </p:nvPicPr>
        <p:blipFill>
          <a:blip r:embed="rId1"/>
          <a:stretch/>
        </p:blipFill>
        <p:spPr>
          <a:xfrm>
            <a:off x="4495680" y="2438280"/>
            <a:ext cx="4648320" cy="2847960"/>
          </a:xfrm>
          <a:prstGeom prst="rect">
            <a:avLst/>
          </a:prstGeom>
          <a:ln w="0">
            <a:noFill/>
          </a:ln>
        </p:spPr>
      </p:pic>
      <p:sp>
        <p:nvSpPr>
          <p:cNvPr id="59" name=""/>
          <p:cNvSpPr/>
          <p:nvPr/>
        </p:nvSpPr>
        <p:spPr>
          <a:xfrm>
            <a:off x="7924680" y="4114800"/>
            <a:ext cx="1219320" cy="304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19920" y="4191120"/>
            <a:ext cx="68580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781680" y="4038480"/>
            <a:ext cx="838440" cy="6098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305920" y="3352680"/>
            <a:ext cx="838080" cy="5335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0"/>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alamus Anatomy</a:t>
            </a:r>
            <a:endParaRPr b="0" lang="en-US" sz="4400" spc="-1" strike="noStrike">
              <a:solidFill>
                <a:srgbClr val="000000"/>
              </a:solidFill>
              <a:latin typeface="Arial"/>
            </a:endParaRPr>
          </a:p>
        </p:txBody>
      </p:sp>
      <p:sp>
        <p:nvSpPr>
          <p:cNvPr id="64" name="PlaceHolder 2"/>
          <p:cNvSpPr>
            <a:spLocks noGrp="1"/>
          </p:cNvSpPr>
          <p:nvPr>
            <p:ph/>
          </p:nvPr>
        </p:nvSpPr>
        <p:spPr>
          <a:xfrm>
            <a:off x="0" y="1599840"/>
            <a:ext cx="3657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pothalamus is limited at the anterior by the optic chiasm and anterior commissure, and at the posterior by the mamillary bod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ventricular nucleus is of particular importance, as it controls both endocrine and autonomic processes.</a:t>
            </a:r>
            <a:endParaRPr b="0" lang="en-US" sz="2400" spc="-1" strike="noStrike">
              <a:solidFill>
                <a:srgbClr val="000000"/>
              </a:solidFill>
              <a:latin typeface="Arial"/>
            </a:endParaRPr>
          </a:p>
        </p:txBody>
      </p:sp>
      <p:pic>
        <p:nvPicPr>
          <p:cNvPr id="65" name="49" descr=""/>
          <p:cNvPicPr/>
          <p:nvPr/>
        </p:nvPicPr>
        <p:blipFill>
          <a:blip r:embed="rId1"/>
          <a:stretch/>
        </p:blipFill>
        <p:spPr>
          <a:xfrm>
            <a:off x="3581280" y="1676520"/>
            <a:ext cx="5410440" cy="3878280"/>
          </a:xfrm>
          <a:prstGeom prst="rect">
            <a:avLst/>
          </a:prstGeom>
          <a:ln w="0">
            <a:noFill/>
          </a:ln>
        </p:spPr>
      </p:pic>
      <p:sp>
        <p:nvSpPr>
          <p:cNvPr id="66" name=""/>
          <p:cNvSpPr/>
          <p:nvPr/>
        </p:nvSpPr>
        <p:spPr>
          <a:xfrm>
            <a:off x="5943600" y="3581280"/>
            <a:ext cx="1676520" cy="1600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809880" y="2743200"/>
            <a:ext cx="1524240" cy="3049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467480" y="2971800"/>
            <a:ext cx="1447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391520" y="2209680"/>
            <a:ext cx="160020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2438280" y="2666880"/>
            <a:ext cx="1524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5"/>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69"/>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7:44:47Z</dcterms:created>
  <dc:creator>Daniel Salzman</dc:creator>
  <dc:description/>
  <dc:language>en-US</dc:language>
  <cp:lastModifiedBy>Daniel Salzman</cp:lastModifiedBy>
  <dcterms:modified xsi:type="dcterms:W3CDTF">2004-04-14T19:48:53Z</dcterms:modified>
  <cp:revision>9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46024331</vt:r8>
  </property>
  <property fmtid="{D5CDD505-2E9C-101B-9397-08002B2CF9AE}" pid="3" name="_AuthorEmail">
    <vt:lpwstr>cds2005@columbia.edu</vt:lpwstr>
  </property>
  <property fmtid="{D5CDD505-2E9C-101B-9397-08002B2CF9AE}" pid="4" name="_AuthorEmailDisplayName">
    <vt:lpwstr>Daniel Salzman</vt:lpwstr>
  </property>
  <property fmtid="{D5CDD505-2E9C-101B-9397-08002B2CF9AE}" pid="5" name="_EmailSubject">
    <vt:lpwstr>hypo_limbic_lect1.ppt</vt:lpwstr>
  </property>
</Properties>
</file>