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B2C-05E9-4201-BE28-D3421D91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F33-0EC7-4DEC-BD4A-55BF730F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E8F-2117-4AFD-9D35-2D07973B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831-9A24-4E90-B6C2-1CF8AB56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6D0-BFA1-4474-8406-76185ED0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DD0-3A13-4DCA-8DA7-B328E3CF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31FB-56C1-4ED6-9323-9F0A83E3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9C71-A513-4CB5-898C-E1168C55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5543-49F3-462C-89F7-6327CDAD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386-CB5C-43A5-BDF3-2A9B16E4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26E-5C4F-4B44-91A1-89A2C96D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AEEE-1BC2-4DDC-9140-2D0B048E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2EFF-B027-470C-9313-C4A0104E3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pothalamus &amp; Pituit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3505320"/>
            <a:ext cx="7391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lix E. Grissom,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artment of Physiology &amp; Biophy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19 Adams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 (202) 806-45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rior Pituitary Hormones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996840"/>
            <a:ext cx="830592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rowth Hormone (GH, Somatotropin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rimary hormone responsible for regulating body growth, and is important in metabo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yroid-stimulating  Hormone (TSH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imulates secretion of thyroid hormone &amp; growth of thyroid 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renocorticotropic Hormone (ACTH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timulates cortisol secretion by the adrenal cortex &amp; promotes growth of adrenal co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rior Pituitary Hormones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53416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icle-stimulating Hormone (FSH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imulates growth &amp; development of ovarian follicles, promotes secretion of estrogen by ovaries.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required for sperm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uteinizing Hormone (LH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ponsible for ovulation, formation of corpus luteum in the ovary, and regulation of ovarian secretion of female sex hormones.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imulates cell in the testes to secrete testo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lacti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imulates breast development and milk production.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nvolved in testicula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57200" y="76320"/>
          <a:ext cx="8381880" cy="6638760"/>
        </p:xfrm>
        <a:graphic>
          <a:graphicData uri="http://schemas.openxmlformats.org/drawingml/2006/table">
            <a:tbl>
              <a:tblPr/>
              <a:tblGrid>
                <a:gridCol w="4191120"/>
                <a:gridCol w="4190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ALAMIC HORM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ECTS ON THE ANTERIOR PITUIT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yrotropin-releasing hormone (TR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imulates release of TSH (thyrotropin) and Prolact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ticotropin-releasing hormone (CR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imulates release of ACTH (corticotro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rotropin-releasing hormone (GnR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imulates release of FSH and LH (gonadotropin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wth hormone-releasing hormone (GHR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imulates release of growth horm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wth hormone-inhibiting hormone (GHI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hibits release of growth hormo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{Prolactin-inhibiting hormone (PI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imulates release of prolact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lactin-inhibiting hormone (PI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hibits release of prolact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th Hormone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371600"/>
            <a:ext cx="79246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plasma free fatty acids (FFA)  - source of energy for muscle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hepatic glucose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s insulin sensitivity in mus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protein anabolic horm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th Hormone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3059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rts its growth-promoting  through interactions [mainly induction of  Insulin-like Growth Factor I (IGF-I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F-I synthesis is stimulated by 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source of IGF-I is the liver; IGF-I is also locally produced  in other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4920" y="2471400"/>
            <a:ext cx="861048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alamic stimulation–from C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tuitary stimulation–from hypothalamic trophic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ocrine gland stimulation–from pituitary trophic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2560" y="4633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ocrine Control: Three Levels of 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9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ocrine Control: Three Levels of 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30520" y="6545160"/>
            <a:ext cx="557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-13: Hormones of the hypothalamic-anterior pituitary path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5331" t="669" r="5501" b="3073"/>
          <a:stretch/>
        </p:blipFill>
        <p:spPr>
          <a:xfrm>
            <a:off x="1154160" y="1523880"/>
            <a:ext cx="6821280" cy="498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8240" y="1981080"/>
            <a:ext cx="86122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mu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lin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blood gluc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s sti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s insulin re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0" y="-1440"/>
            <a:ext cx="87631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timuli for Hormone Releas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rvous &amp; Endocr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240" y="2057040"/>
            <a:ext cx="392580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th Horm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atomed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yrox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have receptors on many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ulate pathways for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2560" y="4633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Hormones Can Target a Cell/T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9240" y="6242040"/>
            <a:ext cx="33145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-17: A complex endocrine path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21272" t="1054" r="21272" b="3073"/>
          <a:stretch/>
        </p:blipFill>
        <p:spPr>
          <a:xfrm>
            <a:off x="4405320" y="2057400"/>
            <a:ext cx="46245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560" y="1538280"/>
            <a:ext cx="85230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ergism:  multiple stimuli more than add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tisol +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cagon +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inephrine +20 (added = +3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ergistic effect + 1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agonism: glucagons opposes insul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siveness: need 2nd hormone to get full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Impacts on Targe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371840" y="6496200"/>
            <a:ext cx="4635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1-3: Autonomic control centers in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15998" t="0" r="16485" b="3099"/>
          <a:stretch/>
        </p:blipFill>
        <p:spPr>
          <a:xfrm>
            <a:off x="1523880" y="380880"/>
            <a:ext cx="61722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Impacts on Targe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71840" y="6496200"/>
            <a:ext cx="4635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-18: Synerg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7725" t="0" r="19324" b="3073"/>
          <a:stretch/>
        </p:blipFill>
        <p:spPr>
          <a:xfrm>
            <a:off x="2119320" y="1752480"/>
            <a:ext cx="4840200" cy="485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Pitui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211400"/>
            <a:ext cx="80010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ised of the endings of axons from cell bodies in the hypothalamus (supraoptic and paraventricul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ons pass from the hypothalamus to the posterior pituitary via the hypothalamohypophysial 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pituitary hormones are synthesized in the cell bodies of neurons in the supraoptic and paraventricular nucl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Pitui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9051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676520"/>
            <a:ext cx="85341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mones synthesized in the hypothalamus are transported down the axons to the endings in the posterior pitui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mone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o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vesicles in the posterior pituitary until release into the cir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al Hormones:  Vasopressin &amp; Oxyto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retion of Posterior Pituitary Horm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36960" y="6519960"/>
            <a:ext cx="515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-12: Synthesis, storage, and release of posterior pituitary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17550" t="2871" r="17195" b="3073"/>
          <a:stretch/>
        </p:blipFill>
        <p:spPr>
          <a:xfrm>
            <a:off x="2131920" y="2133720"/>
            <a:ext cx="511992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to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219320"/>
            <a:ext cx="78483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synthesized as the precursor hormone: prepro-oxyphy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s primarily on the mammary gland and ute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contraction of smooth muscle  of  the vas defe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to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2666880"/>
            <a:ext cx="8001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ion is increased during la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also act to facilitate sperm transport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erus (non-pregnancy st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Pituitary: Regulation of Osmol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676520"/>
            <a:ext cx="8686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sma osmolality is monitored by osmoreceptors in the hypothala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in plasma osmolality stimulates secretion of vasopres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changes above the normal plasma osmotic pressure (285 mosm/kg) stimulate release of vasopres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sopressin (AD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286000"/>
            <a:ext cx="7772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lso known as antiduretic hormone (AD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ipates in body water regulation (Water is lost from lungs, sweat, feces and urine on a daily ba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mol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828800"/>
            <a:ext cx="815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the amount of solutes in a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r gain of water without solutes (free wat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in or  loss) changes the osmolality of  EC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regulated to maintain normal cell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sopressin (ADH)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209680"/>
            <a:ext cx="7772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ion is Stimulat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decreases in blood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s in blood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, fear, trauma, and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hala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s functions that maintain chemical and temperature homeost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with the limbic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s the release of hormones from the anterior and posterior pitui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sopressin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981080"/>
            <a:ext cx="845820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s water excretion by kidneys 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ep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icts blood vessels 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eptors)- arteriolar smooth mus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adrenocorticortropin hormone 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eptors) secretion from the anterior pitui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51200"/>
            <a:ext cx="8763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Feedback Control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g &amp; Short Loop Refl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88120" y="5516640"/>
            <a:ext cx="1917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-14: Negative feedback loops in the hypothalamic-anterior pituitary pathw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6131" t="435" r="17725" b="3313"/>
          <a:stretch/>
        </p:blipFill>
        <p:spPr>
          <a:xfrm>
            <a:off x="1967040" y="1600200"/>
            <a:ext cx="518148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44280"/>
            <a:ext cx="8763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Feedback Control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g &amp; Short Loop Refl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0040" y="6545160"/>
            <a:ext cx="482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-15: Control pathway for cortisol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3280" t="667" r="23780" b="6010"/>
          <a:stretch/>
        </p:blipFill>
        <p:spPr>
          <a:xfrm>
            <a:off x="2432160" y="1447920"/>
            <a:ext cx="421632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980720"/>
            <a:ext cx="849780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no bad hormones – just too much or too littl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ogenous med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s &amp; exceeds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 atrophy of 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secretion: too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mors or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e's disease- thyrox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secretion:  too li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iter – thyrox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betes – 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2560" y="4633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ologies: Over or Under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9395" t="0" r="10284" b="3073"/>
          <a:stretch/>
        </p:blipFill>
        <p:spPr>
          <a:xfrm>
            <a:off x="1281240" y="1905120"/>
            <a:ext cx="6186240" cy="4687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4633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ologies: Over or Under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71840" y="6496200"/>
            <a:ext cx="4635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-19: Negative feedback by exogenous cortis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920" y="2270160"/>
            <a:ext cx="861048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regulation – hyperinsul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duction abnorma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cular feminization syndr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hypothyroid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normalities of control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ologies: Due to Recep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ologies: Due to Recep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32320" y="6532560"/>
            <a:ext cx="469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-20: Primary and secondary hypersecretion of cortis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4631"/>
          <a:stretch/>
        </p:blipFill>
        <p:spPr>
          <a:xfrm>
            <a:off x="685800" y="533520"/>
            <a:ext cx="7742160" cy="55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hala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zes releasing hormones in cell bodies of 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mones are transported down the axon and stored in the nerve e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mones are released in pul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halamic Releasing 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 releasing hormones are made in the hypothala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yrotropin-releasing hormone (TR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ticotropin-releasing hormone (CR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nadotropin-releasing hormone (GnR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hormone-releasing hormone (GHR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hormone-release inhibiting hormone (GHI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actin-releasing factor (PR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actin-inhibiting hormone (PI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halamus Releasing Hormones: Secr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fluenced by emo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influenced by the metabolic state of the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vered to the anterior pituitary via the hypothalamic-hypophyseal porta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initiates a three-hormone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rior Pitui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133720"/>
            <a:ext cx="86868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lso called the Adenohypoph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es tropic hormones in a pulsatile fash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zes various hormones in various specific cell pop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04920" y="304920"/>
          <a:ext cx="815328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rior Pituitary 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981080"/>
            <a:ext cx="746748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f  anterior pituitary hormone is synthesized by a cell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icotropes      -     AC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totropes        -      Prolac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atotropes      -       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yrotropes         -       Thyrotro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nadotropes      -       FSH, 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9:42:16Z</dcterms:created>
  <dc:creator>Felix E. Grissom, Ph.D.</dc:creator>
  <dc:description/>
  <dc:language>en-US</dc:language>
  <cp:lastModifiedBy>Felix E. Grissom, Ph.D.</cp:lastModifiedBy>
  <dcterms:modified xsi:type="dcterms:W3CDTF">2005-02-15T18:44:26Z</dcterms:modified>
  <cp:revision>3</cp:revision>
  <dc:subject/>
  <dc:title>Hypothalamus &amp; Pituitary</dc:title>
</cp:coreProperties>
</file>