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421-749A-4ECE-88F1-BEFDB447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9C2-2884-4261-B162-0F58F01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AB5-83F0-4884-BA19-4747BC1F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F10-5B1C-409D-8757-298E8DED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4A7-BBC6-45D9-BD1F-7F44E4D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750-FA41-4610-9CE8-1D54DA7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256-940F-4BB5-B7D3-EA534851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71C-6A93-4586-9E8F-E3E463C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CAB-1899-4822-BB6C-85C91FAD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45A-9B4E-4D39-BB6F-72372F5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39D-275B-42C7-ABF1-D905B91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1D1-0630-407D-9035-2F0D9CB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EEE-D7A4-4B87-B5F6-FC60EF44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alamus &amp; 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50532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lix E. Grissom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Physiology &amp; Bio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19 Adams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 (202) 806-45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996840"/>
            <a:ext cx="83059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owth Hormone (GH, Somatotropin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imary hormone responsible for regulating body growth, and is important in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yroid-stimulating  Hormone (TS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secretion of thyroid hormone &amp; growth of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renocorticotropic Hormone (ACT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timulates cortisol secretion by the adrenal cortex &amp; promotes growth of adren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534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icle-stimulating Hormone (FS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growth &amp; development of ovarian follicles, promotes secretion of estrogen by ovaries.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quired for sperm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uteinizing Hormone (LH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sible for ovulation, formation of corpus luteum in the ovary, and regulation of ovarian secretion of female sex hormones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cell in the testes to secrete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lact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mulates breast development and milk production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l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volved in testicula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76320"/>
          <a:ext cx="8381880" cy="663876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ALAM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S ON THE ANTERIOR PITU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tropin-releasing hormone (T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TSH (thyrotropin) and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ropin-releasing hormone (C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ACTH (corticotro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rotropin-releasing hormone (Gn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FSH and LH (gonadotropi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hormone-releasing hormone (GHR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growth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hormone-inhibiting hormone (GH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its release of growth hormo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Prolactin-inhibiting hormone (P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ulates release of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lactin-inhibiting hormone (PI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its release of prolac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371600"/>
            <a:ext cx="79246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plasma free fatty acids (FFA)  - source of energy for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hepatic glucos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insulin sensitivity in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otein anabolic 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305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ts its growth-promoting  through interactions [mainly induction of  Insulin-like Growth Factor I (IGF-I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F-I synthesis is stimulated by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source of IGF-I is the liver; IGF-I is also locally produced  in other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2471400"/>
            <a:ext cx="86104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alamic stimulation–from C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uitary stimulation–from hypothalamic trophic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gland stimulation–from pituitary trophic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crine Control: Three Levels of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ocrine Control: Three Levels of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30520" y="6545160"/>
            <a:ext cx="557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3: Hormones of the hypothalamic-anterior pituitary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5331" t="669" r="5501" b="3073"/>
          <a:stretch/>
        </p:blipFill>
        <p:spPr>
          <a:xfrm>
            <a:off x="1154160" y="1523880"/>
            <a:ext cx="6821280" cy="49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6122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blood gluc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insulin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-1440"/>
            <a:ext cx="87631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timuli for Hormone Rele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&amp; Endoc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2057040"/>
            <a:ext cx="392580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Horm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omed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x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have receptors on many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 pathways fo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Hormones Can Target a Cell/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240" y="6242040"/>
            <a:ext cx="3314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7: A complex endocrine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1272" t="1054" r="21272" b="3073"/>
          <a:stretch/>
        </p:blipFill>
        <p:spPr>
          <a:xfrm>
            <a:off x="4405320" y="2057400"/>
            <a:ext cx="4624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1538280"/>
            <a:ext cx="85230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ism:  multiple stimuli more than add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tisol 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agon +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nephrine +20 (added = +3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ergistic effect + 1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agonism: glucagons opposes insul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veness: need 2nd hormone to get ful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mpacts on Targe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-3: Autonomic control centers in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998" t="0" r="16485" b="3099"/>
          <a:stretch/>
        </p:blipFill>
        <p:spPr>
          <a:xfrm>
            <a:off x="1523880" y="380880"/>
            <a:ext cx="61722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mpacts on Targe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8: Synerg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7725" t="0" r="19324" b="3073"/>
          <a:stretch/>
        </p:blipFill>
        <p:spPr>
          <a:xfrm>
            <a:off x="2119320" y="1752480"/>
            <a:ext cx="484020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211400"/>
            <a:ext cx="8001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the endings of axons from cell bodies in the hypothalamus (supraoptic and paraventricu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ons pass from the hypothalamus to the posterior pituitary via the hypothalamohypophysial 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 hormones are synthesized in the cell bodies of neurons in the supraoptic and paraventricular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05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85341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synthesized in the hypothalamus are transported down the axons to the endings in the pos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vesicles in the posterior pituitary until release into the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Hormones:  Vasopressin &amp; 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retion of Posterior Pituitary 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36960" y="6519960"/>
            <a:ext cx="515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2: Synthesis, storage, and release of posterior pituitary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7550" t="2871" r="17195" b="3073"/>
          <a:stretch/>
        </p:blipFill>
        <p:spPr>
          <a:xfrm>
            <a:off x="2131920" y="2133720"/>
            <a:ext cx="5119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7848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ynthesized as the precursor hormone: prepro-oxyphy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primarily on the mammary gland and ute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contraction of smooth muscle  of  the vas defe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66688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is increased during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act to facilitate sperm transport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us (non-pregnancy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Pituitary: Regulation of 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76520"/>
            <a:ext cx="8686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 osmolality is monitored by osmoreceptors in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in plasma osmolality stimulates secretion of vasopres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hanges above the normal plasma osmotic pressure (285 mosm/kg) stimulate release of vasopres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(AD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7772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known as antiduretic hormone (AD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es in body water regulation (Water is lost from lungs, sweat, feces and urine on a daily b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mol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828800"/>
            <a:ext cx="815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amount of solutes in a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r gain of water without solutes (free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 or  loss) changes the osmolality of  EC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regulated to maintain normal cel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(ADH)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0968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is Stimula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ecreases in blood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in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fear, trauma, and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functions that maintain chemical and temperature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with the limb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the release of hormones from the anterior and posterior pitu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sopressi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81080"/>
            <a:ext cx="84582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water excretion by kidneys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icts blood vessels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- arteriolar smooth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adrenocorticortropin hormon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ptors) secretion from the an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120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Feedback Control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&amp; Short Loop Ref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8120" y="5516640"/>
            <a:ext cx="1917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4: Negative feedback loops in the hypothalamic-anterior pituitary path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131" t="435" r="17725" b="3313"/>
          <a:stretch/>
        </p:blipFill>
        <p:spPr>
          <a:xfrm>
            <a:off x="1967040" y="1600200"/>
            <a:ext cx="518148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44280"/>
            <a:ext cx="8763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Feedback Control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&amp; Short Loop Ref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0040" y="6545160"/>
            <a:ext cx="482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5: Control pathway for cortisol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3280" t="667" r="23780" b="6010"/>
          <a:stretch/>
        </p:blipFill>
        <p:spPr>
          <a:xfrm>
            <a:off x="2432160" y="1447920"/>
            <a:ext cx="421632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4978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o bad hormones – just too much or too littl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genous me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&amp; exceed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atrophy of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secretion: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ors or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e's disease- thyr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secretion:  too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ter – thyr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betes –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Over or Under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9395" t="0" r="10284" b="3073"/>
          <a:stretch/>
        </p:blipFill>
        <p:spPr>
          <a:xfrm>
            <a:off x="1281240" y="1905120"/>
            <a:ext cx="6186240" cy="4687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4633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Over or Under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6496200"/>
            <a:ext cx="463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19: Negative feedback by exogenous corti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2270160"/>
            <a:ext cx="86104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regulation – hyperinsul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duction abnorm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cular feminization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ities of control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Due to Rece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ies: Due to Rece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32320" y="6532560"/>
            <a:ext cx="469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-20: Primary and secondary hypersecretion of cortis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4631"/>
          <a:stretch/>
        </p:blipFill>
        <p:spPr>
          <a:xfrm>
            <a:off x="685800" y="533520"/>
            <a:ext cx="774216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es releasing hormones in cell bodies of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transported down the axon and stored in the ner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mones are released in pul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ic Releasing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 releasing hormones are made in the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ropin-releasing hormone (T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ticotropin-releasing hormone (C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nadotropin-releasing hormone (Gn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hormone-releasing hormone (GH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hormone-release inhibiting hormone (GH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-releasing factor (P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-inhibiting hormone (P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alamus Releasing Hormones: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fluenced by emo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influenced by the metabolic state of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to the anterior pituitary via the hypothalamic-hypophyseal port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initiates a three-hormon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133720"/>
            <a:ext cx="8686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alled the Aden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s tropic hormones in a pulsatile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es various hormones in various specific cell 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4920" y="304920"/>
          <a:ext cx="81532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Pituitary 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74674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f  anterior pituitary hormone is synthesized by a cell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otropes      -     AC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totropes        -      Prol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otropes      -       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tropes         -       Thyrotro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nadotropes      -       FSH, 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42:16Z</dcterms:created>
  <dc:creator>Felix E. Grissom, Ph.D.</dc:creator>
  <dc:description/>
  <dc:language>en-US</dc:language>
  <cp:lastModifiedBy>Felix E. Grissom, Ph.D.</cp:lastModifiedBy>
  <dcterms:modified xsi:type="dcterms:W3CDTF">2005-02-15T18:44:26Z</dcterms:modified>
  <cp:revision>3</cp:revision>
  <dc:subject/>
  <dc:title>Hypothalamus &amp; Pituitary</dc:title>
</cp:coreProperties>
</file>