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move the slide</a:t>
            </a:r>
            <a:endParaRPr b="0" lang="en-US" sz="4800" spc="-1" strike="noStrike">
              <a:solidFill>
                <a:srgbClr val="6f6e4a"/>
              </a:solidFill>
              <a:latin typeface="Georgi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0CEE-4C0D-4518-9FCC-BD2E55C7AA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D3F9-D0B8-4C5E-A096-8B5B477EF6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Business Environments and Operations 14e by Daniels, Radebaugh, and Sulliva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B14A-8BFF-4B44-854D-AFAE3B6C6E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measure globalization?  Well, it’s not easy.  In general, we know that globalization has been increasing at least since the mid-1900s.  Indeed, at the moment, more than 20 percent of world production is sold outside of its country of origin as compared to just seven percent in 1950.  However, much of the world is still relatively isol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comprehensive efforts to explore levels of globalization is the A.T. Kearney/Foreign Policy Index which ranks countries across four dimensions: economic, technological, personal contact, and political dimensions.  Interestingly, the Index shows that a country can rank quite high on one dimension, but much lower on another.  For example, the United States ranks high on the technological dimension, but much lower on the economic dimension.  In contrast, Singapore and Hong Kong have ranked as the most globalized across all dimensions, while India and Iran are at the bottom of the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8D7F-6AA8-4E68-927B-E77BDD6108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3: To discuss globalization’s future and the major criticisms of globaliz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413A-EBEC-4006-996E-D2BF7C9C547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re are many benefits to globalization, it remains controversial.  Antiglobalization protests have become common at international conferences, and the reaction to government policies is sometimes viol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issues are of particular concern.  First, the threat the globalization poses to national sovereignty.  According to critics, globalization undermines the ability of a country to act in its own best interests and can make smaller economies overly dependent on larger ones.  Moreover, critics contend that even a country’s cultural sovereignty is threatened as products, companies, work methods, social structures and language are homogenized as a result of globaliz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econd concern is the effect of globalization on economic growth and the environment.  Because </a:t>
            </a:r>
            <a:r>
              <a:rPr b="0" lang="en-US" sz="1000" spc="-1" strike="noStrike">
                <a:solidFill>
                  <a:srgbClr val="000000"/>
                </a:solidFill>
                <a:latin typeface="Palatino-Roman"/>
              </a:rPr>
              <a:t>globalization brings growth, more nonrenewable natural resources are consumed and damage to the environment increases.  You might think of despoliation through toxic and pesticide runoffs into rivers and oceans, air pollution from factory and vehicle emissions, and deforestation that can affect weather and climate for example.  However, others argue that global cooperation actually fosters superior and uniform standards for combating environmental problems, and that companies are encouraged to seek resource-saving and environmentally friendly technolog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Roman"/>
              </a:rPr>
              <a:t>Finally, critics are concerned about the effect of globalization on income equality and personal stress.  According to critics the income inequality that is present in many countries today is a result of the global superstar system that has emerged as a consequence of globalization.  Critics contend that globalization has facilitated access to a greater supply of low-skilled and low-cost labor and encouraged competition that leads to winners and losers. There is also some evidence that the growth in globalization goes hand in hand not only with increased insecurity about job and social status, but also with costly social unres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Roman"/>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6D82-69E5-4D20-BCAA-2B7AA1C2D1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 globalization also worry that the practice of offshoring is shifting too many jobs abroad.  But keep in mind, that the practice allows companies to keep costs down, and can actually help create high value jobs at home.  IBM’s offshoring strategy for example, allows the company to not only save money and boost sales, but also to create new job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F95E-CDB3-43E8-9C2C-479CDDAC618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2: To understand why companies engage in international business and why international business growth has accelera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63ED-6421-416B-9F41-2B5518CE419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companies engage in international business?  A general answer is that going in international can help firms create value.  More specifically, going global can help firms expand sales, acquire resources, and diversify or even reduce risk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95CB-14C2-4061-AEED-5C5864C7EC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of these can influence decisions about whether, where, and how to go global.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BE5A-52FC-4527-938E-7E28732068E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4: To become familiar with different ways in which a company can accomplish its global objectiv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9D34-7170-48DD-803B-A19104053C1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pular modes of international business are merchandise exports and merchandise imports. They represent major sources of international revenues and expenditures for countri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96D9C-478D-46C0-9A8F-45546F8F28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exports and imports are the fastest growing sector in international trade.  The most important are tourism and transportation, service performance, and asset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untries depend on tourism and transportation for both foreign exchange earnings and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pay fees for services rendered in turnkey operations and management contracts.  Turnkey operations are construction projects performed under contract and transferred to owners when they’re operational.  Management contracts are arrangements in which one company provides personnel to perform general or specialized management functions for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 use involves allowing another company to use your trademarks, patents, copyrights, or expertise in exchange for royalties.  This takes place through licensing and franchising agreement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3917-598D-4565-B568-DA09852DE4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Globalization and International Busin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CE81-D379-4D4B-9670-6517EC81AD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can also engage in international business by taking either a controlling or a non-controlling interest in a foreign company.  When a firm takes a controlling interest the investment is known as foreign direct investment.  If two or more  companies share ownership of the investment it’s referred to as a joint venture.  A non-controlling interest is called portfolio investm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ABB1-A407-4255-B735-7C3B2ED32D0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different terms to refer to the various collaborative arrangements between companies including joint ventures, licensing arrangements, management contracts, and long-term contractual arrangements.  Those relationships in which the agreement is of critical importance to one or more partners or to an agreement that doesn’t involve joint ownership are called strategic allianc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DCFF-D18A-454F-B334-FB983530F7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company with foreign direct investments is known as a multinational enterprise.  Other terms used for these types of companies include multinational company, multinational corporation, or transnational corporatio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D5EE-816B-48B1-B03C-175CC6BC35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companies doing international business may have to adjust their typical methods of operation depending on the conditions in foreign markets or if the operating modes are different from those used domestically.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6D8B-D176-4C15-A7CF-2291DEC4BB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5: To apply social science disciplines to understanding the differences between international and domestic busin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4556-0138-489A-AA34-AF6D20A2CC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volved in international business need to explore how the external environment will affect their operations. In particular, it’s important for managers to understand the social science disciplines and how they affect all functional business field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92DF-FD73-4234-A6F4-7AEBF268CC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organize physical and social factors into four groups.  The first is geographic influences or how natural conditions influence the choice of production locations.  The second group is political policies which impacts how, and even if, business takes place within a country.  Related to this are legal policies.  Firms must follow the laws in each country. The fourth group, behavioral factors, may also force a company to alter its operations to better fit with local cultural norms and values. Finally, economic forces affect costs, currency values, market size, and so on.  Together, these factors influence how companies produce and market their products, how they staff their operations, and so on.  Keep in mind that the factors may require a company to use a different method of operation internationally than is used domestically.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AC19-30F5-4123-981C-4C871C9525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also need to understand how the competitive environment will affect their operations.  A company’s competitive strategy - low cost, differentiation, or focus - will influence its international strategy, as will its resources and experience. Companies with greater resources and experience will have more opportunities open to them than companies with more limited resources or experience.   Finally, the competitors a firm faces in each market will dictate to some degree a company’s international strategy.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1213-FF90-4690-B5B3-82B66A7C43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a firm’s competitive strategy influences how and where it operates.  Firms might find that their competitive situation differs from market to marke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80D2-9648-4E1E-90A2-D25913499A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3: To discuss globalization’s future and the major criticisms of globaliz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DCE4-EC5F-41B7-B0F6-C0D5D3A7D9D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Objectives for Chapter 1 are</a:t>
            </a:r>
            <a:endParaRPr b="0" lang="en-US" sz="1200" spc="-1" strike="noStrike">
              <a:solidFill>
                <a:srgbClr val="000000"/>
              </a:solidFill>
              <a:latin typeface="Arial"/>
            </a:endParaRPr>
          </a:p>
          <a:p>
            <a:pPr marL="228600" indent="-228600">
              <a:spcBef>
                <a:spcPts val="451"/>
              </a:spcBef>
              <a:buClr>
                <a:srgbClr val="6f6e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fine globalization and international business and show how they affect</a:t>
            </a:r>
            <a:r>
              <a:rPr b="0" lang="en-US" sz="1200" spc="-1" strike="noStrike">
                <a:solidFill>
                  <a:srgbClr val="666699"/>
                </a:solidFill>
                <a:latin typeface="Arial"/>
              </a:rPr>
              <a:t> </a:t>
            </a:r>
            <a:r>
              <a:rPr b="0" lang="en-US" sz="1200" spc="-1" strike="noStrike">
                <a:solidFill>
                  <a:srgbClr val="000000"/>
                </a:solidFill>
                <a:latin typeface="Arial"/>
              </a:rPr>
              <a:t>each other</a:t>
            </a:r>
            <a:endParaRPr b="0" lang="en-US" sz="1200" spc="-1" strike="noStrike">
              <a:solidFill>
                <a:srgbClr val="000000"/>
              </a:solidFill>
              <a:latin typeface="Arial"/>
            </a:endParaRPr>
          </a:p>
          <a:p>
            <a:pPr marL="228600" indent="-228600">
              <a:spcBef>
                <a:spcPts val="451"/>
              </a:spcBef>
              <a:buClr>
                <a:srgbClr val="6f6e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why companies engage in international business and why international business growth has accelerated</a:t>
            </a:r>
            <a:endParaRPr b="0" lang="en-US" sz="1200" spc="-1" strike="noStrike">
              <a:solidFill>
                <a:srgbClr val="000000"/>
              </a:solidFill>
              <a:latin typeface="Arial"/>
            </a:endParaRPr>
          </a:p>
          <a:p>
            <a:pPr marL="228600" indent="-228600">
              <a:spcBef>
                <a:spcPts val="451"/>
              </a:spcBef>
              <a:buClr>
                <a:srgbClr val="6f6e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globalization’s future and the major criticisms of globalization</a:t>
            </a:r>
            <a:endParaRPr b="0" lang="en-US" sz="1200" spc="-1" strike="noStrike">
              <a:solidFill>
                <a:srgbClr val="000000"/>
              </a:solidFill>
              <a:latin typeface="Arial"/>
            </a:endParaRPr>
          </a:p>
          <a:p>
            <a:pPr marL="228600" indent="-228600">
              <a:spcBef>
                <a:spcPts val="451"/>
              </a:spcBef>
              <a:buClr>
                <a:srgbClr val="6f6e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come familiar with different ways in which a company can accomplish its global objectives</a:t>
            </a:r>
            <a:endParaRPr b="0" lang="en-US" sz="1200" spc="-1" strike="noStrike">
              <a:solidFill>
                <a:srgbClr val="000000"/>
              </a:solidFill>
              <a:latin typeface="Arial"/>
            </a:endParaRPr>
          </a:p>
          <a:p>
            <a:pPr marL="228600" indent="-228600">
              <a:spcBef>
                <a:spcPts val="451"/>
              </a:spcBef>
              <a:buClr>
                <a:srgbClr val="6f6e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ly social science disciplines to understanding the differences between international and domestic busines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871A-FEED-4824-9067-0900A10B72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the future of international business and globalization?  Well, there are three different perspectives on what the future might hold.  Some believe that future globalization is inevitable.  Those taking this perspective note that </a:t>
            </a:r>
            <a:r>
              <a:rPr b="0" lang="en-US" sz="1000" spc="-1" strike="noStrike">
                <a:solidFill>
                  <a:srgbClr val="000000"/>
                </a:solidFill>
                <a:latin typeface="HelveticaNeue-Roman"/>
              </a:rPr>
              <a:t>advances in transportation and communications are so pervasive that consumers everywhere will demand the best products for the best prices regardless of their origins. Moreover because MNEs have so many international production and distribution networks in place, they</a:t>
            </a:r>
            <a:r>
              <a:rPr b="0" lang="en-US" sz="1000" spc="-1" strike="noStrike">
                <a:solidFill>
                  <a:srgbClr val="000000"/>
                </a:solidFill>
                <a:latin typeface="Arial"/>
              </a:rPr>
              <a:t>’</a:t>
            </a:r>
            <a:r>
              <a:rPr b="0" lang="en-US" sz="1000" spc="-1" strike="noStrike">
                <a:solidFill>
                  <a:srgbClr val="000000"/>
                </a:solidFill>
                <a:latin typeface="HelveticaNeue-Roman"/>
              </a:rPr>
              <a:t>ll pressure their governments to place fewer rather than more restrictions on the international movement of goods and the means of producing them. The largest challenge to overcome in this scenario will be figuring out how to spread the benefits of globalization equitably while minimizing the hardships placed on individuals and companies affected by increased international competi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s however, think that in the future international business will grow more along regional rather than along global lines. This argument </a:t>
            </a:r>
            <a:r>
              <a:rPr b="0" lang="en-US" sz="1000" spc="-1" strike="noStrike">
                <a:solidFill>
                  <a:srgbClr val="000000"/>
                </a:solidFill>
                <a:latin typeface="HelveticaNeue-Roman"/>
              </a:rPr>
              <a:t>is based on studies that indicate that companies tend to conduct international business in neighboring countries.  It’s logical that when companies first engage in international business, they expand into neighboring countries first and continue outwardly from there.  This helps reduce transportation costs and companies can benefit from regional trade agreements that reduce barri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ll others feel that the pace of both globalization and international business will slow down.  Recall that a</a:t>
            </a:r>
            <a:r>
              <a:rPr b="0" lang="en-US" sz="1000" spc="-1" strike="noStrike">
                <a:solidFill>
                  <a:srgbClr val="000000"/>
                </a:solidFill>
                <a:latin typeface="HelveticaNeue-Roman"/>
              </a:rPr>
              <a:t>ntiglobalization sentiments have surfaced over the years, protesting against some of the negative effects of international business activity. This sentiment together with economic recession, growing political instability, and rising fuel costs among other things, threatens to slow international business growt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F278-1485-48C3-B563-FB944EE177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E2D3-B3E8-4AF5-B3CA-F69A6476139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 1: To define globalization and international business and show how they affect</a:t>
            </a:r>
            <a:r>
              <a:rPr b="0" lang="en-US" sz="1200" spc="-1" strike="noStrike">
                <a:solidFill>
                  <a:srgbClr val="666699"/>
                </a:solidFill>
                <a:latin typeface="Arial"/>
              </a:rPr>
              <a:t> </a:t>
            </a:r>
            <a:r>
              <a:rPr b="0" lang="en-US" sz="1200" spc="-1" strike="noStrike">
                <a:solidFill>
                  <a:srgbClr val="000000"/>
                </a:solidFill>
                <a:latin typeface="Arial"/>
              </a:rPr>
              <a:t>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4554-D480-4604-8A9F-05C88DEBD21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globalization?  Globalization refers to the widening set of interdependent relationships among people from different parts of a world that is divided into n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he term also refers to the integration of world economies through the reduction of barriers to the movement of trade, capital, technology, and people. Throughout history, human contacts over ever-wider geographic areas have expanded the variety of available resources, products, services, and marke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oday, so many different components, ingredients, and specialized business activities go into products that we</a:t>
            </a:r>
            <a:r>
              <a:rPr b="0" lang="en-US" sz="1200" spc="-1" strike="noStrike">
                <a:solidFill>
                  <a:srgbClr val="000000"/>
                </a:solidFill>
                <a:latin typeface="Arial"/>
              </a:rPr>
              <a:t>’</a:t>
            </a:r>
            <a:r>
              <a:rPr b="0" lang="en-US" sz="1200" spc="-1" strike="noStrike">
                <a:solidFill>
                  <a:srgbClr val="000000"/>
                </a:solidFill>
                <a:latin typeface="Palatino-Roman"/>
              </a:rPr>
              <a:t>re often challenged to say exactly where they were made.  For example Apple’s iPhones are shipped from China and seem to be Chinese, yet less than four percent of their value is actually performed in Chin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1B6B-314D-4D59-A938-DCE1EA431BB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ternational business?  International business consists of all commercial transactions that take place between two or more countries.  International business activities </a:t>
            </a:r>
            <a:r>
              <a:rPr b="0" lang="en-US" sz="1200" spc="-1" strike="noStrike">
                <a:solidFill>
                  <a:srgbClr val="000000"/>
                </a:solidFill>
                <a:latin typeface="Palatino-Roman"/>
              </a:rPr>
              <a:t>allow us to get more variety, better quality, and/or lower pri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ternational business activities may be performed by private companies motivated by profit, or by governments that undertake them either for profit or for political reas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35C9-71F7-4054-86AC-FB4D356991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you study international business?  There are many reasons.  One of the most important is because global events affect companies of all sizes and in all industries.  In fact, m</a:t>
            </a:r>
            <a:r>
              <a:rPr b="0" lang="en-US" sz="1200" spc="-1" strike="noStrike">
                <a:solidFill>
                  <a:srgbClr val="000000"/>
                </a:solidFill>
                <a:latin typeface="Palatino-Roman"/>
              </a:rPr>
              <a:t>anagers today need to consider  where in the world to obtain the inputs they need of the required quality and at the best possible price and also where they can best sell the product or service that they</a:t>
            </a:r>
            <a:r>
              <a:rPr b="0" lang="en-US" sz="1200" spc="-1" strike="noStrike">
                <a:solidFill>
                  <a:srgbClr val="000000"/>
                </a:solidFill>
                <a:latin typeface="Arial"/>
              </a:rPr>
              <a:t>’</a:t>
            </a:r>
            <a:r>
              <a:rPr b="0" lang="en-US" sz="1200" spc="-1" strike="noStrike">
                <a:solidFill>
                  <a:srgbClr val="000000"/>
                </a:solidFill>
                <a:latin typeface="Palatino-Roman"/>
              </a:rPr>
              <a:t>ve put together from those inputs.  In many cases, managers may find that they can be more competitive by engaging in global business transac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t’s also important to recognize that the best way of doing business abroad may not be the same as the best way at home.  When a company operates internationally, it engage in </a:t>
            </a:r>
            <a:r>
              <a:rPr b="0" i="1" lang="en-US" sz="1200" spc="-1" strike="noStrike">
                <a:solidFill>
                  <a:srgbClr val="000000"/>
                </a:solidFill>
                <a:latin typeface="Palatino-Italic"/>
              </a:rPr>
              <a:t>modes </a:t>
            </a:r>
            <a:r>
              <a:rPr b="0" lang="en-US" sz="1200" spc="-1" strike="noStrike">
                <a:solidFill>
                  <a:srgbClr val="000000"/>
                </a:solidFill>
                <a:latin typeface="Palatino-Roman"/>
              </a:rPr>
              <a:t>of business such as exporting and importing that differ from those in which it engages domestically.  In addition, physical, social, and competitive conditions differ among countries and affect the optimum ways to conduct business. So we often find that companies operating internationally have more diverse and complex operating environments than those that conduct business only at ho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Even if you aren’t working at an international company it’s important to understand international business complexities because overall national conditions</a:t>
            </a:r>
            <a:r>
              <a:rPr b="0" lang="en-US" sz="1200" spc="-1" strike="noStrike">
                <a:solidFill>
                  <a:srgbClr val="000000"/>
                </a:solidFill>
                <a:latin typeface="Arial"/>
              </a:rPr>
              <a:t>— things like profi</a:t>
            </a:r>
            <a:r>
              <a:rPr b="0" lang="en-US" sz="1200" spc="-1" strike="noStrike">
                <a:solidFill>
                  <a:srgbClr val="000000"/>
                </a:solidFill>
                <a:latin typeface="Palatino-Roman"/>
              </a:rPr>
              <a:t>ts, employment security and wages, consumer prices, and national security are all affected by the international operations of companies and by government regulations of those operati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6BCE-17F7-4600-BF52-3F297D37753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complex relationships among conditions and operations that a firm may face when its conducts some of its business internationally.  We’ll be referring back to this Figure throughout the chap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5D59F-CBDC-4584-B950-2EE29B2B638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may wonder what has been driving globalization.  The answer is many different  factors.  One factor is technology.  In recent years, we’ve seen tremendous advances in technology.  The pace of new product development is faster than ever, and many companies are finding that in order to keep up, they need to team up with companies in other countries to gain financial resources or specialized capabilities.  Firms are also finding that to justify their investments in new product development, they need to expand their sales to other market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other factor driving globalization is the liberalization of cross-border trade.  Today, most governments have reduced restrictions on cross-border trade giving their</a:t>
            </a:r>
            <a:r>
              <a:rPr b="0" lang="en-US" sz="900" spc="-1" strike="noStrike">
                <a:solidFill>
                  <a:srgbClr val="000000"/>
                </a:solidFill>
                <a:latin typeface="Palatino-Roman"/>
              </a:rPr>
              <a:t> citizens access to a greater variety of goods and services at lower prices.  Increased competition from foreign companies also encourages domestic producers to become more efficient.  Governments hope that by opening their countries to trade, other countries will also lower trade barri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Roman"/>
              </a:rPr>
              <a:t>The development of new services that facilitate international business transactions have also increased further driving globalization.  In addition, today’s consumers are more informed about foreign products and services and are better able to afford more luxury items.  Moreover, more consumers are able to comparison shop to find better deals worldwide.  Companies look for growing markets where consumer pressures are highest such as Chi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Roman"/>
              </a:rPr>
              <a:t>Intense global competition is also driving globalization. Today, companies continually look abroad to increase market share and reduce costs in order to better compete with other firms.  Expansion abroad can take many forms: so-called </a:t>
            </a:r>
            <a:r>
              <a:rPr b="1" lang="en-US" sz="900" spc="-1" strike="noStrike">
                <a:solidFill>
                  <a:srgbClr val="000000"/>
                </a:solidFill>
                <a:latin typeface="Palatino-Bold"/>
              </a:rPr>
              <a:t>born-global companies </a:t>
            </a:r>
            <a:r>
              <a:rPr b="0" lang="en-US" sz="900" spc="-1" strike="noStrike">
                <a:solidFill>
                  <a:srgbClr val="000000"/>
                </a:solidFill>
                <a:latin typeface="Palatino-Roman"/>
              </a:rPr>
              <a:t>start out with a global focus because of their founders</a:t>
            </a:r>
            <a:r>
              <a:rPr b="0" lang="en-US" sz="900" spc="-1" strike="noStrike">
                <a:solidFill>
                  <a:srgbClr val="000000"/>
                </a:solidFill>
                <a:latin typeface="Arial"/>
              </a:rPr>
              <a:t>’</a:t>
            </a:r>
            <a:r>
              <a:rPr b="0" lang="en-US" sz="900" spc="-1" strike="noStrike">
                <a:solidFill>
                  <a:srgbClr val="000000"/>
                </a:solidFill>
                <a:latin typeface="Palatino-Roman"/>
              </a:rPr>
              <a:t> international experience and because advances in communications give them a good idea of where global markets and suppliers are. Related to this, many new companies locate in areas where there are many competitors and suppliers</a:t>
            </a:r>
            <a:r>
              <a:rPr b="0" lang="en-US" sz="900" spc="-1" strike="noStrike">
                <a:solidFill>
                  <a:srgbClr val="000000"/>
                </a:solidFill>
                <a:latin typeface="Arial"/>
              </a:rPr>
              <a:t>—</a:t>
            </a:r>
            <a:r>
              <a:rPr b="0" lang="en-US" sz="900" spc="-1" strike="noStrike">
                <a:solidFill>
                  <a:srgbClr val="000000"/>
                </a:solidFill>
                <a:latin typeface="Palatino-Roman"/>
              </a:rPr>
              <a:t>a situation known as </a:t>
            </a:r>
            <a:r>
              <a:rPr b="1" lang="en-US" sz="900" spc="-1" strike="noStrike">
                <a:solidFill>
                  <a:srgbClr val="000000"/>
                </a:solidFill>
                <a:latin typeface="Palatino-Bold"/>
              </a:rPr>
              <a:t>clustering</a:t>
            </a:r>
            <a:r>
              <a:rPr b="0" lang="en-US" sz="900" spc="-1" strike="noStrike">
                <a:solidFill>
                  <a:srgbClr val="000000"/>
                </a:solidFill>
                <a:latin typeface="Arial"/>
              </a:rPr>
              <a:t>—</a:t>
            </a:r>
            <a:r>
              <a:rPr b="0" lang="en-US" sz="900" spc="-1" strike="noStrike">
                <a:solidFill>
                  <a:srgbClr val="000000"/>
                </a:solidFill>
                <a:latin typeface="Palatino-Roman"/>
              </a:rPr>
              <a:t>which helps them to become quickly aware of foreign opportunit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Roman"/>
              </a:rPr>
              <a:t>Finally, changing political situations and increased cross-national cooperation have allowed international business to flourish.  Countries of different political systems are more open than before to conducting international trade with each other.  Governments are spending more resources on the improvement of infrastructure facilitating the transport of goods and resources.  Furthermore, governments have realized the benefits of international cooperation.  In particular, governments engage in international cooperation in order to gain reciprocal advantages, to attack problems jointly that one country acting alone cannot solve, and to deal with areas of concern that lie outside the territory of any nation.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70EFB-8F1B-4B60-A29D-7556BCF54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DCEEF-A17E-4A32-9F85-5A5CF078E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8DCE4-4C1B-4B77-986C-589DEB452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DB516-E0CA-4278-B06A-E10F69218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1DAD8-FFF5-4E54-B1E3-424E32B2C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BCC34-723C-4540-BCC9-2172502BB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397DA-6019-4406-A46F-9B5798FDA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941BD-4193-4BA9-88AA-96A13FF83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A2461-442F-4AE0-A099-FE5871939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7EF48-9FD6-4753-857B-E6DDD042E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B4CA1-061E-4DBC-98F8-1196E3FD4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AC893-572F-4A45-8685-BAF3115A5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EB7E3-4DBC-41E4-827B-B813168DC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4D6A2-A8F1-49BD-A1B2-103F6F1F9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5CBCE-E32E-47B7-91DA-EAEFC53CA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6DD1B-E8B3-412B-93A2-B0A3673C8F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95A4C3-DBDD-4C4F-B9A3-8D275887C0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2922F-84BC-4B6F-94CD-73F085617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67E76-3A84-4A44-9F12-93C060137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7DC00-2F3E-45E7-A5D2-33A038A35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B7CDE-5155-4C0D-AFA4-B731D60EC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DE295-7ADB-4187-81F7-97741C988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3C274-429E-4F08-920C-D0607296B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6e4a"/>
              </a:solidFill>
              <a:latin typeface="Georgi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229DF-2D50-497A-99D2-2890A21B9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2" name="PlaceHolder 3"/>
          <p:cNvSpPr>
            <a:spLocks noGrp="1"/>
          </p:cNvSpPr>
          <p:nvPr>
            <p:ph type="dt" idx="1"/>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fld id="{FED900AA-65F6-4F7E-A592-3277F7D002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lick to edit the title text format</a:t>
            </a:r>
            <a:endParaRPr b="0" lang="en-US" sz="4800" spc="-1" strike="noStrike">
              <a:solidFill>
                <a:srgbClr val="6f6e4a"/>
              </a:solidFill>
              <a:latin typeface="Georgia"/>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lick to edit the outline text format</a:t>
            </a:r>
            <a:endParaRPr b="0" lang="en-US" sz="2800" spc="-1" strike="noStrike">
              <a:solidFill>
                <a:srgbClr val="666699"/>
              </a:solidFill>
              <a:latin typeface="Verdana"/>
            </a:endParaRPr>
          </a:p>
          <a:p>
            <a:pPr lvl="1" marL="743040" indent="-28584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cond Outline Level</a:t>
            </a:r>
            <a:endParaRPr b="0" lang="en-US" sz="2800" spc="-1" strike="noStrike">
              <a:solidFill>
                <a:srgbClr val="666699"/>
              </a:solidFill>
              <a:latin typeface="Verdana"/>
            </a:endParaRPr>
          </a:p>
          <a:p>
            <a:pPr lvl="2" marL="1143000" indent="-22860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ird Outline Level</a:t>
            </a:r>
            <a:endParaRPr b="0" lang="en-US" sz="2800" spc="-1" strike="noStrike">
              <a:solidFill>
                <a:srgbClr val="666699"/>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ourth Outline Level</a:t>
            </a:r>
            <a:endParaRPr b="0" lang="en-US" sz="2800" spc="-1" strike="noStrike">
              <a:solidFill>
                <a:srgbClr val="666699"/>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Fifth Outline Level</a:t>
            </a:r>
            <a:endParaRPr b="0" lang="en-US" sz="2800" spc="-1" strike="noStrike">
              <a:solidFill>
                <a:srgbClr val="666699"/>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ixth Outline Level</a:t>
            </a:r>
            <a:endParaRPr b="0" lang="en-US" sz="2800" spc="-1" strike="noStrike">
              <a:solidFill>
                <a:srgbClr val="666699"/>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eventh Outline Level</a:t>
            </a:r>
            <a:endParaRPr b="0" lang="en-US" sz="2800" spc="-1" strike="noStrike">
              <a:solidFill>
                <a:srgbClr val="666699"/>
              </a:solidFill>
              <a:latin typeface="Verdana"/>
            </a:endParaRPr>
          </a:p>
        </p:txBody>
      </p:sp>
      <p:sp>
        <p:nvSpPr>
          <p:cNvPr id="51" name="PlaceHolder 3"/>
          <p:cNvSpPr>
            <a:spLocks noGrp="1"/>
          </p:cNvSpPr>
          <p:nvPr>
            <p:ph type="dt" idx="4"/>
          </p:nvPr>
        </p:nvSpPr>
        <p:spPr>
          <a:xfrm>
            <a:off x="456840" y="624852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048120" y="6248520"/>
            <a:ext cx="3124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13 Pearson Education, Inc. publishing as Prentice Hall</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fld id="{5A22E2D9-0321-4B54-8F1A-87EE772A98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98"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2C992E95-CCA0-4B6E-BFA5-5372760CF70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9"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International Business</a:t>
            </a:r>
            <a:br>
              <a:rPr sz="5400"/>
            </a:br>
            <a:r>
              <a:rPr b="0" lang="en-US" sz="4400" spc="-1" strike="noStrike">
                <a:solidFill>
                  <a:srgbClr val="666699"/>
                </a:solidFill>
                <a:latin typeface="Georgia"/>
              </a:rPr>
              <a:t>Environments &amp; Operations</a:t>
            </a:r>
            <a:r>
              <a:rPr b="0" lang="en-US" sz="5400" spc="-1" strike="noStrike">
                <a:solidFill>
                  <a:srgbClr val="666699"/>
                </a:solidFill>
                <a:latin typeface="Georgia"/>
              </a:rPr>
              <a:t>	</a:t>
            </a:r>
            <a:endParaRPr b="0" lang="en-US" sz="5400" spc="-1" strike="noStrike">
              <a:solidFill>
                <a:srgbClr val="6f6e4a"/>
              </a:solidFill>
              <a:latin typeface="Georgia"/>
            </a:endParaRPr>
          </a:p>
        </p:txBody>
      </p:sp>
      <p:sp>
        <p:nvSpPr>
          <p:cNvPr id="100"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14e</a:t>
            </a: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99"/>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f6e4a"/>
                </a:solidFill>
                <a:latin typeface="Verdana"/>
              </a:rPr>
              <a:t>Daniels </a:t>
            </a:r>
            <a:r>
              <a:rPr b="0" lang="en-US" sz="2400" spc="-1" strike="noStrike">
                <a:solidFill>
                  <a:srgbClr val="666699"/>
                </a:solidFill>
                <a:latin typeface="Verdana"/>
              </a:rPr>
              <a:t>●</a:t>
            </a:r>
            <a:r>
              <a:rPr b="0" lang="en-US" sz="3000" spc="-1" strike="noStrike">
                <a:solidFill>
                  <a:srgbClr val="6f6e4a"/>
                </a:solidFill>
                <a:latin typeface="Verdana"/>
              </a:rPr>
              <a:t> Radebaugh </a:t>
            </a:r>
            <a:r>
              <a:rPr b="0" lang="en-US" sz="2400" spc="-1" strike="noStrike">
                <a:solidFill>
                  <a:srgbClr val="666699"/>
                </a:solidFill>
                <a:latin typeface="Verdana"/>
              </a:rPr>
              <a:t>●</a:t>
            </a:r>
            <a:r>
              <a:rPr b="0" lang="en-US" sz="3000" spc="-1" strike="noStrike">
                <a:solidFill>
                  <a:srgbClr val="6f6e4a"/>
                </a:solidFill>
                <a:latin typeface="Verdana"/>
              </a:rPr>
              <a:t> Sullivan </a:t>
            </a:r>
            <a:endParaRPr b="0" lang="en-US" sz="3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8D2DF8CD-BFB9-4092-B6CF-7E813A4A12B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easuring Globalization</a:t>
            </a:r>
            <a:endParaRPr b="0" lang="en-US" sz="4800" spc="-1" strike="noStrike">
              <a:solidFill>
                <a:srgbClr val="6f6e4a"/>
              </a:solidFill>
              <a:latin typeface="Georgi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lobalization can be difficult to measur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A.T. Kearney/Foreign Policy Globalization Index ranks countries by</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conomic dimension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echnological dimension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ersonal contact</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olitical dimensions</a:t>
            </a:r>
            <a:endParaRPr b="0" lang="en-US" sz="2400" spc="-1" strike="noStrike">
              <a:solidFill>
                <a:srgbClr val="666699"/>
              </a:solidFill>
              <a:latin typeface="Verdana"/>
            </a:endParaRPr>
          </a:p>
          <a:p>
            <a:pPr lvl="2" marL="1143000" indent="-228600">
              <a:spcBef>
                <a:spcPts val="49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cently ranked Singapore and Hong Kong as most globalized</a:t>
            </a:r>
            <a:r>
              <a:rPr b="0" lang="en-US" sz="2000" spc="-1" strike="noStrike">
                <a:solidFill>
                  <a:srgbClr val="666699"/>
                </a:solidFill>
                <a:latin typeface="Verdana"/>
              </a:rPr>
              <a:t>  </a:t>
            </a:r>
            <a:endParaRPr b="0" lang="en-US" sz="2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1B32FD22-A994-46E5-B7BF-546637BDE4C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sts of Globalization</a:t>
            </a:r>
            <a:endParaRPr b="0" lang="en-US" sz="4800" spc="-1" strike="noStrike">
              <a:solidFill>
                <a:srgbClr val="6f6e4a"/>
              </a:solidFill>
              <a:latin typeface="Georgi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3: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globalization’s future and the major criticisms of globalization</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A9F330F9-8D9D-4D8D-B67D-B01001BE2B9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sts of Globalization</a:t>
            </a:r>
            <a:endParaRPr b="0" lang="en-US" sz="4800" spc="-1" strike="noStrike">
              <a:solidFill>
                <a:srgbClr val="6f6e4a"/>
              </a:solidFill>
              <a:latin typeface="Georgi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reats to national sovereignty</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se freedom to “act locally”</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conomic growth and environmental stres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rowth consumes nonrenewable natural resources and increases environmental damage</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rowing income inequality and personal stres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motes global superstars at the expense of others</a:t>
            </a:r>
            <a:endParaRPr b="0" lang="en-US" sz="24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4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CF0DC6B6-04F7-4DB6-BFB4-5B51D63A81D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Costs of Globalization</a:t>
            </a:r>
            <a:endParaRPr b="0" lang="en-US" sz="4800" spc="-1" strike="noStrike">
              <a:solidFill>
                <a:srgbClr val="6f6e4a"/>
              </a:solidFill>
              <a:latin typeface="Georgi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Offshoring</a:t>
            </a:r>
            <a:r>
              <a:rPr b="0" lang="en-US" sz="2800" spc="-1" strike="noStrike">
                <a:solidFill>
                  <a:srgbClr val="666699"/>
                </a:solidFill>
                <a:latin typeface="Verdana"/>
              </a:rPr>
              <a:t> involves the transferring of production abroad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t can be beneficial because it reduces cost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ut, it also means that jobs move abroad </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Yet, offshoring may also create new, better jobs at home</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FFB60A3A-FF96-4A99-B87D-433185C8B04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Companies Engage in IB</a:t>
            </a:r>
            <a:endParaRPr b="0" lang="en-US" sz="4800" spc="-1" strike="noStrike">
              <a:solidFill>
                <a:srgbClr val="6f6e4a"/>
              </a:solidFill>
              <a:latin typeface="Georgi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2:</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understand why companies engage in international business and why international business growth has accelerated</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820ECCD5-3D83-4060-BE58-D6A082D7AF3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Companies Engage in IB</a:t>
            </a:r>
            <a:endParaRPr b="0" lang="en-US" sz="4800" spc="-1" strike="noStrike">
              <a:solidFill>
                <a:srgbClr val="6f6e4a"/>
              </a:solidFill>
              <a:latin typeface="Georgi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expand sale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ursuing international sales increases the potential market and potential profits</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acquire resource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y give companies lower costs, new and better products, and additional operating knowledge</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o diversify or reduce risks</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ternational operations may reduce operating risk by smoothing sales and profits, preventing competitors from gaining advantage </a:t>
            </a:r>
            <a:endParaRPr b="0" lang="en-US" sz="24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6F4C9E15-9B0C-4AB1-A445-25B593E7D1C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Companies Engage in IB</a:t>
            </a:r>
            <a:endParaRPr b="0" lang="en-US" sz="4800" spc="-1" strike="noStrike">
              <a:solidFill>
                <a:srgbClr val="6f6e4a"/>
              </a:solidFill>
              <a:latin typeface="Georgia"/>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se three reason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ales expans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source acquisition</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isk minimization</a:t>
            </a:r>
            <a:endParaRPr b="0" lang="en-US" sz="24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guide all decisions about whether, where, and how to engage in international business </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F323761B-4E3D-432E-A212-86EC581D63C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odes of Operations in IB </a:t>
            </a:r>
            <a:endParaRPr b="0" lang="en-US" sz="4800" spc="-1" strike="noStrike">
              <a:solidFill>
                <a:srgbClr val="6f6e4a"/>
              </a:solidFill>
              <a:latin typeface="Georgia"/>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4:</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become familiar with different ways in which a company can accomplish its global objectives</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6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F2864E5B-6CC3-4CDE-88C1-B97B2920787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odes of Operations in IB</a:t>
            </a:r>
            <a:endParaRPr b="0" lang="en-US" sz="4800" spc="-1" strike="noStrike">
              <a:solidFill>
                <a:srgbClr val="6f6e4a"/>
              </a:solidFill>
              <a:latin typeface="Georgia"/>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Merchandise exports</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ods that are sent out of a country</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Merchandise import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oods that are brought into a country</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metimes referred to as visible exports and imports</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F95D8793-79A8-4493-84BB-CC548F0CC20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odes of Operations in IB</a:t>
            </a:r>
            <a:endParaRPr b="0" lang="en-US" sz="4800" spc="-1" strike="noStrike">
              <a:solidFill>
                <a:srgbClr val="6f6e4a"/>
              </a:solidFill>
              <a:latin typeface="Georgia"/>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Service export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rovider and receiver of payment </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Service import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recipient and payer of payment</a:t>
            </a:r>
            <a:endParaRPr b="0" lang="en-US" sz="2400" spc="-1" strike="noStrike">
              <a:solidFill>
                <a:srgbClr val="666699"/>
              </a:solidFill>
              <a:latin typeface="Verdana"/>
            </a:endParaRPr>
          </a:p>
          <a:p>
            <a:pPr marL="343080" indent="-34308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xample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urism and transportation</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ervice performance</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turnkey operations </a:t>
            </a:r>
            <a:r>
              <a:rPr b="0" lang="en-US" sz="2400" spc="-1" strike="noStrike">
                <a:solidFill>
                  <a:srgbClr val="666699"/>
                </a:solidFill>
                <a:latin typeface="Verdana"/>
              </a:rPr>
              <a:t>and </a:t>
            </a:r>
            <a:r>
              <a:rPr b="1" lang="en-US" sz="2400" spc="-1" strike="noStrike">
                <a:solidFill>
                  <a:srgbClr val="666699"/>
                </a:solidFill>
                <a:latin typeface="Verdana"/>
              </a:rPr>
              <a:t>management contract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sset use</a:t>
            </a:r>
            <a:endParaRPr b="0" lang="en-US" sz="2400" spc="-1" strike="noStrike">
              <a:solidFill>
                <a:srgbClr val="666699"/>
              </a:solidFill>
              <a:latin typeface="Verdana"/>
            </a:endParaRPr>
          </a:p>
          <a:p>
            <a:pPr lvl="2" marL="1143000" indent="-228600">
              <a:lnSpc>
                <a:spcPct val="90000"/>
              </a:lnSpc>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licensing </a:t>
            </a:r>
            <a:r>
              <a:rPr b="0" lang="en-US" sz="2400" spc="-1" strike="noStrike">
                <a:solidFill>
                  <a:srgbClr val="666699"/>
                </a:solidFill>
                <a:latin typeface="Verdana"/>
              </a:rPr>
              <a:t>and</a:t>
            </a:r>
            <a:r>
              <a:rPr b="1" lang="en-US" sz="2400" spc="-1" strike="noStrike">
                <a:solidFill>
                  <a:srgbClr val="666699"/>
                </a:solidFill>
                <a:latin typeface="Verdana"/>
              </a:rPr>
              <a:t> franchising</a:t>
            </a:r>
            <a:endParaRPr b="0" lang="en-US" sz="2400" spc="-1" strike="noStrike">
              <a:solidFill>
                <a:srgbClr val="66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2" name="Rectangl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69F01DCA-D1C5-4FD9-83B3-430F9DB9FAA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666699"/>
                </a:solidFill>
                <a:latin typeface="Georgia"/>
              </a:rPr>
              <a:t>Chapter 1</a:t>
            </a:r>
            <a:r>
              <a:rPr b="0" lang="en-US" sz="5400" spc="-1" strike="noStrike">
                <a:solidFill>
                  <a:srgbClr val="666699"/>
                </a:solidFill>
                <a:latin typeface="Georgia"/>
              </a:rPr>
              <a:t>	</a:t>
            </a:r>
            <a:endParaRPr b="0" lang="en-US" sz="5400" spc="-1" strike="noStrike">
              <a:solidFill>
                <a:srgbClr val="6f6e4a"/>
              </a:solidFill>
              <a:latin typeface="Georgia"/>
            </a:endParaRPr>
          </a:p>
        </p:txBody>
      </p:sp>
      <p:sp>
        <p:nvSpPr>
          <p:cNvPr id="104"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Verdana"/>
              </a:rPr>
              <a:t>Globalization and International Business</a:t>
            </a:r>
            <a:endParaRPr b="0" lang="en-US" sz="4400" spc="-1" strike="noStrike">
              <a:solidFill>
                <a:srgbClr val="6666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58A64E14-71CF-404A-8050-4A0D339F760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Modes of Operations in IB</a:t>
            </a:r>
            <a:endParaRPr b="0" lang="en-US" sz="4800" spc="-1" strike="noStrike">
              <a:solidFill>
                <a:srgbClr val="6f6e4a"/>
              </a:solidFill>
              <a:latin typeface="Georgia"/>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vestments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Foreign Direct Investment (FDI)</a:t>
            </a:r>
            <a:endParaRPr b="0" lang="en-US" sz="2400" spc="-1" strike="noStrike">
              <a:solidFill>
                <a:srgbClr val="666699"/>
              </a:solidFill>
              <a:latin typeface="Verdana"/>
            </a:endParaRPr>
          </a:p>
          <a:p>
            <a:pPr lvl="2" marL="1143000" indent="-228600">
              <a:spcBef>
                <a:spcPts val="601"/>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vestor takes a controlling interest in a foreign company</a:t>
            </a:r>
            <a:endParaRPr b="0" lang="en-US" sz="2400" spc="-1" strike="noStrike">
              <a:solidFill>
                <a:srgbClr val="666699"/>
              </a:solidFill>
              <a:latin typeface="Verdana"/>
            </a:endParaRPr>
          </a:p>
          <a:p>
            <a:pPr lvl="3" marL="1600200" indent="-228600">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joint venture</a:t>
            </a:r>
            <a:r>
              <a:rPr b="1" lang="en-US" sz="2000" spc="-1" strike="noStrike">
                <a:solidFill>
                  <a:srgbClr val="666699"/>
                </a:solidFill>
                <a:latin typeface="Verdana"/>
              </a:rPr>
              <a:t>  </a:t>
            </a:r>
            <a:endParaRPr b="0" lang="en-US" sz="20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Portfolio Investment</a:t>
            </a:r>
            <a:endParaRPr b="0" lang="en-US" sz="2400" spc="-1" strike="noStrike">
              <a:solidFill>
                <a:srgbClr val="666699"/>
              </a:solidFill>
              <a:latin typeface="Verdana"/>
            </a:endParaRPr>
          </a:p>
          <a:p>
            <a:pPr lvl="2" marL="1143000" indent="-228600">
              <a:spcBef>
                <a:spcPts val="49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 non-controlling financial interest in another entity</a:t>
            </a:r>
            <a:r>
              <a:rPr b="0" lang="en-US" sz="2000" spc="-1" strike="noStrike">
                <a:solidFill>
                  <a:srgbClr val="666699"/>
                </a:solidFill>
                <a:latin typeface="Verdana"/>
              </a:rPr>
              <a:t> </a:t>
            </a:r>
            <a:endParaRPr b="0" lang="en-US" sz="2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DED72003-162A-4F65-B4C7-B8AB11C1248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International Organizations</a:t>
            </a:r>
            <a:endParaRPr b="0" lang="en-US" sz="4400" spc="-1" strike="noStrike">
              <a:solidFill>
                <a:srgbClr val="6f6e4a"/>
              </a:solidFill>
              <a:latin typeface="Georgia"/>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ollaborative arrangements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Joint venture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icensing arrangement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nagement contract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inority ownership</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ng-term contractual arrangements</a:t>
            </a:r>
            <a:endParaRPr b="0" lang="en-US" sz="2400" spc="-1" strike="noStrike">
              <a:solidFill>
                <a:srgbClr val="666699"/>
              </a:solidFill>
              <a:latin typeface="Verdana"/>
            </a:endParaRPr>
          </a:p>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trategic alliance </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panies that work together, but the agreement is critical to at least one partner</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n agreement that does not involve joint ownership  </a:t>
            </a:r>
            <a:r>
              <a:rPr b="1" lang="en-US" sz="2400" spc="-1" strike="noStrike">
                <a:solidFill>
                  <a:srgbClr val="666699"/>
                </a:solidFill>
                <a:latin typeface="Verdana"/>
              </a:rPr>
              <a:t> </a:t>
            </a:r>
            <a:endParaRPr b="0" lang="en-US" sz="2400" spc="-1" strike="noStrike">
              <a:solidFill>
                <a:srgbClr val="666699"/>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935FF2D3-47D9-4FFE-A204-1AB02ABBB81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International Organizations</a:t>
            </a:r>
            <a:endParaRPr b="0" lang="en-US" sz="4400" spc="-1" strike="noStrike">
              <a:solidFill>
                <a:srgbClr val="6f6e4a"/>
              </a:solidFill>
              <a:latin typeface="Georgi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Multinational enterprises (MNEs)</a:t>
            </a:r>
            <a:r>
              <a:rPr b="0" lang="en-US" sz="2800" spc="-1" strike="noStrike">
                <a:solidFill>
                  <a:srgbClr val="666699"/>
                </a:solidFill>
                <a:latin typeface="Verdana"/>
              </a:rPr>
              <a:t> </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ake a global approach to markets and production or have operations in more than one country</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metimes they are referred to a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multinational corporations (MNC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multinational companies (MNC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Verdana"/>
              </a:rPr>
              <a:t>transnational companies (TNCs)</a:t>
            </a:r>
            <a:r>
              <a:rPr b="0" lang="en-US" sz="2400" spc="-1" strike="noStrike">
                <a:solidFill>
                  <a:srgbClr val="666699"/>
                </a:solidFill>
                <a:latin typeface="Verdana"/>
              </a:rPr>
              <a:t> </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8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55A6691F-499B-456E-A84D-4618B461440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ypes of International Organizations</a:t>
            </a:r>
            <a:endParaRPr b="0" lang="en-US" sz="4400" spc="-1" strike="noStrike">
              <a:solidFill>
                <a:srgbClr val="6f6e4a"/>
              </a:solidFill>
              <a:latin typeface="Georgia"/>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 foreign markets, companies may have to adapt their typical methods of doing busines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oreign conditions may dictate a particular method</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operating modes may be different from those used domestically</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9B0545C6-0A50-4B05-90A9-8CD20DCF279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IB is Different </a:t>
            </a:r>
            <a:endParaRPr b="0" lang="en-US" sz="4800" spc="-1" strike="noStrike">
              <a:solidFill>
                <a:srgbClr val="6f6e4a"/>
              </a:solidFill>
              <a:latin typeface="Georgia"/>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5: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apply social science disciplines to understanding the differences between international and domestic business</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CBC7461B-EBD3-4C13-99A8-1E83BAEF6CF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Why IB is Different</a:t>
            </a:r>
            <a:endParaRPr b="0" lang="en-US" sz="4800" spc="-1" strike="noStrike">
              <a:solidFill>
                <a:srgbClr val="6f6e4a"/>
              </a:solidFill>
              <a:latin typeface="Georgia"/>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e external environment affects a company’s international operation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Managers must understand social science disciplines and how they affect functional business fields</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nsider</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hysical facto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social factor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mpetitive factors</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84AACE57-E260-4CE0-9FE3-56FE3817E22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Physical and Social Factors</a:t>
            </a:r>
            <a:endParaRPr b="0" lang="en-US" sz="4800" spc="-1" strike="noStrike">
              <a:solidFill>
                <a:srgbClr val="6f6e4a"/>
              </a:solidFill>
              <a:latin typeface="Georgia"/>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Geographic influences</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natural conditions influence production locations</a:t>
            </a:r>
            <a:endParaRPr b="0" lang="en-US" sz="20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Political policies</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determines where and how business occurs</a:t>
            </a:r>
            <a:endParaRPr b="0" lang="en-US" sz="20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egal policies</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influence how a company operates </a:t>
            </a:r>
            <a:endParaRPr b="0" lang="en-US" sz="20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Behavioral factors</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may require changes in operations </a:t>
            </a:r>
            <a:endParaRPr b="0" lang="en-US" sz="2000" spc="-1" strike="noStrike">
              <a:solidFill>
                <a:srgbClr val="666699"/>
              </a:solidFill>
              <a:latin typeface="Verdana"/>
            </a:endParaRPr>
          </a:p>
          <a:p>
            <a:pPr marL="343080" indent="-34308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Economic forces </a:t>
            </a:r>
            <a:endParaRPr b="0" lang="en-US" sz="2400" spc="-1" strike="noStrike">
              <a:solidFill>
                <a:srgbClr val="666699"/>
              </a:solidFill>
              <a:latin typeface="Verdana"/>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Verdana"/>
              </a:rPr>
              <a:t>explain differences in costs, currency values, market size</a:t>
            </a:r>
            <a:endParaRPr b="0" lang="en-US" sz="2000" spc="-1" strike="noStrike">
              <a:solidFill>
                <a:srgbClr val="66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9B13E195-2B10-4FB4-8837-3E44942E463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e Competitive Environment</a:t>
            </a:r>
            <a:endParaRPr b="0" lang="en-US" sz="4400" spc="-1" strike="noStrike">
              <a:solidFill>
                <a:srgbClr val="6f6e4a"/>
              </a:solidFill>
              <a:latin typeface="Georgia"/>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etitive strategy for product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Cost strateg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Differentiation strategy</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ocus strategy</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any resources and experience</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arket leaders have more resources for international operations</a:t>
            </a:r>
            <a:endParaRPr b="0" lang="en-US" sz="24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ompetitors faced in each market</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local or international   </a:t>
            </a: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0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2B38A9F0-F4ED-43FE-84BE-5ECB4118C52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f6e4a"/>
                </a:solidFill>
                <a:latin typeface="Georgia"/>
              </a:rPr>
              <a:t>The Competitive Environment</a:t>
            </a:r>
            <a:endParaRPr b="0" lang="en-US" sz="4400" spc="-1" strike="noStrike">
              <a:solidFill>
                <a:srgbClr val="6f6e4a"/>
              </a:solidFill>
              <a:latin typeface="Georgia"/>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So, a company’s competitive strategy influences how and where it can best operate</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ts competitive situation may differ from country to country in terms of its relative strength and which competitors it faces</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A89A4EA5-F582-49C8-B016-CCD382A445F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ooking to the Future</a:t>
            </a:r>
            <a:endParaRPr b="0" lang="en-US" sz="4800" spc="-1" strike="noStrike">
              <a:solidFill>
                <a:srgbClr val="6f6e4a"/>
              </a:solidFill>
              <a:latin typeface="Georgia"/>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3: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iscuss globalization’s future and the major criticisms of globalization</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45014C9D-340F-44BE-A250-DD1BB753969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earning Objectives</a:t>
            </a:r>
            <a:endParaRPr b="0" lang="en-US" sz="4800" spc="-1" strike="noStrike">
              <a:solidFill>
                <a:srgbClr val="6f6e4a"/>
              </a:solidFill>
              <a:latin typeface="Georgia"/>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efine globalization and international business and show how they affect each other</a:t>
            </a:r>
            <a:endParaRPr b="0" lang="en-US" sz="2400" spc="-1" strike="noStrike">
              <a:solidFill>
                <a:srgbClr val="666699"/>
              </a:solidFill>
              <a:latin typeface="Verdana"/>
            </a:endParaRPr>
          </a:p>
          <a:p>
            <a:pPr marL="533520" indent="-5335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understand why companies engage in international business and why international business growth has accelerated</a:t>
            </a:r>
            <a:endParaRPr b="0" lang="en-US" sz="2400" spc="-1" strike="noStrike">
              <a:solidFill>
                <a:srgbClr val="666699"/>
              </a:solidFill>
              <a:latin typeface="Verdana"/>
            </a:endParaRPr>
          </a:p>
          <a:p>
            <a:pPr marL="533520" indent="-5335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discuss globalization’s future and the major criticisms of globalization</a:t>
            </a:r>
            <a:endParaRPr b="0" lang="en-US" sz="2400" spc="-1" strike="noStrike">
              <a:solidFill>
                <a:srgbClr val="666699"/>
              </a:solidFill>
              <a:latin typeface="Verdana"/>
            </a:endParaRPr>
          </a:p>
          <a:p>
            <a:pPr marL="533520" indent="-5335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become familiar with different ways in which a company can accomplish its global objectives</a:t>
            </a:r>
            <a:endParaRPr b="0" lang="en-US" sz="2400" spc="-1" strike="noStrike">
              <a:solidFill>
                <a:srgbClr val="666699"/>
              </a:solidFill>
              <a:latin typeface="Verdana"/>
            </a:endParaRPr>
          </a:p>
          <a:p>
            <a:pPr marL="533520" indent="-5335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o apply social science disciplines to understanding the differences between international and domestic business</a:t>
            </a:r>
            <a:endParaRPr b="0" lang="en-US" sz="2400" spc="-1" strike="noStrike">
              <a:solidFill>
                <a:srgbClr val="666699"/>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535F8F86-1904-4739-92B5-365055D95DE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Looking to the Future</a:t>
            </a:r>
            <a:endParaRPr b="0" lang="en-US" sz="4800" spc="-1" strike="noStrike">
              <a:solidFill>
                <a:srgbClr val="6f6e4a"/>
              </a:solidFill>
              <a:latin typeface="Georgia"/>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Three major perspectives on the future of international business and globalization</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urther globalization is inevitable</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ternational business will grow primarily along regional rather than global lines</a:t>
            </a:r>
            <a:endParaRPr b="0" lang="en-US" sz="24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Forces working against further globalization and international business will slow down both trends</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2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A1867917-C87A-456F-AD08-D6E1300CB92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2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1400" spc="-1" strike="noStrike">
                <a:solidFill>
                  <a:srgbClr val="0000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400" spc="-1" strike="noStrike">
              <a:solidFill>
                <a:srgbClr val="666699"/>
              </a:solidFill>
              <a:latin typeface="Verdana"/>
            </a:endParaRPr>
          </a:p>
        </p:txBody>
      </p:sp>
      <p:pic>
        <p:nvPicPr>
          <p:cNvPr id="221" name="Picture 3" descr="3293795473_47524415"/>
          <p:cNvPicPr/>
          <p:nvPr/>
        </p:nvPicPr>
        <p:blipFill>
          <a:blip r:embed="rId1"/>
          <a:stretch/>
        </p:blipFill>
        <p:spPr>
          <a:xfrm>
            <a:off x="1676520" y="1752480"/>
            <a:ext cx="5486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E7F567EF-1A1B-4BC4-A7E6-6957930D0EF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	</a:t>
            </a:r>
            <a:r>
              <a:rPr b="1" lang="en-US" sz="2800" spc="-1" strike="noStrike">
                <a:solidFill>
                  <a:srgbClr val="666699"/>
                </a:solidFill>
                <a:latin typeface="Verdana"/>
              </a:rPr>
              <a:t>Learning Objective 1:</a:t>
            </a:r>
            <a:r>
              <a:rPr b="0" lang="en-US" sz="2800" spc="-1" strike="noStrike">
                <a:solidFill>
                  <a:srgbClr val="666699"/>
                </a:solidFill>
                <a:latin typeface="Verdana"/>
              </a:rPr>
              <a:t> </a:t>
            </a:r>
            <a:endParaRPr b="0" lang="en-US" sz="2800" spc="-1" strike="noStrike">
              <a:solidFill>
                <a:srgbClr val="66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	</a:t>
            </a:r>
            <a:r>
              <a:rPr b="0" lang="en-US" sz="2800" spc="-1" strike="noStrike">
                <a:solidFill>
                  <a:srgbClr val="666699"/>
                </a:solidFill>
                <a:latin typeface="Verdana"/>
              </a:rPr>
              <a:t>To define globalization and international business and show how they affect each other</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A68F4355-A7E2-46D6-A7FF-5CDE60E3819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Globalization</a:t>
            </a:r>
            <a:r>
              <a:rPr b="0" lang="en-US" sz="2800" spc="-1" strike="noStrike">
                <a:solidFill>
                  <a:srgbClr val="666699"/>
                </a:solidFill>
                <a:latin typeface="Verdana"/>
              </a:rPr>
              <a:t> is the ongoing process that deepens and broadens the relationships and interdependence among countries </a:t>
            </a:r>
            <a:endParaRPr b="0" lang="en-US" sz="2800" spc="-1" strike="noStrike">
              <a:solidFill>
                <a:srgbClr val="666699"/>
              </a:solidFill>
              <a:latin typeface="Verdana"/>
            </a:endParaRPr>
          </a:p>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ternational business is a mechanism to bring about globalization </a:t>
            </a:r>
            <a:endParaRPr b="0" lang="en-US" sz="28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017FCB19-300B-4033-9738-B86F79E995F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International business</a:t>
            </a:r>
            <a:r>
              <a:rPr b="0" lang="en-US" sz="2800" spc="-1" strike="noStrike">
                <a:solidFill>
                  <a:srgbClr val="666699"/>
                </a:solidFill>
                <a:latin typeface="Verdana"/>
              </a:rPr>
              <a:t> consists of all commercial transactions—including sales, investments, and transportation—that take place between two or more countries</a:t>
            </a:r>
            <a:endParaRPr b="0" lang="en-US" sz="2800" spc="-1" strike="noStrike">
              <a:solidFill>
                <a:srgbClr val="666699"/>
              </a:solidFill>
              <a:latin typeface="Verdana"/>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increasingly foreign countries are a source of both production and sales for domestic companies</a:t>
            </a:r>
            <a:endParaRPr b="0" lang="en-US" sz="2400" spc="-1" strike="noStrike">
              <a:solidFill>
                <a:srgbClr val="66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80AAEEEF-DA18-4725-BABF-A8BCEA04B59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t is important to study international business because</a:t>
            </a:r>
            <a:endParaRPr b="0" lang="en-US" sz="28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ost companies are either international or compete with international companie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Modes of operations may differ from those used domestically</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The best way of conducting business may differ by country</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n understanding helps you make better career decisions</a:t>
            </a:r>
            <a:endParaRPr b="0" lang="en-US" sz="2400" spc="-1" strike="noStrike">
              <a:solidFill>
                <a:srgbClr val="666699"/>
              </a:solidFill>
              <a:latin typeface="Verdana"/>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Verdana"/>
              </a:rPr>
              <a:t>An understanding helps you decide what government policies to support</a:t>
            </a:r>
            <a:endParaRPr b="0" lang="en-US" sz="2400" spc="-1" strike="noStrike">
              <a:solidFill>
                <a:srgbClr val="66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54C425D1-857C-43F0-9972-9E667E73F1D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Introduction</a:t>
            </a:r>
            <a:endParaRPr b="0" lang="en-US" sz="4800" spc="-1" strike="noStrike">
              <a:solidFill>
                <a:srgbClr val="6f6e4a"/>
              </a:solidFill>
              <a:latin typeface="Georgia"/>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Verdana"/>
              </a:rPr>
              <a:t>Factors in International Business Operations</a:t>
            </a:r>
            <a:endParaRPr b="0" lang="en-US" sz="1800" spc="-1" strike="noStrike">
              <a:solidFill>
                <a:srgbClr val="666699"/>
              </a:solidFill>
              <a:latin typeface="Verdana"/>
            </a:endParaRPr>
          </a:p>
        </p:txBody>
      </p:sp>
      <p:pic>
        <p:nvPicPr>
          <p:cNvPr id="129" name="Picture 4" descr=""/>
          <p:cNvPicPr/>
          <p:nvPr/>
        </p:nvPicPr>
        <p:blipFill>
          <a:blip r:embed="rId1"/>
          <a:stretch/>
        </p:blipFill>
        <p:spPr>
          <a:xfrm>
            <a:off x="914400" y="1981080"/>
            <a:ext cx="746748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048120" y="6248520"/>
            <a:ext cx="312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13 Pearson Education, Inc. publishing as Prentice Hall</a:t>
            </a:r>
            <a:endParaRPr b="0" lang="en-US" sz="1000" spc="-1" strike="noStrike">
              <a:solidFill>
                <a:srgbClr val="000000"/>
              </a:solidFill>
              <a:latin typeface="Verdana"/>
            </a:endParaRPr>
          </a:p>
        </p:txBody>
      </p:sp>
      <p:sp>
        <p:nvSpPr>
          <p:cNvPr id="1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a:t>
            </a:r>
            <a:fld id="{14521A8F-7CB0-4720-9B85-9948B85A7E9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6e4a"/>
                </a:solidFill>
                <a:latin typeface="Georgia"/>
              </a:rPr>
              <a:t>Forces Driving Globalization</a:t>
            </a:r>
            <a:endParaRPr b="0" lang="en-US" sz="4800" spc="-1" strike="noStrike">
              <a:solidFill>
                <a:srgbClr val="6f6e4a"/>
              </a:solidFill>
              <a:latin typeface="Georgi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spcBef>
                <a:spcPts val="700"/>
              </a:spcBef>
              <a:buClr>
                <a:srgbClr val="99996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crease in and application of technology</a:t>
            </a:r>
            <a:endParaRPr b="0" lang="en-US" sz="2800" spc="-1" strike="noStrike">
              <a:solidFill>
                <a:srgbClr val="666699"/>
              </a:solidFill>
              <a:latin typeface="Verdana"/>
            </a:endParaRPr>
          </a:p>
          <a:p>
            <a:pPr marL="533520" indent="-533520">
              <a:spcBef>
                <a:spcPts val="700"/>
              </a:spcBef>
              <a:buClr>
                <a:srgbClr val="99996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Liberalization of cross-border trade and resource movements</a:t>
            </a:r>
            <a:endParaRPr b="0" lang="en-US" sz="2800" spc="-1" strike="noStrike">
              <a:solidFill>
                <a:srgbClr val="666699"/>
              </a:solidFill>
              <a:latin typeface="Verdana"/>
            </a:endParaRPr>
          </a:p>
          <a:p>
            <a:pPr marL="533520" indent="-533520">
              <a:spcBef>
                <a:spcPts val="700"/>
              </a:spcBef>
              <a:buClr>
                <a:srgbClr val="99996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Development of services that support international business</a:t>
            </a:r>
            <a:endParaRPr b="0" lang="en-US" sz="2800" spc="-1" strike="noStrike">
              <a:solidFill>
                <a:srgbClr val="666699"/>
              </a:solidFill>
              <a:latin typeface="Verdana"/>
            </a:endParaRPr>
          </a:p>
          <a:p>
            <a:pPr marL="533520" indent="-533520">
              <a:spcBef>
                <a:spcPts val="700"/>
              </a:spcBef>
              <a:buClr>
                <a:srgbClr val="99996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Growing consumer pressures</a:t>
            </a:r>
            <a:endParaRPr b="0" lang="en-US" sz="2800" spc="-1" strike="noStrike">
              <a:solidFill>
                <a:srgbClr val="666699"/>
              </a:solidFill>
              <a:latin typeface="Verdana"/>
            </a:endParaRPr>
          </a:p>
          <a:p>
            <a:pPr marL="533520" indent="-533520">
              <a:spcBef>
                <a:spcPts val="700"/>
              </a:spcBef>
              <a:buClr>
                <a:srgbClr val="99996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Increased global competition</a:t>
            </a:r>
            <a:endParaRPr b="0" lang="en-US" sz="2800" spc="-1" strike="noStrike">
              <a:solidFill>
                <a:srgbClr val="666699"/>
              </a:solidFill>
              <a:latin typeface="Verdana"/>
            </a:endParaRPr>
          </a:p>
          <a:p>
            <a:pPr marL="533520" indent="-533520">
              <a:spcBef>
                <a:spcPts val="700"/>
              </a:spcBef>
              <a:buClr>
                <a:srgbClr val="99996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Changing political situations</a:t>
            </a:r>
            <a:endParaRPr b="0" lang="en-US" sz="2800" spc="-1" strike="noStrike">
              <a:solidFill>
                <a:srgbClr val="666699"/>
              </a:solidFill>
              <a:latin typeface="Verdana"/>
            </a:endParaRPr>
          </a:p>
          <a:p>
            <a:pPr marL="533520" indent="-533520">
              <a:spcBef>
                <a:spcPts val="700"/>
              </a:spcBef>
              <a:buClr>
                <a:srgbClr val="99996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Verdana"/>
              </a:rPr>
              <a:t>Expanded cross-national cooperation</a:t>
            </a:r>
            <a:endParaRPr b="0" lang="en-US" sz="2800" spc="-1" strike="noStrike">
              <a:solidFill>
                <a:srgbClr val="66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5:57:23Z</dcterms:created>
  <dc:creator>Veronica</dc:creator>
  <dc:description/>
  <dc:language>en-US</dc:language>
  <cp:lastModifiedBy>User</cp:lastModifiedBy>
  <dcterms:modified xsi:type="dcterms:W3CDTF">2013-12-11T12:07:49Z</dcterms:modified>
  <cp:revision>25</cp:revision>
  <dc:subject/>
  <dc:title>IB</dc:title>
</cp:coreProperties>
</file>