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B0D9-A626-4658-992D-1E914E379D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A250-9FA8-4F03-8B92-A776797CB65A}"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B2FC-342D-4E9D-902B-A3B668A611AE}"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use the idea of a nation when we talk about culture.  In general, within national borders, </a:t>
            </a:r>
            <a:r>
              <a:rPr b="0" lang="en-US" sz="1200" spc="-1" strike="noStrike">
                <a:solidFill>
                  <a:srgbClr val="000000"/>
                </a:solidFill>
                <a:latin typeface="Palatino-Roman"/>
              </a:rPr>
              <a:t>people largely share such essential attributes as values, language, and race.  There is a feeling of “we” that casts foreigners as “they.”  Rites and symbols—flags, parades, rallies—and the preservation of national sites, documents, monuments, and museums promote a common perception of history and perpetuates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046C-7B9D-4861-B647-30D5023C2141}"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Note though that subcultures do exist within nations and groups from different nations can actually be quite similar.  International managers need to focus on </a:t>
            </a:r>
            <a:r>
              <a:rPr b="0" i="1" lang="en-US" sz="1200" spc="-1" strike="noStrike">
                <a:solidFill>
                  <a:srgbClr val="000000"/>
                </a:solidFill>
                <a:latin typeface="Palatino-Italic"/>
              </a:rPr>
              <a:t>relevant groups</a:t>
            </a:r>
            <a:r>
              <a:rPr b="0" lang="en-US" sz="1200" spc="-1" strike="noStrike">
                <a:solidFill>
                  <a:srgbClr val="000000"/>
                </a:solidFill>
                <a:latin typeface="Palatino-Roman"/>
              </a:rPr>
              <a:t>—differentiating, for example, between the typical attitudes of rural dwellers and those of urban dwellers, or those of young people versus old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7BBB-3333-47FC-BCF0-68A18001859A}"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analyze the major causes of cultural difference and chan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9DB6-7719-459C-8F37-FD63D922932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 learned – from parent to child, teacher to student, peer to peer, and so on.  So, while cultural value systems tend to be established early in life, they can change.  Change can be by choice or it can be imposed – this type of change is called cultural imperi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value systems can also change as a result of contact with other cultures.  This is kn</a:t>
            </a:r>
            <a:r>
              <a:rPr b="0" lang="en-US" sz="1200" spc="-1" strike="noStrike">
                <a:solidFill>
                  <a:srgbClr val="000000"/>
                </a:solidFill>
                <a:latin typeface="Palatino-Roman"/>
              </a:rPr>
              <a:t>own as </a:t>
            </a:r>
            <a:r>
              <a:rPr b="0" i="1" lang="en-US" sz="1200" spc="-1" strike="noStrike">
                <a:solidFill>
                  <a:srgbClr val="000000"/>
                </a:solidFill>
                <a:latin typeface="Palatino-Italic"/>
              </a:rPr>
              <a:t>cultural diffusion.  </a:t>
            </a:r>
            <a:r>
              <a:rPr b="0" lang="en-US" sz="1200" spc="-1" strike="noStrike">
                <a:solidFill>
                  <a:srgbClr val="000000"/>
                </a:solidFill>
                <a:latin typeface="Palatino-Roman"/>
              </a:rPr>
              <a:t>When this change results in mixing cultural elements, the process is known as </a:t>
            </a:r>
            <a:r>
              <a:rPr b="0" i="1" lang="en-US" sz="1200" spc="-1" strike="noStrike">
                <a:solidFill>
                  <a:srgbClr val="000000"/>
                </a:solidFill>
                <a:latin typeface="Palatino-Italic"/>
              </a:rPr>
              <a:t>creo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914B-039F-48DE-B50A-972134435528}"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cts both as a diffuser of culture and as a stabilizer.  On one hand, a common language unifies a culture.  However, w</a:t>
            </a:r>
            <a:r>
              <a:rPr b="0" lang="en-US" sz="1200" spc="-1" strike="noStrike">
                <a:solidFill>
                  <a:srgbClr val="000000"/>
                </a:solidFill>
                <a:latin typeface="Palatino-Roman"/>
              </a:rPr>
              <a:t>hen people from different areas speak the same language, culture spreads more easily.  So, there’s greater cultural homogeneity among all English-speaking countries and among all Spanish-speaking countries than there is between English-speaking countries and Spanish-speaking countr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hen nations share a language, business is easier because there’s no need for time consuming and expensive transla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Often, people studying languages choose the ones that are most useful in interacting with other coun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2733-E0A3-4B35-8D95-044FAEDAA95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stribution of the world’s major languages.  Notice the large number of English speaking, French speaking, and Spanish speak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13C4-BABB-4084-9EE3-FC0EA984DE68}"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relationship between major language groups and world output.  Notice the importance of English as a language of international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533E-13AB-4AC9-B68C-3D27B18DE4B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also acts as a cultural stabilizer.  Dominant religions can have a profound influence in shaping cultural values and behavio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any religions even impact specific beliefs that may affect business, such as inhibiting the sale of certain products or the performance of work at certain times.  McDonald’s, for example, recognizes the Hindu and Muslim influences in India and chooses not to sell beef or pork  in the country.  Similarly, El Al, the Israeli national airline, does not fly on Saturday, the Jewish Sabb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hen rival religions or factions fight  for political control in a country, business is often negatively affected.  You might think of  property damage, broken supply chains, or breaches in connections with customers as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5D18-1FB1-4EB8-AC07-E4B302A052B6}"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stribution of major religion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607D-3B5E-4BBC-8AE4-F1A2CE91673C}"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discuss behavioral factors influencing countries’ business practice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76A3-C5ED-46C4-9A2D-84F58623225E}"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 The Cultural Environment Facing Busin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3DBD-24ED-4F6F-B477-2FD45C1303B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ratification determines an individual’s class, status, and financial rewards within a culture. It’s determined by individual achievements and qualifications, and by affiliation and membership in group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C60B-002E-467B-B3B1-2601C070DE59}"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vidual may belong to a group because of age, gender, family, racial, or ethnic variables.  This is known as ascribed group membership.  When membership is based on religion, political affiliation, or professional association it’s an acquired group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equalitarian societies tend to put more emphasis on acquired group membership.  Keep in mind that education and social connections also impact an individual’s rank in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3462-55E4-4837-86C6-685E189006D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ire to work differs across cultures.  In countries where material wealth is valued, there is generally a greater motivation to work.  This of course, also helps to promote economic development. In fact, the higher level of development that exists in some countries can be explained by the work of Max Weber who suggested that </a:t>
            </a:r>
            <a:r>
              <a:rPr b="0" lang="en-US" sz="1200" spc="-1" strike="noStrike">
                <a:solidFill>
                  <a:srgbClr val="000000"/>
                </a:solidFill>
                <a:latin typeface="Palatino-Roman"/>
              </a:rPr>
              <a:t>self-discipline, hard work, honesty, and a belief in a just world foster work motivation and, thus, economic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eople are also more eager to work when the potential rewards are hig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e can also measure attitudes toward work and achievement using the masculinity-femininity index.  The degree to which individuals are assertive, confrontational, and aggressive in their relationships with others varies across borders.  These attitudinal differences help explain why an international company may encounter managers abroad who behave differently from what it expects or pref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206E-CDE5-47B8-8C0D-6283D5A3677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hierarchy-of-needs theory suggests that people fill lower-level needs before filling higher level needs.  An understanding of this theory is helpful to managers as they make decisions regarding reward preferences of employees in different countries.  In very poor countries, for example, workers might be motivated with enough compensation to simply satisfy their needs for food and shelter.   Workers in other countries may be motivated by other need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6CD0-BC1C-4225-A1AC-B5E2AD0D0A2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hierarchy of needs and need-hierarchy combinations.  Note that n</a:t>
            </a:r>
            <a:r>
              <a:rPr b="0" lang="en-US" sz="1200" spc="-1" strike="noStrike">
                <a:solidFill>
                  <a:srgbClr val="000000"/>
                </a:solidFill>
                <a:latin typeface="Palatino-Roman"/>
              </a:rPr>
              <a:t>eeds are broken down into physiological needs, security needs, affiliation needs, esteem needs, and self-actualization needs.  The way in which these needs are ranked differs amo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F778-47DC-4D2A-9307-FC127EC1D6FC}"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preferences – and more specifically the interactions between </a:t>
            </a:r>
            <a:r>
              <a:rPr b="0" lang="en-US" sz="1200" spc="-1" strike="noStrike">
                <a:solidFill>
                  <a:srgbClr val="000000"/>
                </a:solidFill>
                <a:latin typeface="Palatino-Roman"/>
              </a:rPr>
              <a:t>bosses, subordinates, and peers – also differ from country to coun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Power distance</a:t>
            </a:r>
            <a:r>
              <a:rPr b="1" lang="en-US" sz="1200" spc="-1" strike="noStrike">
                <a:solidFill>
                  <a:srgbClr val="000000"/>
                </a:solidFill>
                <a:latin typeface="Palatino-Bold"/>
              </a:rPr>
              <a:t> </a:t>
            </a:r>
            <a:r>
              <a:rPr b="0" lang="en-US" sz="1200" spc="-1" strike="noStrike">
                <a:solidFill>
                  <a:srgbClr val="000000"/>
                </a:solidFill>
                <a:latin typeface="Palatino-Roman"/>
              </a:rPr>
              <a:t>refers to the general relationship between superiors and subordinates. Where it is </a:t>
            </a:r>
            <a:r>
              <a:rPr b="0" i="1" lang="en-US" sz="1200" spc="-1" strike="noStrike">
                <a:solidFill>
                  <a:srgbClr val="000000"/>
                </a:solidFill>
                <a:latin typeface="Palatino-Italic"/>
              </a:rPr>
              <a:t>high, </a:t>
            </a:r>
            <a:r>
              <a:rPr b="0" lang="en-US" sz="1200" spc="-1" strike="noStrike">
                <a:solidFill>
                  <a:srgbClr val="000000"/>
                </a:solidFill>
                <a:latin typeface="Palatino-Roman"/>
              </a:rPr>
              <a:t>people prefer little consultation between superiors and subordinates. Employees usually prefer one of two management styles: </a:t>
            </a:r>
            <a:r>
              <a:rPr b="0" i="1" lang="en-US" sz="1200" spc="-1" strike="noStrike">
                <a:solidFill>
                  <a:srgbClr val="000000"/>
                </a:solidFill>
                <a:latin typeface="Palatino-Italic"/>
              </a:rPr>
              <a:t>autocratic -</a:t>
            </a:r>
            <a:r>
              <a:rPr b="0" lang="en-US" sz="1200" spc="-1" strike="noStrike">
                <a:solidFill>
                  <a:srgbClr val="000000"/>
                </a:solidFill>
                <a:latin typeface="Palatino-Roman"/>
              </a:rPr>
              <a:t>ruling with unlimited authority - or </a:t>
            </a:r>
            <a:r>
              <a:rPr b="0" i="1" lang="en-US" sz="1200" spc="-1" strike="noStrike">
                <a:solidFill>
                  <a:srgbClr val="000000"/>
                </a:solidFill>
                <a:latin typeface="Palatino-Italic"/>
              </a:rPr>
              <a:t>paternalistic - </a:t>
            </a:r>
            <a:r>
              <a:rPr b="0" lang="en-US" sz="1200" spc="-1" strike="noStrike">
                <a:solidFill>
                  <a:srgbClr val="000000"/>
                </a:solidFill>
                <a:latin typeface="Palatino-Roman"/>
              </a:rPr>
              <a:t>regulating conduct by supplying needs. Where power distance is </a:t>
            </a:r>
            <a:r>
              <a:rPr b="0" i="1" lang="en-US" sz="1200" spc="-1" strike="noStrike">
                <a:solidFill>
                  <a:srgbClr val="000000"/>
                </a:solidFill>
                <a:latin typeface="Palatino-Italic"/>
              </a:rPr>
              <a:t>low, </a:t>
            </a:r>
            <a:r>
              <a:rPr b="0" lang="en-US" sz="1200" spc="-1" strike="noStrike">
                <a:solidFill>
                  <a:srgbClr val="000000"/>
                </a:solidFill>
                <a:latin typeface="Palatino-Roman"/>
              </a:rPr>
              <a:t>they prefer “consultative” sty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Individualism</a:t>
            </a:r>
            <a:r>
              <a:rPr b="1" lang="en-US" sz="1200" spc="-1" strike="noStrike">
                <a:solidFill>
                  <a:srgbClr val="000000"/>
                </a:solidFill>
                <a:latin typeface="Palatino-Bold"/>
              </a:rPr>
              <a:t> </a:t>
            </a:r>
            <a:r>
              <a:rPr b="0" lang="en-US" sz="1200" spc="-1" strike="noStrike">
                <a:solidFill>
                  <a:srgbClr val="000000"/>
                </a:solidFill>
                <a:latin typeface="Palatino-Roman"/>
              </a:rPr>
              <a:t>is characterized by a preference for fulfilling leisure time and improving skills outside the organization. It also implies a low preference for receiving compensation in the form of benefits and a high preference for personal decision making and on-the-job challen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In contrast, collectivism</a:t>
            </a:r>
            <a:r>
              <a:rPr b="0" lang="en-US" sz="1200" spc="-1" strike="noStrike">
                <a:solidFill>
                  <a:srgbClr val="000000"/>
                </a:solidFill>
                <a:latin typeface="Palatino-Roman"/>
              </a:rPr>
              <a:t> encourages dependence on the organization and a preference for thorough training, satisfactory workplace conditions, and good benef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064E-E6CE-4AF8-A4A7-3ECCF0B078F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eople approach risk also varies from country to country.  Four types of risks are important: uncertainty avoidance, trust, future orientation, and fat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ultures where there is high uncertainty avoidance</a:t>
            </a:r>
            <a:r>
              <a:rPr b="0" lang="en-US" sz="1200" spc="-1" strike="noStrike">
                <a:solidFill>
                  <a:srgbClr val="000000"/>
                </a:solidFill>
                <a:latin typeface="Palatino-Roman"/>
              </a:rPr>
              <a:t> employees prefer following set rules even if breaking them may be in the company’s best interest.  Similarly, many consumers are not prepared to risk being early adopters of produ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 cultures where trust is high, the cost of doing business tends to be lower because managers don’t spend much time fussing over every possible contingency and monitoring every action for compliance with certain business princi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usiness decisions can also be influenced by a culture’s attitude toward the future and whether it’s worthwhile to delay gratification in order to invest for the fu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if people believe strongly in self-determination, they may be willing to work hard to achieve goals and take responsibility for performance.  But if they’re </a:t>
            </a:r>
            <a:r>
              <a:rPr b="0" i="1" lang="en-US" sz="1200" spc="-1" strike="noStrike">
                <a:solidFill>
                  <a:srgbClr val="000000"/>
                </a:solidFill>
                <a:latin typeface="Palatino-Italic"/>
              </a:rPr>
              <a:t>fatalistic </a:t>
            </a:r>
            <a:r>
              <a:rPr b="0" lang="en-US" sz="1200" spc="-1" strike="noStrike">
                <a:solidFill>
                  <a:srgbClr val="000000"/>
                </a:solidFill>
                <a:latin typeface="Palatino-Italic"/>
              </a:rPr>
              <a:t>and</a:t>
            </a:r>
            <a:r>
              <a:rPr b="0" lang="en-US" sz="1200" spc="-1" strike="noStrike">
                <a:solidFill>
                  <a:srgbClr val="000000"/>
                </a:solidFill>
                <a:latin typeface="Palatino-Roman"/>
              </a:rPr>
              <a:t> believe every event in life is inevitable, they’re less likely to accept the basic cause-and-effect relationship between work and rewar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4DE6-0C7D-4AD6-8EB0-4BED1724A779}"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How information is perceived, obtained, and processed differs from country to countr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In low context cultures </a:t>
            </a:r>
            <a:r>
              <a:rPr b="0" lang="en-US" sz="1200" spc="-1" strike="noStrike">
                <a:solidFill>
                  <a:srgbClr val="000000"/>
                </a:solidFill>
                <a:latin typeface="Palatino-Roman"/>
              </a:rPr>
              <a:t>people generally regard only firsthand information that bears directly on the subject at hand as being relevant.  Managers typically spend little time on small talk and tend to get to the point.  In contrast, in </a:t>
            </a:r>
            <a:r>
              <a:rPr b="0" lang="en-US" sz="1200" spc="-1" strike="noStrike">
                <a:solidFill>
                  <a:srgbClr val="000000"/>
                </a:solidFill>
                <a:latin typeface="Palatino-Bold"/>
              </a:rPr>
              <a:t>high-context cultures</a:t>
            </a:r>
            <a:r>
              <a:rPr b="1" lang="en-US" sz="1200" spc="-1" strike="noStrike">
                <a:solidFill>
                  <a:srgbClr val="000000"/>
                </a:solidFill>
                <a:latin typeface="Palatino-Bold"/>
              </a:rPr>
              <a:t> </a:t>
            </a:r>
            <a:r>
              <a:rPr b="0" lang="en-US" sz="1200" spc="-1" strike="noStrike">
                <a:solidFill>
                  <a:srgbClr val="000000"/>
                </a:solidFill>
                <a:latin typeface="Palatino-Roman"/>
              </a:rPr>
              <a:t>people see seemingly peripheral information as pertinent and infer meanings from things said either indirectly or casu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In monochronic cultures p</a:t>
            </a:r>
            <a:r>
              <a:rPr b="0" lang="en-US" sz="1200" spc="-1" strike="noStrike">
                <a:solidFill>
                  <a:srgbClr val="000000"/>
                </a:solidFill>
                <a:latin typeface="Palatino-Roman"/>
              </a:rPr>
              <a:t>eople prefer to work sequentially.  So, for example, a transaction with one customer is completed before dealing with another.   But in a polychronic culture, people often feel more comfortable working simultaneously on a variety of tasks, such as dealing immediately with multiple customers who need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Cultures that prefer to establish overall principles before tackling smaller details take an approach called idealism, while those that focus more on details than on abstract principles take a pragmatic approa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Keep in mind that an individual’s approach to information processing can affect business in a number of ways.  In a culture of pragmatists like the United States, for example, labor negotiations tend to focus on well-defined issues—say, hourly pay increases for a specific bargaining unit.   However, in an idealist culture like that of Argentina, labor disputes tend to blur the focus on specific demands as workers tend to rely first on mass action—such as general strikes or political activities—to publicize basic princip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5811-81D7-4F06-955C-C1A03050537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across cultures can be problematic when communications are not translated with the same meaning as intended.  This problem can occur with not only with spoken and written language and but also with silent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a slight misuse of words or phrases can have a significant impact on the meaning of a message.   Moreover, it’s important to recognize that even when two countries share a language problems can exist.  For example, some 4,000 words have different meanings in British and American Englis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ilent language refers to a host of nonverbal cues.  </a:t>
            </a:r>
            <a:r>
              <a:rPr b="0" lang="en-US" sz="1200" spc="-1" strike="noStrike">
                <a:solidFill>
                  <a:srgbClr val="000000"/>
                </a:solidFill>
                <a:latin typeface="Palatino-Italic"/>
              </a:rPr>
              <a:t>How these physical cues or “body language” are perceived and interpreted varies between cultures.  Many</a:t>
            </a:r>
            <a:r>
              <a:rPr b="0" lang="en-US" sz="1200" spc="-1" strike="noStrike">
                <a:solidFill>
                  <a:srgbClr val="000000"/>
                </a:solidFill>
                <a:latin typeface="Palatino-Roman"/>
              </a:rPr>
              <a:t> Western countries, for instance, associate black with death ,while white has the same connotation in some parts of Asia.  Similar differences exist with perceptions of time and punctuality.  In the United States, people usually arrive early for business appointments, a few minutes late for dinner at someone’s home, and a bit later still for large social gatherings.  In other countries though, the concept of punctuality in any or all of these situations may be differ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appropriate distance people maintain during conversations and prestige also differs between countries. For Americans, the customary distance for a business discussion is 5 to 8 feet; for personal business, it’s 18 inches to 3 feet.  The much smaller distances common in Latin America can make many Americans quite uncomfortable. Likewise, a U.S. manager who places great faith in objects as cues to prestige may underestimate the status of foreign counterparts who don’t value large, plush offices on high floors. A foreigner may underestimate U.S. counterparts who perform their own services, such as opening their own doors, fetching their own coffee, and answering unscreened phone cal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4C23-9B2A-4869-B74C-B275EF9D454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mages show how a simple gesture is interpreted quite differently around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44E8-816F-46FC-9B2E-2D3687C89704}"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Chapter 2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methods for learning about cultural environ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alyze the major causes of cultural difference and ch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behavioral factors influencing countries’ business pract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guidelines for cultural adju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AFE7-8A20-497B-9F09-06EDA5BB0B8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understand the guidelines for cultural adjustme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F132-7EB3-4254-8844-EB76DCD5B33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re managers required to change their customary practices to match those of the host culture?  The answer is not always clear.  In general, host cultures don’t expect that foreign managers will totally conform with their norms and values, but it is important that they understand and respect the local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need to consider how they will be received by the host country, and make adjustments accordingly.  In many cases, host countries are willing to view foreigners differently.  M</a:t>
            </a:r>
            <a:r>
              <a:rPr b="0" lang="en-US" sz="1200" spc="-1" strike="noStrike">
                <a:solidFill>
                  <a:srgbClr val="000000"/>
                </a:solidFill>
                <a:latin typeface="Palatino-Roman"/>
              </a:rPr>
              <a:t>anagers should also be aware that closely clustered countries may not be as alike as they seem, and so adjustments may be necessary in some cases.  Women’s roles and behavior, for example, differ substantially from one Arab country to another even though Arab countries overall are similar cultur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ometimes, managers going abroad experience </a:t>
            </a:r>
            <a:r>
              <a:rPr b="0" lang="en-US" sz="1200" spc="-1" strike="noStrike">
                <a:solidFill>
                  <a:srgbClr val="000000"/>
                </a:solidFill>
                <a:latin typeface="Palatino-Bold"/>
              </a:rPr>
              <a:t>culture shock</a:t>
            </a:r>
            <a:r>
              <a:rPr b="0" lang="en-US" sz="1200" spc="-1" strike="noStrike">
                <a:solidFill>
                  <a:srgbClr val="000000"/>
                </a:solidFill>
                <a:latin typeface="Palatino-Roman"/>
              </a:rPr>
              <a:t>—the frustration that results from having to absorb a vast array of new cultural cues and expectations, and then reverse culture shock</a:t>
            </a:r>
            <a:r>
              <a:rPr b="1" lang="en-US" sz="1200" spc="-1" strike="noStrike">
                <a:solidFill>
                  <a:srgbClr val="000000"/>
                </a:solidFill>
                <a:latin typeface="Palatino-Roman"/>
              </a:rPr>
              <a:t> </a:t>
            </a:r>
            <a:r>
              <a:rPr b="0" lang="en-US" sz="1200" spc="-1" strike="noStrike">
                <a:solidFill>
                  <a:srgbClr val="000000"/>
                </a:solidFill>
                <a:latin typeface="Palatino-Roman"/>
              </a:rPr>
              <a:t>when they return ho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8351-EDDE-45BF-98C0-22B16CA880A4}"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managers doing business abroad will typically take one of three basic approaches when dealing with foreigners.  Those that take a polycentric approach believe that business units abroad should act like local companies.  In contrast, those that take an ethnocentric orientation believe that the home culture is superior to the local culture, and therefore national differences can be overlooked.  Finally, those that integrate both home and host practices have a geocentric ori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hould recognize that excessive polycentrism or ethnocentrism can be dangerous.  A geocentric approach is often the saf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27AD-25EF-444C-A7C2-ABCD5AE5ED11}"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choose a geocentric approach to their operations will often combine both home and host practices requiring that people in both countries adapt to some degree.  Companies may face some resistance to these changes, and so must manage the process carefu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ways to implement changes.  Companies may need to promote changes in value systems.  A cost-benefit analysis of change can reveal whether a change makes sense.  Moving too quickly can create additional resistance to change.  Many companies find that encouraging stakeholders to become involved in change and sharing the rewards of making changes can be beneficial.  Similarly, using the right channels of influence and the right timing can make a big difference in whether change is accepted.  Finally, companies should recognize that they can gain important knowledge from other companies in the market.  Emulating their methods can often be successfu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A778-7BA4-432F-8B76-B9F181893F9B}"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happen to national cultures in the future?  Only time will tell.  One scenario is that new hybrid cultures will develop and personal horizons will broaden.  Another scenario suggests that outward expressions of national culture will continue to become homogeneous while distinct values will remain stable.  A third scenario is that nationalism will continue to reinforce cultural identity.  Finally, a fourth scenario suggests that existing national borders will shift to accommodate ethnic differenc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C428-0004-495C-A76B-0AD60040C60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3A93-76F4-410D-9BEE-7BE735772F7B}"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understand methods for learning about cultural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7048-55A5-4304-839C-0180B2FEB41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ulture?  Culture refers to the learned norms based on values, attitudes, and beliefs of a group of people. Culture can be based on nationality, ethnicity, gender, religion, work organization, profession, age, political party membership, income level, and so on.  International business activities incorporate people from all different groups and backgrounds, thus, every business function is subject to cultural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EA9E-315F-46EB-B1E4-75CFB7CEE28A}"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cultural factors affecting international business op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02CB-2E74-4356-A576-054AA5D4446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recognize that cross-country differences exist, but they don’t always agree on exactly what they are.  It can be beneficial to foster cultural diversity in some cases.  B</a:t>
            </a:r>
            <a:r>
              <a:rPr b="0" lang="en-US" sz="1200" spc="-1" strike="noStrike">
                <a:solidFill>
                  <a:srgbClr val="000000"/>
                </a:solidFill>
                <a:latin typeface="Palatino-Roman"/>
              </a:rPr>
              <a:t>ringing together people of diverse backgrounds and experience can give companies a deeper knowledge about products and services and ways in which to produce and delive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26A7-4F41-4032-AAE5-E6B61E643BFF}"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keep in mind that cultural collision can create problems. Companies </a:t>
            </a:r>
            <a:r>
              <a:rPr b="0" lang="en-US" sz="1200" spc="-1" strike="noStrike">
                <a:solidFill>
                  <a:srgbClr val="000000"/>
                </a:solidFill>
                <a:latin typeface="Palatino-Roman"/>
              </a:rPr>
              <a:t>doing business in another country must determine which of that nation’s business practices differ from their own and then decide what adjustments, if any, are necessary in order  to operate efficient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B899-B1D6-4AFA-8226-F8B54DEFA556}"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 order to increase their chance for success, managers need to develop their awareness of and sensitivity to other cultures.  They can do this by educating themselves.  Gathering some basic research on another culture can be instructive.  In addition, managers should consider the information they gather to determine if it perpetuates unwarranted stereotypes, covers only limited facets of a country and its culture, or relies on outdated data.  Managers should also observe the behavior of those people who have garnered the kind of respect and confidence they themselves will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60667-8C90-4152-9485-66C433F38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1E1B4-EE94-4AFC-A505-90EAE95BE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99138-C939-4274-9213-F62E54BF6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41D14-48A2-4F82-99AB-3CF3761A5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CF7B4-7762-4885-B076-934A5F453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AFFA6-D5B9-490D-93B2-8ECBE6B8E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72B4C-AF92-4ECB-939A-7BA741A52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09E1D-6D9F-421C-BCF8-2BC98C71C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DD05E-C6E8-4FC0-9ACB-309A6A884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4D464-A5E5-4CD4-A325-C256059EF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D1BE3-4FFC-427D-B381-1FC78607C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55E17-436A-4405-9D8B-9DF2DE032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BB9B0-A675-4AF8-93EC-01E8D1268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61C00-F39D-4BC4-9495-62D9B99C7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C4C65-A139-42EF-AAF8-5CE862293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E34F6-481C-41DA-90B4-BD2DF95BD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0F8AF-A148-45DE-8607-C587521E7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B849A-9CC3-41EE-A2C8-059D95676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95C8E-D8F7-4879-9DAB-2B9695106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4AFB1-68F5-4D49-AD15-B47B1F911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93E4A-4D18-41F5-99C6-0B9747413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E1F7-EC3B-4CDF-B807-987290F02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D0CA3-48D5-4032-A162-0465D4865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7104-0185-41C4-BF4C-1C5696797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fld id="{DF05C170-7119-4CFD-909F-272E145845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fld id="{C0F51FA6-8B0D-4236-8741-ABF2850C58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77FF11D8-DD7C-4BD4-A473-168A2EE26C9A}"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0ECC742F-2271-419F-82CD-66CB8EAC1856}"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ulture and the Nation-State</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nation is a useful definition of society because similarity among people is a cause and an effect of national boundar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ws apply primarily along national lin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nguage and values are shared within bord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tes and symbols are shared</a:t>
            </a:r>
            <a:r>
              <a:rPr b="1" lang="en-US" sz="2400" spc="-1" strike="noStrike">
                <a:solidFill>
                  <a:srgbClr val="666699"/>
                </a:solidFill>
                <a:latin typeface="Verdana"/>
              </a:rPr>
              <a:t> </a:t>
            </a:r>
            <a:r>
              <a:rPr b="0" lang="en-US" sz="2400" spc="-1" strike="noStrike">
                <a:solidFill>
                  <a:srgbClr val="666699"/>
                </a:solidFill>
                <a:latin typeface="Verdana"/>
              </a:rPr>
              <a:t>along national lines</a:t>
            </a:r>
            <a:endParaRPr b="0" lang="en-US" sz="2400" spc="-1" strike="noStrike">
              <a:solidFill>
                <a:srgbClr val="66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3923F65B-4CB5-495D-823E-94D2DBCA159A}"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ulture and the Nation-State</a:t>
            </a:r>
            <a:endParaRPr b="0" lang="en-US" sz="4800" spc="-1" strike="noStrike">
              <a:solidFill>
                <a:srgbClr val="6f6e4a"/>
              </a:solidFill>
              <a:latin typeface="Georgi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untry-by-country analysis can be difficult because</a:t>
            </a:r>
            <a:r>
              <a:rPr b="0"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ubcultures exist within na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imilarities link groups from different countri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eed to focus on relevant group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86011AFE-3E11-4B24-941F-290E57EEF051}"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How Cultures Form and Change</a:t>
            </a:r>
            <a:endParaRPr b="0" lang="en-US" sz="4400" spc="-1" strike="noStrike">
              <a:solidFill>
                <a:srgbClr val="6f6e4a"/>
              </a:solidFill>
              <a:latin typeface="Georgi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analyze the major causes of cultural difference and chang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F5FDE185-166D-4C2D-986D-6EFF38281CDB}"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How Cultures Form and Change</a:t>
            </a:r>
            <a:endParaRPr b="0" lang="en-US" sz="4400" spc="-1" strike="noStrike">
              <a:solidFill>
                <a:srgbClr val="6f6e4a"/>
              </a:solidFill>
              <a:latin typeface="Georgi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ultural value systems are established early in life but may change through</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hoice or imposition</a:t>
            </a:r>
            <a:endParaRPr b="0" lang="en-US" sz="2400" spc="-1" strike="noStrike">
              <a:solidFill>
                <a:srgbClr val="666699"/>
              </a:solidFill>
              <a:latin typeface="Verdana"/>
            </a:endParaRPr>
          </a:p>
          <a:p>
            <a:pPr lvl="2" marL="1143000" indent="-228600">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ultural imperialism</a:t>
            </a:r>
            <a:r>
              <a:rPr b="0" lang="en-US" sz="2000" spc="-1" strike="noStrike">
                <a:solidFill>
                  <a:srgbClr val="666699"/>
                </a:solidFill>
                <a:latin typeface="Verdana"/>
              </a:rPr>
              <a:t> </a:t>
            </a:r>
            <a:endParaRPr b="0" lang="en-US" sz="20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tact with other cultur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ltural diffus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reolizat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6AC444DD-FF41-4800-8735-DFE7FF1994A2}"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Language: </a:t>
            </a:r>
            <a:br>
              <a:rPr sz="4400"/>
            </a:br>
            <a:r>
              <a:rPr b="0" lang="en-US" sz="4400" spc="-1" strike="noStrike">
                <a:solidFill>
                  <a:srgbClr val="6f6e4a"/>
                </a:solidFill>
                <a:latin typeface="Georgia"/>
              </a:rPr>
              <a:t>Cultural Diffuser and Stabilizer</a:t>
            </a:r>
            <a:endParaRPr b="0" lang="en-US" sz="4400" spc="-1" strike="noStrike">
              <a:solidFill>
                <a:srgbClr val="6f6e4a"/>
              </a:solidFill>
              <a:latin typeface="Georgi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common language within a country is a unifying forc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shared language between nations facilitates international busines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ative English speaking countries account for a third of the world’s produc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glish is the international language of busines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1833821C-CFF8-45AC-91B8-77EB7FF7B2E0}"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Language: </a:t>
            </a:r>
            <a:br>
              <a:rPr sz="4400"/>
            </a:br>
            <a:r>
              <a:rPr b="0" lang="en-US" sz="4400" spc="-1" strike="noStrike">
                <a:solidFill>
                  <a:srgbClr val="6f6e4a"/>
                </a:solidFill>
                <a:latin typeface="Georgia"/>
              </a:rPr>
              <a:t>Cultural Diffuser and Stabilizer</a:t>
            </a:r>
            <a:endParaRPr b="0" lang="en-US" sz="44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Distribution Of The World’s Major Languages</a:t>
            </a:r>
            <a:endParaRPr b="0" lang="en-US" sz="1800" spc="-1" strike="noStrike">
              <a:solidFill>
                <a:srgbClr val="666699"/>
              </a:solidFill>
              <a:latin typeface="Verdana"/>
            </a:endParaRPr>
          </a:p>
        </p:txBody>
      </p:sp>
      <p:pic>
        <p:nvPicPr>
          <p:cNvPr id="158" name="Picture 5" descr=""/>
          <p:cNvPicPr/>
          <p:nvPr/>
        </p:nvPicPr>
        <p:blipFill>
          <a:blip r:embed="rId1"/>
          <a:stretch/>
        </p:blipFill>
        <p:spPr>
          <a:xfrm>
            <a:off x="457200" y="2209680"/>
            <a:ext cx="8229600" cy="38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F0ECE65A-0237-4A90-86B1-F4BBD9A5289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Language: </a:t>
            </a:r>
            <a:br>
              <a:rPr sz="4400"/>
            </a:br>
            <a:r>
              <a:rPr b="0" lang="en-US" sz="4400" spc="-1" strike="noStrike">
                <a:solidFill>
                  <a:srgbClr val="6f6e4a"/>
                </a:solidFill>
                <a:latin typeface="Georgia"/>
              </a:rPr>
              <a:t>Cultural Diffuser and Stabilizer</a:t>
            </a:r>
            <a:endParaRPr b="0" lang="en-US" sz="4400" spc="-1" strike="noStrike">
              <a:solidFill>
                <a:srgbClr val="6f6e4a"/>
              </a:solidFill>
              <a:latin typeface="Georgi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Major Language Groups: Population and Output</a:t>
            </a: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63" name="Picture 4" descr=""/>
          <p:cNvPicPr/>
          <p:nvPr/>
        </p:nvPicPr>
        <p:blipFill>
          <a:blip r:embed="rId1"/>
          <a:stretch/>
        </p:blipFill>
        <p:spPr>
          <a:xfrm>
            <a:off x="457200" y="2286000"/>
            <a:ext cx="8229600" cy="37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DBC47DD6-B076-45C1-AE6F-974C221A257A}"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eligion: Cultural Stabilizer</a:t>
            </a:r>
            <a:endParaRPr b="0" lang="en-US" sz="4800" spc="-1" strike="noStrike">
              <a:solidFill>
                <a:srgbClr val="6f6e4a"/>
              </a:solidFill>
              <a:latin typeface="Georgi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ligion impacts almost every business func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enturies of profound religious influence continue to play a major role in shaping cultural values and behavior</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ny strong values are the result of a dominant relig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EFACA2A3-4D72-4DDD-AB1F-76BCACD83781}"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eligion: Cultural Stabilizer</a:t>
            </a:r>
            <a:endParaRPr b="0" lang="en-US" sz="4800" spc="-1" strike="noStrike">
              <a:solidFill>
                <a:srgbClr val="6f6e4a"/>
              </a:solidFill>
              <a:latin typeface="Georgia"/>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Distribution Of The World’s Major Religions</a:t>
            </a:r>
            <a:endParaRPr b="0" lang="en-US" sz="1800" spc="-1" strike="noStrike">
              <a:solidFill>
                <a:srgbClr val="666699"/>
              </a:solidFill>
              <a:latin typeface="Verdana"/>
            </a:endParaRPr>
          </a:p>
        </p:txBody>
      </p:sp>
      <p:pic>
        <p:nvPicPr>
          <p:cNvPr id="172" name="Picture 5" descr=""/>
          <p:cNvPicPr/>
          <p:nvPr/>
        </p:nvPicPr>
        <p:blipFill>
          <a:blip r:embed="rId1"/>
          <a:stretch/>
        </p:blipFill>
        <p:spPr>
          <a:xfrm>
            <a:off x="958680" y="2057400"/>
            <a:ext cx="722808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0E87F2C8-3483-47C9-A638-63B3F73696BB}"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Behavioral Practices </a:t>
            </a:r>
            <a:br>
              <a:rPr sz="4400"/>
            </a:br>
            <a:r>
              <a:rPr b="0" lang="en-US" sz="4400" spc="-1" strike="noStrike">
                <a:solidFill>
                  <a:srgbClr val="6f6e4a"/>
                </a:solidFill>
                <a:latin typeface="Georgia"/>
              </a:rPr>
              <a:t>Affecting Business</a:t>
            </a:r>
            <a:endParaRPr b="0" lang="en-US" sz="4400" spc="-1" strike="noStrike">
              <a:solidFill>
                <a:srgbClr val="6f6e4a"/>
              </a:solidFill>
              <a:latin typeface="Georgi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behavioral factors influencing countries’ business practices</a:t>
            </a: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929AAE72-E903-4D77-A018-BB070917A247}"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2</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The Cultural Environments</a:t>
            </a:r>
            <a:endParaRPr b="0" lang="en-US" sz="4400" spc="-1" strike="noStrike">
              <a:solidFill>
                <a:srgbClr val="666699"/>
              </a:solidFill>
              <a:latin typeface="Verdan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 </a:t>
            </a:r>
            <a:r>
              <a:rPr b="0" lang="en-US" sz="4400" spc="-1" strike="noStrike">
                <a:solidFill>
                  <a:srgbClr val="6f6e4a"/>
                </a:solidFill>
                <a:latin typeface="Verdana"/>
              </a:rPr>
              <a:t>Facing Business</a:t>
            </a:r>
            <a:endParaRPr b="0" lang="en-US" sz="4400" spc="-1" strike="noStrike">
              <a:solidFill>
                <a:srgbClr val="666699"/>
              </a:solidFill>
              <a:latin typeface="Verdan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E30AA5E9-2E47-414C-9146-02F49BA14F02}"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ocial Stratification</a:t>
            </a:r>
            <a:endParaRPr b="0" lang="en-US" sz="4800" spc="-1" strike="noStrike">
              <a:solidFill>
                <a:srgbClr val="6f6e4a"/>
              </a:solidFill>
              <a:latin typeface="Georgi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cial ranking is determined b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individual’s achievements and qualifica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individual’s affiliation with, or membership in, certain groups  </a:t>
            </a:r>
            <a:endParaRPr b="0" lang="en-US" sz="2800" spc="-1" strike="noStrike">
              <a:solidFill>
                <a:srgbClr val="6666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B061C85E-3E3A-4299-A3A7-F1401F169ABA}"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ocial Stratification</a:t>
            </a:r>
            <a:endParaRPr b="0" lang="en-US" sz="4800" spc="-1" strike="noStrike">
              <a:solidFill>
                <a:srgbClr val="6f6e4a"/>
              </a:solidFill>
              <a:latin typeface="Georgi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oup affiliations can be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Ascribed group membership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ased on gender, family, age, caste, and ethnic, racial, or national origin</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Acquired group membership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ased on religion, political affiliation, professional associatio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wo other factors that are importa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ducation and social connection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AA22D4D2-2681-4BDB-B90D-50B99B37E954}"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ork Motivation</a:t>
            </a:r>
            <a:endParaRPr b="0" lang="en-US" sz="4800" spc="-1" strike="noStrike">
              <a:solidFill>
                <a:srgbClr val="6f6e4a"/>
              </a:solidFill>
              <a:latin typeface="Georgi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motivation to work differs across cultures</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tudies show</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desire for material wealth is a prime motivation to work </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es economic development</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eople are more eager to work when the rewards for success are high </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asculinity-femininity index</a:t>
            </a:r>
            <a:r>
              <a:rPr b="0"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lnSpc>
                <a:spcPct val="90000"/>
              </a:lnSpc>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masculinity score prefers “to live to work”</a:t>
            </a:r>
            <a:r>
              <a:rPr b="0" lang="en-US" sz="2000" spc="-1" strike="noStrike">
                <a:solidFill>
                  <a:srgbClr val="666699"/>
                </a:solidFill>
                <a:latin typeface="Verdana"/>
              </a:rPr>
              <a:t> </a:t>
            </a:r>
            <a:r>
              <a:rPr b="0" lang="en-US" sz="2400" spc="-1" strike="noStrike">
                <a:solidFill>
                  <a:srgbClr val="666699"/>
                </a:solidFill>
                <a:latin typeface="Verdana"/>
              </a:rPr>
              <a:t>than “to work to live”</a:t>
            </a:r>
            <a:r>
              <a:rPr b="0" lang="en-US" sz="2000" spc="-1" strike="noStrike">
                <a:solidFill>
                  <a:srgbClr val="666699"/>
                </a:solidFill>
                <a:latin typeface="Verdana"/>
              </a:rPr>
              <a:t> </a:t>
            </a: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9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34A215B8-1AC4-4B5E-9FA2-3664EA7D186F}"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ork Motivation</a:t>
            </a:r>
            <a:endParaRPr b="0" lang="en-US" sz="4800" spc="-1" strike="noStrike">
              <a:solidFill>
                <a:srgbClr val="6f6e4a"/>
              </a:solidFill>
              <a:latin typeface="Georgia"/>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Hierarchy of needs theor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ill lower-level needs before moving to higher level need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ranking of needs differs among culture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72BBE42D-18B2-4F91-9EAF-A0149C02CC3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ork Motivation</a:t>
            </a:r>
            <a:endParaRPr b="0" lang="en-US" sz="4800" spc="-1" strike="noStrike">
              <a:solidFill>
                <a:srgbClr val="6f6e4a"/>
              </a:solidFill>
              <a:latin typeface="Georgia"/>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Hierarchy of Needs and Need-Hierarchy Comparisons</a:t>
            </a:r>
            <a:endParaRPr b="0" lang="en-US" sz="1800" spc="-1" strike="noStrike">
              <a:solidFill>
                <a:srgbClr val="666699"/>
              </a:solidFill>
              <a:latin typeface="Verdana"/>
            </a:endParaRPr>
          </a:p>
        </p:txBody>
      </p:sp>
      <p:pic>
        <p:nvPicPr>
          <p:cNvPr id="197" name="Picture 4" descr=""/>
          <p:cNvPicPr/>
          <p:nvPr/>
        </p:nvPicPr>
        <p:blipFill>
          <a:blip r:embed="rId1"/>
          <a:stretch/>
        </p:blipFill>
        <p:spPr>
          <a:xfrm>
            <a:off x="609480" y="1981080"/>
            <a:ext cx="7890120" cy="426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AF9BDD56-586A-444B-8A71-85F0861BE2C2}"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elationship Preferences</a:t>
            </a:r>
            <a:endParaRPr b="0" lang="en-US" sz="4800" spc="-1" strike="noStrike">
              <a:solidFill>
                <a:srgbClr val="6f6e4a"/>
              </a:solidFill>
              <a:latin typeface="Georgi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lationship preferences differ by cultur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wer distance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power distance</a:t>
            </a:r>
            <a:r>
              <a:rPr b="1" lang="en-US" sz="2400" spc="-1" strike="noStrike">
                <a:solidFill>
                  <a:srgbClr val="666699"/>
                </a:solidFill>
                <a:latin typeface="Verdana"/>
              </a:rPr>
              <a:t> </a:t>
            </a:r>
            <a:r>
              <a:rPr b="0" lang="en-US" sz="2400" spc="-1" strike="noStrike">
                <a:solidFill>
                  <a:srgbClr val="666699"/>
                </a:solidFill>
                <a:latin typeface="Verdana"/>
              </a:rPr>
              <a:t>implies little superior-subordinate interaction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utocratic or paternalistic management styl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w power distance implies consultative styl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dividualism</a:t>
            </a:r>
            <a:r>
              <a:rPr b="0" lang="en-US" sz="2800" spc="-1" strike="noStrike">
                <a:solidFill>
                  <a:srgbClr val="666699"/>
                </a:solidFill>
                <a:latin typeface="Verdana"/>
              </a:rPr>
              <a:t> versus </a:t>
            </a:r>
            <a:r>
              <a:rPr b="1" lang="en-US" sz="2800" spc="-1" strike="noStrike">
                <a:solidFill>
                  <a:srgbClr val="666699"/>
                </a:solidFill>
                <a:latin typeface="Verdana"/>
              </a:rPr>
              <a:t>collectivism</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individualism – welcome challeng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collectivism – prefer safe work environmen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22F97C39-C537-487C-B1E6-AF598AE55096}"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isk Taking Behavior</a:t>
            </a:r>
            <a:endParaRPr b="0" lang="en-US" sz="4800" spc="-1" strike="noStrike">
              <a:solidFill>
                <a:srgbClr val="6f6e4a"/>
              </a:solidFill>
              <a:latin typeface="Georgi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isk taking behavior differs across cultur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Uncertainty avoidanc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andling uncertainty</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Trust</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gree of trust among peopl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Future orient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laying gratific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Fatal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ttitudes of self-determinat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4A4A06A0-149D-49EB-9DEF-D6AC67B6278D}"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formation and </a:t>
            </a:r>
            <a:br>
              <a:rPr sz="4400"/>
            </a:br>
            <a:r>
              <a:rPr b="0" lang="en-US" sz="4400" spc="-1" strike="noStrike">
                <a:solidFill>
                  <a:srgbClr val="6f6e4a"/>
                </a:solidFill>
                <a:latin typeface="Georgia"/>
              </a:rPr>
              <a:t>Task Processing</a:t>
            </a:r>
            <a:endParaRPr b="0" lang="en-US" sz="4400" spc="-1" strike="noStrike">
              <a:solidFill>
                <a:srgbClr val="6f6e4a"/>
              </a:solidFill>
              <a:latin typeface="Georgi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ultures handle information in different way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erception of cu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btaining inform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low context</a:t>
            </a:r>
            <a:r>
              <a:rPr b="0" lang="en-US" sz="2400" spc="-1" strike="noStrike">
                <a:solidFill>
                  <a:srgbClr val="666699"/>
                </a:solidFill>
                <a:latin typeface="Verdana"/>
              </a:rPr>
              <a:t> versus </a:t>
            </a:r>
            <a:r>
              <a:rPr b="1" lang="en-US" sz="2400" spc="-1" strike="noStrike">
                <a:solidFill>
                  <a:srgbClr val="666699"/>
                </a:solidFill>
                <a:latin typeface="Verdana"/>
              </a:rPr>
              <a:t>high context</a:t>
            </a:r>
            <a:r>
              <a:rPr b="0" lang="en-US" sz="2400" spc="-1" strike="noStrike">
                <a:solidFill>
                  <a:srgbClr val="666699"/>
                </a:solidFill>
                <a:latin typeface="Verdana"/>
              </a:rPr>
              <a:t> cultur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formation processing</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onochronic</a:t>
            </a:r>
            <a:r>
              <a:rPr b="0" lang="en-US" sz="2400" spc="-1" strike="noStrike">
                <a:solidFill>
                  <a:srgbClr val="666699"/>
                </a:solidFill>
                <a:latin typeface="Verdana"/>
              </a:rPr>
              <a:t> versus </a:t>
            </a:r>
            <a:r>
              <a:rPr b="1" lang="en-US" sz="2400" spc="-1" strike="noStrike">
                <a:solidFill>
                  <a:srgbClr val="666699"/>
                </a:solidFill>
                <a:latin typeface="Verdana"/>
              </a:rPr>
              <a:t>polychronic </a:t>
            </a:r>
            <a:r>
              <a:rPr b="0" lang="en-US" sz="2400" spc="-1" strike="noStrike">
                <a:solidFill>
                  <a:srgbClr val="666699"/>
                </a:solidFill>
                <a:latin typeface="Verdana"/>
              </a:rPr>
              <a:t>cultur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Idealism</a:t>
            </a:r>
            <a:r>
              <a:rPr b="0" lang="en-US" sz="2400" spc="-1" strike="noStrike">
                <a:solidFill>
                  <a:srgbClr val="666699"/>
                </a:solidFill>
                <a:latin typeface="Verdana"/>
              </a:rPr>
              <a:t> versus </a:t>
            </a:r>
            <a:r>
              <a:rPr b="1" lang="en-US" sz="2400" spc="-1" strike="noStrike">
                <a:solidFill>
                  <a:srgbClr val="666699"/>
                </a:solidFill>
                <a:latin typeface="Verdana"/>
              </a:rPr>
              <a:t>pragmatism</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6F55ABF3-BCB8-436F-A7B7-84DBA598ED8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unications</a:t>
            </a:r>
            <a:endParaRPr b="0" lang="en-US" sz="4800" spc="-1" strike="noStrike">
              <a:solidFill>
                <a:srgbClr val="6f6e4a"/>
              </a:solidFill>
              <a:latin typeface="Georgi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ross border communications do not always translate as intended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poken and written langua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lent languag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lo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tanc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ime and punctuali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ody languag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estige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D836D916-85D8-4213-8676-35515A887363}"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unications</a:t>
            </a:r>
            <a:endParaRPr b="0" lang="en-US" sz="4800" spc="-1" strike="noStrike">
              <a:solidFill>
                <a:srgbClr val="6f6e4a"/>
              </a:solidFill>
              <a:latin typeface="Georgia"/>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Body Language Is Not A Universal Language</a:t>
            </a:r>
            <a:endParaRPr b="0" lang="en-US" sz="1800" spc="-1" strike="noStrike">
              <a:solidFill>
                <a:srgbClr val="666699"/>
              </a:solidFill>
              <a:latin typeface="Verdana"/>
            </a:endParaRPr>
          </a:p>
        </p:txBody>
      </p:sp>
      <p:pic>
        <p:nvPicPr>
          <p:cNvPr id="218" name="Picture 4" descr=""/>
          <p:cNvPicPr/>
          <p:nvPr/>
        </p:nvPicPr>
        <p:blipFill>
          <a:blip r:embed="rId1"/>
          <a:stretch/>
        </p:blipFill>
        <p:spPr>
          <a:xfrm>
            <a:off x="609480" y="2362320"/>
            <a:ext cx="80773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D3E75686-F4F9-48B6-A36F-45879ADB75F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understand methods for learning about cultural environmen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analyze the major causes of cultural difference and chan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discuss behavioral factors influencing countries’ business practic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understand guidelines for cultural adjustment</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429F0718-C44D-4C6C-9734-F51A0A10FC11}"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aling with </a:t>
            </a:r>
            <a:br>
              <a:rPr sz="4400"/>
            </a:br>
            <a:r>
              <a:rPr b="0" lang="en-US" sz="4400" spc="-1" strike="noStrike">
                <a:solidFill>
                  <a:srgbClr val="6f6e4a"/>
                </a:solidFill>
                <a:latin typeface="Georgia"/>
              </a:rPr>
              <a:t>Cultural Differences</a:t>
            </a:r>
            <a:endParaRPr b="0" lang="en-US" sz="4400" spc="-1" strike="noStrike">
              <a:solidFill>
                <a:srgbClr val="6f6e4a"/>
              </a:solidFill>
              <a:latin typeface="Georgia"/>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understand guidelines for cultural adjustment</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9836F2E2-D2EE-461A-8C0E-1F5B696ABBB1}"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aling with </a:t>
            </a:r>
            <a:br>
              <a:rPr sz="4400"/>
            </a:br>
            <a:r>
              <a:rPr b="0" lang="en-US" sz="4400" spc="-1" strike="noStrike">
                <a:solidFill>
                  <a:srgbClr val="6f6e4a"/>
                </a:solidFill>
                <a:latin typeface="Georgia"/>
              </a:rPr>
              <a:t>Cultural Differences</a:t>
            </a:r>
            <a:endParaRPr b="0" lang="en-US" sz="4400" spc="-1" strike="noStrike">
              <a:solidFill>
                <a:srgbClr val="6f6e4a"/>
              </a:solidFill>
              <a:latin typeface="Georgia"/>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o managers have to alter their customary practices to succeed in countries with different cultures?</a:t>
            </a:r>
            <a:endParaRPr b="0" lang="en-US" sz="2800" spc="-1" strike="noStrike">
              <a:solidFill>
                <a:srgbClr val="666699"/>
              </a:solidFill>
              <a:latin typeface="Verdana"/>
            </a:endParaRPr>
          </a:p>
          <a:p>
            <a:pPr marL="339480" indent="-3394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ust consider</a:t>
            </a:r>
            <a:endParaRPr b="0" lang="en-US" sz="2800" spc="-1" strike="noStrike">
              <a:solidFill>
                <a:srgbClr val="666699"/>
              </a:solidFill>
              <a:latin typeface="Verdana"/>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ost society acceptance</a:t>
            </a:r>
            <a:endParaRPr b="0" lang="en-US" sz="2400" spc="-1" strike="noStrike">
              <a:solidFill>
                <a:srgbClr val="666699"/>
              </a:solidFill>
              <a:latin typeface="Verdana"/>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gree of cultural differences</a:t>
            </a:r>
            <a:endParaRPr b="0" lang="en-US" sz="2400" spc="-1" strike="noStrike">
              <a:solidFill>
                <a:srgbClr val="666699"/>
              </a:solidFill>
              <a:latin typeface="Verdana"/>
            </a:endParaRPr>
          </a:p>
          <a:p>
            <a:pPr lvl="2" marL="1131480" indent="-22608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ultural distance</a:t>
            </a:r>
            <a:endParaRPr b="0" lang="en-US" sz="2400" spc="-1" strike="noStrike">
              <a:solidFill>
                <a:srgbClr val="666699"/>
              </a:solidFill>
              <a:latin typeface="Verdana"/>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bility to adjust</a:t>
            </a:r>
            <a:endParaRPr b="0" lang="en-US" sz="2400" spc="-1" strike="noStrike">
              <a:solidFill>
                <a:srgbClr val="666699"/>
              </a:solidFill>
              <a:latin typeface="Verdana"/>
            </a:endParaRPr>
          </a:p>
          <a:p>
            <a:pPr lvl="2" marL="1131480" indent="-22608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ulture shock </a:t>
            </a:r>
            <a:r>
              <a:rPr b="0" lang="en-US" sz="2400" spc="-1" strike="noStrike">
                <a:solidFill>
                  <a:srgbClr val="666699"/>
                </a:solidFill>
                <a:latin typeface="Verdana"/>
              </a:rPr>
              <a:t>and </a:t>
            </a:r>
            <a:r>
              <a:rPr b="1" lang="en-US" sz="2400" spc="-1" strike="noStrike">
                <a:solidFill>
                  <a:srgbClr val="666699"/>
                </a:solidFill>
                <a:latin typeface="Verdana"/>
              </a:rPr>
              <a:t>reverse culture shock</a:t>
            </a:r>
            <a:endParaRPr b="0" lang="en-US" sz="2400" spc="-1" strike="noStrike">
              <a:solidFill>
                <a:srgbClr val="666699"/>
              </a:solidFill>
              <a:latin typeface="Verdana"/>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any and management orientation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0A06FA88-795E-4DCE-8808-893ABBBADFD1}"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aling with </a:t>
            </a:r>
            <a:br>
              <a:rPr sz="4400"/>
            </a:br>
            <a:r>
              <a:rPr b="0" lang="en-US" sz="4400" spc="-1" strike="noStrike">
                <a:solidFill>
                  <a:srgbClr val="6f6e4a"/>
                </a:solidFill>
                <a:latin typeface="Georgia"/>
              </a:rPr>
              <a:t>Cultural Differences</a:t>
            </a:r>
            <a:endParaRPr b="0" lang="en-US" sz="4400" spc="-1" strike="noStrike">
              <a:solidFill>
                <a:srgbClr val="6f6e4a"/>
              </a:solidFill>
              <a:latin typeface="Georgi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ree company and management orientation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olycentr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usiness units abroad should act like local compan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thnocent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ome culture is superior to local cultur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verlook national differe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Geocentr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grate home and host practices</a:t>
            </a:r>
            <a:r>
              <a:rPr b="1" lang="en-US" sz="2400" spc="-1" strike="noStrike">
                <a:solidFill>
                  <a:srgbClr val="666699"/>
                </a:solidFill>
                <a:latin typeface="Verdana"/>
              </a:rPr>
              <a:t> </a:t>
            </a:r>
            <a:r>
              <a:rPr b="0"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A8CFF211-A16B-40C3-80B9-6C07DB676A7A}"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Strategies for Instituting Change</a:t>
            </a:r>
            <a:endParaRPr b="0" lang="en-US" sz="4400" spc="-1" strike="noStrike">
              <a:solidFill>
                <a:srgbClr val="6f6e4a"/>
              </a:solidFill>
              <a:latin typeface="Georgia"/>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Value System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st-Benefit Analysis of chan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sistance to too much chan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articip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ward Sharing</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pinion Leadership</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iming</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earning Abroad</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295F0F99-13FD-4FDE-9A39-818A4FA2598A}"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Future of National Cultures</a:t>
            </a:r>
            <a:endParaRPr b="0" lang="en-US" sz="4400" spc="-1" strike="noStrike">
              <a:solidFill>
                <a:srgbClr val="6f6e4a"/>
              </a:solidFill>
              <a:latin typeface="Georgia"/>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cenario 1: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New hybrid cultures will develop and personal horizons will broaden</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cenario 2: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Outward expressions of national culture will continue to become homogeneous while distinct values will remain stable </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cenario 3: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Nationalism will continue to reinforce cultural identity</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cenario 4: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Existing national borders will shift to accommodate ethnic differences</a:t>
            </a:r>
            <a:endParaRPr b="0" lang="en-US" sz="2000" spc="-1" strike="noStrike">
              <a:solidFill>
                <a:srgbClr val="66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3EEEF315-29AC-4C2D-871B-7E8FEDC6AAE1}"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4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42"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57BCE73E-A509-4D3F-8C43-8802F656542B}"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understand methods for learning about cultural environment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92C5E599-EE22-4050-B73A-185A4239105B}"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ulture </a:t>
            </a:r>
            <a:r>
              <a:rPr b="0" lang="en-US" sz="2800" spc="-1" strike="noStrike">
                <a:solidFill>
                  <a:srgbClr val="666699"/>
                </a:solidFill>
                <a:latin typeface="Verdana"/>
              </a:rPr>
              <a:t>refers to the learned norms based on values, attitudes, and beliefs of a group of peopl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ulture is an integral part of a nation’s operating environme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very business function is subject to potential cultural difference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A3A0636C-1F61-4952-A614-EFBC2E4FD4D7}"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ultural Factors Affecting International Business Operations</a:t>
            </a:r>
            <a:endParaRPr b="0" lang="en-US" sz="1800" spc="-1" strike="noStrike">
              <a:solidFill>
                <a:srgbClr val="666699"/>
              </a:solidFill>
              <a:latin typeface="Verdana"/>
            </a:endParaRPr>
          </a:p>
        </p:txBody>
      </p:sp>
      <p:pic>
        <p:nvPicPr>
          <p:cNvPr id="121" name="Picture 4" descr=""/>
          <p:cNvPicPr/>
          <p:nvPr/>
        </p:nvPicPr>
        <p:blipFill>
          <a:blip r:embed="rId1"/>
          <a:stretch/>
        </p:blipFill>
        <p:spPr>
          <a:xfrm>
            <a:off x="762120" y="2362320"/>
            <a:ext cx="7848360" cy="32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0FA69989-64FF-4C1F-9B63-8EC86AFF79B0}"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need to decide when to make cultural adjustments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stering cultural diversity can allow a company to gain a global competitive advantage by bringing together people of diverse backgrounds and experience</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FF8D5EFC-4413-4777-B316-1F3EE38E66E1}"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ut, </a:t>
            </a:r>
            <a:r>
              <a:rPr b="1" lang="en-US" sz="2800" spc="-1" strike="noStrike">
                <a:solidFill>
                  <a:srgbClr val="666699"/>
                </a:solidFill>
                <a:latin typeface="Verdana"/>
              </a:rPr>
              <a:t>cultural collision </a:t>
            </a:r>
            <a:r>
              <a:rPr b="0" lang="en-US" sz="2800" spc="-1" strike="noStrike">
                <a:solidFill>
                  <a:srgbClr val="666699"/>
                </a:solidFill>
                <a:latin typeface="Verdana"/>
              </a:rPr>
              <a:t>can occur when a company implements practices that are less effective or when employees encounter distress because of difficulty in accepting or adjusting to foreign behaviors</a:t>
            </a:r>
            <a:endParaRPr b="0" lang="en-US" sz="28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505687AA-CF49-48F0-9CEC-BCB740BF6C2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ultural Awareness</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blem areas that can hinder managers’ cultural awarenes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ubconscious reactions to circumsta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ssumption that all societal subgroups are similar</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that educate themselves about other cultures have a greater chance of succeeding abroad</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0T19:17:00Z</dcterms:created>
  <dc:creator>Veronica</dc:creator>
  <dc:description/>
  <dc:language>en-US</dc:language>
  <cp:lastModifiedBy>User</cp:lastModifiedBy>
  <dcterms:modified xsi:type="dcterms:W3CDTF">2013-12-11T12:08:16Z</dcterms:modified>
  <cp:revision>18</cp:revision>
  <dc:subject/>
  <dc:title>Slide 1</dc:title>
</cp:coreProperties>
</file>