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4FAD-C059-4E19-B1D6-49CE7E9F73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5A01-EEF1-45E1-A905-0BB2F9D885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F68B-7444-479A-85F6-39472DE02F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litical spectrum</a:t>
            </a:r>
            <a:r>
              <a:rPr b="1" lang="en-US" sz="1200" spc="-1" strike="noStrike">
                <a:solidFill>
                  <a:srgbClr val="000000"/>
                </a:solidFill>
                <a:latin typeface="Arial"/>
              </a:rPr>
              <a:t> </a:t>
            </a:r>
            <a:r>
              <a:rPr b="0" lang="en-US" sz="1200" spc="-1" strike="noStrike">
                <a:solidFill>
                  <a:srgbClr val="000000"/>
                </a:solidFill>
                <a:latin typeface="Arial"/>
              </a:rPr>
              <a:t>outlines the various forms of political ideology including anarchism, conservatism, secularism, environmentalism, liberalism, feminism, nationalism, socialism, and theoc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re concerned with the degree of political freedom in a country and its effect on investment choices and operations deci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6523-D615-431F-9693-8E62C13F5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 political spectrum of the various forms of political ideologies. By </a:t>
            </a:r>
            <a:r>
              <a:rPr b="0" lang="en-US" sz="1200" spc="-1" strike="noStrike">
                <a:solidFill>
                  <a:srgbClr val="000000"/>
                </a:solidFill>
                <a:latin typeface="Palatino-Roman"/>
              </a:rPr>
              <a:t> configuring ideologies along the central axis we can model different political ideologies in relation to each other. The goal of relativity depends on specifying credible ideas to anchor the endpoints of the axis; reasonably set, one can then position alternative id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In practice, purely democratic and totalitarian systems are extreme exceptions. Looking around the world, one finds that there are variations of each political ideology.  For example, democratic systems range from radical on one side (advocates of extreme political reform) to reactionary (advocates of a return to past conditions).  Likewise, totalitarian systems emphasize different degrees of state control; fascism aims to control people’s minds, souls, and daily existence, whereas authoritarianism confines itself to political control of the state. This  Figure shows that the majority of political ideologies fall between democracy and totalitari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B89D-F7CE-4342-8E47-E6D595A55C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ideals and means of democracy and totalitarianism can help explain the other points on the political spectrum.  Democracy calls for participation by citizens in a fair and just decision-making process.  Since it supports individualism, companies can make investment and operational decisions based on economic rather than political standards.  Under a democracy, commerce and trade is promot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C30F-3E07-4073-9BD5-000B802172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itarian system champions the power of a few over the many.  Under a totalitarian system, the government maintains control over many aspects of life, the individual is subordinated to the state, and all opposing political and cultural expression is suppressed.  Managers operating in a totalitarian state must make decisions based on political rather than economic standards.  Typically, local companies are favored over foreign firms forcing multinational companies to make business deals that would not occur in a democratic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E4AA-0EF8-4C38-ACB1-DBB7DE0B15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om House classifies countries according to their political and civil freedom.  A </a:t>
            </a:r>
            <a:r>
              <a:rPr b="0" i="1" lang="en-US" sz="1200" spc="-1" strike="noStrike">
                <a:solidFill>
                  <a:srgbClr val="000000"/>
                </a:solidFill>
                <a:latin typeface="Arial"/>
              </a:rPr>
              <a:t>free country </a:t>
            </a:r>
            <a:r>
              <a:rPr b="0" lang="en-US" sz="1200" spc="-1" strike="noStrike">
                <a:solidFill>
                  <a:srgbClr val="000000"/>
                </a:solidFill>
                <a:latin typeface="Arial"/>
              </a:rPr>
              <a:t>has open political competition, respect for civil liberties, independent civic life, and independent media.  A </a:t>
            </a:r>
            <a:r>
              <a:rPr b="0" i="1" lang="en-US" sz="1200" spc="-1" strike="noStrike">
                <a:solidFill>
                  <a:srgbClr val="000000"/>
                </a:solidFill>
                <a:latin typeface="Arial"/>
              </a:rPr>
              <a:t>partly free country </a:t>
            </a:r>
            <a:r>
              <a:rPr b="0" lang="en-US" sz="1200" spc="-1" strike="noStrike">
                <a:solidFill>
                  <a:srgbClr val="000000"/>
                </a:solidFill>
                <a:latin typeface="Arial"/>
              </a:rPr>
              <a:t>has limited political rights and civil liberties, corruption, weak rules of law, ethnic and religious strife, unfair elections, and censorship.  A </a:t>
            </a:r>
            <a:r>
              <a:rPr b="0" i="1" lang="en-US" sz="1200" spc="-1" strike="noStrike">
                <a:solidFill>
                  <a:srgbClr val="000000"/>
                </a:solidFill>
                <a:latin typeface="Arial"/>
              </a:rPr>
              <a:t>not free country </a:t>
            </a:r>
            <a:r>
              <a:rPr b="0" lang="en-US" sz="1200" spc="-1" strike="noStrike">
                <a:solidFill>
                  <a:srgbClr val="000000"/>
                </a:solidFill>
                <a:latin typeface="Arial"/>
              </a:rPr>
              <a:t>has few or no political rights and civil liberti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7534-D988-401F-B900-324905B545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three types of political freedom identified by Freedom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AAAC-F467-4D8A-A7B9-A97D3CA1F9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profile trends in contemporary political syste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2230-E26D-4B3B-A4D2-C1F29F1C17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Third Wave of Democratization </a:t>
            </a:r>
            <a:r>
              <a:rPr b="0" lang="en-US" sz="1200" spc="-1" strike="noStrike">
                <a:solidFill>
                  <a:srgbClr val="000000"/>
                </a:solidFill>
                <a:latin typeface="Arial"/>
              </a:rPr>
              <a:t>refers to the third major surge of democracy in the 20</a:t>
            </a:r>
            <a:r>
              <a:rPr b="0" lang="en-US" sz="1200" spc="-1" strike="noStrike" baseline="30000">
                <a:solidFill>
                  <a:srgbClr val="000000"/>
                </a:solidFill>
                <a:latin typeface="Arial"/>
              </a:rPr>
              <a:t>th</a:t>
            </a:r>
            <a:r>
              <a:rPr b="0" lang="en-US" sz="1200" spc="-1" strike="noStrike">
                <a:solidFill>
                  <a:srgbClr val="000000"/>
                </a:solidFill>
                <a:latin typeface="Arial"/>
              </a:rPr>
              <a:t> century that began in 1974.  During this time the number of democratic countries doubled.  This steady diffusion of democratic ideology resulted in a situation in which today, some 50 percent of the world’s population lives in a democra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ise of democracy was a result of t</a:t>
            </a:r>
            <a:r>
              <a:rPr b="0" lang="en-US" sz="1200" spc="-1" strike="noStrike">
                <a:solidFill>
                  <a:srgbClr val="000000"/>
                </a:solidFill>
                <a:latin typeface="Palatino-Roman"/>
              </a:rPr>
              <a:t>he failure of totalitarian regimes to deliver economic progress, improved communications technology, and e</a:t>
            </a:r>
            <a:r>
              <a:rPr b="0" lang="en-US" sz="1200" spc="-1" strike="noStrike">
                <a:solidFill>
                  <a:srgbClr val="000000"/>
                </a:solidFill>
                <a:latin typeface="Avenir-Light"/>
              </a:rPr>
              <a:t>conomic dividends of increasing political freedom.  However, despite these gains, over the last five years, some of the gains in political freedom have declined.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4846-B5F7-4E15-81E8-279982A2B2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emocracy still retains its appeal worldwide, there are signs that it may actually be in retreat.  According to the Economist Intelligence Unit many countries are democracies in name only.  The EIU classifies four types of political systems – full democracy, flawed democracy, hybrid regime, and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12 percent of the world’s population lives in a full democracy, 37 percent in a flawed democracy, 14 percent in a hybrid regime, and 37 percent in an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fueling this trend?  Several things.  One is the growing uncertainty of the relationship between democracy and levels of economic development.   A second involves the democracy setbacks in several European countries.  Third, the economic problems and in particular the global financial crisis that has plagued the world over the last few years.  Finally is the question of just how democracy should be defined and what its standards should b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AF33-4D5F-4A27-A0EF-A1265F2DE7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number of electoral democracies over time.  Since 2007, there has been a downward trend in the number of democracies and a rise in totalitarian reg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88BE-82CD-41C8-A069-CEF9DEBAC4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The Political and Legal Environments Facing Busines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2B51-2EC3-4D8C-87CB-12F90FE5AF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gains and declines in freedom.  Notice that early on, freedom exceeds declines, but that more recently, that trend has rever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21B2-0233-4C9F-9A72-B1F756F789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n the future?   Managers must watch carefully and adapt their operations and decisions accor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Consensus champions democracy, freedom, the rule of law, and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jing Consensus calls for a one-party system in which elected representatives, preapproved by the ruling party, oversee a nominal democratic system whose citizens, though granted the right to vote, cannot participate in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Clash of Civilizations scenario irreconcilable cultural and religious differences between Islam and the West will trigger a backlash against Western political ideals and their crystallization in the ideologically interventionist Washington Consensu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3B15-4D58-4DCC-9036-A1EA5B36A5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explain the idea of political risk and approaches to manag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8115-1BB1-4E90-AB84-74F16D14A8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risk represents a very real threat for companies today especially in fast-growing, emerging markets where weak legal systems, makeshift institutions, volatile cities, and fragile regimes complicate the business environment. Moreover, the global credit crisis has aggravated political risk across both developed and developing marke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categories of political ri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Italic"/>
              </a:rPr>
              <a:t>Systemic Risks </a:t>
            </a:r>
            <a:r>
              <a:rPr b="0" lang="en-US" sz="1200" spc="-1" strike="noStrike">
                <a:solidFill>
                  <a:srgbClr val="000000"/>
                </a:solidFill>
                <a:latin typeface="Palatino-Italic"/>
              </a:rPr>
              <a:t>are r</a:t>
            </a:r>
            <a:r>
              <a:rPr b="0" lang="en-US" sz="1200" spc="-1" strike="noStrike">
                <a:solidFill>
                  <a:srgbClr val="000000"/>
                </a:solidFill>
                <a:latin typeface="Palatino-Roman"/>
              </a:rPr>
              <a:t>isks that impact all firms that operate in the particular political syste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Procedural Risk </a:t>
            </a:r>
            <a:r>
              <a:rPr b="0" lang="en-US" sz="1200" spc="-1" strike="noStrike">
                <a:solidFill>
                  <a:srgbClr val="000000"/>
                </a:solidFill>
                <a:latin typeface="Palatino-Roman"/>
              </a:rPr>
              <a:t>refers to the risk evolving from the daily movement of  people, products, and funds from point to point in the global market. Each move creates a </a:t>
            </a:r>
            <a:r>
              <a:rPr b="0" i="1" lang="en-US" sz="1200" spc="-1" strike="noStrike">
                <a:solidFill>
                  <a:srgbClr val="000000"/>
                </a:solidFill>
                <a:latin typeface="Palatino-Italic"/>
              </a:rPr>
              <a:t>procedural transaction </a:t>
            </a:r>
            <a:r>
              <a:rPr b="0" lang="en-US" sz="1200" spc="-1" strike="noStrike">
                <a:solidFill>
                  <a:srgbClr val="000000"/>
                </a:solidFill>
                <a:latin typeface="Palatino-Roman"/>
              </a:rPr>
              <a:t>between the units involved, whether units of a company or units of a country. Political actions sometimes create frictions that interfere with these transac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Distributive Risk  </a:t>
            </a:r>
            <a:r>
              <a:rPr b="0" lang="en-US" sz="1200" spc="-1" strike="noStrike">
                <a:solidFill>
                  <a:srgbClr val="000000"/>
                </a:solidFill>
                <a:latin typeface="Palatino-Roman"/>
              </a:rPr>
              <a:t>is a result of the profits generated by foreign companies in the local economy.  If the host country questions the </a:t>
            </a:r>
            <a:r>
              <a:rPr b="0" i="1" lang="en-US" sz="1200" spc="-1" strike="noStrike">
                <a:solidFill>
                  <a:srgbClr val="000000"/>
                </a:solidFill>
                <a:latin typeface="Palatino-Italic"/>
              </a:rPr>
              <a:t>distributive justice </a:t>
            </a:r>
            <a:r>
              <a:rPr b="0" lang="en-US" sz="1200" spc="-1" strike="noStrike">
                <a:solidFill>
                  <a:srgbClr val="000000"/>
                </a:solidFill>
                <a:latin typeface="Palatino-Roman"/>
              </a:rPr>
              <a:t>of the rewards of operating in its market, it may wonder whether, as the business grows more successful, it is receiving its “fair” share of the growing prof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a:t>
            </a:r>
            <a:r>
              <a:rPr b="0" i="1" lang="en-US" sz="1200" spc="-1" strike="noStrike">
                <a:solidFill>
                  <a:srgbClr val="000000"/>
                </a:solidFill>
                <a:latin typeface="Palatino-Roman"/>
              </a:rPr>
              <a:t>Catastrophic Risk </a:t>
            </a:r>
            <a:r>
              <a:rPr b="0" lang="en-US" sz="1200" spc="-1" strike="noStrike">
                <a:solidFill>
                  <a:srgbClr val="000000"/>
                </a:solidFill>
                <a:latin typeface="Palatino-Roman"/>
              </a:rPr>
              <a:t>includes random political developments that adversely affect the operations of every company in a country.  Typically, it arises from specific flash points, such as ethnic discord, illegal regime change, civil disorder, or insurrection. It disrupts the business environment in a way that affects every firm in the country.  If such disruptions spiral out of control, they devastate companies and 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E399-3980-4EC4-A6E5-CA8965A331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haracteristics of political ris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EE95-A6FD-4352-9C71-D317882C37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discuss the philosophy and practices of the legal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5F19-3A99-49C7-81A2-233C3DEDC5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anagers must be aware of how a country develops, interprets, and enforces its laws.  Legal systems vary across counties because of variations in traditions, precedent, usage, custom, and religious precep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legal systems are composed of </a:t>
            </a:r>
            <a:r>
              <a:rPr b="0" i="1" lang="en-US" sz="1200" spc="-1" strike="noStrike">
                <a:solidFill>
                  <a:srgbClr val="000000"/>
                </a:solidFill>
                <a:latin typeface="Arial"/>
              </a:rPr>
              <a:t>constitutional law </a:t>
            </a:r>
            <a:r>
              <a:rPr b="0" lang="en-US" sz="1200" spc="-1" strike="noStrike">
                <a:solidFill>
                  <a:srgbClr val="000000"/>
                </a:solidFill>
                <a:latin typeface="Arial"/>
              </a:rPr>
              <a:t>which preserves an open and just political order</a:t>
            </a:r>
            <a:r>
              <a:rPr b="0" i="1" lang="en-US" sz="1200" spc="-1" strike="noStrike">
                <a:solidFill>
                  <a:srgbClr val="000000"/>
                </a:solidFill>
                <a:latin typeface="Arial"/>
              </a:rPr>
              <a:t>, criminal law </a:t>
            </a:r>
            <a:r>
              <a:rPr b="0" lang="en-US" sz="1200" spc="-1" strike="noStrike">
                <a:solidFill>
                  <a:srgbClr val="000000"/>
                </a:solidFill>
                <a:latin typeface="Arial"/>
              </a:rPr>
              <a:t>which safeguards the social order</a:t>
            </a:r>
            <a:r>
              <a:rPr b="0" i="1" lang="en-US" sz="1200" spc="-1" strike="noStrike">
                <a:solidFill>
                  <a:srgbClr val="000000"/>
                </a:solidFill>
                <a:latin typeface="Arial"/>
              </a:rPr>
              <a:t>, </a:t>
            </a:r>
            <a:r>
              <a:rPr b="0" lang="en-US" sz="1200" spc="-1" strike="noStrike">
                <a:solidFill>
                  <a:srgbClr val="000000"/>
                </a:solidFill>
                <a:latin typeface="Arial"/>
              </a:rPr>
              <a:t>and </a:t>
            </a:r>
            <a:r>
              <a:rPr b="0" i="1" lang="en-US" sz="1200" spc="-1" strike="noStrike">
                <a:solidFill>
                  <a:srgbClr val="000000"/>
                </a:solidFill>
                <a:latin typeface="Arial"/>
              </a:rPr>
              <a:t>civil and commercial laws </a:t>
            </a:r>
            <a:r>
              <a:rPr b="0" lang="en-US" sz="1200" spc="-1" strike="noStrike">
                <a:solidFill>
                  <a:srgbClr val="000000"/>
                </a:solidFill>
                <a:latin typeface="Arial"/>
              </a:rPr>
              <a:t>which promote fairness</a:t>
            </a:r>
            <a:r>
              <a:rPr b="0" i="1"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types of legal systems.  A c</a:t>
            </a:r>
            <a:r>
              <a:rPr b="0" lang="en-US" sz="1200" spc="-1" strike="noStrike">
                <a:solidFill>
                  <a:srgbClr val="000000"/>
                </a:solidFill>
                <a:latin typeface="Palatino-Roman"/>
              </a:rPr>
              <a:t>ommon law system is based on tradition, precedent, custom, usage, and interpretation by the courts.  A civil law system relies on a systematic collection of codes and statues that judges must follow.  A theocratic system is based on religious precepts.  A customary legal system follows the wisdom of daily experience.  Finally, a mixed legal system combines elements of the other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083F-4625-4B21-8607-D227ECBBCA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fferent legal systems being used by countri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88DF-D96D-4EC1-89DF-971DD8474E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describe trends in contemporary legal syst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5F7A-6FD0-42B4-867B-0C6C98E4B8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reat of democracy is also changing the legal environment.  As countries shift toward totalitarian regimes, the legal system changes to one in which business activity is regulated by the government to support state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must determine what the basis of rule is in a given country – the rule of man or the rule of law.  The rule of man is the basis of a totalitarian system, while the rule of law is the basis of democrac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1495-505E-4E7D-AED3-AF8C81FE4E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political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rends in contemporary politic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the idea of political risk and approaches to manag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legal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trends in contemporary leg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legal issues facing international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E73C-DE62-46A4-9E69-E7628D7AB4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the rule of law across the world.  Note that the rule of law prevails in wealthier, Westernized countries, but that the rule of man is in place in many emerging economies.  In the past, it was common for managers to avoid countries where the rule of man prevailed, but slow growth in countries dominated by the rule of law is forcing managers to reconsider thi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AD7A-5ABB-4FC6-9C8B-F6AD10B249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6: To explain legal issues facing international compan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A6FD-91AD-45D9-ADB1-830E447FD5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doing business abroad face a complex political and legal environment that makes decision- making in the multinational company challeng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Just starting a new business creates several concerns related to registering the new company’s name, choosing the appropriate tax structure, getting licenses and permits, arranging credit, and securing insurance.   Some countries facilitate this process, while others do no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nagers must also be aware of how a country’s political and legal environment affects both entering and enforcing contracts.  A contract, which is essential to business transactions, is a binding legal agreement that formally exchanges promises, the breach of which triggers legal proceedings. Countries with common law systems tend to encourage precise, detailed contracts, but countries with civil law systems where the civil code deals with many pertinent issues, encourage shorter and less specific contrac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nother area that managers must explore is related to hiring and firing local workers.  However, laws and practices in this area vary greatly across the world.</a:t>
            </a:r>
            <a:r>
              <a:rPr b="0" lang="en-US" sz="1200" spc="-1" strike="noStrike">
                <a:solidFill>
                  <a:srgbClr val="000000"/>
                </a:solidFill>
                <a:latin typeface="Arial"/>
              </a:rPr>
              <a:t>  Singapore, New Zealand, and the United States are among the countries with the most flexible labor-regulation statutes. China has the most flexibility in hiring and firing plus the greatest discretion in setting employment conditions, but, Angola, Belarus, and Paraguay place rigid restrictions on fi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how a business is closed down must be explored.  Some countries make the process quite difficult.  In the United States, for example, the Internal Revenue Service requires completing a series of forms that report, among many others points, changes in the business structure, the sale of assets, payments to subcontractors, and termination of a retirement plan.  Other countries like Ireland, Japan, and Canada allow companies to close their doors much more eas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 say that there is an inverse relationship between a nation’s wealth and its tendency to regulate busin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A3F3-23BD-4A6C-AEC1-513DC21034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asic operation decisions managers must also consider longer term strategic issues and how the political and legal environment might influence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product’s country of origin – where the product was grown, produced, or manufactured – is important for determining import charges.  Many countries require companies to ensure that a certain percentage of a good is made locally.  These regulations are called local content rules. Today’s slow economic growth have made “buy-local” campaigns very popul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rketplace behavior can make strategic decisions challenging especially where rule of man prevails.  Governments determine what is permissible in all forms of business activities, including sourcing, distributing, advertising, and pricing products.  So managers are vulnerable to abrupt changes that could require them to adjust their manufacturing configuration, their supply chain coordination, and their marketing strateg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oduct safety and liability is another strategic areas of concern for managers.  Local standards may require companies to customize their products.  Since these standards often reflect cultural values or social norms, companies must adapt the product to boost its appeal to local consum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ountries also have legal jurisdiction to stipulate laws that set the criteria for litigation when agents—whether legal residents of the same or of different countries—are unable to resolve a dispute.  Typically, in a cross-national dispute, each company petitions its home-country court to claim jurisdiction hoping that this will ensure more favorable treat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companies must consider intellectual property rights and protection in a given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A7DF-22E6-4681-A409-C948204BF4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on of intellectual property has become a hot topic in today’s global economy.  Product piracy has become common, and many countries feel that others are not doing enough to safeguard the rights of those who own intellectual prop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for companies to maintain control over their intellectual property because no “global” patent, trademark, or copyright exists.  Therefore, managers must be especially vigilant to ensure that product piracy does not occur.   Yet, it can be exceedingly difficult to do so.  The business of intellectual property theft is huge.  Some estimates suggest that international trade in pirated goods is more than $600 billion a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CEF6-9CF3-4A1B-981F-C8E6BD90C9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ountries decide how and if to protect intellectual property?  Well, every country’s policies regarding intellectual property are different and reflect the nation’s legal legacies, economic development, and cultural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hare of pirated products is made in countries where the rule of man is dominant.  Protection tends to be much better in countries where the rule of law prevails.  A country’s economic level of development also plays a role in the protection of intellectual property.  Poorer countries typically impose fewer regulations compared to wealthier countries.  Similarly, intellectual property rights protection tends to be better in countries where individualism is emphasized, whereas in collectivist societies, protection is much l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protection be improved?  Perhaps, but it could take awhile.  Over time, countries that become idea creators tend to improve their protection of intellectual property.  China for example, has long been known for product piracy, but as it has become an idea lab in recent years, it has been making a better effort to protect intellectual property.   In general, c</a:t>
            </a:r>
            <a:r>
              <a:rPr b="0" lang="en-US" sz="1200" spc="-1" strike="noStrike">
                <a:solidFill>
                  <a:srgbClr val="000000"/>
                </a:solidFill>
                <a:latin typeface="Avenir-Light"/>
              </a:rPr>
              <a:t>ountries that generate intellectual property are strong advocates of protecting ownership righ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B975-5842-493A-BBF5-DC27B4F705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68BA-3347-495B-8719-A8C74E146A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discuss the philosophy and practices of the political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BBE3-EF2A-4F2F-9804-EE9FC92858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internationally must navigate different philosophies, laws, and attitudes concerning political freedom, property rights, and social responsibility.  Managers that understand the differences between countries are in a better position to compe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8AAD-267D-44C7-882A-39B2C957F0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political and legal factors that influence international business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0ADA-669D-4E1F-B20E-02DD42E531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 country’s political system is to integrate the diverse elements of a society.  A successful political system unites a society in the face of differing viewpoints.  So for example, the peace and prosperity that exists in countries like Sweden and Australia illustrate the success of the political systems in those countries, while the instability and insurrection of Libya’s political system shows its failing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CEE8-5F75-4CE1-B4AC-9C5EF8EECC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andard way to assess a political system is exploring the degree to which it emphasizes individualism versus collectiv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 champions the rights of the individual over those of society.  From a business perspective, this suggests that managers have </a:t>
            </a:r>
            <a:r>
              <a:rPr b="0" lang="en-US" sz="1200" spc="-1" strike="noStrike">
                <a:solidFill>
                  <a:srgbClr val="000000"/>
                </a:solidFill>
                <a:latin typeface="Palatino-Roman"/>
              </a:rPr>
              <a:t>the right to make economic decisions largely free of rules and regulations.  You might be aware that countries that have an individualist orientation shape their marketplace with the idea of </a:t>
            </a:r>
            <a:r>
              <a:rPr b="1" lang="en-US" sz="1200" spc="-1" strike="noStrike">
                <a:solidFill>
                  <a:srgbClr val="000000"/>
                </a:solidFill>
                <a:latin typeface="Palatino-Bold"/>
              </a:rPr>
              <a:t>laissez-faire </a:t>
            </a:r>
            <a:r>
              <a:rPr b="0" lang="en-US" sz="1200" spc="-1" strike="noStrike">
                <a:solidFill>
                  <a:srgbClr val="000000"/>
                </a:solidFill>
                <a:latin typeface="Palatino-Bold"/>
              </a:rPr>
              <a:t>and support the idea </a:t>
            </a:r>
            <a:r>
              <a:rPr b="0" lang="en-US" sz="1200" spc="-1" strike="noStrike">
                <a:solidFill>
                  <a:srgbClr val="000000"/>
                </a:solidFill>
                <a:latin typeface="Palatino-Roman"/>
              </a:rPr>
              <a:t> that government should not interfere in business affairs.  Under this perspective, individuals are presumed to be self-regulating in promoting economic prosperity and growth, acting fairly and justly to maximize personal performance without threatening the welfare of soci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contrast, collectivism encourages the government to intervene to improve the welfare of the group at the expense of the individual.  For business, this means that the ownership of assets, the structure of industries, the conduct of companies, and the actions of managers must improve the welfare of society. Therefore, group members accept the responsibility for making decisions that will benefit everyone.  Countries taking a collectivist orientation hold that government will intervene in market situations to ensure that business practices benefi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EE34-00B8-40C4-A147-AC1571D546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ntries have competing ideologies.  In the United States for example, the Democratic Party competes with the Republican Party to not only describe a vision for the future, but also the means of achieving that future.  Most societies today are pluralistic – they have different groups championing different ideolog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7B1DD-C915-4C30-9A59-927EB4EB6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BB24-CEAA-458D-9650-E1C341853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F3E31-6AAA-4D4F-A6DE-952133B9E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A42A1-B1D6-4C28-A5D9-175990D3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5E476-10FD-4C0C-A6B5-0B71627F8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182D-E192-4369-A838-5782E99F8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E990-FAB3-4BD3-879C-CE99FCF3A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4FA7B-673C-48AE-991E-26C08DBF7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123FE-8010-445F-AC27-159501709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2150-3BB9-4F41-9294-9B485DAD5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9FE16-AA9F-4255-AFA1-F22E263B9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2939-BE42-40F1-8B8D-7448FB666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F23D-94FB-4470-A254-DA3562180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824C-BE76-4C7F-85A5-9C38A4B76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B1805-1214-4AF7-B22A-8BF886B42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E5802-6326-4485-B7A5-4E7AF8A16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40794-0256-4EF2-9B46-96B4AC679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F4B0-12C3-4A5B-87AB-F9E5B22F1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3E35E-C4D5-4EF5-939A-707DC691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9C7AE-B9AE-4140-91B9-960E28B2E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D651-E8A5-4F0F-9C61-60C802A3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FB386-7030-4B69-A07D-37C4D6F2C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DBA4-FA06-4D6A-90F6-A3B8B4CC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022A-F733-4D58-B7CF-C2364E252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784AD1D0-9BD3-4AE7-99FC-53AC70A722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0433F09C-A412-4365-9507-124954E307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135FA11-0B89-469D-B80C-81B91E71F3B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3B04EC0-93D3-493D-AF56-4B242BE98B0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spectrum </a:t>
            </a:r>
            <a:r>
              <a:rPr b="0" lang="en-US" sz="2800" spc="-1" strike="noStrike">
                <a:solidFill>
                  <a:srgbClr val="666699"/>
                </a:solidFill>
                <a:latin typeface="Verdana"/>
              </a:rPr>
              <a:t>outlines the various forms of political ideolog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freedom </a:t>
            </a:r>
            <a:r>
              <a:rPr b="0" lang="en-US" sz="2800" spc="-1" strike="noStrike">
                <a:solidFill>
                  <a:srgbClr val="666699"/>
                </a:solidFill>
                <a:latin typeface="Verdana"/>
              </a:rPr>
              <a:t>measur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degree to which fair and competitive elections occu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xtent to which individual and group freedoms are guarantee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egitimacy ascribed to the general rule of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freedom of the pres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352C1E7-ECDE-468B-ACB4-AF7A54F2431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Political Spectrum</a:t>
            </a:r>
            <a:endParaRPr b="0" lang="en-US" sz="1800" spc="-1" strike="noStrike">
              <a:solidFill>
                <a:srgbClr val="666699"/>
              </a:solidFill>
              <a:latin typeface="Verdana"/>
            </a:endParaRPr>
          </a:p>
        </p:txBody>
      </p:sp>
      <p:pic>
        <p:nvPicPr>
          <p:cNvPr id="142" name="Picture 4" descr=""/>
          <p:cNvPicPr/>
          <p:nvPr/>
        </p:nvPicPr>
        <p:blipFill>
          <a:blip r:embed="rId1"/>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6B8C8CD3-2FB3-40F9-B934-414C955810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mocracy</a:t>
            </a:r>
            <a:endParaRPr b="0" lang="en-US" sz="4800" spc="-1" strike="noStrike">
              <a:solidFill>
                <a:srgbClr val="6f6e4a"/>
              </a:solidFill>
              <a:latin typeface="Georgi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democracy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citizens are politically and legally equal</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are equally entitled to freedom of thought, opinion, belief, speech, and associa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equally command sovereign power over public official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democracy include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resentativ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ultipart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liamentar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30140A7-87FE-464E-AA25-101A8941397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otalitarianism</a:t>
            </a:r>
            <a:endParaRPr b="0" lang="en-US" sz="4800" spc="-1" strike="noStrike">
              <a:solidFill>
                <a:srgbClr val="6f6e4a"/>
              </a:solidFill>
              <a:latin typeface="Georgi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totalitarian system </a:t>
            </a:r>
            <a:r>
              <a:rPr b="0" lang="en-US" sz="2800" spc="-1" strike="noStrike">
                <a:solidFill>
                  <a:srgbClr val="666699"/>
                </a:solidFill>
                <a:latin typeface="Verdana"/>
              </a:rPr>
              <a:t>subordinates the individual to the interests of the collectiv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sent is eliminated through indoctrination, persecution, surveillance, propaganda, censorship, and violenc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totalitarianism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uthoritarian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c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cular</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a:t>
            </a:r>
            <a:endParaRPr b="0" lang="en-US" sz="24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F8EF048-9D84-4EED-9490-0A5C7B9234D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assesses political and civil freedom around the world</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recognizes three types of political system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tly 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t free</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81675C1-3DCF-4360-81DA-971FA33B5A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Map of Political Freedom, 2010</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9"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CCBABC2-B816-464E-8CE5-3BDD90882C5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Political Ideologie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rends in contemporary political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ED50EA0B-1B18-42DB-AC57-2ED345828CE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ird Wave of Democratization</a:t>
            </a:r>
            <a:endParaRPr b="0" lang="en-US" sz="44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hird Wave of Democratization </a:t>
            </a:r>
            <a:endParaRPr b="0" lang="en-US" sz="2800" spc="-1" strike="noStrike">
              <a:solidFill>
                <a:srgbClr val="666699"/>
              </a:solidFill>
              <a:latin typeface="Verdana"/>
            </a:endParaRPr>
          </a:p>
          <a:p>
            <a:pPr lvl="1" marL="914400" indent="-457200">
              <a:spcBef>
                <a:spcPts val="601"/>
              </a:spcBef>
              <a:buClr>
                <a:srgbClr val="ff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umber of democracies doubled in two decades</a:t>
            </a:r>
            <a:endParaRPr b="0" lang="en-US" sz="2400" spc="-1" strike="noStrike">
              <a:solidFill>
                <a:srgbClr val="666699"/>
              </a:solidFill>
              <a:latin typeface="Verdana"/>
            </a:endParaRPr>
          </a:p>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Democracy</a:t>
            </a:r>
            <a:endParaRPr b="0" lang="en-US" sz="28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The failure of totalitarian regimes to deliver economic progress</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Improved communications technology</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Avenir-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venir-Light"/>
              </a:rPr>
              <a:t>Economic dividends of increasing political freedo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7DF45F7-5355-4F7A-B8A9-AA10786335D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mocracy’s retre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just 26 of the world’s democracies are full democracie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totalitarianism</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nsistenc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s problem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ndards of democracy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270906C-3679-43A3-818E-F94CD71CCD2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Number of Electoral Democraci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76" name="Picture 4" descr=""/>
          <p:cNvPicPr/>
          <p:nvPr/>
        </p:nvPicPr>
        <p:blipFill>
          <a:blip r:embed="rId1"/>
          <a:stretch/>
        </p:blipFill>
        <p:spPr>
          <a:xfrm>
            <a:off x="457200" y="205740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181D8D9-486D-4EFD-B7CD-40A5EDDA273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3</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Political and Legal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5645A7D-4A04-4EC4-A8B2-67C80B39709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Gains and Declin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81"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B644FAA-6163-46B4-9868-609EDEE5A7D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olitical Ideology and the MNE</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will the political map look like in the futur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Washington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ijing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lash of Civiliza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6111C16-BE96-4838-91A1-5EC55256CDF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the idea of political risk and approaches to managing i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7D253EC-3EA5-4C23-B913-1D4E4B55268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risk </a:t>
            </a:r>
            <a:r>
              <a:rPr b="0" lang="en-US" sz="2800" spc="-1" strike="noStrike">
                <a:solidFill>
                  <a:srgbClr val="666699"/>
                </a:solidFill>
                <a:latin typeface="Verdana"/>
              </a:rPr>
              <a:t>refers to the risk that political decisions or events in a country negatively affect the profitability or sustainability of an investm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ic</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cedur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ributiv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tastrophic</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EFF74BA-A32D-44E3-9885-63B5A19CAD3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assifying Political Risk </a:t>
            </a:r>
            <a:endParaRPr b="0" lang="en-US" sz="48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haracteristics of Political Risk</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98" name="Picture 4" descr=""/>
          <p:cNvPicPr/>
          <p:nvPr/>
        </p:nvPicPr>
        <p:blipFill>
          <a:blip r:embed="rId1"/>
          <a:stretch/>
        </p:blipFill>
        <p:spPr>
          <a:xfrm>
            <a:off x="690480" y="2057400"/>
            <a:ext cx="776124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3C164E5-3729-420B-AA2C-1FFC22029B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legal syste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03A6FCA-6E59-4E83-B79D-1A079044E3D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legal system</a:t>
            </a:r>
            <a:r>
              <a:rPr b="0" lang="en-US" sz="2800" spc="-1" strike="noStrike">
                <a:solidFill>
                  <a:srgbClr val="666699"/>
                </a:solidFill>
                <a:latin typeface="Verdana"/>
              </a:rPr>
              <a:t> is the mechanism for creating, interpreting, and enforcing the laws in a specified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ivil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ary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system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50FCCE2-1CF5-4676-B799-FCB894464B4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ide World of Legal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1"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1B685F0-34C8-480E-85BC-9111436731C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trends in contemporary legal systems</a:t>
            </a: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C3AD852-D57A-413D-A816-B589C8A0755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is the basis of rule in a countr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ma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rights derive from the individual who commands the power to impose them</a:t>
            </a:r>
            <a:r>
              <a:rPr b="1"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totalitarian syste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law</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atic and objective laws applied by public officials who are held accountable for their administr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democratic system</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6F74A94-3B9A-4E63-A534-60B50E8462F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political environmen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profile trends in contemporary politic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the idea of political risk and approaches to managing i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legal system</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trends in contemporary leg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legal issues facing international companies</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EF85742E-69F0-4B88-BEDA-52CB2C8459A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orldwide Distribution of the Rule of Law</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24"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D8AC9A4-ADF5-4BC3-BECC-E710A0FD52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gal Issues in IB</a:t>
            </a:r>
            <a:endParaRPr b="0" lang="en-US" sz="4800" spc="-1" strike="noStrike">
              <a:solidFill>
                <a:srgbClr val="6f6e4a"/>
              </a:solidFill>
              <a:latin typeface="Georgia"/>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6: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legal issues facing international compan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AA51F5F-1F34-4FE0-B4F4-68B28531BD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Operational Concerns</a:t>
            </a:r>
            <a:endParaRPr b="0" lang="en-US" sz="4800" spc="-1" strike="noStrike">
              <a:solidFill>
                <a:srgbClr val="6f6e4a"/>
              </a:solidFill>
              <a:latin typeface="Georgia"/>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erational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rting a busi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tering and enforcing contra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firing local work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losing down the busin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general</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ch countries regulate l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or countries regulate mor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18CAE30-758A-4187-908A-64E16954631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trategic Concerns</a:t>
            </a:r>
            <a:endParaRPr b="0" lang="en-US" sz="4800" spc="-1" strike="noStrike">
              <a:solidFill>
                <a:srgbClr val="6f6e4a"/>
              </a:solidFill>
              <a:latin typeface="Georgi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rategic issu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untry of origin</a:t>
            </a:r>
            <a:r>
              <a:rPr b="0" lang="en-US" sz="2800" spc="-1" strike="noStrike">
                <a:solidFill>
                  <a:srgbClr val="666699"/>
                </a:solidFill>
                <a:latin typeface="Verdana"/>
              </a:rPr>
              <a:t> and </a:t>
            </a:r>
            <a:r>
              <a:rPr b="1" lang="en-US" sz="2800" spc="-1" strike="noStrike">
                <a:solidFill>
                  <a:srgbClr val="666699"/>
                </a:solidFill>
                <a:latin typeface="Verdana"/>
              </a:rPr>
              <a:t>local cont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place behavior</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safety and liabil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llectual proper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3CC096F-0CCE-44E1-A368-445D439C89B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a:t>
            </a:r>
            <a:r>
              <a:rPr b="0" lang="en-US" sz="2800" spc="-1" strike="noStrike">
                <a:solidFill>
                  <a:srgbClr val="666699"/>
                </a:solidFill>
                <a:latin typeface="Verdana"/>
              </a:rPr>
              <a:t>refers to creative ideas, expertise, or intangible insights that grant its owner a competitive advanta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rights</a:t>
            </a:r>
            <a:r>
              <a:rPr b="0" lang="en-US" sz="2800" spc="-1" strike="noStrike">
                <a:solidFill>
                  <a:srgbClr val="666699"/>
                </a:solidFill>
                <a:latin typeface="Verdana"/>
              </a:rPr>
              <a:t> refer to the right to control and derive the benefits from writing, inventions, processes, and identifie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 “global” patent, trademark or copyright exists </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F3005E9-4C67-4746-84EB-8EBE45868E0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ttitudes towards intellectual propert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legac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ule of man versus rule of law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ealth, poverty, and protec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vels of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orient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vidualism versus collectivis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AD299FA-74C2-4A11-9646-C19A7C82624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48"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84F9A5EE-B851-4B99-91EA-04F7392F2E0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political environment</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31D9D25-8112-4AE7-8383-9F62F0011A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very country has its own political and legal environme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must determine where, when, and how to adjust their business practices without undermining the basis for succes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005DB8B-E829-4CEC-AA7D-45EE2ED5511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Verdana"/>
              </a:rPr>
              <a:t>Political and Legal Factors Influencing International Business Operations</a:t>
            </a:r>
            <a:endParaRPr b="0" lang="en-US" sz="1600" spc="-1" strike="noStrike">
              <a:solidFill>
                <a:srgbClr val="666699"/>
              </a:solidFill>
              <a:latin typeface="Verdana"/>
            </a:endParaRPr>
          </a:p>
        </p:txBody>
      </p:sp>
      <p:pic>
        <p:nvPicPr>
          <p:cNvPr id="121" name="Picture 4" descr=""/>
          <p:cNvPicPr/>
          <p:nvPr/>
        </p:nvPicPr>
        <p:blipFill>
          <a:blip r:embed="rId1"/>
          <a:stretch/>
        </p:blipFill>
        <p:spPr>
          <a:xfrm>
            <a:off x="457200" y="2209680"/>
            <a:ext cx="82296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F2C4EFA-2BC8-4DFE-A0E1-5B3D7A6E511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Political Environment</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evaluate, monitor, and forecast political environ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untry’s </a:t>
            </a:r>
            <a:r>
              <a:rPr b="1" lang="en-US" sz="2800" spc="-1" strike="noStrike">
                <a:solidFill>
                  <a:srgbClr val="666699"/>
                </a:solidFill>
                <a:latin typeface="Verdana"/>
              </a:rPr>
              <a:t>political system </a:t>
            </a:r>
            <a:r>
              <a:rPr b="0" lang="en-US" sz="2800" spc="-1" strike="noStrike">
                <a:solidFill>
                  <a:srgbClr val="666699"/>
                </a:solidFill>
                <a:latin typeface="Verdana"/>
              </a:rPr>
              <a:t>refers to the structural dimensions and power dynamics of its government that specify institutions, organizations, and interest groups, and define the norms that govern political activit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A873743-0198-4E3C-8589-781F9EAF71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dividualism vs. Collectivism</a:t>
            </a:r>
            <a:endParaRPr b="0" lang="en-US" sz="44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ividual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individual</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llectiv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communi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0DDBB65-1CF9-4606-BC66-DBC4897F33C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Ideology</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ideology </a:t>
            </a:r>
            <a:r>
              <a:rPr b="0" lang="en-US" sz="2800" spc="-1" strike="noStrike">
                <a:solidFill>
                  <a:srgbClr val="666699"/>
                </a:solidFill>
                <a:latin typeface="Verdana"/>
              </a:rPr>
              <a:t>stipulates how society ought to function and outlines the methods by which it will do so</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modern societies are </a:t>
            </a:r>
            <a:r>
              <a:rPr b="1" lang="en-US" sz="2800" spc="-1" strike="noStrike">
                <a:solidFill>
                  <a:srgbClr val="666699"/>
                </a:solidFill>
                <a:latin typeface="Verdana"/>
              </a:rPr>
              <a:t>pluralist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t groups champion competing political ideolog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s vs. Republicans in the United Stat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ic Party vs. Liberal Party in Japan</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8:44:56Z</dcterms:created>
  <dc:creator>Veronica</dc:creator>
  <dc:description/>
  <dc:language>en-US</dc:language>
  <cp:lastModifiedBy>User</cp:lastModifiedBy>
  <dcterms:modified xsi:type="dcterms:W3CDTF">2013-12-11T12:08:39Z</dcterms:modified>
  <cp:revision>12</cp:revision>
  <dc:subject/>
  <dc:title>Slide 1</dc:title>
</cp:coreProperties>
</file>