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wmf" ContentType="image/x-wmf"/>
  <Override PartName="/ppt/media/image8.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move the slide</a:t>
            </a:r>
            <a:endParaRPr b="0" lang="en-US" sz="4800" spc="-1" strike="noStrike">
              <a:solidFill>
                <a:srgbClr val="6f6e4a"/>
              </a:solidFill>
              <a:latin typeface="Georgia"/>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45047-AFA6-4D33-8B83-9B3F5F13A24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5F58E-904E-478E-A469-A1E6DF69EF4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Business Environments and Operations 14e by Daniels, Radebaugh, and Sulliva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EEC84-5505-4D1D-812B-8698105BC94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economic freedom by region. Notice that most people in the world live in countries with lower degrees of economic free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A7F19-AA65-4AFF-B781-AB3AC53E3B0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p profiles economic freedom around the world.  Notice that the most free countries include Hong Kong, Singapore, Australia, and Canada.  The United States is only considered mostly free because of increased government spending, debt, and regulations.  North Korea, Cuba, and Venezuela are among the least free econom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3398F-FD36-4D24-A279-724BC6F6653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economic freedom important?  Countries with economic freedom typically have higher per capita income, standards of living, and social stability as compared to less free countri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86160-CB94-4167-B4FD-79D6B4DD9EB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last few decades, managers generally assumed that economic freedom would increase.  However, the recent global financial crisis combined with a resurgence of government intervention has made this assumption question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tion of free markets is losing support in some countries.  Governments are now intervening in markets to implement safeguards to protect against a repeat of the recent financial crisis.  This intervention of course then limits economic freedom.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85E55-CF4E-4294-A286-972CFFC8FA5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3: To profile the characteristics of the types of economic system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E89A3-51D3-4533-A3A3-10FF04AF198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can explore a country’s economic system to understand how the host government regulates the economy, protects property rights, sets fiscal and monetary policies, and enforces antitrust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main types of economic systems: market, command, and mixed economie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49756-4204-4C89-85FD-D1F8E1DB699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different types of economic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E4645-111A-4F4F-8C82-09597A95CBC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rket economies private interests own resources, and prices determine supply and demand.  While there is generally an attitude of laissez-faire the invisible hand does become more visible at times because of the need to provide public goods and protect society.  Market economies maximize economic freedom.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B0AD8-2803-4003-91EA-80202F374FD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4: To introduce the notion of state capitalis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2C1CA-F96C-4D35-8EAF-88F710AC21C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command economy, governments plan what goods and services will be produced, the quantity in which they are produced, and the price at which they are sold.  Command economies constrain economic freedo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EAB85-A3D8-4924-87B7-36375F074B7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Economic Environments Facing Busines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85596-FF08-4303-B88E-31D2D51DB0F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mixed economy, both government and private enterprise influence production, consumption, and savings.  This type of economy supports socialism and the notion that the partly visible hand of the government commands and controls some factors of production.  Therefore, economic freedom in a mixed economy is regulate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F7D1E-3BA9-4963-80D6-B9B6BD06D62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free markets prevail or will governments be in control?  Many countries today are allowing greater state control.  The adoption of state capitalism allows governments to decide how, when, and where assets are valued and resources are allocated.  China has been supporting the ideals of state capitalism, and many other countries now see it as an attractive option.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401D6-7953-4B58-99E4-32A5092E1F3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5: To profile indicators of economic development, performance, and potential.</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B4D87-4C88-4F1D-B716-A6F49EA1858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need to assess a country’s level of economic development, performance, and potential.  Countries can be classified as developing countries, emerging economies, and developed countrie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24ADA-D33D-4003-9E71-82CE73F9B5C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managers can assess markets is by looking at gross national income or GNI which measures the value of all production in the domestic economy together with the income the country receives from other countries, less similar payments it has made to other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can also look at gross national product or GNP. Conceptually, world GNI and world GNP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ss domestic product or GDP allows managers to assess countries in which the output of multinationals represents a significant share of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CB007-431B-4B44-84A0-7553463A09F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o be careful when using GNI data because it can be misleading.   To improve the usefulness of GNI managers should adjust for the growth rate of the economy, the number of people in a country, and the local cost of living.</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CF041-C93F-45C7-87AD-B0C421C30F7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p shows GNI figures for 2009.  Notice that high income countries are clustered in just a few reg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3616D-4134-4041-84D5-3043FDF5C8C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p shows GNI per capita adjusted for </a:t>
            </a:r>
            <a:r>
              <a:rPr b="1" lang="en-US" sz="1200" spc="-1" strike="noStrike">
                <a:solidFill>
                  <a:srgbClr val="000000"/>
                </a:solidFill>
                <a:latin typeface="Arial"/>
              </a:rPr>
              <a:t>purchasing power parity </a:t>
            </a:r>
            <a:r>
              <a:rPr b="0" lang="en-US" sz="1200" spc="-1" strike="noStrike">
                <a:solidFill>
                  <a:srgbClr val="000000"/>
                </a:solidFill>
                <a:latin typeface="Arial"/>
              </a:rPr>
              <a:t>or </a:t>
            </a:r>
            <a:r>
              <a:rPr b="1" lang="en-US" sz="1200" spc="-1" strike="noStrike">
                <a:solidFill>
                  <a:srgbClr val="000000"/>
                </a:solidFill>
                <a:latin typeface="Arial"/>
              </a:rPr>
              <a:t>PPP.</a:t>
            </a:r>
            <a:r>
              <a:rPr b="0" lang="en-US" sz="1200" spc="-1" strike="noStrike">
                <a:solidFill>
                  <a:srgbClr val="000000"/>
                </a:solidFill>
                <a:latin typeface="Arial"/>
              </a:rPr>
              <a:t>   PPP provides a method of measuring the relative purchasing power of different countries’ currencies for the same basket of goods and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B562D-65D0-4F1C-9DA0-BC1F36A441E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looking at GNI, GNP, and GDP, managers also need to consider sustainability and st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economics allows managers to consider the social and ecological costs of their decisions.  The goal should be to create an enabling environment for people to enjoy long, healthy, and happy li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growing criticism of traditional GNI figures as a measure of performance.  Research shows that people in rich countries are not significantly happier than people in poor countries.  Happynomics focuses on the importance of emotional happiness as a measure of a country’s performance and potential.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2930D-72D4-457A-87E1-DE16822C433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can also study other features of an economy including inflation, unemployment, debt, income distribution, poverty, and its balance of pay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AEF35-1AE2-4EFD-9949-7C9CCE4264E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rning objectives for this chapter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mmunicate the importance of economic analys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scuss the idea of economic freedo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file the characteristics of the types of economic syste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troduce the notion of state capitalis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file indicators of economic development, performance, and potentia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EF50E-3ABD-44B2-8414-F8AF40C2725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inflation usually plagues countries where prices have been rising for prolonged periods of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lation occurs when the general price level of goods and services falls.  It’s often caused by a reduction in the money supply or a reduction in credi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9A010-7F5E-4838-94E1-40EB24AC74A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employment rate measures the number of workers who want to work but do not have jobs.  High unemployment is a warning sign for managers because it symbolizes a government’s ineptitude in managing domestic affai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employment occurs when people work fewer hours per day than they would prefer or when they work below the level for which they have been traine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A8F32-5B00-4AF1-871F-6D9205FFD57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can look at a country’s debt to gauge how much a country borrows from its citizens, foreign organizations, foreign governments, and international institutions. When total debt is high the more uncertain an economy’s performance and potential.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5676F-E350-4D31-A072-D2FD4419304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should also look at income distribution to better understand a market’s performance and potential.  One trend that is affecting markets across the globe is the growing gap between rich and poor.  Managers can estimate inequalities in income distribution using a Gini coefficient.  A score of one indicates that one person has all the income.  Most countries range between 25 and 60 percent.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14222-619C-4A09-8582-C34647BA16F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verty shapes economic environments.  While the number of people in extreme poverty in the world has fallen, this figure is misleading because much of the drop has been in a single country, China.  Poverty continues to be a problem with as many as 1.2 billion people in pover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wth of business and economic progress is dependent on ending poverty.  Keep in mind though, that despite being poor, there may still be a market for goods.  Some 80 percent of Indians live on less than $2 per day for example, yet there are 700 million cell phone subscribers in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e of the Pyramid is the largest, but poorest, socioeconomic group in the world who live on less than $2.50 per day. This group may in fact be the future of the global economy prompting the development of frugal engineering which focuses on the needs of poor consumers as a starting point for developing functional, economic products.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39590-E433-4FC3-8833-21B6C78B638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untry’s balance of payments is a system of monitoring all of a country’s economic transactions with the rest of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ports the country’s trade and financial transactions with the rest of the world.  A current account surplus occurs when exports exceed imports, while a current account deficit occurs when imports exceed exports.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ED0B9-1404-44A2-BB6D-FEB46283918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shows the various components of each account in the balance of payment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6862F-A67B-4DA8-84F5-4DEDCF8EA4E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shows the countries with the largest current account surpluses and those with the largest current account deficit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77A0F-6481-4B00-B1A8-46629C9436F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8D7C5-FB40-4821-AC1E-A11E9E9AA6E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1: To communicate the importance of economic analysi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54613-FE0D-454E-90F5-587D5C9F896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study economic environments to estimate how market trends and government policy influence the performance of their companies.  A country’s economic policies are a leading indicator of a government’s goals and its planned use of economic tools and market reforms.  Managers should study a country’s economic environment to assess its development, explain its performance, and estimate its potential.  Managers do this knowing countries differ in different ways, economic and political changes alter market circumstances, that it’s critical to make connections between events and predict the consequences of changes, the challenges of the comeback, and choices of citizens, policymakers, and institution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64260-CEBB-4BA3-98FD-7B3F265006E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which countries warrant investment is not easy.  It’s very difficult to assess the potential of a country because any type of assessment relies on behavioral assumptions as well as more scientific princi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ome 208 discrete economic environments in the world today.  Managers need to narrow them down and identify exactly which countries offer the greatest potential return for the least risk.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65F29-84B2-42D0-AFF5-D153B479F2B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economic factors affecting international business environments.  The Figure </a:t>
            </a:r>
            <a:r>
              <a:rPr b="0" lang="en-US" sz="1200" spc="-1" strike="noStrike">
                <a:solidFill>
                  <a:srgbClr val="000000"/>
                </a:solidFill>
                <a:latin typeface="Palatino-Roman"/>
              </a:rPr>
              <a:t>highlights the importance of applying a systems perspective - linkages among elements mean that change in one element in the economy affects other par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8393C-4F7F-43C1-A196-5228B01BACE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2: To discuss the idea of economic freedo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38B5E-15A4-4ADB-BF33-4FBDB49CD36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t’s important for managers to monitor a range of economic issues, but perhaps most important is an assessment of economic freedom, or what a manager has the freedom to do.  Economic freedom reflects the absence of government coercion or constraint on the production, distribution, or consumption of goods and services beyond the extent necessary for citizens to protect and maintain liber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ountries these freedoms are taken for granted, while in others they are r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ic freedom advanced in 2011.  As you might expect, it tends to be higher in Western countries and lower in Eastern countri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854AFF-A7C8-4174-9183-620CF6BC83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E3208-5B14-4010-8EAD-73799B258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E8A812-AE14-4ACF-B32E-7E1457871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198D9-D378-4574-B8C8-6D7781D4EB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48D8F5-A409-4323-BDCE-9DB4F8D416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17BBA9-9D65-4925-99CC-8D8DFEEB5B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108083-9A64-4281-B479-22C549783B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FB1EB0-689A-4BB8-BDF6-DBF85FC393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9A5730-768C-40EB-8857-1B63F677BC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F88A1A-9361-4111-9D3C-86D28432FE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F37D0-CF1C-407F-8F35-D7363971B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E484D-7445-4883-8AEF-54A994357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5F81D-DE59-4B0E-B1A3-AD4B1B82D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89FBB-97FA-4BC5-8351-29412CBFB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28377E-54DB-4DCF-AE86-EA0844CC68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567846-1A11-441C-B6B0-5879921B44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74D38E-FCC3-41A9-B9CA-E88B90CD9E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6EF12-2DF8-4C82-BD6C-814F9B01C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1FC73-265D-4FE8-9D73-F1699798E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D9494-617F-45A9-926C-69D7DAE0F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113E8-2B0B-4246-828C-48B6557B9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F480B-E7B7-4E12-867B-F35E5D978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ADA16-69AE-418E-927C-DB7209F8F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910B5-C5E9-4FF3-947C-214E0787A1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edit the title text format</a:t>
            </a:r>
            <a:endParaRPr b="0" lang="en-US" sz="4800" spc="-1" strike="noStrike">
              <a:solidFill>
                <a:srgbClr val="6f6e4a"/>
              </a:solidFill>
              <a:latin typeface="Georgia"/>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lick to edit the outline text format</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cond Outline Level</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ird Outline Level</a:t>
            </a:r>
            <a:endParaRPr b="0" lang="en-US" sz="2800" spc="-1" strike="noStrike">
              <a:solidFill>
                <a:srgbClr val="666699"/>
              </a:solidFill>
              <a:latin typeface="Verdana"/>
            </a:endParaRPr>
          </a:p>
          <a:p>
            <a:pPr lvl="3" marL="160020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ourth Outline Level</a:t>
            </a:r>
            <a:endParaRPr b="0" lang="en-US" sz="2800" spc="-1" strike="noStrike">
              <a:solidFill>
                <a:srgbClr val="666699"/>
              </a:solidFill>
              <a:latin typeface="Verdana"/>
            </a:endParaRPr>
          </a:p>
          <a:p>
            <a:pPr lvl="4" marL="2057400" indent="-22860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ifth Outline Level</a:t>
            </a:r>
            <a:endParaRPr b="0" lang="en-US" sz="2800" spc="-1" strike="noStrike">
              <a:solidFill>
                <a:srgbClr val="666699"/>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ixth Outline Level</a:t>
            </a:r>
            <a:endParaRPr b="0" lang="en-US" sz="2800" spc="-1" strike="noStrike">
              <a:solidFill>
                <a:srgbClr val="666699"/>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venth Outline Level</a:t>
            </a:r>
            <a:endParaRPr b="0" lang="en-US" sz="2800" spc="-1" strike="noStrike">
              <a:solidFill>
                <a:srgbClr val="666699"/>
              </a:solidFill>
              <a:latin typeface="Verdana"/>
            </a:endParaRPr>
          </a:p>
        </p:txBody>
      </p:sp>
      <p:sp>
        <p:nvSpPr>
          <p:cNvPr id="2" name="PlaceHolder 3"/>
          <p:cNvSpPr>
            <a:spLocks noGrp="1"/>
          </p:cNvSpPr>
          <p:nvPr>
            <p:ph type="dt" idx="1"/>
          </p:nvPr>
        </p:nvSpPr>
        <p:spPr>
          <a:xfrm>
            <a:off x="456840" y="6248520"/>
            <a:ext cx="2590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048120" y="6248520"/>
            <a:ext cx="3124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3 Pearson Education, Inc. publishing as Prentice Hall</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fld id="{8ED0CFF4-36B9-4BF7-AD27-A8E1B6109AA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edit the title text format</a:t>
            </a:r>
            <a:endParaRPr b="0" lang="en-US" sz="4800" spc="-1" strike="noStrike">
              <a:solidFill>
                <a:srgbClr val="6f6e4a"/>
              </a:solidFill>
              <a:latin typeface="Georgia"/>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lick to edit the outline text format</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cond Outline Level</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ird Outline Level</a:t>
            </a:r>
            <a:endParaRPr b="0" lang="en-US" sz="2800" spc="-1" strike="noStrike">
              <a:solidFill>
                <a:srgbClr val="666699"/>
              </a:solidFill>
              <a:latin typeface="Verdana"/>
            </a:endParaRPr>
          </a:p>
          <a:p>
            <a:pPr lvl="3" marL="160020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ourth Outline Level</a:t>
            </a:r>
            <a:endParaRPr b="0" lang="en-US" sz="2800" spc="-1" strike="noStrike">
              <a:solidFill>
                <a:srgbClr val="666699"/>
              </a:solidFill>
              <a:latin typeface="Verdana"/>
            </a:endParaRPr>
          </a:p>
          <a:p>
            <a:pPr lvl="4" marL="2057400" indent="-22860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ifth Outline Level</a:t>
            </a:r>
            <a:endParaRPr b="0" lang="en-US" sz="2800" spc="-1" strike="noStrike">
              <a:solidFill>
                <a:srgbClr val="666699"/>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ixth Outline Level</a:t>
            </a:r>
            <a:endParaRPr b="0" lang="en-US" sz="2800" spc="-1" strike="noStrike">
              <a:solidFill>
                <a:srgbClr val="666699"/>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venth Outline Level</a:t>
            </a:r>
            <a:endParaRPr b="0" lang="en-US" sz="2800" spc="-1" strike="noStrike">
              <a:solidFill>
                <a:srgbClr val="666699"/>
              </a:solidFill>
              <a:latin typeface="Verdana"/>
            </a:endParaRPr>
          </a:p>
        </p:txBody>
      </p:sp>
      <p:sp>
        <p:nvSpPr>
          <p:cNvPr id="51" name="PlaceHolder 3"/>
          <p:cNvSpPr>
            <a:spLocks noGrp="1"/>
          </p:cNvSpPr>
          <p:nvPr>
            <p:ph type="dt" idx="4"/>
          </p:nvPr>
        </p:nvSpPr>
        <p:spPr>
          <a:xfrm>
            <a:off x="456840" y="6248520"/>
            <a:ext cx="2590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048120" y="6248520"/>
            <a:ext cx="3124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3 Pearson Education, Inc. publishing as Prentice Hall</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fld id="{681D170A-DE42-40EC-827F-AE9D6B89DBD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5"/>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98" name="Rectangle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B1252C54-4D5C-41B1-8CC2-BF82DBA219A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99"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666699"/>
                </a:solidFill>
                <a:latin typeface="Georgia"/>
              </a:rPr>
              <a:t>International Business</a:t>
            </a:r>
            <a:br>
              <a:rPr sz="5400"/>
            </a:br>
            <a:r>
              <a:rPr b="0" lang="en-US" sz="4400" spc="-1" strike="noStrike">
                <a:solidFill>
                  <a:srgbClr val="666699"/>
                </a:solidFill>
                <a:latin typeface="Georgia"/>
              </a:rPr>
              <a:t>Environments &amp; Operations</a:t>
            </a:r>
            <a:endParaRPr b="0" lang="en-US" sz="4400" spc="-1" strike="noStrike">
              <a:solidFill>
                <a:srgbClr val="6f6e4a"/>
              </a:solidFill>
              <a:latin typeface="Georgia"/>
            </a:endParaRPr>
          </a:p>
        </p:txBody>
      </p:sp>
      <p:sp>
        <p:nvSpPr>
          <p:cNvPr id="100"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f6e4a"/>
                </a:solidFill>
                <a:latin typeface="Verdana"/>
              </a:rPr>
              <a:t>14e</a:t>
            </a:r>
            <a:endParaRPr b="0" lang="en-US" sz="3000" spc="-1" strike="noStrike">
              <a:solidFill>
                <a:srgbClr val="666699"/>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99"/>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f6e4a"/>
                </a:solidFill>
                <a:latin typeface="Verdana"/>
              </a:rPr>
              <a:t>Daniels </a:t>
            </a:r>
            <a:r>
              <a:rPr b="0" lang="en-US" sz="2400" spc="-1" strike="noStrike">
                <a:solidFill>
                  <a:srgbClr val="666699"/>
                </a:solidFill>
                <a:latin typeface="Verdana"/>
              </a:rPr>
              <a:t>●</a:t>
            </a:r>
            <a:r>
              <a:rPr b="0" lang="en-US" sz="3000" spc="-1" strike="noStrike">
                <a:solidFill>
                  <a:srgbClr val="6f6e4a"/>
                </a:solidFill>
                <a:latin typeface="Verdana"/>
              </a:rPr>
              <a:t> Radebaugh </a:t>
            </a:r>
            <a:r>
              <a:rPr b="0" lang="en-US" sz="2400" spc="-1" strike="noStrike">
                <a:solidFill>
                  <a:srgbClr val="666699"/>
                </a:solidFill>
                <a:latin typeface="Verdana"/>
              </a:rPr>
              <a:t>●</a:t>
            </a:r>
            <a:r>
              <a:rPr b="0" lang="en-US" sz="3000" spc="-1" strike="noStrike">
                <a:solidFill>
                  <a:srgbClr val="6f6e4a"/>
                </a:solidFill>
                <a:latin typeface="Verdana"/>
              </a:rPr>
              <a:t> Sullivan</a:t>
            </a:r>
            <a:endParaRPr b="0" lang="en-US" sz="30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3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29BF6A10-F491-4311-BACD-99354CDDA8D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Economic Freedom</a:t>
            </a:r>
            <a:endParaRPr b="0" lang="en-US" sz="4800" spc="-1" strike="noStrike">
              <a:solidFill>
                <a:srgbClr val="6f6e4a"/>
              </a:solidFill>
              <a:latin typeface="Georgia"/>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Economic Freedom by Region, with Population</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138" name="Picture 4" descr=""/>
          <p:cNvPicPr/>
          <p:nvPr/>
        </p:nvPicPr>
        <p:blipFill>
          <a:blip r:embed="rId1"/>
          <a:stretch/>
        </p:blipFill>
        <p:spPr>
          <a:xfrm>
            <a:off x="1706400" y="1981080"/>
            <a:ext cx="5731200" cy="4267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4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311D216A-103B-477D-8BF1-AA5F322C202F}"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Economic Freedom</a:t>
            </a:r>
            <a:endParaRPr b="0" lang="en-US" sz="4800" spc="-1" strike="noStrike">
              <a:solidFill>
                <a:srgbClr val="6f6e4a"/>
              </a:solidFill>
              <a:latin typeface="Georgia"/>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Global Distribution of Economic Freedom</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143" name="Picture 4" descr=""/>
          <p:cNvPicPr/>
          <p:nvPr/>
        </p:nvPicPr>
        <p:blipFill>
          <a:blip r:embed="rId1"/>
          <a:stretch/>
        </p:blipFill>
        <p:spPr>
          <a:xfrm>
            <a:off x="457200" y="1981080"/>
            <a:ext cx="8229600" cy="4267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4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F34DDEDB-3D53-4F96-AAE7-D519935188F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Value of Economic Freedom</a:t>
            </a:r>
            <a:endParaRPr b="0" lang="en-US" sz="4800" spc="-1" strike="noStrike">
              <a:solidFill>
                <a:srgbClr val="6f6e4a"/>
              </a:solidFill>
              <a:latin typeface="Georgia"/>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Economic freedom affect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Growth rat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roductivity</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ncome level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nflation</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mployment</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ife expectancy</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iteracy</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olitical opennes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nvironmental sustainability</a:t>
            </a:r>
            <a:endParaRPr b="0" lang="en-US" sz="2400" spc="-1" strike="noStrike">
              <a:solidFill>
                <a:srgbClr val="666699"/>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4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DC252A33-ADAB-40D8-9AB2-40BFC7EA08C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rends in Economic Freedom</a:t>
            </a:r>
            <a:endParaRPr b="0" lang="en-US" sz="4800" spc="-1" strike="noStrike">
              <a:solidFill>
                <a:srgbClr val="6f6e4a"/>
              </a:solidFill>
              <a:latin typeface="Georgia"/>
            </a:endParaRPr>
          </a:p>
        </p:txBody>
      </p:sp>
      <p:sp>
        <p:nvSpPr>
          <p:cNvPr id="1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 trend toward increased economic freedom is no longer certain</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Questions about the legitimacy of free markets </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benefits of more state control</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5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0DAE2324-6413-4AE9-910A-4FE880F810B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ypes of Economic Systems</a:t>
            </a:r>
            <a:endParaRPr b="0" lang="en-US" sz="4800" spc="-1" strike="noStrike">
              <a:solidFill>
                <a:srgbClr val="6f6e4a"/>
              </a:solidFill>
              <a:latin typeface="Georgia"/>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3: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profile the characteristics of the types of economic systems</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5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FFED9920-8DDB-4C0E-8EF0-7368E39B20B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ypes of Economic Systems</a:t>
            </a:r>
            <a:endParaRPr b="0" lang="en-US" sz="4800" spc="-1" strike="noStrike">
              <a:solidFill>
                <a:srgbClr val="6f6e4a"/>
              </a:solidFill>
              <a:latin typeface="Georgia"/>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n </a:t>
            </a:r>
            <a:r>
              <a:rPr b="1" lang="en-US" sz="2800" spc="-1" strike="noStrike">
                <a:solidFill>
                  <a:srgbClr val="666699"/>
                </a:solidFill>
                <a:latin typeface="Verdana"/>
              </a:rPr>
              <a:t>economic system </a:t>
            </a:r>
            <a:r>
              <a:rPr b="0" lang="en-US" sz="2800" spc="-1" strike="noStrike">
                <a:solidFill>
                  <a:srgbClr val="666699"/>
                </a:solidFill>
                <a:latin typeface="Verdana"/>
              </a:rPr>
              <a:t>refers to the mechanism that deals with the production, distribution, and consumption of goods and service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ype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arket economy</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mmand economy</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ixed economy</a:t>
            </a:r>
            <a:r>
              <a:rPr b="0" lang="en-US" sz="2400" spc="-1" strike="noStrike">
                <a:solidFill>
                  <a:srgbClr val="666699"/>
                </a:solidFill>
                <a:latin typeface="Verdana"/>
              </a:rPr>
              <a:t>	</a:t>
            </a: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6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EA1EDFA3-EF61-4EFD-A33E-12E4973AD92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ypes of Economic Systems</a:t>
            </a:r>
            <a:endParaRPr b="0" lang="en-US" sz="4800" spc="-1" strike="noStrike">
              <a:solidFill>
                <a:srgbClr val="6f6e4a"/>
              </a:solidFill>
              <a:latin typeface="Georgia"/>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Types of Economic Systems</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164" name="Picture 4" descr=""/>
          <p:cNvPicPr/>
          <p:nvPr/>
        </p:nvPicPr>
        <p:blipFill>
          <a:blip r:embed="rId1"/>
          <a:stretch/>
        </p:blipFill>
        <p:spPr>
          <a:xfrm>
            <a:off x="1362240" y="1981080"/>
            <a:ext cx="6419520" cy="426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6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6B5A6A14-8047-4766-BFBA-C1AECECC2B8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Market Economy</a:t>
            </a:r>
            <a:endParaRPr b="0" lang="en-US" sz="4800" spc="-1" strike="noStrike">
              <a:solidFill>
                <a:srgbClr val="6f6e4a"/>
              </a:solidFill>
              <a:latin typeface="Georgia"/>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In a </a:t>
            </a:r>
            <a:r>
              <a:rPr b="1" lang="en-US" sz="2800" spc="-1" strike="noStrike">
                <a:solidFill>
                  <a:srgbClr val="666699"/>
                </a:solidFill>
                <a:latin typeface="Verdana"/>
              </a:rPr>
              <a:t>market economy </a:t>
            </a:r>
            <a:r>
              <a:rPr b="0" lang="en-US" sz="2800" spc="-1" strike="noStrike">
                <a:solidFill>
                  <a:srgbClr val="666699"/>
                </a:solidFill>
                <a:latin typeface="Verdana"/>
              </a:rPr>
              <a:t>individuals rather than governments make most economic decision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apitalism</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rivate ownership of capital </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aissez-faire</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governmental noninterference in economic affairs</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7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42AD555C-799D-4327-90F4-671F2A7BA30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7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ommand Economy</a:t>
            </a:r>
            <a:endParaRPr b="0" lang="en-US" sz="4800" spc="-1" strike="noStrike">
              <a:solidFill>
                <a:srgbClr val="6f6e4a"/>
              </a:solidFill>
              <a:latin typeface="Georgia"/>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4: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introduce the notion of state           capitalism</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7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973B7FF4-7A99-4956-980C-9AA7F7C69F1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ommand Economy</a:t>
            </a:r>
            <a:endParaRPr b="0" lang="en-US" sz="4800" spc="-1" strike="noStrike">
              <a:solidFill>
                <a:srgbClr val="6f6e4a"/>
              </a:solidFill>
              <a:latin typeface="Georgia"/>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In a </a:t>
            </a:r>
            <a:r>
              <a:rPr b="1" lang="en-US" sz="2800" spc="-1" strike="noStrike">
                <a:solidFill>
                  <a:srgbClr val="666699"/>
                </a:solidFill>
                <a:latin typeface="Verdana"/>
              </a:rPr>
              <a:t>command economy </a:t>
            </a:r>
            <a:r>
              <a:rPr b="0" lang="en-US" sz="2800" spc="-1" strike="noStrike">
                <a:solidFill>
                  <a:srgbClr val="666699"/>
                </a:solidFill>
                <a:latin typeface="Verdana"/>
              </a:rPr>
              <a:t>the visible hand of the state supersedes the invisible hand of individual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Government </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owns and controls resources</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etermines prices</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ommunism</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5"/>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02" name="Rectangle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400E30C3-2560-4354-86E7-2F8A01587F2F}"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666699"/>
                </a:solidFill>
                <a:latin typeface="Georgia"/>
              </a:rPr>
              <a:t>Chapter 4</a:t>
            </a:r>
            <a:endParaRPr b="0" lang="en-US" sz="6100" spc="-1" strike="noStrike">
              <a:solidFill>
                <a:srgbClr val="6f6e4a"/>
              </a:solidFill>
              <a:latin typeface="Georgia"/>
            </a:endParaRPr>
          </a:p>
        </p:txBody>
      </p:sp>
      <p:sp>
        <p:nvSpPr>
          <p:cNvPr id="104"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Verdana"/>
              </a:rPr>
              <a:t>The Economic Environments Facing Business</a:t>
            </a:r>
            <a:endParaRPr b="0" lang="en-US" sz="4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7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94F377A6-BAAE-42FD-AA6B-330C57EDE3C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Mixed Economy</a:t>
            </a:r>
            <a:endParaRPr b="0" lang="en-US" sz="4800" spc="-1" strike="noStrike">
              <a:solidFill>
                <a:srgbClr val="6f6e4a"/>
              </a:solidFill>
              <a:latin typeface="Georgia"/>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Most economies are </a:t>
            </a:r>
            <a:r>
              <a:rPr b="1" lang="en-US" sz="2800" spc="-1" strike="noStrike">
                <a:solidFill>
                  <a:srgbClr val="666699"/>
                </a:solidFill>
                <a:latin typeface="Verdana"/>
              </a:rPr>
              <a:t>mixed economie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fall between market and command economies</a:t>
            </a:r>
            <a:r>
              <a:rPr b="1" lang="en-US" sz="2400" spc="-1" strike="noStrike">
                <a:solidFill>
                  <a:srgbClr val="666699"/>
                </a:solidFill>
                <a:latin typeface="Verdana"/>
              </a:rPr>
              <a:t> </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Socialism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egulate economic activity with a focus on social equality and a fair distribution of wealth</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8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52694C84-20CA-4A84-BCF8-45C07FC202D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State Capitalism: </a:t>
            </a:r>
            <a:br>
              <a:rPr sz="4400"/>
            </a:br>
            <a:r>
              <a:rPr b="0" lang="en-US" sz="4400" spc="-1" strike="noStrike">
                <a:solidFill>
                  <a:srgbClr val="6f6e4a"/>
                </a:solidFill>
                <a:latin typeface="Georgia"/>
              </a:rPr>
              <a:t>Detour or Destination?</a:t>
            </a:r>
            <a:endParaRPr b="0" lang="en-US" sz="4400" spc="-1" strike="noStrike">
              <a:solidFill>
                <a:srgbClr val="6f6e4a"/>
              </a:solidFill>
              <a:latin typeface="Georgia"/>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State capitalism</a:t>
            </a:r>
            <a:r>
              <a:rPr b="0" lang="en-US" sz="2800" spc="-1" strike="noStrike">
                <a:solidFill>
                  <a:srgbClr val="666699"/>
                </a:solidFill>
                <a:latin typeface="Verdana"/>
              </a:rPr>
              <a:t> refers to a system in which the government explicitly manipulates market outcomes for political purpose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romote certain industries to encourage economic development</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evelop national companies into global leader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foreign companies restricted from strategic industries</a:t>
            </a:r>
            <a:endParaRPr b="0" lang="en-US" sz="2400" spc="-1" strike="noStrike">
              <a:solidFill>
                <a:srgbClr val="666699"/>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8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7A7D6E73-D1F2-4A71-9271-40B98A41DDAF}"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Economic Development, Performance, and Potential</a:t>
            </a:r>
            <a:endParaRPr b="0" lang="en-US" sz="4400" spc="-1" strike="noStrike">
              <a:solidFill>
                <a:srgbClr val="6f6e4a"/>
              </a:solidFill>
              <a:latin typeface="Georgia"/>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5:</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profile indicators of economic development, performance, and potential</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9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77FBE6FC-1BA0-4863-9076-344B90FC1DCA}"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Economic Development, Performance, and Potential</a:t>
            </a:r>
            <a:endParaRPr b="0" lang="en-US" sz="4400" spc="-1" strike="noStrike">
              <a:solidFill>
                <a:srgbClr val="6f6e4a"/>
              </a:solidFill>
              <a:latin typeface="Georgia"/>
            </a:endParaRPr>
          </a:p>
        </p:txBody>
      </p:sp>
      <p:sp>
        <p:nvSpPr>
          <p:cNvPr id="19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Broad classes of countries include</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eveloping countries</a:t>
            </a:r>
            <a:endParaRPr b="0" lang="en-US" sz="2400" spc="-1" strike="noStrike">
              <a:solidFill>
                <a:srgbClr val="666699"/>
              </a:solidFill>
              <a:latin typeface="Verdana"/>
            </a:endParaRPr>
          </a:p>
          <a:p>
            <a:pPr lvl="2" marL="1143000" indent="-228600">
              <a:lnSpc>
                <a:spcPct val="90000"/>
              </a:lnSpc>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argest number of countries</a:t>
            </a:r>
            <a:endParaRPr b="0" lang="en-US" sz="2400" spc="-1" strike="noStrike">
              <a:solidFill>
                <a:srgbClr val="666699"/>
              </a:solidFill>
              <a:latin typeface="Verdana"/>
            </a:endParaRPr>
          </a:p>
          <a:p>
            <a:pPr lvl="2" marL="1143000" indent="-228600">
              <a:lnSpc>
                <a:spcPct val="90000"/>
              </a:lnSpc>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ow per capita income</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emerging economies</a:t>
            </a:r>
            <a:endParaRPr b="0" lang="en-US" sz="2400" spc="-1" strike="noStrike">
              <a:solidFill>
                <a:srgbClr val="666699"/>
              </a:solidFill>
              <a:latin typeface="Verdana"/>
            </a:endParaRPr>
          </a:p>
          <a:p>
            <a:pPr lvl="2" marL="1143000" indent="-228600">
              <a:lnSpc>
                <a:spcPct val="90000"/>
              </a:lnSpc>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fast growing, relatively prosperous</a:t>
            </a:r>
            <a:endParaRPr b="0" lang="en-US" sz="2400" spc="-1" strike="noStrike">
              <a:solidFill>
                <a:srgbClr val="666699"/>
              </a:solidFill>
              <a:latin typeface="Verdana"/>
            </a:endParaRPr>
          </a:p>
          <a:p>
            <a:pPr lvl="2" marL="1143000" indent="-228600">
              <a:lnSpc>
                <a:spcPct val="90000"/>
              </a:lnSpc>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BRICs</a:t>
            </a:r>
            <a:r>
              <a:rPr b="0" lang="en-US" sz="2400" spc="-1" strike="noStrike">
                <a:solidFill>
                  <a:srgbClr val="666699"/>
                </a:solidFill>
                <a:latin typeface="Verdana"/>
              </a:rPr>
              <a:t> – Brazil, Russia, India, and China</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eveloped countries</a:t>
            </a:r>
            <a:endParaRPr b="0" lang="en-US" sz="2400" spc="-1" strike="noStrike">
              <a:solidFill>
                <a:srgbClr val="666699"/>
              </a:solidFill>
              <a:latin typeface="Verdana"/>
            </a:endParaRPr>
          </a:p>
          <a:p>
            <a:pPr lvl="2" marL="1143000" indent="-228600">
              <a:lnSpc>
                <a:spcPct val="90000"/>
              </a:lnSpc>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high per capita income and standard of living</a:t>
            </a:r>
            <a:endParaRPr b="0" lang="en-US" sz="2400" spc="-1" strike="noStrike">
              <a:solidFill>
                <a:srgbClr val="666699"/>
              </a:solidFill>
              <a:latin typeface="Verdana"/>
            </a:endParaRPr>
          </a:p>
          <a:p>
            <a:pPr lvl="2" marL="1143000" indent="-228600">
              <a:lnSpc>
                <a:spcPct val="90000"/>
              </a:lnSpc>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ike the U.S., Japan, France, Australia</a:t>
            </a:r>
            <a:endParaRPr b="0" lang="en-US" sz="2400" spc="-1" strike="noStrike">
              <a:solidFill>
                <a:srgbClr val="666699"/>
              </a:solidFill>
              <a:latin typeface="Verdana"/>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9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74A89D06-77AA-4D15-8362-961E2F281D9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9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Gross National Income</a:t>
            </a:r>
            <a:endParaRPr b="0" lang="en-US" sz="4800" spc="-1" strike="noStrike">
              <a:solidFill>
                <a:srgbClr val="6f6e4a"/>
              </a:solidFill>
              <a:latin typeface="Georgia"/>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Gross national income (GNI)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broadest measure of economic activity for a country </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Gross national product (GNP)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total value of all final goods and services produced within a nation in a particular year</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Gross domestic product (GDP)</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total market value of goods and services produced by workers and capital within a nation’s borders</a:t>
            </a:r>
            <a:r>
              <a:rPr b="1" lang="en-US" sz="2400" spc="-1" strike="noStrike">
                <a:solidFill>
                  <a:srgbClr val="666699"/>
                </a:solidFill>
                <a:latin typeface="Verdana"/>
              </a:rPr>
              <a:t>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9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D23A51E3-23D1-4086-937A-F99CC6DF318A}"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9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mproving Analysis</a:t>
            </a:r>
            <a:endParaRPr b="0" lang="en-US" sz="4800" spc="-1" strike="noStrike">
              <a:solidFill>
                <a:srgbClr val="6f6e4a"/>
              </a:solidFill>
              <a:latin typeface="Georgia"/>
            </a:endParaRPr>
          </a:p>
        </p:txBody>
      </p:sp>
      <p:sp>
        <p:nvSpPr>
          <p:cNvPr id="2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GNI data should be adjusted for </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 growth rate of the economy</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 number of people in a country</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 local cost of living</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0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A328A498-4D33-46F5-B5AC-9F991BC0EBE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mproving Analysis</a:t>
            </a:r>
            <a:endParaRPr b="0" lang="en-US" sz="4800" spc="-1" strike="noStrike">
              <a:solidFill>
                <a:srgbClr val="6f6e4a"/>
              </a:solidFill>
              <a:latin typeface="Georgia"/>
            </a:endParaRPr>
          </a:p>
        </p:txBody>
      </p:sp>
      <p:sp>
        <p:nvSpPr>
          <p:cNvPr id="2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GNI per capita, 2009</a:t>
            </a:r>
            <a:r>
              <a:rPr b="0" lang="en-US" sz="2800" spc="-1" strike="noStrike">
                <a:solidFill>
                  <a:srgbClr val="666699"/>
                </a:solidFill>
                <a:latin typeface="Verdana"/>
              </a:rPr>
              <a:t> </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pic>
        <p:nvPicPr>
          <p:cNvPr id="205" name="Picture 4" descr=""/>
          <p:cNvPicPr/>
          <p:nvPr/>
        </p:nvPicPr>
        <p:blipFill>
          <a:blip r:embed="rId1"/>
          <a:stretch/>
        </p:blipFill>
        <p:spPr>
          <a:xfrm>
            <a:off x="457200" y="2133720"/>
            <a:ext cx="8229600" cy="3962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0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C5C00E7C-62C2-4AAF-AAA1-65AFB0DE859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mproving Analysis</a:t>
            </a:r>
            <a:endParaRPr b="0" lang="en-US" sz="4800" spc="-1" strike="noStrike">
              <a:solidFill>
                <a:srgbClr val="6f6e4a"/>
              </a:solidFill>
              <a:latin typeface="Georgia"/>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GNI per capita adjusted for Purchasing Power Parity</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pic>
        <p:nvPicPr>
          <p:cNvPr id="210" name="Picture 4" descr=""/>
          <p:cNvPicPr/>
          <p:nvPr/>
        </p:nvPicPr>
        <p:blipFill>
          <a:blip r:embed="rId1"/>
          <a:stretch/>
        </p:blipFill>
        <p:spPr>
          <a:xfrm>
            <a:off x="457200" y="1981080"/>
            <a:ext cx="8229600" cy="4191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1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F443FE88-8502-495A-801A-5DC1C20C37C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Broader Conceptions of Performance and Potential</a:t>
            </a:r>
            <a:endParaRPr b="0" lang="en-US" sz="4400" spc="-1" strike="noStrike">
              <a:solidFill>
                <a:srgbClr val="6f6e4a"/>
              </a:solidFill>
              <a:latin typeface="Georgia"/>
            </a:endParaRPr>
          </a:p>
        </p:txBody>
      </p:sp>
      <p:sp>
        <p:nvSpPr>
          <p:cNvPr id="2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Green economics </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gauge economic performance in terms of the effect of current choices on long-term sustainability</a:t>
            </a:r>
            <a:endParaRPr b="0" lang="en-US" sz="24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Sustainable development </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eet the needs of the present without compromising the ability of future generations to meet their own needs</a:t>
            </a:r>
            <a:endParaRPr b="0" lang="en-US" sz="24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Happynomics </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mportance of emotional prosperity in addition to financial prosperity</a:t>
            </a:r>
            <a:endParaRPr b="0" lang="en-US" sz="2400" spc="-1" strike="noStrike">
              <a:solidFill>
                <a:srgbClr val="666699"/>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1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01B1B04A-1EA5-4A7A-AF2F-0AC3AE39B18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Features of an Economy</a:t>
            </a:r>
            <a:endParaRPr b="0" lang="en-US" sz="4800" spc="-1" strike="noStrike">
              <a:solidFill>
                <a:srgbClr val="6f6e4a"/>
              </a:solidFill>
              <a:latin typeface="Georgia"/>
            </a:endParaRPr>
          </a:p>
        </p:txBody>
      </p:sp>
      <p:sp>
        <p:nvSpPr>
          <p:cNvPr id="2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Managers should also consider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nflation</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Unemployment</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ebt</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ncome distribution</a:t>
            </a:r>
            <a:r>
              <a:rPr b="1" lang="en-US" sz="2400" spc="-1" strike="noStrike">
                <a:solidFill>
                  <a:srgbClr val="666699"/>
                </a:solidFill>
                <a:latin typeface="Verdana"/>
              </a:rPr>
              <a:t> </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overty</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Balance of payments</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0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4F92A047-8309-4E45-A3A2-1B461FEC255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Learning Objectives</a:t>
            </a:r>
            <a:endParaRPr b="0" lang="en-US" sz="4800" spc="-1" strike="noStrike">
              <a:solidFill>
                <a:srgbClr val="6f6e4a"/>
              </a:solidFill>
              <a:latin typeface="Georgia"/>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communicate the importance of economic analysi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discuss the idea of economic freedom</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profile the characteristics of the types of economic system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introduce the notion of state capitalism</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profile indicators of economic development, performance, and potential</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2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820B1564-6AFB-4A75-9EEA-1AA27A08F11C}"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flation</a:t>
            </a:r>
            <a:endParaRPr b="0" lang="en-US" sz="4800" spc="-1" strike="noStrike">
              <a:solidFill>
                <a:srgbClr val="6f6e4a"/>
              </a:solidFill>
              <a:latin typeface="Georgia"/>
            </a:endParaRPr>
          </a:p>
        </p:txBody>
      </p:sp>
      <p:sp>
        <p:nvSpPr>
          <p:cNvPr id="2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Inflation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 measure of the increase in the cost of living</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Deflation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when prices for products go down not up</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Reflation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ncrease the money supply and reduce taxes to accelerate economic activity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2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7C219B62-D3FA-46E8-8ED3-6B30D5E09FA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Unemployment</a:t>
            </a:r>
            <a:endParaRPr b="0" lang="en-US" sz="4800" spc="-1" strike="noStrike">
              <a:solidFill>
                <a:srgbClr val="6f6e4a"/>
              </a:solidFill>
              <a:latin typeface="Georgia"/>
            </a:endParaRPr>
          </a:p>
        </p:txBody>
      </p:sp>
      <p:sp>
        <p:nvSpPr>
          <p:cNvPr id="2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Unemployment rate</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hare of unemployed workers seeking employment for pay relative to the total civilian labor force</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Misery index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sum of a country’s inflation and unemployment rates</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2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A3CC8FCA-66CF-4141-BA96-3655FFD9101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2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Debt</a:t>
            </a:r>
            <a:endParaRPr b="0" lang="en-US" sz="4800" spc="-1" strike="noStrike">
              <a:solidFill>
                <a:srgbClr val="6f6e4a"/>
              </a:solidFill>
              <a:latin typeface="Georgia"/>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Debt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total of a government’s financial obligations</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internal debt </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external debt</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Growing public debt signal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ax increas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educed growth</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ising inflation</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ncreasing austerity</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3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E62467BC-FB02-4C52-9FE6-9A958451033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come Distribution</a:t>
            </a:r>
            <a:endParaRPr b="0" lang="en-US" sz="4800" spc="-1" strike="noStrike">
              <a:solidFill>
                <a:srgbClr val="6f6e4a"/>
              </a:solidFill>
              <a:latin typeface="Georgia"/>
            </a:endParaRPr>
          </a:p>
        </p:txBody>
      </p:sp>
      <p:sp>
        <p:nvSpPr>
          <p:cNvPr id="2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Income distribution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stimates the proportion of the population that earns various levels of income</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Gini coefficient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easures the extent to which the distribution of resources deviates from a perfectly equal distribution</a:t>
            </a: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3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8C3A9B61-1888-42CD-BC09-5D0109E676A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Poverty</a:t>
            </a:r>
            <a:endParaRPr b="0" lang="en-US" sz="4800" spc="-1" strike="noStrike">
              <a:solidFill>
                <a:srgbClr val="6f6e4a"/>
              </a:solidFill>
              <a:latin typeface="Georgia"/>
            </a:endParaRPr>
          </a:p>
        </p:txBody>
      </p:sp>
      <p:sp>
        <p:nvSpPr>
          <p:cNvPr id="2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Poverty </a:t>
            </a:r>
            <a:r>
              <a:rPr b="0" lang="en-US" sz="2800" spc="-1" strike="noStrike">
                <a:solidFill>
                  <a:srgbClr val="666699"/>
                </a:solidFill>
                <a:latin typeface="Verdana"/>
              </a:rPr>
              <a:t>the state of having little or no money and few or no material possessions</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xtreme poverty</a:t>
            </a:r>
            <a:endParaRPr b="0" lang="en-US" sz="2400" spc="-1" strike="noStrike">
              <a:solidFill>
                <a:srgbClr val="666699"/>
              </a:solidFill>
              <a:latin typeface="Verdana"/>
            </a:endParaRPr>
          </a:p>
          <a:p>
            <a:pPr lvl="2" marL="1143000" indent="-228600">
              <a:lnSpc>
                <a:spcPct val="90000"/>
              </a:lnSpc>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ess than $1.25 per day</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oderate poverty</a:t>
            </a:r>
            <a:endParaRPr b="0" lang="en-US" sz="2400" spc="-1" strike="noStrike">
              <a:solidFill>
                <a:srgbClr val="666699"/>
              </a:solidFill>
              <a:latin typeface="Verdana"/>
            </a:endParaRPr>
          </a:p>
          <a:p>
            <a:pPr lvl="2" marL="1143000" indent="-228600">
              <a:lnSpc>
                <a:spcPct val="90000"/>
              </a:lnSpc>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ess than $2.00 per day</a:t>
            </a:r>
            <a:endParaRPr b="0" lang="en-US" sz="24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day the world population is 80% poor, 10% middle income, and 10% rich</a:t>
            </a:r>
            <a:endParaRPr b="0" lang="en-US" sz="28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Base of the Pyramid</a:t>
            </a:r>
            <a:r>
              <a:rPr b="0" lang="en-US" sz="2800" spc="-1" strike="noStrike">
                <a:solidFill>
                  <a:srgbClr val="666699"/>
                </a:solidFill>
                <a:latin typeface="Verdana"/>
              </a:rPr>
              <a:t> </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Frugal engineering</a:t>
            </a:r>
            <a:endParaRPr b="0" lang="en-US" sz="2400" spc="-1" strike="noStrike">
              <a:solidFill>
                <a:srgbClr val="666699"/>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4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3E143FCD-08D4-44B5-99B9-47705CE5394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Balance of Payments</a:t>
            </a:r>
            <a:endParaRPr b="0" lang="en-US" sz="4800" spc="-1" strike="noStrike">
              <a:solidFill>
                <a:srgbClr val="6f6e4a"/>
              </a:solidFill>
              <a:latin typeface="Georgia"/>
            </a:endParaRPr>
          </a:p>
        </p:txBody>
      </p:sp>
      <p:sp>
        <p:nvSpPr>
          <p:cNvPr id="2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Balance of payments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eports a country’s trade and financial transactions with the rest of the world</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Current account</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racks merchandise trade</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Capital account</a:t>
            </a:r>
            <a:r>
              <a:rPr b="0" lang="en-US" sz="2800" spc="-1" strike="noStrike">
                <a:solidFill>
                  <a:srgbClr val="666699"/>
                </a:solidFill>
                <a:latin typeface="Verdana"/>
              </a:rPr>
              <a:t>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racks loans given to foreigners and loans received by citizens  </a:t>
            </a: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4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D699B49B-9905-4A3E-ACB8-113DA513154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4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Balance of Payments</a:t>
            </a:r>
            <a:endParaRPr b="0" lang="en-US" sz="4800" spc="-1" strike="noStrike">
              <a:solidFill>
                <a:srgbClr val="6f6e4a"/>
              </a:solidFill>
              <a:latin typeface="Georgia"/>
            </a:endParaRPr>
          </a:p>
        </p:txBody>
      </p:sp>
      <p:sp>
        <p:nvSpPr>
          <p:cNvPr id="2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Components of a Country’s Balance of Payments</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247" name="Picture 5" descr=""/>
          <p:cNvPicPr/>
          <p:nvPr/>
        </p:nvPicPr>
        <p:blipFill>
          <a:blip r:embed="rId1"/>
          <a:stretch/>
        </p:blipFill>
        <p:spPr>
          <a:xfrm>
            <a:off x="766800" y="2209680"/>
            <a:ext cx="7608960" cy="2819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4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F8E7391D-E95A-4359-B9EB-EBAEB66C7D9A}"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Balance of Payments</a:t>
            </a:r>
            <a:endParaRPr b="0" lang="en-US" sz="4800" spc="-1" strike="noStrike">
              <a:solidFill>
                <a:srgbClr val="6f6e4a"/>
              </a:solidFill>
              <a:latin typeface="Georgia"/>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Current Account Balances: The Top and Bottom Five</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endParaRPr b="0" lang="en-US" sz="2800" spc="-1" strike="noStrike">
              <a:solidFill>
                <a:srgbClr val="666699"/>
              </a:solidFill>
              <a:latin typeface="Verdana"/>
            </a:endParaRPr>
          </a:p>
        </p:txBody>
      </p:sp>
      <p:pic>
        <p:nvPicPr>
          <p:cNvPr id="252" name="Picture 4" descr=""/>
          <p:cNvPicPr/>
          <p:nvPr/>
        </p:nvPicPr>
        <p:blipFill>
          <a:blip r:embed="rId1"/>
          <a:stretch/>
        </p:blipFill>
        <p:spPr>
          <a:xfrm>
            <a:off x="1427040" y="2057400"/>
            <a:ext cx="6288120" cy="3733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0568B72D-E7BD-4094-9C72-04A798F94B4F}"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55"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1400" spc="-1" strike="noStrike">
                <a:solidFill>
                  <a:srgbClr val="000000"/>
                </a:solidFill>
                <a:latin typeface="Verdana"/>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400" spc="-1" strike="noStrike">
              <a:solidFill>
                <a:srgbClr val="666699"/>
              </a:solidFill>
              <a:latin typeface="Verdana"/>
            </a:endParaRPr>
          </a:p>
        </p:txBody>
      </p:sp>
      <p:pic>
        <p:nvPicPr>
          <p:cNvPr id="256" name="Picture 3" descr="3293795473_47524415"/>
          <p:cNvPicPr/>
          <p:nvPr/>
        </p:nvPicPr>
        <p:blipFill>
          <a:blip r:embed="rId1"/>
          <a:stretch/>
        </p:blipFill>
        <p:spPr>
          <a:xfrm>
            <a:off x="1676520" y="1752480"/>
            <a:ext cx="5486400" cy="281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1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8CE572FD-5322-43DB-BD9B-7FB1FF554A8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roduction</a:t>
            </a:r>
            <a:endParaRPr b="0" lang="en-US" sz="4800" spc="-1" strike="noStrike">
              <a:solidFill>
                <a:srgbClr val="6f6e4a"/>
              </a:solidFill>
              <a:latin typeface="Georgia"/>
            </a:endParaRPr>
          </a:p>
        </p:txBody>
      </p:sp>
      <p:sp>
        <p:nvSpPr>
          <p:cNvPr id="1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1:</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communicate the importance of economic analysis</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1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FD8BE6EC-2171-44BA-A0BF-BF13EFBD561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roduction</a:t>
            </a:r>
            <a:endParaRPr b="0" lang="en-US" sz="4800" spc="-1" strike="noStrike">
              <a:solidFill>
                <a:srgbClr val="6f6e4a"/>
              </a:solidFill>
              <a:latin typeface="Georgia"/>
            </a:endParaRPr>
          </a:p>
        </p:txBody>
      </p:sp>
      <p:sp>
        <p:nvSpPr>
          <p:cNvPr id="1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Managers assess a country’s economic environment knowing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untries differ in different way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conomic and political changes alter market circumstanc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t is important to understand connections, change, and consequenc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challenges of the comeback</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hoices of citizens, policymakers, and institutions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1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99C30647-CD6F-44AB-A553-9136DCFEBFD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International </a:t>
            </a:r>
            <a:br>
              <a:rPr sz="4400"/>
            </a:br>
            <a:r>
              <a:rPr b="0" lang="en-US" sz="4400" spc="-1" strike="noStrike">
                <a:solidFill>
                  <a:srgbClr val="6f6e4a"/>
                </a:solidFill>
                <a:latin typeface="Georgia"/>
              </a:rPr>
              <a:t>Economic Analysis</a:t>
            </a:r>
            <a:endParaRPr b="0" lang="en-US" sz="4400" spc="-1" strike="noStrike">
              <a:solidFill>
                <a:srgbClr val="6f6e4a"/>
              </a:solidFill>
              <a:latin typeface="Georgia"/>
            </a:endParaRPr>
          </a:p>
        </p:txBody>
      </p:sp>
      <p:sp>
        <p:nvSpPr>
          <p:cNvPr id="1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 universal assessment of economic environments is difficult because</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t is difficult to stipulate a definitive set of indicators to estimate the performance and potential of a country’s economy</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day’s set of perfect measures may prove imperfect tomorrow</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nterdependencies complicate interpreting the relationship among elements of the economic environment</a:t>
            </a:r>
            <a:endParaRPr b="0" lang="en-US" sz="2400" spc="-1" strike="noStrike">
              <a:solidFill>
                <a:srgbClr val="666699"/>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2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7F797735-0DE0-4E7E-9A00-F27C31E8C1C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International </a:t>
            </a:r>
            <a:br>
              <a:rPr sz="4400"/>
            </a:br>
            <a:r>
              <a:rPr b="0" lang="en-US" sz="4400" spc="-1" strike="noStrike">
                <a:solidFill>
                  <a:srgbClr val="6f6e4a"/>
                </a:solidFill>
                <a:latin typeface="Georgia"/>
              </a:rPr>
              <a:t>Economic Analysis</a:t>
            </a:r>
            <a:endParaRPr b="0" lang="en-US" sz="4400" spc="-1" strike="noStrike">
              <a:solidFill>
                <a:srgbClr val="6f6e4a"/>
              </a:solidFill>
              <a:latin typeface="Georgia"/>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Economic Factors Affecting International Business Operations</a:t>
            </a:r>
            <a:endParaRPr b="0" lang="en-US" sz="1800" spc="-1" strike="noStrike">
              <a:solidFill>
                <a:srgbClr val="666699"/>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125" name="Picture 4" descr=""/>
          <p:cNvPicPr/>
          <p:nvPr/>
        </p:nvPicPr>
        <p:blipFill>
          <a:blip r:embed="rId1"/>
          <a:stretch/>
        </p:blipFill>
        <p:spPr>
          <a:xfrm>
            <a:off x="457200" y="2286000"/>
            <a:ext cx="8229600" cy="320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2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4A146B31-90A0-4838-9AE4-DF03AF5F2D9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Economic Freedom</a:t>
            </a:r>
            <a:endParaRPr b="0" lang="en-US" sz="4800" spc="-1" strike="noStrike">
              <a:solidFill>
                <a:srgbClr val="6f6e4a"/>
              </a:solidFill>
              <a:latin typeface="Georgia"/>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2: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discuss the idea of economic freedom</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3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a:t>
            </a:r>
            <a:fld id="{B201AACE-B613-47DD-B9D8-EB26CDF9AB6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Economic Freedom</a:t>
            </a:r>
            <a:endParaRPr b="0" lang="en-US" sz="4800" spc="-1" strike="noStrike">
              <a:solidFill>
                <a:srgbClr val="6f6e4a"/>
              </a:solidFill>
              <a:latin typeface="Georgia"/>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Economic freedom</a:t>
            </a:r>
            <a:r>
              <a:rPr b="0" lang="en-US" sz="2800" spc="-1" strike="noStrike">
                <a:solidFill>
                  <a:srgbClr val="666699"/>
                </a:solidFill>
                <a:latin typeface="Verdana"/>
              </a:rPr>
              <a:t> – people have the right to work, produce, consume, save, and invest the way they prefer</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easured across business freedom, monetary freedom, fiscal freedom, investment freedom, freedom from corruption, property rights, trade freedom, government size, financial freedom, and labor freedom</a:t>
            </a:r>
            <a:endParaRPr b="0" lang="en-US" sz="2400" spc="-1" strike="noStrike">
              <a:solidFill>
                <a:srgbClr val="666699"/>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9T17:20:39Z</dcterms:created>
  <dc:creator>Veronica</dc:creator>
  <dc:description/>
  <dc:language>en-US</dc:language>
  <cp:lastModifiedBy>User</cp:lastModifiedBy>
  <dcterms:modified xsi:type="dcterms:W3CDTF">2013-12-11T12:09:06Z</dcterms:modified>
  <cp:revision>14</cp:revision>
  <dc:subject/>
  <dc:title>Slide 1</dc:title>
</cp:coreProperties>
</file>