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ED5-C79C-4555-8A08-115F451D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3D3-BA5D-4DA3-84B2-0A51F789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754-9B39-4984-9B17-16E2EBEF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2A88-491A-40F9-9590-1698548D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82C3-9ABA-4383-9F3E-5888CB3E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C770-3BCF-4299-A805-7FC01D57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B532-CC42-4D90-B61B-72045BC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DE91-3511-45F6-BB0E-9728FE38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2DC-0BB1-4933-B0DB-7F6099C9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4C62-0255-46F2-8D94-B5A6AAA6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3C5-9E70-43F8-B82A-9BEEB3F5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CE7-9A6A-46C2-9071-55DF4E74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6667-0952-498F-8D22-0DB26395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42CE-1818-4602-A77B-F28207D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509B-2E9D-40AB-A6D8-637701E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9F7C-3C53-4136-8DA9-14038BF9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23DD-F9BA-4BEA-8712-90C0B901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BD55E-E77E-4AE7-8ABD-CA550E2D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F5A81-744D-477F-AFA0-FFF4C347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1AA0D-77DC-4A8D-B8EF-BBF9E7A4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C397B-CE53-4AFC-8D95-06B5154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77006-E9C7-423B-A503-CEEF36C0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26B-89E5-46AB-BAAF-8AD37E0D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F996E-F878-4716-A3F7-CE7FA27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06ED7-3835-4359-8C1A-51AC78A2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1A0A0-CB39-42E5-9025-1DC03A19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57509-4DDE-473B-8A59-4F9AFF7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1B6AE-49F7-4894-9200-230B047F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980AC-7B25-409E-BE66-BF0431E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E30A1-0D9F-4374-83CE-435CFB86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85A49-1AC1-4402-AF4C-33344538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6D51-6DCE-4453-8452-F5CD1221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DDE0-4B03-42F5-8398-DD849EB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EBF4-7C46-408E-93F9-0D08FD0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8116-2951-4597-ACC6-2156549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5781-2B0B-4262-AF5B-BE199028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D849-F215-4A31-834A-B4207A6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386A9-7D11-44FD-8255-60F468A5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7536-E1C9-485A-9F5F-840F1EE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7920-C7BF-4306-A1C0-C940CD5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2C9E8-B239-4881-AE92-E7605B40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4AB3-3DE1-481F-8274-9BF13D97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39DFE-0ABA-48A1-8FC1-EC954664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35675-20C0-4AC0-8DD8-DE095426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84C-BD06-4732-9735-BC54EC2C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2934C7-2DFB-4D16-B725-364C700B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4D99D-2A3D-47D3-9785-C3E632C7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92423-01CE-44F7-9154-A41523BD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BFA29-7F32-4745-840F-53CECA8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1AF20-B638-4B3D-B704-0582A88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83C9D-1254-4EF1-8EB5-6B6E0C26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35773-DF3E-4638-BC7D-6ED4D7D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D66AB-E300-4A38-9AC0-5E4FDC5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D8AF2-A822-4BB6-8BAF-6509512A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9A4A1-F02F-47D4-B36D-279D3CD9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11A-6037-48B1-A885-ACA59CD8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7382DE-F793-4E2E-91F9-A5A0587E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A8059-CC5F-447F-9BAB-EBD425CB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9E0BD-428E-4277-B9AA-FF5EB2DF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44C15-D2E4-4B17-8E12-2B11CB4B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1DBE0-9FA1-4F96-ABEE-6CA51674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E3090-6359-494B-B7BC-FDECAF6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BA349-B4F3-44E0-90C3-A2AF5360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B6B84-9BDF-44EF-A500-025BFA9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9B0C4-7D79-41C4-9DF3-609AEECE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8FDB40-E26E-454B-8918-05B2805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B49-7A3A-4A99-AE9A-9674CF8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30D53-E148-4518-9EBD-FC2D16C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E3A27-1A28-4AFA-9762-8F421313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3A56A-CC4C-4D07-99AF-EB300FE6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7CBEC-0B5D-48E5-8363-187D5C93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00AA8-973A-4934-83C3-8430733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E2C54-21D9-4314-B33B-5D05D1E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6531B-26A7-4897-ABB2-860CD96C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6F235-7367-4047-AB58-7CFD7917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02672-67BB-4F46-8ED5-E88DC0C2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4FB31-248B-4923-A2C8-695A11C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801-7126-44B9-89FC-26B599C8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323DB-4C60-4640-9A00-AEE5185F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DFE2E-A3E3-48CA-B03E-9FA07182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237B0-9102-4777-A0DF-0E87F99C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F487E-4D3C-4B3A-B960-C7D2D9DA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050C1-712E-454F-A9E4-5ABBD6C1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D84-6426-4F92-A998-D91D8F0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4832-706F-464D-9405-C0FC77BDD7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6392-338B-4D5C-883E-BD1817050C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7B2D-6044-4E4F-AF43-293D96C46B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B59-593D-4A9F-BCD2-2324E17C0F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766-3F32-49CD-B82B-C00B6A4153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FBDA-6C42-46B8-827C-704644EA1D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c671"/>
            </a:gs>
            <a:gs pos="100000">
              <a:srgbClr val="fff9d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7C7D-1489-4F12-9BB9-75E2E14955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75297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oper Black"/>
              </a:rPr>
              <a:t>IMMUNE SYSTEM ORGANS &amp; CELLS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800" spc="-1" strike="noStrike">
              <a:solidFill>
                <a:srgbClr val="575f6d"/>
              </a:solidFill>
              <a:latin typeface="Century Schoolbook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714240" y="785880"/>
          <a:ext cx="7572600" cy="5543640"/>
        </p:xfrm>
        <a:graphic>
          <a:graphicData uri="http://schemas.openxmlformats.org/drawingml/2006/table">
            <a:tbl>
              <a:tblPr/>
              <a:tblGrid>
                <a:gridCol w="1785960"/>
                <a:gridCol w="3616560"/>
                <a:gridCol w="2170080"/>
              </a:tblGrid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1ry lymphoid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2ry lymphoid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Other nam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entral L.T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eripheral L.T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Functio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turation, education, differentiatio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Siz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crease to size ↑ in to full size puber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e small size on lif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Removal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fter the immunity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t affect the puberty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Reaction to antige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an’t react with A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act with Antigen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47360" y="57168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Monotype Corsiva"/>
              </a:rPr>
              <a:t>CELL OF IMMUNE SYSTEM</a:t>
            </a:r>
            <a:endParaRPr b="0" lang="en-US" sz="4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- Lymphocytes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85880" y="2643120"/>
          <a:ext cx="7215120" cy="3475080"/>
        </p:xfrm>
        <a:graphic>
          <a:graphicData uri="http://schemas.openxmlformats.org/drawingml/2006/table">
            <a:tbl>
              <a:tblPr/>
              <a:tblGrid>
                <a:gridCol w="1857240"/>
                <a:gridCol w="2857680"/>
                <a:gridCol w="2500200"/>
              </a:tblGrid>
              <a:tr h="35100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B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T cells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Origin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.M,  liver of fet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.M., liver of fet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Maturation education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ursa of fabricius bursa equivalent (B.M., players patches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ym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292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Storage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pleen, (Periaertiolar tonsils, cortex) lymph node, MAL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pleen (white follicle), tonsils (Paracortical area) L.node, MAL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CONTINUE….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57160" y="1643040"/>
          <a:ext cx="7215120" cy="4602240"/>
        </p:xfrm>
        <a:graphic>
          <a:graphicData uri="http://schemas.openxmlformats.org/drawingml/2006/table">
            <a:tbl>
              <a:tblPr/>
              <a:tblGrid>
                <a:gridCol w="1714680"/>
                <a:gridCol w="2571840"/>
                <a:gridCol w="2928600"/>
              </a:tblGrid>
              <a:tr h="302436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O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→ T helper, help both humeral and cell mediated immunity (Carry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c → T cytotoxi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s → T suppress of immune system after complete Ag destructia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Cells products (Secret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cel differentiate to plasma cell &amp; memory cell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Plasma cell: secret Antibo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ctive Tc release certain enzymes called lymphokin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Monotype Corsiva"/>
              </a:rPr>
              <a:t>CONTINUE….</a:t>
            </a:r>
            <a:endParaRPr b="0" lang="en-US" sz="45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428760" y="1600200"/>
          <a:ext cx="8001000" cy="4732200"/>
        </p:xfrm>
        <a:graphic>
          <a:graphicData uri="http://schemas.openxmlformats.org/drawingml/2006/table">
            <a:tbl>
              <a:tblPr/>
              <a:tblGrid>
                <a:gridCol w="3503520"/>
                <a:gridCol w="1819080"/>
                <a:gridCol w="2678400"/>
              </a:tblGrid>
              <a:tr h="63108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Lymphocytes transformation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 to plasma ce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 to small lymphocy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Life sp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o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0000"/>
                        </a:buClr>
                        <a:buFont typeface="Comic Sans MS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For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C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C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2. E-rosette formation (receptor to sheep RB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3. C3b for comp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Y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4. Carry MH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HCI &amp;MHCII because it is Ap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HC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41400" rIns="4140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5. Other recep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,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 →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c &amp; Ts → 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C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&amp; CD 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CELLS THAT LINK IN INNATE &amp; ADAPTIVE IMMUNITY (APC)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33160" y="1600200"/>
            <a:ext cx="8110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mic Sans MS"/>
              </a:rPr>
              <a:t>Antigen Presenting Cell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endritic cell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cell found in epithelial tissu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t is APC &amp; act also as phagocytic cell as m.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mic Sans MS"/>
              </a:rPr>
              <a:t>What is APC doing?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C → Carry to Ag on MHCII, this antigen is exogenous Ag- &amp; present it to Th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helper carry CD4 for MHCII or carry Ag direct to B cell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 B APC → carry the antigen after engulfment, fragmentation to different epitop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n epitope exposed on surfaces of APC with MHCII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819000" y="856800"/>
            <a:ext cx="7467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B) Macrophage: as (A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) B cells: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ct as APC in the 2ry immune respons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an be activated directly by exogenous antigen but fully activated by T-helper cell which secret factors → help B-cell to be fully activated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74674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RECEPTORS OR MARKERS OF T &amp; B CELL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2028960"/>
            <a:ext cx="74674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1) Ag binding receptors →  BCR,  TCR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000080" y="2714760"/>
          <a:ext cx="6929640" cy="3504960"/>
        </p:xfrm>
        <a:graphic>
          <a:graphicData uri="http://schemas.openxmlformats.org/drawingml/2006/table">
            <a:tbl>
              <a:tblPr/>
              <a:tblGrid>
                <a:gridCol w="3325680"/>
                <a:gridCol w="3603960"/>
              </a:tblGrid>
              <a:tr h="3506760">
                <a:tc>
                  <a:txBody>
                    <a:bodyPr lIns="68760" rIns="68760" tIns="0" bIns="0" anchor="t">
                      <a:noAutofit/>
                    </a:bodyPr>
                    <a:p>
                      <a:pPr marL="6858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BCR  (B cell recep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 class of immunoglobulin (IgM and Ig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There are 200,000- 500,0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Bival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58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pecified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TCR (T cell recep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 polypeptide (α, 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00,000 co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s 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t specifi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47360" y="499680"/>
            <a:ext cx="746748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2) OTHER RECEPTOR ON T CELL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&amp; 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58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→   Bind m.ø.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→  To amplify signals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h →   for MHCII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on Tc &amp; Ts →   for MHCI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473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3) MAJOR HISTO-COMPATIBILITY COMPLEX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99840"/>
            <a:ext cx="74674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Group of surface receptor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MHCI: On an nucleated cells, carry endogenous antigenous for T cytotoxic &amp; T suppressor.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MHCII: on APC (m.ø. B cells &amp; dendritic cells)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Carry exogenous Ag.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7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o T helper and B cells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5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5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1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4) RECEPTOR FOR REGULATOR THE FUNCTION OF T &amp; B CELL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928520"/>
            <a:ext cx="74674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or complemen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or cytokine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For antibody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Title 1"/>
          <p:cNvSpPr/>
          <p:nvPr/>
        </p:nvSpPr>
        <p:spPr>
          <a:xfrm>
            <a:off x="500040" y="378612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5) RECEPTOR FOR UNKNOWN FUN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7160" y="999720"/>
            <a:ext cx="7467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I – STEM OR MOTHER CELLS: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642760"/>
            <a:ext cx="822960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t’s the place of the origin (Generation of lymphocytes)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*found in the fetal liver during embryonal lif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*then after birth → from bone marrow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oper Black"/>
              </a:rPr>
              <a:t>THANK YOU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400" y="499680"/>
            <a:ext cx="8072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Monotype Corsiva"/>
              </a:rPr>
              <a:t>II- PRIMARY LYMPHOID ORGANS : (CENTRAL LYMPHOID ORGAN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57160" y="2000160"/>
            <a:ext cx="74678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Function …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maturation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education                 of the cellslymphocyte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differentiatio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Where the cells enter to grow, proliferate, mature, differentiate &amp; transformed into the secondary lymphoid organ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Left Brace 18"/>
          <p:cNvSpPr/>
          <p:nvPr/>
        </p:nvSpPr>
        <p:spPr>
          <a:xfrm rot="10800000">
            <a:off x="4000320" y="2714400"/>
            <a:ext cx="642600" cy="928440"/>
          </a:xfrm>
          <a:custGeom>
            <a:avLst/>
            <a:gdLst>
              <a:gd name="textAreaLeft" fmla="*/ 410760 w 642600"/>
              <a:gd name="textAreaRight" fmla="*/ 642960 w 642600"/>
              <a:gd name="textAreaTop" fmla="*/ 16560 h 928440"/>
              <a:gd name="textAreaBottom" fmla="*/ 91188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3"/>
                  <a:pt x="10800" y="1246"/>
                </a:cubicBezTo>
                <a:lnTo>
                  <a:pt x="10800" y="9554"/>
                </a:lnTo>
                <a:cubicBezTo>
                  <a:pt x="10800" y="10177"/>
                  <a:pt x="5400" y="10800"/>
                  <a:pt x="0" y="10800"/>
                </a:cubicBezTo>
                <a:cubicBezTo>
                  <a:pt x="5400" y="10800"/>
                  <a:pt x="10800" y="11423"/>
                  <a:pt x="10800" y="12046"/>
                </a:cubicBezTo>
                <a:lnTo>
                  <a:pt x="10800" y="20354"/>
                </a:lnTo>
                <a:cubicBezTo>
                  <a:pt x="10800" y="2097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939960"/>
            <a:ext cx="74674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THESE ORGANS ARE …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85520" y="2314080"/>
            <a:ext cx="7467480" cy="25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ymus → for T-lymphocyt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Bursa equivalent (In mammals), bursa fabracius (In birds)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Bursa equivalent (bone marrow) in mammals &amp; payer patches in cattle. 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467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THYMUS  GLAND   1</a:t>
            </a:r>
            <a:r>
              <a:rPr b="1" lang="en-US" sz="4000" spc="-1" strike="noStrike" baseline="30000">
                <a:solidFill>
                  <a:srgbClr val="ff0000"/>
                </a:solidFill>
                <a:latin typeface="Monotype Corsiva"/>
              </a:rPr>
              <a:t>ST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213920"/>
            <a:ext cx="7467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s bi-lobe gland present on both sides in the esophagus in the entrance of esophagus cavit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 birds →it is 14 lobe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found  from birth &amp; continue to increase in size to full size at puberty, then decrease in size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thymus consist of cortex &amp; medulla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is thymus barrier between the blood and the T cell unable to react with antige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- lymphocyte → called T cell because it’s maturation occurin thymus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642960"/>
            <a:ext cx="74674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Monotype Corsiva"/>
              </a:rPr>
              <a:t>IN THIS THYMUS:</a:t>
            </a:r>
            <a:endParaRPr b="0" lang="en-US" sz="4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885680"/>
            <a:ext cx="74674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T cell maturatio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ducation (Carry receptor called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&amp;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ifferentiation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  cytotoxic &amp; T suppressor → carry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8 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 helper → carry CD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61920" y="571680"/>
            <a:ext cx="746784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2</a:t>
            </a:r>
            <a:r>
              <a:rPr b="1" lang="en-US" sz="5000" spc="-1" strike="noStrike" baseline="30000">
                <a:solidFill>
                  <a:srgbClr val="ff0000"/>
                </a:solidFill>
                <a:latin typeface="Monotype Corsiva"/>
              </a:rPr>
              <a:t>ND  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BURSA OF FABRICIUS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76080" y="1599840"/>
            <a:ext cx="74674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ac of lymphoid tissue present on cloaca present in birds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sponsible for maturation, education &amp; differentiation of B-lymphocy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19000" y="642960"/>
            <a:ext cx="74678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3</a:t>
            </a:r>
            <a:r>
              <a:rPr b="1" lang="en-US" sz="5000" spc="-1" strike="noStrike" baseline="30000">
                <a:solidFill>
                  <a:srgbClr val="ff0000"/>
                </a:solidFill>
                <a:latin typeface="Monotype Corsiva"/>
              </a:rPr>
              <a:t>RD</a:t>
            </a:r>
            <a:r>
              <a:rPr b="1" lang="en-US" sz="5000" spc="-1" strike="noStrike">
                <a:solidFill>
                  <a:srgbClr val="ff0000"/>
                </a:solidFill>
                <a:latin typeface="Monotype Corsiva"/>
              </a:rPr>
              <a:t> BURSA EQUIVALENT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28760" y="178560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Group of tissues differ from mammals to another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human, rodents → bone marrow.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cattle → payers patch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9028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III-SECONDARY LYMPHOID ORGANS:(PERIPHERAL I.O)..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428480"/>
            <a:ext cx="7467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Spleen, lymph nodes, tonsils, lymphoid organ (MALT)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MALT→  mucosal associated lymphoid tissu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Spleen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st of white pulb &amp; red pulb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or B cell in perarteriolosheath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For T-Cell in white follicl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ymph node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t is consist of : cortex →  housing of B-cell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aracortical area →  housing T-Cell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edulla →  for another immune cells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Tonsil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Malt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ggregates of lymphoid organ. e.g. BALT → baronchial associated lymphatic tissu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MALT → mucosal associated lymphatic tissu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ALT → gut associated lymphatic tissue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6T12:56:52Z</dcterms:created>
  <dc:creator>NEDA</dc:creator>
  <dc:description/>
  <dc:language>en-US</dc:language>
  <cp:lastModifiedBy>User</cp:lastModifiedBy>
  <dcterms:modified xsi:type="dcterms:W3CDTF">2006-10-10T21:18:46Z</dcterms:modified>
  <cp:revision>32</cp:revision>
  <dc:subject/>
  <dc:title>Immune system organs &amp; ce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06D3551-D026-49F7-B3F1-0F01CFD00E9B</vt:lpwstr>
  </property>
  <property fmtid="{D5CDD505-2E9C-101B-9397-08002B2CF9AE}" pid="3" name="ArticulatePath">
    <vt:lpwstr>immnity organ 3</vt:lpwstr>
  </property>
</Properties>
</file>