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876-FE21-4801-8A8C-07F5B8A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AB3-B3D4-4CA3-BBF7-252FEACB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96D-7073-471F-B401-C41A312E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534-0FE2-445D-BFDD-1B366073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722-E707-4769-957B-179036A2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BAD-2D2A-430A-A9E6-35068764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39F-ED48-4058-B556-773DA5DE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045-3E01-4241-AEBB-38F97457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6E8A-C314-4760-9E7D-D57C3970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78F0-9AD1-42DF-8000-2205F06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FED8-E8A0-475F-930F-66E610B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11F-319D-4B5C-B78E-A599F8D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DB48-3E79-446E-8CCE-9138D71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132-AA2E-41DE-9E22-47A1928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AC0B-A8A2-4D28-A1F2-9856B8A1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4FC8-E655-4A55-932F-C7CB1D21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C5D-CA56-405C-947D-843F9A5E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0D2F2-34B4-42DC-9CFB-09B54436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8A175-757F-4762-88F4-C55E17E1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9A2AA-D74B-4F4E-BB0B-93B8561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219BC-42EC-494A-A79E-EF141394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E8556-2C1E-4175-A9FB-16B1313C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1EF-01A8-442B-8097-F66BFC3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1B554-1F99-48EC-AD18-8764512D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9AA89-F8B5-460F-884B-5BB8CE8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A28AE-D220-4510-B235-E65ACBD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22DFE-691C-4E51-95EA-F58D6F3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2F98F-6148-4518-BD7F-ECD850EF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8C2CC-5E8E-4F64-816A-B2467672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1EC36-5F6F-434A-934D-AD2EC131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FD6A-6627-4FB0-B2E1-B5642BCE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0E13-A0AC-48D2-A932-AC6476D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8FBE0-7A36-4747-B031-960E2A5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A28-C46E-436F-BFC6-04136FE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AF61C-952C-4AE7-94D1-48C379B8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7F00-12F2-49EE-A9AF-CEE89FB4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6690-7475-44AE-B7D9-63CE9F45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48D5-6893-42D1-8786-6E516AC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A1ED-8569-413F-A7FD-AA348F8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31CD-A13C-448A-855E-6CB44CE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3773-89F9-4012-880D-FCAB0D8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5AB7-56E5-48C8-81AA-A933EB70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5F20-7B73-409E-8FBC-F330C88C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FD508-83F3-4E12-879C-AD3819D9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B16-1CD4-4B1A-B149-8EBBF915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71BAB-EB01-472A-B32F-53F9E89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7D5F8-74CD-41CE-B5A1-8366F0F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9A880-7C13-4055-847D-962E5E9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2E843-FF75-4A8B-85F7-F548007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2C784-595F-44E1-B7A4-617E453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CE07A-D4A7-48BE-9122-00AC745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0DE58-61F6-4D3F-A087-10CAA63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5B5AA-E2C1-427D-807B-8AD6DC5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220A6-BEEB-4380-B1AE-387B2565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135FA-51D0-4543-9E1E-B6543D61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A74-2628-45D7-94D8-4C22075B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5E3F9-1961-4B68-86ED-34BFBD47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CE1C4-F61E-411A-B196-12B0BD9F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9ADA4-84B2-4429-A925-49D8E8BD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6CA04-44FD-49A2-9152-21E7D3B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3DB35-0DF6-4E79-899E-C856D34C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29E4B-8F6D-41E7-9081-690A587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BDD6C-1B81-4265-95F3-7C5EEAD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3CC01-5C63-4476-9DB5-B5C52FA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8273C-7C1B-4508-9D9F-3E8756C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E6966-34EA-43E7-889B-43D3419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AE8-39D1-4EC6-9F7B-7E82B45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EAA05-7AFF-45A2-ACAB-3B947C1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5B770-6C6E-40C2-B3EC-F38F8CA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1FD40-4625-438E-BACC-3B9535BD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08089-CAC8-474F-BB4D-9401BE75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11BB1-DADC-4E03-A728-4CF2A8E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32C00-493D-4442-94C5-26A690E4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14689-F295-4EC8-995A-86F85A56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6BBC2-DE53-4053-A613-7740AB8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FC4FC-5F10-44AC-BEED-C8AF61B0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3D093-5325-40D7-A3DC-E9936CB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893-3957-4C8E-BDC8-D706538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18763-2DE5-4EC0-AF93-6C526B9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65CD9-A2B9-4662-A0D4-FBEFE0D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D47BA-B7C1-4721-BEC8-448ED5A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10CB6-8356-47B6-A097-12E2D7A7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E4244-2874-4B12-BE43-5148D258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48C-F989-42BF-BBC2-DFC0F54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CA2-8521-49DB-A490-AB7880A574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83D4-408F-4B5D-8BA0-677C17452B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4DBF-F2F1-45B2-A957-9E0DF0A1C7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7C7-54C2-465B-8D03-EC9F4732E7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5BC-CC64-43AE-80C3-391AD9B627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FC3-0B27-4013-ABC7-023D8F7E1A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FE94-9375-4DCD-9FE9-531D226079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75297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oper Black"/>
              </a:rPr>
              <a:t>IMMUNE SYSTEM ORGANS &amp; CE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14240" y="785880"/>
          <a:ext cx="7572600" cy="5543640"/>
        </p:xfrm>
        <a:graphic>
          <a:graphicData uri="http://schemas.openxmlformats.org/drawingml/2006/table">
            <a:tbl>
              <a:tblPr/>
              <a:tblGrid>
                <a:gridCol w="1785960"/>
                <a:gridCol w="3616560"/>
                <a:gridCol w="217008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1ry lymphoid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ry lymphoid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Other nam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entral L.T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eripheral L.T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Functio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turation, education, differentiatio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Siz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crease to size ↑ in to full size puber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 small size on 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mov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fter the immunity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t affect the puberty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action to antige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an’t react with A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act with Antige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736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Monotype Corsiva"/>
              </a:rPr>
              <a:t>CELL OF IMMUNE SYSTEM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- Lymphocytes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85880" y="2643120"/>
          <a:ext cx="7215120" cy="3475080"/>
        </p:xfrm>
        <a:graphic>
          <a:graphicData uri="http://schemas.openxmlformats.org/drawingml/2006/table">
            <a:tbl>
              <a:tblPr/>
              <a:tblGrid>
                <a:gridCol w="1857240"/>
                <a:gridCol w="2857680"/>
                <a:gridCol w="2500200"/>
              </a:tblGrid>
              <a:tr h="35100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B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 cells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Origin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.M,  liver of fe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.M., liver of fe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Maturation education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rsa of fabricius bursa equivalent (B.M., players patche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ym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Storage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leen, (Periaertiolar tonsils, cortex) lymph node, MAL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leen (white follicle), tonsils (Paracortical area) L.node, MAL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CONTINUE….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57160" y="1643040"/>
          <a:ext cx="7215120" cy="4602240"/>
        </p:xfrm>
        <a:graphic>
          <a:graphicData uri="http://schemas.openxmlformats.org/drawingml/2006/table">
            <a:tbl>
              <a:tblPr/>
              <a:tblGrid>
                <a:gridCol w="1714680"/>
                <a:gridCol w="2571840"/>
                <a:gridCol w="2928600"/>
              </a:tblGrid>
              <a:tr h="302436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→ T helper, help both humeral and cell mediated immunity (Carry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 → T cytotox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s → T suppress of immune system after complete Ag destructi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Cells products (Secre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cel differentiate to plasma cell &amp; memory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lasma cell: secret Antibo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ctive Tc release certain enzymes called lymphoki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Monotype Corsiva"/>
              </a:rPr>
              <a:t>CONTINUE….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28760" y="1600200"/>
          <a:ext cx="8001000" cy="4732200"/>
        </p:xfrm>
        <a:graphic>
          <a:graphicData uri="http://schemas.openxmlformats.org/drawingml/2006/table">
            <a:tbl>
              <a:tblPr/>
              <a:tblGrid>
                <a:gridCol w="3503520"/>
                <a:gridCol w="1819080"/>
                <a:gridCol w="2678400"/>
              </a:tblGrid>
              <a:tr h="63108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ymphocytes transformation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 to plasma ce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 to small lymphoc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ife sp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o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For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C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. E-rosette formation (receptor to sheep RB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3. C3b for comp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4. Carry M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HCI &amp;MHCII because it is Ap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HC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5. Other recep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,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 →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 &amp; Ts →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&amp; CD 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CELLS THAT LINK IN INNATE &amp; ADAPTIVE IMMUNITY (APC)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160" y="1600200"/>
            <a:ext cx="8110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mic Sans MS"/>
              </a:rPr>
              <a:t>Antigen Presenting Cell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ndritic cell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cell found in epithelial tissu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APC &amp; act also as phagocytic cell as m.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mic Sans MS"/>
              </a:rPr>
              <a:t>What is APC doing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C → Carry to Ag on MHCII, this antigen is exogenous Ag- &amp; present it to Th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helper carry CD4 for MHCII or carry Ag direct to B cell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 B APC → carry the antigen after engulfment, fragmentation to different epitop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n epitope exposed on surfaces of APC with MHCII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19000" y="856800"/>
            <a:ext cx="7467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) Macrophage: as (A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) B cells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ct as APC in the 2ry immune respons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activated directly by exogenous antigen but fully activated by T-helper cell which secret factors → help B-cell to be fully activated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RECEPTORS OR MARKERS OF T &amp; B CELL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028960"/>
            <a:ext cx="74674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) Ag binding receptors →  BCR,  TCR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000080" y="2714760"/>
          <a:ext cx="6929640" cy="3504960"/>
        </p:xfrm>
        <a:graphic>
          <a:graphicData uri="http://schemas.openxmlformats.org/drawingml/2006/table">
            <a:tbl>
              <a:tblPr/>
              <a:tblGrid>
                <a:gridCol w="3325680"/>
                <a:gridCol w="3603960"/>
              </a:tblGrid>
              <a:tr h="3506760">
                <a:tc>
                  <a:txBody>
                    <a:bodyPr lIns="68760" rIns="68760" tIns="0" bIns="0" anchor="t">
                      <a:noAutofit/>
                    </a:bodyPr>
                    <a:p>
                      <a:pPr marL="685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BCR  (B cell recep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 class of immunoglobulin (IgM and Ig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re are 200,000- 50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iv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ecified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CR (T cell recep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 polypeptide (α, 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00,000 co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s 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t specifi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7360" y="49968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2) OTHER RECEPTOR ON T CELL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&amp; 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58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→   Bind m.ø.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→  To amplify signal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h →   for MHCII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c &amp; Ts →   for MHCI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47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3) MAJOR HISTO-COMPATIBILITY COMPLEX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Group of surface receptor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MHCI: On an nucleated cells, carry endogenous antigenous for T cytotoxic &amp; T suppressor.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MHCII: on APC (m.ø. B cells &amp; dendritic cells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arry exogenous Ag.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o T helper and B cells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4) RECEPTOR FOR REGULATOR THE FUNCTION OF T &amp; B CELL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928520"/>
            <a:ext cx="74674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complemen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cytokin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antibody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500040" y="37861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5) RECEPTOR FOR UNKNOWN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999720"/>
            <a:ext cx="7467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I – STEM OR MOTHER CELLS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64276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t’s the place of the origin (Generation of lymphocytes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*found in the fetal liver during embryonal lif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*then after birth → from bone marrow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oper Black"/>
              </a:rPr>
              <a:t>THANK YOU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072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II- PRIMARY LYMPHOID ORGANS : (CENTRAL LYMPHOID ORGAN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57160" y="2000160"/>
            <a:ext cx="74678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Function …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maturation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education                 of the cellslymphocyte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differentia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re the cells enter to grow, proliferate, mature, differentiate &amp; transformed into the secondary lymphoid orga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eft Brace 18"/>
          <p:cNvSpPr/>
          <p:nvPr/>
        </p:nvSpPr>
        <p:spPr>
          <a:xfrm rot="10800000">
            <a:off x="4000320" y="2714400"/>
            <a:ext cx="642600" cy="928440"/>
          </a:xfrm>
          <a:custGeom>
            <a:avLst/>
            <a:gdLst>
              <a:gd name="textAreaLeft" fmla="*/ 410760 w 642600"/>
              <a:gd name="textAreaRight" fmla="*/ 642960 w 642600"/>
              <a:gd name="textAreaTop" fmla="*/ 16560 h 928440"/>
              <a:gd name="textAreaBottom" fmla="*/ 91188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3"/>
                  <a:pt x="10800" y="1246"/>
                </a:cubicBezTo>
                <a:lnTo>
                  <a:pt x="10800" y="9554"/>
                </a:lnTo>
                <a:cubicBezTo>
                  <a:pt x="10800" y="10177"/>
                  <a:pt x="5400" y="10800"/>
                  <a:pt x="0" y="10800"/>
                </a:cubicBezTo>
                <a:cubicBezTo>
                  <a:pt x="5400" y="10800"/>
                  <a:pt x="10800" y="11423"/>
                  <a:pt x="10800" y="12046"/>
                </a:cubicBezTo>
                <a:lnTo>
                  <a:pt x="10800" y="20354"/>
                </a:lnTo>
                <a:cubicBezTo>
                  <a:pt x="10800" y="2097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939960"/>
            <a:ext cx="74674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THESE ORGANS ARE …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85520" y="2314080"/>
            <a:ext cx="746748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ymus → for T-lymphocyt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rsa equivalent (In mammals), bursa fabracius (In birds)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rsa equivalent (bone marrow) in mammals &amp; payer patches in cattle. 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467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HYMUS  GLAND   1</a:t>
            </a:r>
            <a:r>
              <a:rPr b="1" lang="en-US" sz="4000" spc="-1" strike="noStrike" baseline="30000">
                <a:solidFill>
                  <a:srgbClr val="ff0000"/>
                </a:solidFill>
                <a:latin typeface="Monotype Corsiva"/>
              </a:rPr>
              <a:t>ST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213920"/>
            <a:ext cx="7467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bi-lobe gland present on both sides in the esophagus in the entrance of esophagus cavit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birds →it is 14 lobe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found  from birth &amp; continue to increase in size to full size at puberty, then decrease in siz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thymus consist of cortex &amp; medulla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is thymus barrier between the blood and the T cell unable to react with antige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- lymphocyte → called T cell because it’s maturation occurin thymu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Monotype Corsiva"/>
              </a:rPr>
              <a:t>IN THIS THYMUS: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568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T cell maturatio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 (Carry receptor called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amp;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fferentiatio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  cytotoxic &amp; T suppressor → carry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8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 helper → carry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61920" y="571680"/>
            <a:ext cx="74678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en-US" sz="5000" spc="-1" strike="noStrike" baseline="30000">
                <a:solidFill>
                  <a:srgbClr val="ff0000"/>
                </a:solidFill>
                <a:latin typeface="Monotype Corsiva"/>
              </a:rPr>
              <a:t>ND  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BURSA OF FABRICIUS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76080" y="15998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ac of lymphoid tissue present on cloaca present in bird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ponsible for maturation, education &amp; differentiation of B-lymphocy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19000" y="642960"/>
            <a:ext cx="7467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en-US" sz="5000" spc="-1" strike="noStrike" baseline="30000">
                <a:solidFill>
                  <a:srgbClr val="ff0000"/>
                </a:solidFill>
                <a:latin typeface="Monotype Corsiva"/>
              </a:rPr>
              <a:t>RD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 BURSA EQUIVALENT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760" y="17856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roup of tissues differ from mammals to anothe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human, rodents → bone marrow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cattle → payers patch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028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III-SECONDARY LYMPHOID ORGANS:(PERIPHERAL I.O)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428480"/>
            <a:ext cx="7467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pleen, lymph nodes, tonsils, lymphoid organ (MALT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MALT→  mucosal associated lymphoid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pleen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st of white pulb &amp; red pulb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or B cell in perarteriolosheath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or T-Cell in white follicl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ymph node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t is consist of : cortex →  housing of B-cell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aracortical area →  housing T-Cell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dulla →  for another immune cells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Tonsil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lt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ggregates of lymphoid organ. e.g. BALT → baronchial associated lymphatic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ALT → mucosal associated lymphatic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ALT → gut associated lymphatic tissue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2:56:52Z</dcterms:created>
  <dc:creator>NEDA</dc:creator>
  <dc:description/>
  <dc:language>en-US</dc:language>
  <cp:lastModifiedBy>User</cp:lastModifiedBy>
  <dcterms:modified xsi:type="dcterms:W3CDTF">2006-10-10T21:18:46Z</dcterms:modified>
  <cp:revision>32</cp:revision>
  <dc:subject/>
  <dc:title>Immune system organs &amp; ce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06D3551-D026-49F7-B3F1-0F01CFD00E9B</vt:lpwstr>
  </property>
  <property fmtid="{D5CDD505-2E9C-101B-9397-08002B2CF9AE}" pid="3" name="ArticulatePath">
    <vt:lpwstr>immnity organ 3</vt:lpwstr>
  </property>
</Properties>
</file>