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992505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2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5624640" y="-360"/>
            <a:ext cx="43020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1080" y="-360"/>
            <a:ext cx="43023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324756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5624640" y="6513120"/>
            <a:ext cx="43020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1080" y="6513120"/>
            <a:ext cx="43023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2B70-E3CE-494B-81BE-88B1F27A3A3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E6F6-3892-4C6D-8234-85586BDA57C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031B-224A-4588-81D5-21C5E54EBB3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8073-19E3-487D-B481-4FF2D7929D5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1813-FBE6-414C-913E-82EF9BC6935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7132-FFFC-4C53-9C74-42BAD091F5C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BECF-226D-4678-92EB-C7D406102C9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EDC4-FB69-41FC-B9C3-04F1985BB97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7E40-CF37-4C87-BF32-0F467542400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E2AE-4DE1-4037-97D3-3D486EA3FCE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E536-57BF-40BB-B947-502BD7B8E98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E6DB-2681-4C1D-A422-6BE5E737D28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3D2C-CFD7-4C74-8A7B-555A76D8EAB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AFD5-54AC-43E7-A29E-70C74D415FD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C6EC-D364-4D15-B111-010134C3170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9104-6DC5-4562-B2C0-9F51F265EF8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C844-FA5A-43C6-8A28-1A4C1E91E04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24B1-ECAF-4C06-A163-B4E03960FAE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D1F8-9422-4E74-87CA-F10D880C4EE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DB9E-A6C1-40E0-A75E-D1FF2DB0F88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0804-AC00-4B50-BC9A-9EC3ECAD239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F9D8-5934-4E51-9FEB-70D013529EC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AFC6-BE0E-4EAB-A0EF-622B008CD77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9E01-90B1-42E0-B3E8-187B4383272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C07-45C3-441C-93A0-CAA5485F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841-2979-48A8-B82C-A8990789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A4D-EDCE-46FA-B9F4-B0B5A369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56E-8FF7-4A79-B7A6-4DF69D87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8EAD6-9172-46A6-B6BF-15C1116B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9C57B-9487-4CA7-8B3D-A349EDCB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1EB9A-60A8-4DDE-8A36-DD419DEF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A2CD4-CAD0-4C84-8B03-90A879B9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2F8A5-45CB-4396-8245-89822728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C1A6F-690E-49E4-85C1-DF0BA671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3D627-2A70-4A5C-AA41-7EA00E63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E26-E073-48DD-B551-68C8FAF2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59526-5F38-4D24-9350-66225E33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ED375-3309-42E5-BE56-4DE449CA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E950C-180B-4097-B225-5BF1F8D3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9559A-EF4D-4C6F-9787-4F8ADD6A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5F72B-C87B-446A-9B4C-1EC2151A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AA2-1081-4D16-95D2-D2104C25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A01-D038-467D-839B-A532D73E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115-65E1-47B4-A20D-D8BF1DA3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7D4-33CA-4AE9-9E12-C2E3BFF1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842D-B75E-4C0C-9A5E-3C087E1C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5F8-420C-46FC-A885-94844FF6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72E-C9BE-46A8-9683-58D8BBD6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346E-5B68-4B23-833C-5CBD034BB2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3949-CAD9-4556-955C-AFF96E03E97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Tahoma"/>
              </a:rPr>
              <a:t>Immobility 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 Saud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rsing Colle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pt of Nursing –NUR 1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Metabolic and nutri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creased basal metabolic ra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duced gastrointestinal motili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mbalance in protein synthe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orex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ypoproteinem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egative calcium bal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gh protein, calories and fibre  di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itamin and minerals supplem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ight bearing exercis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nteral and Parenteral supplem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Urinary 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rinary stas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nal calculi form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rinary incontin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rinary reten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rinary tract infectio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urning, positioning and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proving hyd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ianal hygie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sition and relaxation of uri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ecal elimina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tip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ecal impa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ll hydr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mbulate as much as possi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igh fibre di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Neurosensory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creased motor activi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stlessnes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rowsines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fusion, decrease coordination/bal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nrealistic percep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gumentry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ss of skin turger and elastic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cubitus ulcer form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Psychological responses of immobi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ocial, emotional and intellectual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lf concept chang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eeling of worthlessness and hopeless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mpaired decision making and problem solving abiliti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essure Ulce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impaired in skin integrity resulting from decrease mobility and direct pressure occurring most frequently over bony promin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is a wound with a localized area if tissue necro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names: Docubitus ulcer, bed s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sure is the most prominent cau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mobiliz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al restriction of movement to body or a body seg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egrees of mobi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lete immobility e.g. unconscious pati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artial mobility e.g. patient with fractur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22320032"/>
          <p:cNvPicPr/>
          <p:nvPr/>
        </p:nvPicPr>
        <p:blipFill>
          <a:blip r:embed="rId1"/>
          <a:stretch/>
        </p:blipFill>
        <p:spPr>
          <a:xfrm>
            <a:off x="428760" y="785880"/>
            <a:ext cx="8280360" cy="51847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sposing factors increase the possibility of pressure sor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mobility and lack of normal mov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iction and mois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or personal hygien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rease level of consciousnes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vance 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lnutri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munosuppres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em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PM_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PM_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PM_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inciples of Pressur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ximize the surface ar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istribute body we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ning for pressure rel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tary i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 for lifting/ transfer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 hygiene and skin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Users\Public\Pictures\Sample Pictures\Waterf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Physiological responses of immobilit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usculoskeletal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rdiovascular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spiratory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etabolic and nutri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rinary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ecal elimi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eurosensory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gumentry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Musculoskeletal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crease in muscle strengt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uscle atrop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steoporos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iff painful joi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uscle contractu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dy repositio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ight bearing activiti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dependence in activities of daily liv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ctive and passive range of mo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ardiovascular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akness of cardiovascular syste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stural hypotens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romophlebitis e.g, DV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crease venous retu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rease blood pres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vement and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ncourage normal breathing patter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lastic stock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Respiratory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duced gaseous exchan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spiratory acidos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ccumulation of secre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electa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pper respiratory tract inf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neumonia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ep breathing and coughing exerci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hanging position and exerci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centive spirome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amer Alwadani</cp:lastModifiedBy>
  <dcterms:modified xsi:type="dcterms:W3CDTF">2014-03-30T23:30:4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