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99250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92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5624640" y="-360"/>
            <a:ext cx="43020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1080" y="-360"/>
            <a:ext cx="43023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32475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5624640" y="6513120"/>
            <a:ext cx="43020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1080" y="6513120"/>
            <a:ext cx="43023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703B-697C-477B-9E1B-154F5A292D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AE28-C620-4AD1-B274-9971BCF5C8E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29BA-BCB6-4A42-8716-FF854C93511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A8C1-531F-42DA-A51D-ED089ADE78A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B54B-4C26-4549-B410-414E1AC5266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E743-4B22-43B4-946D-2D4EB371B8A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EA83-3E4C-4A41-860E-8495B44BBB8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1497-A8BD-4FA0-805B-279024217B4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6160-B1FF-4ADB-BA15-7BD219C66FD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C28D-34F0-46F8-9046-C2F7D400DA9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3ECD-CADE-45DC-A4C2-9ED65A4CF77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F05C-8956-422C-AB74-DBFC4E52869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CB2C-ED8D-4CCD-AE0E-821547735B4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DF22-9795-4A60-B71D-030B263E434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330E-D473-4697-8AC8-696DBC05981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4DCF-F2B0-489B-882D-D2EAA7FCB86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0404-9536-474C-85AD-52B2F7EA723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A7E9-68E2-405F-85A6-C2FF028CE96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E9A3-0237-4F3A-ABAE-D28C01E21DE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EEB6-4021-4C89-BAA2-6DE00AAEB90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D65C-CC35-4330-BA09-456305AB6B4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ECD6-9ED7-4442-90E1-B5FDD17BDB2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98E0-052D-4A60-B292-8599D64D179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6513480"/>
            <a:ext cx="4302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8159-9C74-4D7D-9C19-2AFFDF8489B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2479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92160" y="3257640"/>
            <a:ext cx="794232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AE6-DE66-4541-8F69-6DB5EE2C8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6CD-BEBE-481E-AF09-5B2548ED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44DE-7252-4DFA-BA46-FDCE1EDB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95A-75C0-40EA-A995-2135A99B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6B9DD-B410-4914-A0F9-EE1788E5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31636-213D-4E80-822F-E7F03712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8E2873-BD32-44E3-A470-A5DC3C52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813BD-5311-4C79-89F7-C9B720F6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D325F-AF29-4266-A809-462F5AFC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E5677-6053-4A34-97BE-341DF93E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A577D-19FE-419B-A05E-44834148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0A3-DFD2-4931-8CB1-20108884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AE07A-F4CB-40BA-8EBD-F42A32C8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AA2A1-1F0D-4AB3-B9E5-B0619983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C0C83-31A8-44BD-AD0C-9B124EAE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BE2A8-AB85-4E68-ADAF-CBF85CB8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B1D79-98C9-4B4B-A4FE-F57734BF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F8FD-DAF5-4A91-B408-D2126799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558-E695-46DD-921E-1263BAD5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15F-9102-455D-95B5-6F51E05D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2A7-C42E-47F5-9D18-19CA50A3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6EB-0099-4022-88BE-914466E1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534-74D9-4D9F-A8F1-C3353D29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2AC-C421-4C22-8A86-BBBE13D9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34CB-C80C-4F01-B549-63CDBB6569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33A9-2593-4D07-A900-55744249CDF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ffff"/>
                </a:solidFill>
                <a:latin typeface="Tahoma"/>
              </a:rPr>
              <a:t>Immobility 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 Saud Univer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ursing Colle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pt of Nursing –NUR 12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Metabolic and nutri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reased basal metabolic ra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duced gastrointestinal motil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mbalance in protein synthe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orex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ypoproteinem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gative calcium bal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igh protein, calories and fibre  di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itamin and minerals supplem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eight bearing exercis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nteral and Parenteral supplem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Urinary 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rinary sta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nal calculi form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rinary incontin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rinary reten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rinary tract infection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urning, positioning and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proving hyd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erianal hygie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osition and relaxation of ur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Fecal eliminatio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stip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ecal impa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ll hydr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mbulate as much as possib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igh fibre di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Neurosensory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reased motor activit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stlessnes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rowsines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fusion, decrease coordination/bala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realistic percep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gumentry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oss of skin turger and elastic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ubitus ulcer form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Psychological responses of immobi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ocial, emotional and intellectual cha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lf concept chang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eeling of worthlessness and hopeless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paired decision making and problem solving abiliti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essure Ulce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impaired in skin integrity resulting from decrease mobility and direct pressure occurring most frequently over bony promin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is a wound with a localized area if tissue necro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ther names: Docubitus ulcer, bed 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sure is the most prominent cau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mobiliz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 restriction of movement to body or a body seg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Degrees of mobi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lete immobility e.g. unconscious pati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artial mobility e.g. patient with fractur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22320032"/>
          <p:cNvPicPr/>
          <p:nvPr/>
        </p:nvPicPr>
        <p:blipFill>
          <a:blip r:embed="rId1"/>
          <a:stretch/>
        </p:blipFill>
        <p:spPr>
          <a:xfrm>
            <a:off x="428760" y="785880"/>
            <a:ext cx="8280360" cy="518472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disposing factors increase the possibility of pressure sor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mobility and lack of normal mov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iction and mois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or personal hygie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rease level of consciousnes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vance 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lnutri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munosuppres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em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PM_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PM_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PM_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rinciples of Pressur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ximize the surface ar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istribute body we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ing for pressure rel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tary in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on for lifting/ transfer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 hygiene and skin c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C:\Users\Public\Pictures\Sample Pictures\Waterfal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Physiological responses of immobilit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usculoskeletal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ardiovascular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espiratory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etabolic and nutri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rinar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ecal elim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Neurosensory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tegumentry syste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Musculoskeletal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crease in muscle strengt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uscle atrop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steoporo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iff painful joi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uscle contractu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dy repositio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eight bearing activitie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ndependence in activities of daily liv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ctive and passive range of mo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ardiovascular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akness of cardiovascular system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stural hypotens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romophlebitis e.g, DV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rease venous retu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rease blood pres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ovement and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ncourage normal breathing patter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lastic stock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Respiratory system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duced gaseous exchan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spiratory acido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ccumulation of secre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electa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pper respiratory tract inf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neumonia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Intervention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eep breathing and coughing exerci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anging position and exerci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centive spirom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amer Alwadani</cp:lastModifiedBy>
  <dcterms:modified xsi:type="dcterms:W3CDTF">2014-03-30T23:30:4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