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4C4E-EEDF-4C4B-B9BE-A58AB7DD0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C8F7-FCD8-498A-B443-F80B6C39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9C6E-E5FD-4756-9B41-4294BCCEE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9C2B-D847-4525-9458-0C6E987FE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EBE9-5F18-48C1-B7E5-8EB71456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6C48-24CD-421D-BADD-EF341197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61B8-95E3-4E2B-A698-D2F409AA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0706-6512-4C41-8744-F76E4A41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B148-98BE-412A-A295-E186F310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C8C0-2D5B-442F-977A-F324D058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8868-E4A2-4F08-B2A9-34E849A7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EF78-D8ED-45B5-AA29-9B48D82F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AD72-3696-496E-A919-867AC775D39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240" y="6091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Immunity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“Free from burden”.  Ability of an organism to recognize and defend itself agains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ecif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thogens or antigens.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Resistanc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Ability to ward off disea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Nonspecific Resistanc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Defenses that protect against </a:t>
            </a:r>
            <a:r>
              <a:rPr b="1" i="1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all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oge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pecific Resistanc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Protection against </a:t>
            </a:r>
            <a:r>
              <a:rPr b="1" i="1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specif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thoge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Susceptibility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Vulnerability or lack of resist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ff"/>
                </a:solidFill>
                <a:latin typeface="Arial"/>
                <a:ea typeface="Arial"/>
              </a:rPr>
              <a:t>Epiglottis Protects Respiratory System from Infection During Swallowing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142092"/>
          <p:cNvPicPr/>
          <p:nvPr/>
        </p:nvPicPr>
        <p:blipFill>
          <a:blip r:embed="rId1"/>
          <a:srcRect l="815" t="0" r="1626" b="47845"/>
          <a:stretch/>
        </p:blipFill>
        <p:spPr>
          <a:xfrm>
            <a:off x="0" y="1649520"/>
            <a:ext cx="914400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0755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B.  Chemical Defens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1199"/>
              </a:spcBef>
              <a:buClr>
                <a:srgbClr val="66ff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Sebum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Oily substance produced by sebaceous glands that forms a protective layer over skin.  Contains unsaturated fatty acids which inhibit growth of certain pathogenic bacteria and fung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1199"/>
              </a:spcBef>
              <a:buClr>
                <a:srgbClr val="66ff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pH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Low, skin pH usually between 3 and 5.  Caused by lactic acid and fatty aci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1199"/>
              </a:spcBef>
              <a:buClr>
                <a:srgbClr val="66ff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Perspira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Produced by sweat glands.  Contains lysozyme and aci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1199"/>
              </a:spcBef>
              <a:buClr>
                <a:srgbClr val="66ff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Lysozym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Enzyme that breaks down gram-positive cell walls.  Found in nasal secretions, saliva, and tea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-360" y="533160"/>
            <a:ext cx="88390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B.  Chemical Defens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1199"/>
              </a:spcBef>
              <a:buClr>
                <a:srgbClr val="c00000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Gastric Juice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xture of hydrochloric acid, enzymes, and mucus.  pH between 1.2 to 3 kills many microbes and destroys most toxins.  Many enteric bacteria are protected by food particle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504d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c0504d"/>
                </a:solidFill>
                <a:latin typeface="Arial"/>
              </a:rPr>
              <a:t>Helicobacter pylori neutralizes stomach acid and can grow in the stomach, causing gastritis and ulc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6. Transferrins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on-binding proteins in blood which inhibit bacterial growth by reducing available ir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8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8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-360" y="609480"/>
            <a:ext cx="9372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e0818"/>
                </a:solidFill>
                <a:latin typeface="Arial"/>
              </a:rPr>
              <a:t>Cellular Elements of Blo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Cell Type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               # Cells/mm</a:t>
            </a:r>
            <a:r>
              <a:rPr b="1" lang="en-US" sz="2000" spc="-1" strike="noStrike" baseline="30000">
                <a:solidFill>
                  <a:srgbClr val="ff00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                    Fun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Erythrocytes (RB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4.8-5.4 mill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Transport 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Leukocytes (WB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5000-9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Vario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 Granulocyt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 Neutrophils (70% of WB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Phagocyto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 Basophils (1%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Produce histam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Eosinophils (4%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Toxins against parasites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some phagocytos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 Monocytes/Macrophages (5%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Phagocyto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  Lymphocytes (20%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Antibody production (B cell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 mediated immunity (T cell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Platele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300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Blood clot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II.  Second Line of Defe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1. Phagocytosis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rived from the Greek words “Eat and cell”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agocytosis is carried out by white blood cells:  macrophages, neutrophils, and occasionally eosinophi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utrophil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dominate early in infe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andering macrophage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ate from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monocy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leave blood and enter infected tissue, and develop into phagocytic ce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ixed Macrophages (Histiocytes)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Located in liver, nervous system, lungs, lymph nodes, bone marrow, and several other tissu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839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Phagocytic Cells: Macrophages (Monocytes), Neutrophils, and Eosinoph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142110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3677040" y="6438960"/>
            <a:ext cx="161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alibri"/>
              </a:rPr>
              <a:t>(</a:t>
            </a:r>
            <a:r>
              <a:rPr b="1" lang="en-US" sz="1800" spc="-1" strike="noStrike">
                <a:solidFill>
                  <a:srgbClr val="009900"/>
                </a:solidFill>
                <a:latin typeface="Calibri"/>
              </a:rPr>
              <a:t>Macrophages</a:t>
            </a:r>
            <a:r>
              <a:rPr b="1" lang="en-US" sz="1800" spc="-1" strike="noStrike">
                <a:solidFill>
                  <a:srgbClr val="0099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immunephagocytesinbod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ontent Placeholder 3" descr="cellsindefenses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http://www.octc.kctcs.edu/GCaplan/anat2/notes/Image446.gif"/>
          <p:cNvPicPr/>
          <p:nvPr/>
        </p:nvPicPr>
        <p:blipFill>
          <a:blip r:embed="rId1"/>
          <a:stretch/>
        </p:blipFill>
        <p:spPr>
          <a:xfrm>
            <a:off x="357120" y="285840"/>
            <a:ext cx="8358120" cy="6357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-360" y="533520"/>
            <a:ext cx="89154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Protection Against Invading Path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First Line of Defens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Non-specif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atural barriers which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restrict ent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pathog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Example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Skin and mucous membran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econd Line of Defens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nnate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non-specif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mmune defenses provide rapid local response to pathogen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af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t has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enter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Example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agocytes(macrophages and neutrophils), inflammation, and interfer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 rtl="1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Third line of defense: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Antigen-specif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mmune responses, specifically target and attack invaders that get past first two lines of defen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 rtl="1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Example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Antibodies and lymphocy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Arial"/>
              </a:rPr>
              <a:t>Three Lines of Defense Against Inf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142122"/>
          <p:cNvPicPr/>
          <p:nvPr/>
        </p:nvPicPr>
        <p:blipFill>
          <a:blip r:embed="rId1"/>
          <a:srcRect l="3334" t="0" r="4167" b="0"/>
          <a:stretch/>
        </p:blipFill>
        <p:spPr>
          <a:xfrm>
            <a:off x="0" y="144792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-360" y="456840"/>
            <a:ext cx="883908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First Line of Defen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in and Mucous Membra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I.  Mechanical Defen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1.  Skin has two Lay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A. Epidermis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Thin outer layer of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pithelia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ss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ins Langerhans cells,  dead cells, and keratin (waterproof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B. Dermis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Thick inner layer of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nnectiv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iss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ections are rare in intact skin.  Excep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okworms can penetrate intact sk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rmatophytes:  “Skin loving” fung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ff"/>
                </a:solidFill>
                <a:latin typeface="Arial"/>
                <a:ea typeface="Arial"/>
              </a:rPr>
              <a:t>Intact Skin is an Effective Barrier Against Most Pathogen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142143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http://www.isxperia.com/_personal/images/mechofaction.jpg"/>
          <p:cNvPicPr/>
          <p:nvPr/>
        </p:nvPicPr>
        <p:blipFill>
          <a:blip r:embed="rId1"/>
          <a:stretch/>
        </p:blipFill>
        <p:spPr>
          <a:xfrm>
            <a:off x="0" y="514440"/>
            <a:ext cx="9144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60904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I.  Mechanical Defens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2. Mucous Membranes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Line gastrointestinal, genitourinary, and respiratory trac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layers: Outer epithelial and inner connective lay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pithelial laye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cre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uc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hich maintains moist surfa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hough they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hibit microbial ent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y offer less protection than skin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microorganisms are capable of penetrating mucous membran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pillomaviru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, Treponema pallidum , 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teroinvasiv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. col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tamoeba histolyt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-360" y="457200"/>
            <a:ext cx="883908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 algn="ctr" rtl="1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I.  Mechanical Defenses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rtl="1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Lacrimal apparatus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Continual washing and blinking prevents microbes from settling on the eye surfa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rtl="1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Saliva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Washes microbes from teeth and mouth mucous membran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rtl="1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Mucus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Thick secretion that traps many microb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rtl="1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Nose Hair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Coated with mucus filter dust, pollen, and microb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rtl="1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7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Ciliary Escalator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Cilia on mucous membranes of lower respiratory tract move upwards towards throat at 1-3 cm/hou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57120" y="533520"/>
            <a:ext cx="85010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 rtl="1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I.  Mechanical Defenses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8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Coughing and sneezing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Expel foreign objec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rtl="1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9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Epiglottis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Covers larynx during swallow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rtl="1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Urination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Cleanses urethr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rtl="1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11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Vaginal Secretions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emove microbes from genital trac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20:19:33Z</dcterms:created>
  <dc:creator>computer</dc:creator>
  <dc:description/>
  <dc:language>en-US</dc:language>
  <cp:lastModifiedBy>computer</cp:lastModifiedBy>
  <dcterms:modified xsi:type="dcterms:W3CDTF">2009-03-08T20:31:25Z</dcterms:modified>
  <cp:revision>2</cp:revision>
  <dc:subject/>
  <dc:title>Slide 1</dc:title>
</cp:coreProperties>
</file>