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142-41E1-412D-853F-3658E8D1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673-2193-4D3D-A4D2-DE54E921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6CF-1BE3-49DC-A11D-D516E532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E26-45E6-407C-8B97-C301B7DD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A4A-302D-43A7-925C-D5992AB8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868-6746-4EBB-B632-5371CA34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C66-AB8E-4454-A93E-C8CE3442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130-6665-4300-B374-D71E32C0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916-45F9-4403-A503-DE9595F4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8A8-CD87-46D4-B70E-57F92210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1BF6-F5B7-44EA-9C58-025AE30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9B9-A6F8-4B2D-8061-58E55E95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D66A-AEC9-4B62-82CC-07457BDD73A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Immunit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“Free from burden”.  Ability of an organism to recognize and defend itself again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ogens or antigens.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Resistanc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bility to ward off dis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onspecific Resistanc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Defenses that protect against </a:t>
            </a: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all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oge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pecific Resistanc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tection against </a:t>
            </a: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specif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oge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Susceptibilit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Vulnerability or lack of resista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ff"/>
                </a:solidFill>
                <a:latin typeface="Arial"/>
                <a:ea typeface="Arial"/>
              </a:rPr>
              <a:t>Epiglottis Protects Respiratory System from Infection During Swallowin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142092"/>
          <p:cNvPicPr/>
          <p:nvPr/>
        </p:nvPicPr>
        <p:blipFill>
          <a:blip r:embed="rId1"/>
          <a:srcRect l="815" t="0" r="1626" b="47845"/>
          <a:stretch/>
        </p:blipFill>
        <p:spPr>
          <a:xfrm>
            <a:off x="0" y="16495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0755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B.  Chemical Defen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199"/>
              </a:spcBef>
              <a:buClr>
                <a:srgbClr val="66ff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Sebu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ily substance produced by sebaceous glands that forms a protective layer over skin.  Contains unsaturated fatty acids which inhibit growth of certain pathogenic bacteria and fung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199"/>
              </a:spcBef>
              <a:buClr>
                <a:srgbClr val="66ff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pH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ow, skin pH usually between 3 and 5.  Caused by lactic acid and fatty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199"/>
              </a:spcBef>
              <a:buClr>
                <a:srgbClr val="66ff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Perspir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duced by sweat glands.  Contains lysozyme and ac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199"/>
              </a:spcBef>
              <a:buClr>
                <a:srgbClr val="66ff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ysozy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nzyme that breaks down gram-positive cell walls.  Found in nasal secretions, saliva, and tea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B.  Chemical Defen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1199"/>
              </a:spcBef>
              <a:buClr>
                <a:srgbClr val="c0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astric Juice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xture of hydrochloric acid, enzymes, and mucus.  pH between 1.2 to 3 kills many microbes and destroys most toxins.  Many enteric bacteria are protected by food particle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Helicobacter pylori neutralizes stomach acid and can grow in the stomach, causing gastritis and ul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6. Transferrin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on-binding proteins in blood which inhibit bacterial growth by reducing available ir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9372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e0818"/>
                </a:solidFill>
                <a:latin typeface="Arial"/>
              </a:rPr>
              <a:t>Cellular Elements of Bl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Cell Typ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             # Cells/mm</a:t>
            </a:r>
            <a:r>
              <a:rPr b="1" lang="en-US" sz="20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                  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Erythrocytes (RB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4.8-5.4 mill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Transport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Leukocytes (WB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5000-9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Var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Granulocyt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Neutrophils (70% of WB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Phagocyt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Basophils (1%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Produce hista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Eosinophils (4%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Toxins against parasites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some phagocyto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 Monocytes/Macrophages (5%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Phagocyt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 Lymphocytes (20%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Antibody production (B cell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mediated immunity (T cell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latele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300,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Blood clo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II.  Second Line of Def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1. Phagocytosi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ed from the Greek words “Eat and cell”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gocytosis is carried out by white blood cells:  macrophages, neutrophils, and occasionally eosinophi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utrophil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ominate early in inf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ndering macrophag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ate from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onocy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leave blood and enter infected tissue, and develop into phagocytic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xed Macrophages (Histiocytes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ocated in liver, nervous system, lungs, lymph nodes, bone marrow, and several other tiss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Phagocytic Cells: Macrophages (Monocytes), Neutrophils, and Eosinoph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142110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3677040" y="6438960"/>
            <a:ext cx="16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Macrophages</a:t>
            </a: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immunephagocytesinbod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ellsindefenses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http://www.octc.kctcs.edu/GCaplan/anat2/notes/Image446.gif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357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Protection Against Invading Path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First Line of Defens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Non-specif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atural barriers which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restrict ent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athog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Examp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kin and mucous membra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cond Line of Defens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nnate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non-specif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une defenses provide rapid local response to pathogen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t has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enter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Example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gocytes(macrophages and neutrophils), inflammation, and interfer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hird line of defense: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Antigen-specif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une responses, specifically target and attack invaders that get past first two lines of defen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Examp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ntibodies and lymphocy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Arial"/>
              </a:rPr>
              <a:t>Three Lines of Defense Against 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142122"/>
          <p:cNvPicPr/>
          <p:nvPr/>
        </p:nvPicPr>
        <p:blipFill>
          <a:blip r:embed="rId1"/>
          <a:srcRect l="3334" t="0" r="4167" b="0"/>
          <a:stretch/>
        </p:blipFill>
        <p:spPr>
          <a:xfrm>
            <a:off x="0" y="14479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45684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</a:rPr>
              <a:t>First Line of Defen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 and Mucous Membra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I.  Mechanical Defe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.  Skin has two Lay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A. Epidermi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hin outer layer of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pitheli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s Langerhans cells,  dead cells, and keratin (waterproof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B. Dermi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hick inner layer of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nec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ctions are rare in intact skin.  Excep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okworms can penetrate intact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matophytes:  “Skin loving” fun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ff"/>
                </a:solidFill>
                <a:latin typeface="Arial"/>
                <a:ea typeface="Arial"/>
              </a:rPr>
              <a:t>Intact Skin is an Effective Barrier Against Most Pathoge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142143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ww.isxperia.com/_personal/images/mechofaction.jpg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60904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.  Mechanical Defens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2. Mucous Membrane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Line gastrointestinal, genitourinary, and respiratory tra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layers: Outer epithelial and inner connective lay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ithelial lay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cre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uc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maintains moist surfa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he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hibit microbial ent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y offer less protection than ski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microorganisms are capable of penetrating mucous membra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pillomaviru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, Treponema pallidum ,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eroinvasiv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. co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tamoeba histolyt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.  Mechanical Defenses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Lacrimal apparatu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Continual washing and blinking prevents microbes from settling on the eye surfa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Saliv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Washes microbes from teeth and mouth mucous membran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Mucu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hick secretion that traps many microb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Nose Hair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Coated with mucus filter dust, pollen, and microb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iliary Escalator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Cilia on mucous membranes of lower respiratory tract move upwards towards throat at 1-3 cm/h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7120" y="533520"/>
            <a:ext cx="8501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I.  Mechanical Defenses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Coughing and sneezing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Expel foreign objec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Epiglotti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Covers larynx during swallow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0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Urinati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Cleanses ureth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1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Vaginal Secretion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move microbes from genital t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20:19:33Z</dcterms:created>
  <dc:creator>computer</dc:creator>
  <dc:description/>
  <dc:language>en-US</dc:language>
  <cp:lastModifiedBy>computer</cp:lastModifiedBy>
  <dcterms:modified xsi:type="dcterms:W3CDTF">2009-03-08T20:31:25Z</dcterms:modified>
  <cp:revision>2</cp:revision>
  <dc:subject/>
  <dc:title>Slide 1</dc:title>
</cp:coreProperties>
</file>