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6C0-8D30-4C2D-BA47-6B80EE9A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754-0AF8-4446-8688-D37F5B91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F1483-6309-4301-BBB4-59C838B4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91301-7FCB-4023-B2AD-5D02E0A5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8FC73-C799-4B4E-ADEB-FDB2EB59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4178A-F91C-4EEA-9135-A1CA3EB6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2C234-9260-4661-9C3D-D9F898C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996F8-B108-41B5-B312-9CF91A36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A09AF-CE2E-4A26-B8A2-D2E86719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8B521-FC69-40B1-8ABD-970E3E84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FBC1C-3541-4C8A-8851-26DC5EC5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B5C29-D734-4A27-B074-BDAE9E64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46B-39B3-4F86-86E5-4A0283D5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03859-AB11-459A-B282-6CD84429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9D9A5-B6C0-43F2-BEDE-3429C620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8D994-2502-4749-A981-A5FD8451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358D9-39E3-4D77-AC79-1387F1E9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82BAE-502D-4E79-9675-F3683310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F44BF-2CD1-4D52-91A6-A7BDF745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EB715-426F-41D3-9825-060D40D6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8CD40-D61B-4370-B1B3-49437B46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C962C-29A7-4B93-BE69-1F2CA364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5F87E-EC34-43DB-816E-468BE15E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40F-3A92-4AD0-9B9B-67015CA7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7DF0E-3FB8-4FDB-A082-4C6AD853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540C2-FAAB-4E0B-92B4-C7F603C2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4A8AA-B730-4BD9-982D-794590BD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E1822-72E1-42A3-ACC4-AF467FE7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8A43C-9228-4CE7-BE20-6568F2EB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78B2A-6066-4873-AFFE-91E571B2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C67E6-4EC1-4B8E-9ECD-2491DF2D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C276A-8CAE-40AB-912C-4ED9C771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59413-B41E-4DDC-AFF6-C9BB5EAA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7FED3-5784-4AFA-A253-975A3D66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559B-426A-4D3F-9D1F-66CBDBD9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F98AC-61DB-496D-8675-72CF6169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0193A-B4CD-4E25-B5D7-FFE763E9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C24EA-6661-41AD-974C-C31D68C0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A40DC-C917-4603-B2ED-A9499621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74AFC-C6A5-4BD8-9FCF-80D07106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F206F-B598-41A3-B860-9FF51A9B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D482D-7A48-4941-A8EE-E5D7F90D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F2277-ACCC-4000-9BDB-DF7383AF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C1DC4-0BEC-4FB7-BDE2-9E6ECC85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F17C7-4896-41F5-9B5C-B338C545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B7A6-2F2E-4C89-9CAD-FEB9CA63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51D01-B791-4840-BD05-C7068A2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43600-EAD6-483E-BA0B-5EAC7DA8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1E3F0-A704-45E8-9C9F-6AD56D24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9FBD2-2153-4713-85E4-C6534879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8A227-3D8F-4CD6-8BE4-1319C8D5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38BE-A1E8-4ED1-B483-B2B905AF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29F1-3BCB-4110-A2A1-987938A5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974F-6908-4F8F-BF9C-74EC44E8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8AB2-BB76-4393-9536-F0526CB4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CE1B-B8D4-4320-B859-28B9C5C0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09D-84F5-48B8-86BC-E62FFBF6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BDDC-33CF-4176-B129-79C20227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9B60-9D79-44D1-8A09-9AAA463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3CFC-C469-4F06-87CB-360531CE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81B5-F45E-432C-B910-98BFDDBD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BA5A-30AB-4FC9-B130-F425FACB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CE9B-58A1-4810-A933-7F98322B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9721-DBA7-4437-9218-40DEEA53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5310-81ED-4036-A115-BB088D78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96CB-DFD0-461D-AAAD-CBFB0A8B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0FFE-70F2-4123-BB05-BFDEBECE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1A2-6315-4D2B-B096-09F8DD36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09C9-9F1B-4C60-A03D-C394CEC9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27AD-751D-4163-96B9-5F0AEE74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720B-D343-4BE6-B361-0B9C99D8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51B0-0E99-42E0-A74A-229C0300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11FD-FBF5-4BD1-891A-C56EAF03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EB39-87E1-44FC-8E69-1A97BA3F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E1D8-1062-46DC-BB89-37E6B1F1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F3A88-D309-4F81-85FC-5D3E8F14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BB8D-3C44-4342-9E16-91E6E4D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A8B3-42A4-4D3B-BEF8-EA521BD7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9DD-3FB1-49CA-A038-52B2D2B5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166B1-FD93-4209-849C-FFF2CDEC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91D85-68FE-41D7-A6F1-C9A77AF8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AB91-0C16-45C6-8DE4-AAED4E85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314ED-BD69-4D70-8FC3-9A6B873F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6C58-0A01-4828-A528-145601C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34EC-C627-421C-831D-72F20D6A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3B0F-00A9-4E48-997A-E21AE189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BB495-468E-459A-B18A-2C7A0A4C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E706-2E19-41AA-91B0-88CC2EAB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4A989-116A-4DB2-B42F-67BDE155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127-4ED2-428D-92D5-2D9B2822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91D3E-1F58-4036-B5C4-7EEF8CEF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39556-D696-4B41-A090-0EACD4A3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CB2B-F7BF-4E38-A8CD-9CA08053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524A3-2EB7-4D31-B7F7-0F2B3771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C1DA-D7D1-4BC4-90E6-4DACC7EE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B56D-363D-4705-B438-2A37EC38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C526F-3438-45AD-B05F-1767938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9A0A-EB62-4655-9A36-F1FB97CD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18E8F-FFE6-40C1-8C28-614E5B2C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00663-6D44-4A8F-B947-2ED604CA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E02-083B-4EBA-83F3-FD81AAFE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967A-BCA2-4A02-8F17-1F10F8B6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C418A-2EBC-4093-9DA3-FE4DA331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A6BA8-338D-4E3F-90C5-BEA24672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B6FB1-A582-468B-A39A-9D92BAF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1F109-86DD-4260-BF7C-E5D87C80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E1B47-24A6-4FF3-9A55-809A55A3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9C841-C259-4880-9398-D232231A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50AC1-E61B-4150-AC75-D3D9030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05914-B622-4FD1-AAEF-1D10E5CF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6C8F7-E5A1-486F-87AB-22FE2D6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366-A279-48E7-A9B7-27E6D472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B09F7-74F6-441B-95FE-1ACF5AA4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0BD39-9C96-43F6-9FCD-AE1B1160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116E7-28FC-4F3A-8672-34C53820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FE911-DF84-462A-8DB8-2E3256C4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818E8-8A4C-42BA-8343-2FB63A27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AFDE1-A643-4FFB-92F6-FE6A5309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6569-C7ED-420A-9030-5666BCE7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82C6-C619-4D8E-A83D-EC731B8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81552-D27C-42FF-B6F3-72857860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4424-8808-4118-913A-4B201017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0A9-C18E-400B-BA61-126AF338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FE87C-F888-41FB-9A0B-0C59A3F6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A36FF-2D36-4862-8687-FC5169D6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8633-C21E-4228-9946-0ABA015D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010E0-DF5A-4DF4-AB12-828B94CD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617D2-39E9-40CF-AC4D-1703A0BB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2E607-F668-4048-94C0-FECF8B4D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E4700-2642-441D-A3D2-460CDFFC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14ADA-14AA-4A6C-91F4-313B811A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7B6C1-E323-4E04-8ABE-304FA932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7D596-CE2E-4FE7-87C3-0CECDBF7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D93-C03E-4503-9012-7DC8FE45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1A074-8FB0-4B9D-9F39-B70FD29E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7B733-7D2F-4875-92D4-791C5C37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1A6A1-5166-470D-BA59-0765047A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EFCC4-A8C8-44F6-AECC-C7D8D8F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60133-6FB0-417A-B966-6C4C1999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25503-FEF5-42DF-A932-10E953CB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A99EF-34CD-406C-B4F9-E8248D35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3693E-7147-4A66-8EFC-56C6E29A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48D84-691D-4A7E-9BA9-1B248E8F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EE7B4-AD7C-4A03-9BDC-A2969861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CEC-8DA4-4476-95CB-96FB2E9E19E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D740-E9B7-4725-96FE-F6BCB7B4CA9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9335-0504-446F-A54B-923DE676ADC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ED32-A8DA-4755-AA4A-5042F24B7AD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0199-9CC6-433D-9E5F-5D89F1FC522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2D80-F2F5-4EF2-8224-BB0452D9D0E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7C82-7A1F-4B8E-89F5-CBEAF8498C7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5490-7EF8-4804-97AD-BBAA315338F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0A30-9E0E-44FF-96E9-F18144A5D5B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2717-CEB6-4BE0-9A88-E04CEFAA942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5D10-C5BC-4D87-8823-C007708F88A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31FD-5199-494A-9947-B1352C86708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OW DO THEY WORK TOGETHER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dependent and Dependent Claus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mple and Compound sentence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a sentence contains one independent clause and NOTHING ELSE, it is called 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simple sente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Examp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y rode her bike to the par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a sentence contains two independent clauses, it is called 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compound sente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 Examp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y rode her bike to the park, and she listened to the band pl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ke Notic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two independent clauses were joined together by a comma and a conjunction. If we left off the conjunction, it would be a run-0n sentence!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Georgia"/>
              </a:rPr>
              <a:t>Correct:</a:t>
            </a: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y rode her bike to the park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, and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listened to the band pl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Georgia"/>
              </a:rPr>
              <a:t>Incorrect: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Mary rode her bike to the park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he listened to the band pl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mi colon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semi-colons can take the place of a comma and a conjunctions when bridging two independent clauses together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Georgia"/>
              </a:rPr>
              <a:t>Also correct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y rode her bike to the park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;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listened to the band pl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dependent and Dependent Clau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ependent Clause- a complete thought that can stand on its own. It does NOT depend on another group of words to make sense. It makes sense on its ow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pendent Clause-begins with a subordinating conjunction or “signal word” such as while, whenever, although,  because,  etc. It DEPENDS on an independent clause to form a complete though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dependent Clau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My mother and I drove to Jacksonville yesterda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cause we wanted to go shopp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mother and I drove to Jacksonville yesterday” is an independent clause. It makes perfect sense by itself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pendent Clau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mother and I drove to Jacksonville yesterday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because we wanted to go shopp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cause we wanted to go shopping” is a dependent clause. It depends on the independent clause to make sense. If there is no independent clause attached to it, we would refer to it as 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fragment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gnal Words: Dependent Clau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several words that usually signal the start of a dependent clause, such a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cause, although, while, when, whenever, until, where, wherever, though, even if, which, before, whether, if. (There are more, but these are some of the most common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an you spot the dependent claus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though she is not a fan of broccoli, Mary loves asparagus and other vegetabl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ever she is feeling blue, Clarice likes to listen to music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nswer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Although she is not a fan of broccoli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Mary loves asparagus and other vegetabl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Whenever she is feeling blu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Clarice likes to listen to music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an you spot the dependent claus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on drove his girlfriend Lisa to the movies yesterday because she has been wanting to see the latest Brad Pitt movi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exercised on my new treadmill while watching televis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Answer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on drove his girlfriend Lisa to the movies yesterday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because she has been wanting to see the latest Brad Pitt movi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exercised on my new treadmill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while watching televis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2:55:29Z</dcterms:created>
  <dc:creator>User</dc:creator>
  <dc:description/>
  <dc:language>en-US</dc:language>
  <cp:lastModifiedBy>Samsung</cp:lastModifiedBy>
  <dcterms:modified xsi:type="dcterms:W3CDTF">2013-12-15T18:38:41Z</dcterms:modified>
  <cp:revision>7</cp:revision>
  <dc:subject/>
  <dc:title>Independent and Dependent Clauses</dc:title>
</cp:coreProperties>
</file>