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A26-F158-43C3-9A1A-F7E464E5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75B-05A7-4482-B244-73F8D90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0C864-076F-4686-865A-CAD5AE2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36E3D-B6DD-4EC3-BE59-0F5D8FBB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ECF60-EC5E-490E-8B95-BFD35A83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94B6F-DCF2-4341-933C-9E9166E9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FAA4A-C557-4799-BE8E-FF95C4A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2AD6D-4C83-479C-83AB-92B6268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CD723-D66C-4ACE-8EEC-54F2874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F046D-2A4A-403F-B1CE-40726016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113E8-ED88-409F-97FA-CB4558C2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4D4FB-DAA7-4FDB-BADA-7C4F31BD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8A1-0CF5-4DC3-98B8-C1775D6F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8F060-6115-45BB-9A06-0E129D8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C1782-C3D3-4D20-9E18-D7FF07B1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DD1F4-1602-418B-982B-0B71140E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45DE0-AF5D-430E-BD36-958BD3DB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6D34B-4D35-4C1E-8D3B-E2F9B261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303A9-4AA1-41B3-A495-C76EC50D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67DA9-7EDA-44A4-8CF9-F23BFC3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41FA8-7B0D-4D7B-9C6D-AFC9E7B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FDF50-3EAF-44E8-85F9-595E7568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972E8-5EF3-4FA8-98EA-EFDEE510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693-2E49-463E-B980-EB265AA5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2187F-0234-4247-A51C-4A0D1378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DC77F-E5F4-4C91-8437-DB8ECF14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2470C-0F49-468B-BB87-6D835F82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C07DA-F6CB-4971-BFFC-B9E0643F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03FFC-45C1-4FC9-8905-F4443470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F1D9C-C7F3-4C96-AB1E-4FE26DE3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AEE0D-E667-4EC8-92D3-F257148A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21C8-D002-4742-ABAC-9E4A248B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07FDC-123E-4794-B788-F68E59A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994A0-A18A-4B98-A85E-80D5963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60D-E36E-4C2C-B2C4-6F44454B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15462-192E-4D03-8818-6736C33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4425D-2A40-4EF2-BA83-0EB1AC89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3F0B-5A3E-4B49-95A0-E54BAF74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BD138-5B3C-4F7D-BE0B-565F24CC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16A31-47FE-4DD5-B80F-0C32A316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2FA77-0D82-48AA-A130-A16AD46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A574C1-E73C-4D4B-878A-22CD68F7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F1545-1480-42D3-9EBA-AA8321A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83B3C-55FF-4506-84F6-5DF7C40C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B153F-A94E-4A2A-AD12-48E2283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995F-1FF8-4447-BB88-34BCDA76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2BDCA-64BF-4754-A3B3-5190C9C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E4502-F6EC-4321-9CD3-A80D35B5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6281F-D265-4F8E-A93E-CE6471D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F80F2-E559-48EB-9964-514BA890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9944F-B533-47AA-838A-E90EC21E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F3AF-B979-4982-8A13-4D8A6633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9DA7-7C4E-4601-BD59-6B3BDC5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5BFA-57FB-4A3C-83BE-6FEC231A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30B2-AD8E-4710-95D0-7B714535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34D2-EE80-47BC-8027-82DC8961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7ED-6C6D-4FC2-BD6B-56FB6A00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DAE7-8FE7-4CB4-BF4E-66F7B20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2E62-C4F5-4A5E-9EE9-13E6E9F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3137-74C2-490F-97F3-78645A24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A6B-7108-4AF0-B03B-23091312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5E15-BB17-4BDD-BD2B-6550D63F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96DC-2FC2-4A1D-AFA0-EF825379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A44A-3486-4467-88E1-9CF8377D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8659-67A1-4B31-B15A-EA54FBE7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C97C-5252-40CD-8AFB-2EE4B96A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1E0C2-37A8-4EFB-A20C-6221C644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132-FA8A-4669-92C9-3AEA97E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77F1-F294-4C89-A656-06B555A6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D267-BF8E-4FDA-8E25-FBB78ACA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72D1-7F70-4FFA-892D-9FCB8964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18FE-3CDF-4357-9D6C-EE5D055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ECF5-5FAD-4867-B273-570E199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6A63-22AA-4FC7-B819-0DFB8E4F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3F2A-8480-4B07-9BAF-66D92089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1AB5-510C-48A5-A938-FC737364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C8F4-67A2-4921-BE03-B3B9459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ECE7-8143-4809-AA3B-CCFAEFC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DAB-BF53-4CC1-88A6-B7206E8A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73A0-9CF2-4AD5-82A9-1E22153A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A311-CB72-4FFA-BCD3-434AE4DB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E6257-1CAB-4CF4-AAC4-0DEBBB36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A4C4-6A8E-4559-9F8F-145FF812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CA146-05DD-4EFC-A522-AEA9AEDE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D30F9-5675-4819-B9E0-F2A4CF1E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59A0-4EE4-47E3-B939-11B2156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7E567-839E-4AC1-A6D6-165B24FC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006C-844F-49DA-B9FD-9FC43DE3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2FC0-E6CC-41EE-990E-F6C8A094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053-0876-4C04-81C8-525CB17F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9227-F3FD-4EB8-8501-A2C46418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28AA-F01D-4D30-88A2-3B1D9CAD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7E080-AB83-4773-B170-0A75808F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46A1-E3FA-4C33-9717-82F8309C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627F-17D1-41D2-BB35-1E4DB25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15A5-1BD6-4DC4-8DEC-95D73F5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A4CB-7294-4404-B862-D8149F3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3E54-A09F-448A-90D2-1F08A294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ED4D-E53A-44A0-8A4B-3555D1ED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883D-BFDD-4774-887A-96A529C9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292-BE18-498E-AAA9-E3535B6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0CF5-9741-48F6-908F-C894AE0D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A656-EE05-4B0A-9F20-4FE4B64A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C1657-EABC-4875-BE99-01E47833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C98A-79B2-434B-A066-CBCA7BE5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6203-59E9-45FE-A107-18A9EFF6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54DF-6CC4-4E2A-91CD-51261E90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A35C7-D6C1-4C86-AFF2-2A76A7E2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B1F3-BFEA-494B-A993-FCCD6EB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22AB-D1C9-4142-B674-806B074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78FB-D947-4E3E-A32C-D2C1AE94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B68-1933-49B5-83EE-7F31F34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1D2F-BB56-4C77-B586-9D7FB91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065E-C476-4A0F-86B4-BA1E7CA6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D05F7-06A6-4DF5-9A17-FA093E8E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C2E72-D2D9-4B13-87B8-914AF95B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2FBB7-4545-402D-8A78-7EFAA65A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4394-F732-4959-B535-C87D9C6F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3C26D-F29E-4154-AA6A-728C62A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45713-E259-4B8F-A8E5-48245D09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D2E11-BFA5-4A4D-BB90-472B9710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001DE-B83E-4909-9CCE-0C598E77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B9A-8696-4135-828B-3F48575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FC28-9E41-47D1-A0AC-2ABD0D9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DC78-9D1A-4B1D-BB14-9C0141B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86D1D-C7F4-4F0E-8ED4-BD6D8AD3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50558-4F1F-453B-A8F6-3DD39D39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0EC5-81F7-4F6B-A90C-5B69DF6D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C00E-C479-42C7-A99E-DC16864A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E0E1-672A-4BC5-BDBE-333CF9D1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E2E9-A8A7-4E04-A0A2-16DBF0EF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EBC5F-BEAC-4C4D-BD8E-0EABEF28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9AECE-2680-4FD9-863C-CA02FDE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2AC-1A5A-4448-9355-4D24A2D2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84D95-CF61-48BD-BA9E-ABF36AB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4936F-48DF-49E7-9843-8B81F69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30BDE-4931-45A4-AD50-751D0E44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087EE-2BB2-45AF-A4C0-27D0E55C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46BE6-D1F5-4AD7-98CA-3F0CCC79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DE94-AF9B-43E4-A0B9-F0203A70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D38BF-6C90-44A1-9619-78436572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CBC11-4D85-49E8-9C55-26D3715A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DDBE3-68BD-4CC2-995D-A006A424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4B59C-2D88-45FB-862E-41B69868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8F08-8B05-4928-899B-D93345329AD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F806-492B-4837-AB36-D38B1788FA5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3298-77A6-4B39-86B3-CEBBCF7E53B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AE48-B808-4189-B3F9-88F71F3962C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6589-98B2-402F-BEDE-D955150D851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C8B8-8847-4B0C-9069-0B2E5F8E088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350B-239A-4677-B95B-EACB066D66E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B5F5-BF05-4E11-85D4-5C5B2567EE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0967-9358-4303-A148-ADA6673A9F3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09E3-3A32-45FE-BEAA-3762FDD43A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0A5-111F-4CA2-AF61-0B58332C1FDC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23B-B6B5-4F87-ADF4-B89058BE46B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OW DO THEY WORK TOGETHER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dependent and Dependent Claus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mple and Compound sentence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a sentence contains one independent clause and NOTHING ELSE, it is called 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simple sente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Examp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a sentence contains two independent clauses, it is called 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compound sente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 Examp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, and 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ke Notic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two independent clauses were joined together by a comma and a conjunction. If we left off the conjunction, it would be a run-0n sentence!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Georgia"/>
              </a:rPr>
              <a:t>Correct:</a:t>
            </a:r>
            <a:r>
              <a:rPr b="0" lang="en-US" sz="27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, and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Georgia"/>
              </a:rPr>
              <a:t>Incorrect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Mary rode her bike to the park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emi colon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semi-colons can take the place of a comma and a conjunctions when bridging two independent clauses together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Georgia"/>
              </a:rPr>
              <a:t>Also correct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y rode her bike to the park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;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listened to the band pl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dependent and 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ependent Clause- a complete thought that can stand on its own. It does NOT depend on another group of words to make sense. It makes sense on its ow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pendent Clause-begins with a subordinating conjunction or “signal word” such as while, whenever, although,  because,  etc. It DEPENDS on an independent clause to form a complete though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My mother and I drove to Jacksonville yesterda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cause we wanted to go shopp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mother and I drove to Jacksonville yesterday” is an independent clause. It makes perfect sense by itself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mother and I drove to Jacksonville yesterday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because we wanted to go shopp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cause we wanted to go shopping” is a dependent clause. It depends on the independent clause to make sense. If there is no independent clause attached to it, we would refer to it as 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fragment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gnal Words: Dependent Claus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several words that usually signal the start of a dependent clause, such a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cause, although, while, when, whenever, until, where, wherever, though, even if, which, before, whether, if. (There are more, but these are some of the most common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n you spot the dependent claus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though she is not a fan of broccoli, Mary loves asparagus and other vegetab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ever she is feeling blue, Clarice likes to listen to music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swer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Although she is not a fan of broccoli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Mary loves asparagus and other vegetabl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Whenever she is feeling blu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Clarice likes to listen to mus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n you spot the dependent claus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on drove his girlfriend Lisa to the movies yesterday because she has been wanting to see the latest Brad Pitt movi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exercised on my new treadmill while watching televis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Answer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on drove his girlfriend Lisa to the movies yesterday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because she has been wanting to see the latest Brad Pitt movi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exercised on my new treadmill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while watching televis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2:55:29Z</dcterms:created>
  <dc:creator>User</dc:creator>
  <dc:description/>
  <dc:language>en-US</dc:language>
  <cp:lastModifiedBy>Samsung</cp:lastModifiedBy>
  <dcterms:modified xsi:type="dcterms:W3CDTF">2013-12-15T18:38:41Z</dcterms:modified>
  <cp:revision>7</cp:revision>
  <dc:subject/>
  <dc:title>Independent and Dependent Clauses</dc:title>
</cp:coreProperties>
</file>