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B711-6A43-4DA3-A6A0-5C59CDCAC469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95BA-481B-4E6D-AC91-825C9B6ACF5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9C1E-88E4-4774-A802-38BB01882510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DA3-E407-4C98-9C78-EE7B3539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4527-F316-40AB-95A3-A8E97E01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CB0-20EE-4FB7-8492-14A2EE21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7387-EFD6-4225-9A94-DE5CE841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5B7-05DB-4878-8C6E-0AC4D4BF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5A3-5BB1-4D4C-9967-2F85BE6E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CB27-5750-46A8-8D20-E7A0E3A8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33A-4FFC-4C9E-8A8B-801DDED2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A53E-CD13-4C06-B00B-5770E5FC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509-AD88-4976-9BD5-8C5CAB90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48E-4AC1-4B61-ADC0-9E18796C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D57-2DCF-4537-B623-D824FBCC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E044-9551-4793-9D25-325941C0005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0557-ABBB-4E89-BB52-B2AE3103370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C0A2-E323-48A7-AC7E-AE1F4187AD7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AF8F-5A96-4B47-8353-48971B8C6AF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llow me for a walk through..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Mathematical</a:t>
            </a:r>
            <a:endParaRPr b="0" lang="en-US" sz="6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6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4609-DFA7-4B89-8768-D7FC7C662B6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4C36-F870-4CD1-913B-C45064AD976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another proof technique that is very similar to the principle of mathematical induc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second principle of mathematical induc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can be used to prove that a propositional function P(n) is true for any natural number n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F263-CD08-4036-8352-840CC904C1C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B258-EB43-48BD-9938-BA5C18B9C1F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second principle of mathematical induc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P(0) is true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asis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if P(0) and P(1) and … and P(n),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 + 1)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nductive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) must be true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 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nclusio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8FED-5F79-4465-9116-1EFBB8A0D3F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A3A0-0DE8-4056-A0FF-0FA5F8FC38F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ample: Show that every integer greater than 1 can be written as the product of prim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P(2) is true.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asis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 is the product of one prime: itsel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6D1E-50D7-4626-91EA-56BF31E4713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C533-02B3-48A2-B07A-4999B7D20FB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if P(2) and P(3) and … and P(n),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 + 1)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nductive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possible cas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(n + 1) i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im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then obviously P(n + 1)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(n + 1) i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mposit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t can be written as the product of two integers a and b such that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 &lt; n + 1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y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uction hypothesi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oth a and b can be written as the product of prim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n + 1 =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can be written as the product of prim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525E-6C20-4428-AD3F-5A738E8B57D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8480-073D-4FAE-BCC7-B0B27AB459B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) must be true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nclusio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nd of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have shown tha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very integer greater than 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an be written as the product of prim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2337-5D66-4074-824B-E3B25BC5373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6D8F-2809-4691-872C-45622A0269A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inciple of mathematical induc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useful tool for proving that a certain predicate is true for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ll natural number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cannot be used to discover theorems, but only to prove the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55FA-D649-463C-AD51-850CB493292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7F42-EFBA-4CEE-91F3-5E795AB3187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have a propositional function P(n), and we want to prove that P(n) is true for any natural number n, we do the following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P(0) is true.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asis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if P(n) then P(n + 1)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nductive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) must be true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nclusio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7CBF-0F26-4C21-8EC9-F496854C9A8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59EB-AB86-4140-A003-EEBA9BA5356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how that 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or all positive integers 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P(n) be the proposition “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1.  Show that P(1) is true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asis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1) is true, because 1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39A1-1407-441E-AC35-8F49EB3716D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DFCA-9CE8-48DC-A9B5-FBE4E0543C1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2.  Show that if P(n) is true, then P(n + 1) is true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nductive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sume that 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need to show that P(n + 1) is true, i.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 + 1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+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start from 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 + 1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1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+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if 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n n + 1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+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1439-E231-4B59-B6E9-F091E01A9EF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BAD6-5805-40E8-A93D-A4C4FF20F1D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spcBef>
                <a:spcPts val="700"/>
              </a:spcBef>
              <a:buClr>
                <a:srgbClr val="00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) must be true for any positive integer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nclusio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true for any positive intege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nd of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44BE-21D6-49D5-A31D-294D4352956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3551-A3C9-476E-A430-444A2B69DF6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other Example (“Gauss”)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2 + … + n = n (n + 1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spcBef>
                <a:spcPts val="1576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P(0) is true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asis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n = 0 we get 0 = 0.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98E3-967F-4EE3-AC95-F6F3FFA4F56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2201-A7AF-4FDE-8094-129D710817E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700"/>
              </a:spcBef>
              <a:buClr>
                <a:srgbClr val="00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if P(n) then P(n + 1)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Monotype Corsiva"/>
              </a:rPr>
              <a:t>.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nductive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2 + … + n = n (n + 1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2 + … + n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+ (n + 1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n (n + 1)/2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+ (n + 1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2n + 2 + n (n + 1)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2n + 2 + 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n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2 + 3n + 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n + 1) (n + 2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n + 1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n + 1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1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1428-1107-4489-A0B5-4576E0098CF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EA25-D947-4F7F-98A4-410FF9810FA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spcBef>
                <a:spcPts val="700"/>
              </a:spcBef>
              <a:buClr>
                <a:srgbClr val="00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) must be true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nclusio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2 + … + n = n (n + 1)/2 is true for all n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.</a:t>
            </a:r>
            <a:r>
              <a:rPr b="0" lang="en-US" sz="2800" spc="-1" strike="noStrike">
                <a:solidFill>
                  <a:srgbClr val="ffff00"/>
                </a:solidFill>
                <a:latin typeface="Monotype Corsiv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nd of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29:50Z</dcterms:modified>
  <cp:revision>106</cp:revision>
  <dc:subject/>
  <dc:title>PowerPoint Presentation</dc:title>
</cp:coreProperties>
</file>