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7894-814E-4D2E-91CB-C3FEB393094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5E3-503E-4BE1-BE3C-5AA749713F2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DEE-92C0-4B79-9008-7963B620FF3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359-616B-4346-8404-C3C872F3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EAF-A51D-4AE2-9019-FE553647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C54-B036-4F80-BD24-F07C1137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87A-29CC-46C9-BE4F-1D98ABB2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AD92-610E-4476-AE46-B9A584DC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6C5-9DC7-4A7C-ABE3-4B78F69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12D-85E0-49F9-AAAC-53A4070D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E252-58E5-46F9-AB29-3AD33125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E2A-7DB1-4E71-AB11-75F542A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0D4-6C1B-4BD0-A187-029F1D33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B9C-9D35-4348-9CBD-58E3F62E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9B4-BF53-46B0-AB60-F129A53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1373-9026-49EC-AAB2-51B6E0B1324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0A7B-2D4E-4972-86BF-67A9F72907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B3EF-BD93-4F4A-8A99-C01C29D40FA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CBBA-F731-49BB-9F74-4A49C025ECD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llow me for a walk through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Mathematical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541-88E9-47EA-8E39-637F91B6171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1955-EF2C-4399-A728-CDF78872264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other proof technique that is very similar to the principle of mathematical indu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 second 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 be used to prove that a propositional function P(n) is true for any natural number 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79DD-17FD-4003-B667-762C18C9137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22A7-39E2-4891-9BC7-3999CA08BAC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econd principle of mathematical induction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0) and P(1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DD2B-8144-42A8-B0E4-F13930A1F9E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3099-F896-4E6C-B29B-3C6EEDF7FDE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Show that every integer greater than 1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2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is the product of one prime: itsel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B9F7-DDE2-4A8E-BFFF-30E6372177D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9184-E4DE-4A0D-A820-F66E2A14D33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2) and P(3) and … and P(n),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wo possible case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m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then obviously P(n + 1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(n + 1)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mposi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can be written as the product of two integers a and b such tha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b &lt; n + 1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y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uction hypothesi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oth a and 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n + 1 = a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012-8E89-4D35-BD23-D575C40CAE8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531F-2345-4CD4-B1AB-6F1263E2F7C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very integer greater than 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as the product of prime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F74F-2166-425F-8C14-D6415F5940B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AC43-CC2D-4164-9552-A2AC2B98420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inciple of mathematical induc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useful tool for proving that a certain predicate is true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ll natural number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cannot be used to discover theorems, but only to prove th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D52F-1E42-43A7-8672-F1D591268ED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E0BA-5596-4C8B-8516-270F25E838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we have a propositional function P(n), and we want to prove that P(n) is true for any natural number n, we do the following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4960-8573-4334-9B0D-0834FE30D33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DB0-AF85-4F0B-9584-7AA84123752E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how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or all positive integer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n) be the proposition “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.  Show that P(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1) is true, because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F6C0-5901-4BD3-B18D-1F014575278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A25-1F82-47AE-98D5-D3FA7DAA41E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2.  Show that if P(n) is true, then P(n + 1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ume that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to show that P(n + 1) is true, i.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tart from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hen n + 1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+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FA4-33DE-4252-B53A-CDEC8833272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892-21BB-47ED-9249-4083858F9BC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positive integer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&lt; 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true for any positive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246D-096C-4C0E-973B-F800BC60A40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6212-9823-4EC5-9B86-53C0A80B1E86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 (“Gauss”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spcBef>
                <a:spcPts val="1576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P(0) is true.</a:t>
            </a:r>
            <a:br>
              <a:rPr sz="2800"/>
            </a:b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basis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n = 0 we get 0 = 0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3A05-8A24-4E71-93ED-DDA1BBC6A34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442A-7193-4C7C-8F7C-8605ABC1325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how that if P(n) then P(n + 1)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ffff"/>
                </a:solidFill>
                <a:latin typeface="Monotype Corsiva"/>
              </a:rPr>
              <a:t>.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inductive step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n (n + 1)/2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+ (n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 (n + 1)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n + 2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n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2 + 3n +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(n + 1) (n + 2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n + 1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1)/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517-608B-42AA-B1EB-329C7D0249E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0FD-034A-4AEA-BCBF-902F581B014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Induc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700"/>
              </a:spcBef>
              <a:buClr>
                <a:srgbClr val="00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n P(n) must be true for any n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N.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nclusio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1 + 2 + … + n = n (n + 1)/2 is true for all n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.</a:t>
            </a: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d of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9:50Z</dcterms:modified>
  <cp:revision>106</cp:revision>
  <dc:subject/>
  <dc:title>PowerPoint Presentation</dc:title>
</cp:coreProperties>
</file>