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5.wmf" ContentType="image/x-wmf"/>
  <Override PartName="/ppt/media/image28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620073-0072-4E17-8667-2D14FA0EC9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7F6872-3006-460B-8B8F-D317C104E53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D0BFEC7-3B01-4164-9F09-B8CECDA7EA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6275ED-C16D-44C1-A4D6-2D4E5B84A7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3345C8-B84E-4E93-B79F-9C87692C3E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53A5D5-0311-4C3B-8253-EDC6EA9038C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A2EFB69-0288-4E37-B2BE-DCA8798E554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FAED8A-36D1-4AF5-9D43-921AD43FE2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2CC05C0-0649-4C06-84F1-A289378E1B3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8B1444E-4175-46AF-88E2-9BB8579F6E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EDD839-AC0E-42E3-AD6E-483BAB065B9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731108-A1E0-4C19-8D12-404A45A2485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66557AF-C345-4DE7-A3EF-27D621D44D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59A035-F230-4D6B-8C41-A5FADFA805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10A3654-2BA2-40D5-8060-1FDBAC69A91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6C27A6-F6C2-43D3-92AA-4881DE548C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57F9A6-70D0-4E18-9524-D50D6A45C7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7D2877F-0329-4590-9BA5-724190E225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1D88724-D1E0-45EB-83F7-88936D79F8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C697BCC-7C18-4414-A1FC-A7D7BF0749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00BD7F-8505-4FF2-88BC-599B61F847B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E482D0-4C58-44CE-9CC9-806A8039F3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9B54A3-2735-4E4B-BB6A-1BDD2765E4F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48C1E58-21C7-4C6A-8508-B8F5E093892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0EE056D-4059-4A79-83E3-63684C4861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D05EE94-275A-4A63-A60F-A78F4998DB5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ADEE87-BEE5-434C-890B-A5D7F8631EF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D0E5623-03FC-4542-8A85-88D9A5522F8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706232C-991F-43B6-A799-3358AA85AB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84008C0-C2A5-4DAE-85A2-8F264C250A3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649A779-87DE-47B2-B95B-1B07608602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ECEEEA-3DEE-46D3-B914-C1B8742536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57B1FF2-709F-4EF7-AAD2-76E93D048C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0F5120-131C-46C3-B0C1-2B6A25CADCD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C0FC2CB-C7E1-42CF-98CA-57F2787425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59E1C1-D1F9-4DAA-A6D1-7086D4BB36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F4187F-6D28-450A-8A18-DADF799EC8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29C186-243B-4A34-AC66-62509E6EF2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, Pea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5029200" y="5257800"/>
            <a:ext cx="2133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13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09680" y="3429000"/>
            <a:ext cx="441972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523880" y="2362320"/>
            <a:ext cx="65534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 closes and immediately a voltage appears acro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tends to oppose an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8"/>
          <p:cNvGraphicFramePr/>
          <p:nvPr/>
        </p:nvGraphicFramePr>
        <p:xfrm>
          <a:off x="2286000" y="3276720"/>
          <a:ext cx="4051440" cy="21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76720"/>
                    <a:ext cx="4051440" cy="21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12"/>
          <p:cNvGrpSpPr/>
          <p:nvPr/>
        </p:nvGrpSpPr>
        <p:grpSpPr>
          <a:xfrm>
            <a:off x="4572000" y="5029200"/>
            <a:ext cx="4191120" cy="1191240"/>
            <a:chOff x="4572000" y="5029200"/>
            <a:chExt cx="4191120" cy="1191240"/>
          </a:xfrm>
        </p:grpSpPr>
        <p:sp>
          <p:nvSpPr>
            <p:cNvPr id="185" name="Text Box 9"/>
            <p:cNvSpPr/>
            <p:nvPr/>
          </p:nvSpPr>
          <p:spPr>
            <a:xfrm>
              <a:off x="6705720" y="5029200"/>
              <a:ext cx="205740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itially, the meter reads same current as before the switch was clos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 flipH="1" flipV="1">
              <a:off x="4572000" y="54097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09680" y="3429000"/>
            <a:ext cx="441972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523880" y="2362320"/>
            <a:ext cx="6553440" cy="87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time, the current stabilizes at a higher level (du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s the voltage decays across the c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2286000" y="3508200"/>
          <a:ext cx="405144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508200"/>
                    <a:ext cx="405144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9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4572000" y="5029200"/>
            <a:ext cx="4191120" cy="1191240"/>
            <a:chOff x="4572000" y="5029200"/>
            <a:chExt cx="4191120" cy="1191240"/>
          </a:xfrm>
        </p:grpSpPr>
        <p:sp>
          <p:nvSpPr>
            <p:cNvPr id="196" name="Text Box 11"/>
            <p:cNvSpPr/>
            <p:nvPr/>
          </p:nvSpPr>
          <p:spPr>
            <a:xfrm>
              <a:off x="6705720" y="5029200"/>
              <a:ext cx="205740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ter, the meter reads a higher current because of the load chang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 flipH="1" flipV="1">
              <a:off x="4572000" y="54097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3417840"/>
            <a:ext cx="769608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66680" y="1295280"/>
            <a:ext cx="3048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219320" y="1295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actical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676520" y="1981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ors come in a variety of sizes. A few common ones are shown 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Object 7"/>
          <p:cNvGraphicFramePr/>
          <p:nvPr/>
        </p:nvGraphicFramePr>
        <p:xfrm>
          <a:off x="793800" y="3809880"/>
          <a:ext cx="7556400" cy="20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3800" y="3809880"/>
                    <a:ext cx="755640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ies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ductors are connected in series, the total inductance is the sum of the individual inductors. The general equation for inductors in seri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657600" y="535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18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2895480" y="3078000"/>
          <a:ext cx="2629080" cy="4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078000"/>
                    <a:ext cx="2629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WordArt 9"/>
          <p:cNvSpPr txBox="1"/>
          <p:nvPr/>
        </p:nvSpPr>
        <p:spPr>
          <a:xfrm>
            <a:off x="990720" y="350532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371600" y="4267080"/>
            <a:ext cx="346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1.5 mH inductor is connected in series with an 6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, the total indu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3"/>
          <p:cNvGrpSpPr/>
          <p:nvPr/>
        </p:nvGrpSpPr>
        <p:grpSpPr>
          <a:xfrm>
            <a:off x="5029200" y="4267080"/>
            <a:ext cx="3352680" cy="1524240"/>
            <a:chOff x="5029200" y="4267080"/>
            <a:chExt cx="3352680" cy="1524240"/>
          </a:xfrm>
        </p:grpSpPr>
        <p:sp>
          <p:nvSpPr>
            <p:cNvPr id="215" name="Rectangle 10"/>
            <p:cNvSpPr/>
            <p:nvPr/>
          </p:nvSpPr>
          <p:spPr>
            <a:xfrm>
              <a:off x="5029200" y="4267080"/>
              <a:ext cx="3352680" cy="1524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6" name="Object 12"/>
            <p:cNvGraphicFramePr/>
            <p:nvPr/>
          </p:nvGraphicFramePr>
          <p:xfrm>
            <a:off x="5410080" y="4572000"/>
            <a:ext cx="2667240" cy="903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7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4572000"/>
                      <a:ext cx="266724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ductors are connected in parallel, the total inductance is smaller than the smallest one. The general equation for inductors in parall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295280" y="4038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inductance of two inducto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905120" y="5562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use the product-over-sum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8"/>
          <p:cNvGraphicFramePr/>
          <p:nvPr/>
        </p:nvGraphicFramePr>
        <p:xfrm>
          <a:off x="2971800" y="3117960"/>
          <a:ext cx="24447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117960"/>
                    <a:ext cx="2444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3657600" y="4572000"/>
          <a:ext cx="1290600" cy="95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4572000"/>
                    <a:ext cx="1290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048120" y="3962520"/>
            <a:ext cx="3124080" cy="1828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1447920" y="198108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362320" y="257184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1.5 mH inductor is connected in parallel with an 6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, the total indu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105520" y="3308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68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9"/>
          <p:cNvGraphicFramePr/>
          <p:nvPr/>
        </p:nvGraphicFramePr>
        <p:xfrm>
          <a:off x="3276720" y="4145040"/>
          <a:ext cx="2776320" cy="14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4145040"/>
                    <a:ext cx="277632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181480" y="533520"/>
            <a:ext cx="3200400" cy="561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219320" y="204300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inductor is connected in series with a resistor and dc source, the current change is expon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H="1" flipV="1">
            <a:off x="2227320" y="3924360"/>
            <a:ext cx="45864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227320" y="4208400"/>
            <a:ext cx="4665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9"/>
          <p:cNvGraphicFramePr/>
          <p:nvPr/>
        </p:nvGraphicFramePr>
        <p:xfrm>
          <a:off x="5284800" y="990720"/>
          <a:ext cx="30830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0" y="990720"/>
                    <a:ext cx="3083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0"/>
          <p:cNvGraphicFramePr/>
          <p:nvPr/>
        </p:nvGraphicFramePr>
        <p:xfrm>
          <a:off x="5670720" y="1201680"/>
          <a:ext cx="1876320" cy="429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70720" y="1201680"/>
                    <a:ext cx="187632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1"/>
          <p:cNvGraphicFramePr/>
          <p:nvPr/>
        </p:nvGraphicFramePr>
        <p:xfrm>
          <a:off x="1488960" y="3921120"/>
          <a:ext cx="2594160" cy="15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88960" y="3921120"/>
                    <a:ext cx="25941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876920" y="533520"/>
            <a:ext cx="3504960" cy="5610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066680" y="1295280"/>
            <a:ext cx="37339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219320" y="1981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shape curves are seen if a square wave is used for the sou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105520" y="16765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105520" y="30481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105520" y="4419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 flipH="1" flipV="1">
            <a:off x="2303640" y="3924360"/>
            <a:ext cx="45864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 flipH="1">
            <a:off x="2226960" y="4211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2"/>
          <p:cNvGraphicFramePr/>
          <p:nvPr/>
        </p:nvGraphicFramePr>
        <p:xfrm>
          <a:off x="1371600" y="3886200"/>
          <a:ext cx="2895480" cy="17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886200"/>
                    <a:ext cx="289548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3"/>
          <p:cNvGraphicFramePr/>
          <p:nvPr/>
        </p:nvGraphicFramePr>
        <p:xfrm>
          <a:off x="5707080" y="1446120"/>
          <a:ext cx="2598840" cy="411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07080" y="1446120"/>
                    <a:ext cx="259884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581280" y="1981080"/>
            <a:ext cx="4800600" cy="416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066680" y="1295280"/>
            <a:ext cx="4572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62120" y="2016000"/>
            <a:ext cx="27432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 values for current and voltage can be read from a universal curve. For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, the time consta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1752480" y="4419720"/>
          <a:ext cx="76212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4197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9"/>
          <p:cNvGraphicFramePr/>
          <p:nvPr/>
        </p:nvGraphicFramePr>
        <p:xfrm>
          <a:off x="3809880" y="1981080"/>
          <a:ext cx="452448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981080"/>
                    <a:ext cx="45244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10"/>
          <p:cNvGrpSpPr/>
          <p:nvPr/>
        </p:nvGrpSpPr>
        <p:grpSpPr>
          <a:xfrm>
            <a:off x="5410080" y="2933640"/>
            <a:ext cx="2895840" cy="368280"/>
            <a:chOff x="5410080" y="2933640"/>
            <a:chExt cx="2895840" cy="368280"/>
          </a:xfrm>
        </p:grpSpPr>
        <p:sp>
          <p:nvSpPr>
            <p:cNvPr id="274" name="Text Box 11"/>
            <p:cNvSpPr/>
            <p:nvPr/>
          </p:nvSpPr>
          <p:spPr>
            <a:xfrm>
              <a:off x="6370560" y="2933640"/>
              <a:ext cx="19353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s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54100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13"/>
          <p:cNvGrpSpPr/>
          <p:nvPr/>
        </p:nvGrpSpPr>
        <p:grpSpPr>
          <a:xfrm>
            <a:off x="5327640" y="4495680"/>
            <a:ext cx="3047760" cy="368280"/>
            <a:chOff x="5327640" y="4495680"/>
            <a:chExt cx="3047760" cy="368280"/>
          </a:xfrm>
        </p:grpSpPr>
        <p:sp>
          <p:nvSpPr>
            <p:cNvPr id="277" name="Text Box 14"/>
            <p:cNvSpPr/>
            <p:nvPr/>
          </p:nvSpPr>
          <p:spPr>
            <a:xfrm>
              <a:off x="6338520" y="4495680"/>
              <a:ext cx="20368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l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 flipH="1">
              <a:off x="5327640" y="4686120"/>
              <a:ext cx="10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6"/>
          <p:cNvSpPr txBox="1"/>
          <p:nvPr/>
        </p:nvSpPr>
        <p:spPr>
          <a:xfrm>
            <a:off x="762120" y="304812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990720" y="3657600"/>
            <a:ext cx="297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se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, whe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3886200" y="1981080"/>
            <a:ext cx="4800600" cy="416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17"/>
          <p:cNvGraphicFramePr/>
          <p:nvPr/>
        </p:nvGraphicFramePr>
        <p:xfrm>
          <a:off x="4114800" y="1981080"/>
          <a:ext cx="4524480" cy="40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981080"/>
                    <a:ext cx="45244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25"/>
          <p:cNvSpPr/>
          <p:nvPr/>
        </p:nvSpPr>
        <p:spPr>
          <a:xfrm>
            <a:off x="990720" y="44956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rising exponential at the 67%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7"/>
          <p:cNvSpPr/>
          <p:nvPr/>
        </p:nvSpPr>
        <p:spPr>
          <a:xfrm>
            <a:off x="5505480" y="3352680"/>
            <a:ext cx="0" cy="22860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2362320" y="5200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ter 1.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1066680" y="1828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ves can give specific information abou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812960"/>
            <a:ext cx="65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ance is the property of a conductor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pose a change in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f inductance is greatly magnified by winding a coil on a magnetic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447920" y="3962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mbols for inductors (coils)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0200" y="4662360"/>
            <a:ext cx="5791320" cy="1054080"/>
            <a:chOff x="1600200" y="4662360"/>
            <a:chExt cx="5791320" cy="1054080"/>
          </a:xfrm>
        </p:grpSpPr>
        <p:sp>
          <p:nvSpPr>
            <p:cNvPr id="106" name="Text Box 12"/>
            <p:cNvSpPr/>
            <p:nvPr/>
          </p:nvSpPr>
          <p:spPr>
            <a:xfrm>
              <a:off x="1752480" y="5348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ir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3200400" y="5348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ron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4495680" y="5348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rrite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Object 20"/>
            <p:cNvGraphicFramePr/>
            <p:nvPr/>
          </p:nvGraphicFramePr>
          <p:xfrm>
            <a:off x="1600200" y="4662360"/>
            <a:ext cx="53546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Object 2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662360"/>
                      <a:ext cx="5354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Text Box 21"/>
            <p:cNvSpPr/>
            <p:nvPr/>
          </p:nvSpPr>
          <p:spPr>
            <a:xfrm>
              <a:off x="5943600" y="5348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066680" y="1805040"/>
            <a:ext cx="754380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al curves can be applied to general formulas for the current (or voltage) curv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s. The general current formul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t/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inal value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itial value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stantaneous value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current is greater than the initial current when the inductive field is building, or less than the initial current when the field is collap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ive rea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828800" y="2133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ive reactance is the opposition to ac by an inductor. The equation for inductive rea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WordArt 7"/>
          <p:cNvSpPr txBox="1"/>
          <p:nvPr/>
        </p:nvSpPr>
        <p:spPr>
          <a:xfrm>
            <a:off x="1447920" y="373392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33720" y="44197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ctance of a 3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 when a frequency of 550 kHz is applied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400800" y="4772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4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10"/>
          <p:cNvGraphicFramePr/>
          <p:nvPr/>
        </p:nvGraphicFramePr>
        <p:xfrm>
          <a:off x="3657600" y="3314880"/>
          <a:ext cx="125748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314880"/>
                    <a:ext cx="1257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809880" y="2209680"/>
            <a:ext cx="4572000" cy="3429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ive 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143000" y="22860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ine wave is applied to an inductor, there is a phase shift between voltage and current such th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oltage always leads the current by 90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Object 7"/>
          <p:cNvGraphicFramePr/>
          <p:nvPr/>
        </p:nvGraphicFramePr>
        <p:xfrm>
          <a:off x="4038480" y="2438280"/>
          <a:ext cx="4343400" cy="29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2438280"/>
                    <a:ext cx="434340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2"/>
          <p:cNvSpPr/>
          <p:nvPr/>
        </p:nvSpPr>
        <p:spPr>
          <a:xfrm>
            <a:off x="1066680" y="1905120"/>
            <a:ext cx="72392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deally, inductors do not dissipate power.  However, a small amount of power is dissipated in winding resistance given by the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ve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active power is a measure of the rate at which the inductor stores and returns energy. One form of the reactive power equat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 for reactive power is the 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066680" y="1295280"/>
            <a:ext cx="3353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219320" y="1295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in an i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581280" y="2971800"/>
            <a:ext cx="14479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1066680" y="19051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ality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a coil is given by the ratio of reactive power to true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066680" y="129528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2193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of a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3708360" y="2995560"/>
          <a:ext cx="12240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995560"/>
                    <a:ext cx="1224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8"/>
          <p:cNvSpPr/>
          <p:nvPr/>
        </p:nvSpPr>
        <p:spPr>
          <a:xfrm>
            <a:off x="1219320" y="4038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eries circui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cels, 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3581280" y="4648320"/>
            <a:ext cx="1447920" cy="914400"/>
            <a:chOff x="3581280" y="4648320"/>
            <a:chExt cx="1447920" cy="914400"/>
          </a:xfrm>
        </p:grpSpPr>
        <p:pic>
          <p:nvPicPr>
            <p:cNvPr id="323" name="Rectangle 9" descr=""/>
            <p:cNvPicPr/>
            <p:nvPr/>
          </p:nvPicPr>
          <p:blipFill>
            <a:blip r:embed="rId4"/>
            <a:stretch/>
          </p:blipFill>
          <p:spPr>
            <a:xfrm>
              <a:off x="3581280" y="4648320"/>
              <a:ext cx="1447920" cy="914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4" name="Object 10"/>
            <p:cNvGraphicFramePr/>
            <p:nvPr/>
          </p:nvGraphicFramePr>
          <p:xfrm>
            <a:off x="3790800" y="4682160"/>
            <a:ext cx="1026720" cy="84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90800" y="4682160"/>
                      <a:ext cx="1026720" cy="8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3"/>
          <p:cNvSpPr/>
          <p:nvPr/>
        </p:nvSpPr>
        <p:spPr>
          <a:xfrm>
            <a:off x="457200" y="1371600"/>
            <a:ext cx="19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ed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tanc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2514600" y="13716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ctrical device formed by a wire wound around a core having the property of inductance; also known as a c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514600" y="28353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ops or turns of wire in an in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514600" y="3571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produced as a result of a changing magnetic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2514600" y="4648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erty of an inductor whereby a change in current causes the inductor to produce a voltage that opposes the change in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3657600" y="457200"/>
            <a:ext cx="266688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0"/>
          <p:cNvSpPr/>
          <p:nvPr/>
        </p:nvSpPr>
        <p:spPr>
          <a:xfrm>
            <a:off x="533520" y="1589040"/>
            <a:ext cx="205740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enry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L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tive rea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ualit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590920" y="2185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xed time interval set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, that determines the time response of a circuit. It equals 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590920" y="34210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of an inductor to sinusoidal current. The unit is the o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2590920" y="154764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induc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657600" y="457200"/>
            <a:ext cx="266688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2592360" y="4351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io of reactive power to true power for an in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ssuming all other factors are the same, the inductance of an inductor will be larger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ore turns ar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area is mad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length is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14400" y="1905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henry is defined as the inductance of a coil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523880" y="2503440"/>
            <a:ext cx="6705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stant current of one amp develops one v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olt is induced due to a change in current of one amp per sec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mp is induced due to a change in voltage of one v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position to current is one o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914400" y="1905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symbol for a ferrite core inducto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23880" y="2590920"/>
            <a:ext cx="6098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7"/>
          <p:cNvGraphicFramePr/>
          <p:nvPr/>
        </p:nvGraphicFramePr>
        <p:xfrm>
          <a:off x="1981080" y="2743200"/>
          <a:ext cx="885960" cy="23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743200"/>
                    <a:ext cx="8859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90720" y="1143000"/>
            <a:ext cx="25905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143000" y="1066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66680" y="175248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inductance is usually just called inductance, symboliz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inductance is a measure of a coil’s ability to establish an induced voltage as a result of a change in its curr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ed voltage always opposes the change in current, which is basically a statement of Lenz’s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43000" y="4451400"/>
            <a:ext cx="731520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 of induct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n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One henry is the inductance of a coil when a current, changing at a rate of one ampere per second, induces one volt across the c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91440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 symbol for a variable inducto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523880" y="2590920"/>
            <a:ext cx="6098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1981080" y="2743200"/>
          <a:ext cx="885960" cy="23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743200"/>
                    <a:ext cx="8859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total inductance of a 27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 connected in series with a 1.2 mH inducto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27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9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1.47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The total inductance of a 27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 connected in parallel with a 1.2 mH inducto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27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9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1.47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hen an inductor is connected through a series resistor and switch to a dc voltage source, the voltage across the resistor after the switch closes has the sha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straigh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ris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fall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038480" y="2400480"/>
            <a:ext cx="4191120" cy="22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91440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or circuit shown, the time consta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270 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27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27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3.7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6"/>
          <p:cNvGraphicFramePr/>
          <p:nvPr/>
        </p:nvGraphicFramePr>
        <p:xfrm>
          <a:off x="4114800" y="2449440"/>
          <a:ext cx="3962520" cy="195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449440"/>
                    <a:ext cx="39625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9144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For circuit shown, assume the period of the square wave is 10 times longer than the time constant. The shape of the voltage acro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809880" y="3276720"/>
            <a:ext cx="449604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962520" y="3429000"/>
          <a:ext cx="4257720" cy="17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3429000"/>
                    <a:ext cx="4257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2141640" y="3200400"/>
          <a:ext cx="1349280" cy="25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1640" y="3200400"/>
                    <a:ext cx="134928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 Box 8"/>
          <p:cNvSpPr/>
          <p:nvPr/>
        </p:nvSpPr>
        <p:spPr>
          <a:xfrm>
            <a:off x="1600200" y="3305160"/>
            <a:ext cx="6094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If a sine wave from a function generator is applied to an inductor, the curr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g voltage by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ag voltage by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 in phase with th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895480" y="1828800"/>
            <a:ext cx="2743200" cy="3657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27672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43434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990720" y="1279440"/>
            <a:ext cx="25905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143000" y="12794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143000" y="1971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ed voltage is given by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5"/>
              <p:cNvSpPr txBox="1"/>
              <p:nvPr/>
            </p:nvSpPr>
            <p:spPr>
              <a:xfrm>
                <a:off x="6629400" y="1752480"/>
                <a:ext cx="1343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Text Box 27"/>
          <p:cNvSpPr/>
          <p:nvPr/>
        </p:nvSpPr>
        <p:spPr>
          <a:xfrm>
            <a:off x="1981080" y="2590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ductance if 37 mV is induced across a coil if the current is changing at a rate of 680 mA/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28"/>
          <p:cNvSpPr txBox="1"/>
          <p:nvPr/>
        </p:nvSpPr>
        <p:spPr>
          <a:xfrm>
            <a:off x="1447920" y="2438280"/>
            <a:ext cx="1066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641520" y="3801960"/>
            <a:ext cx="8084880" cy="2438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487692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4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5"/>
              <p:cNvSpPr txBox="1"/>
              <p:nvPr/>
            </p:nvSpPr>
            <p:spPr>
              <a:xfrm>
                <a:off x="2133720" y="5181480"/>
                <a:ext cx="12207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39"/>
              <p:cNvSpPr txBox="1"/>
              <p:nvPr/>
            </p:nvSpPr>
            <p:spPr>
              <a:xfrm>
                <a:off x="2057400" y="3962520"/>
                <a:ext cx="1295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40"/>
          <p:cNvSpPr/>
          <p:nvPr/>
        </p:nvSpPr>
        <p:spPr>
          <a:xfrm>
            <a:off x="16002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1"/>
              <p:cNvSpPr txBox="1"/>
              <p:nvPr/>
            </p:nvSpPr>
            <p:spPr>
              <a:xfrm>
                <a:off x="3348000" y="5237280"/>
                <a:ext cx="1584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7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 A/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066680" y="1295280"/>
            <a:ext cx="44197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19320" y="1295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s affecting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371600" y="19810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factors affect the amount of inductance for a coil. The equation for the inductance of a coi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4016520" y="2838600"/>
          <a:ext cx="1469880" cy="88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6520" y="2838600"/>
                    <a:ext cx="14698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7"/>
          <p:cNvSpPr/>
          <p:nvPr/>
        </p:nvSpPr>
        <p:spPr>
          <a:xfrm>
            <a:off x="1371600" y="3429000"/>
            <a:ext cx="6705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ductance in hen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turns of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 in H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il length in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828800" y="157176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ductance of a 2.0 cm long, 150 turn coil wrapped on an low carbon steel core that is 0.50 cm diameter? The permeability of low carbon steel is 2.5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219320" y="137160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647640" y="3305160"/>
            <a:ext cx="8077320" cy="2882880"/>
            <a:chOff x="647640" y="3305160"/>
            <a:chExt cx="8077320" cy="2882880"/>
          </a:xfrm>
        </p:grpSpPr>
        <p:sp>
          <p:nvSpPr>
            <p:cNvPr id="141" name="Rectangle 6"/>
            <p:cNvSpPr/>
            <p:nvPr/>
          </p:nvSpPr>
          <p:spPr>
            <a:xfrm>
              <a:off x="647640" y="3305160"/>
              <a:ext cx="8077320" cy="288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Object 7"/>
            <p:cNvGraphicFramePr/>
            <p:nvPr/>
          </p:nvGraphicFramePr>
          <p:xfrm>
            <a:off x="1981080" y="3429000"/>
            <a:ext cx="4800600" cy="5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3429000"/>
                      <a:ext cx="480060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4" name="Object 8"/>
          <p:cNvGraphicFramePr/>
          <p:nvPr/>
        </p:nvGraphicFramePr>
        <p:xfrm>
          <a:off x="1981080" y="4024440"/>
          <a:ext cx="129564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02444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9"/>
          <p:cNvSpPr/>
          <p:nvPr/>
        </p:nvSpPr>
        <p:spPr>
          <a:xfrm>
            <a:off x="2438280" y="5638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307120"/>
            <a:ext cx="51181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120" y="5345280"/>
            <a:ext cx="91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20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400" y="509760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28400" y="567072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72400" y="4648320"/>
            <a:ext cx="3668040" cy="487440"/>
            <a:chOff x="3272400" y="4648320"/>
            <a:chExt cx="3668040" cy="487440"/>
          </a:xfrm>
        </p:grpSpPr>
        <p:sp>
          <p:nvSpPr>
            <p:cNvPr id="152" name=""/>
            <p:cNvSpPr/>
            <p:nvPr/>
          </p:nvSpPr>
          <p:spPr>
            <a:xfrm>
              <a:off x="3656880" y="46483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560" y="4648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72400" y="4800240"/>
              <a:ext cx="366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50 t  x  2.510 H/m  x  7.8510 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160" y="4648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7280" y="4724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447920"/>
            <a:ext cx="609588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14619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ysical parameters affecting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00200" y="2286000"/>
            <a:ext cx="6400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tance given by the equation in the previous slide is for the ideal case. In practice, inductors have winding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winding capaci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An equivalent circuit for a practical inductor including these effect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3200400" y="4191120"/>
          <a:ext cx="312408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4191120"/>
                    <a:ext cx="31240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447920" y="1905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Lenz’s law sta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523880" y="2438280"/>
            <a:ext cx="617220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current through a coi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 induced voltage is created across the coil that always opposes the change in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362320" y="4267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ractical circuit, the current can change because of a change in the load as shown in the following circuit examp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4479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sic circuit to demonstrate Lenz’s law is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209680" y="3429000"/>
            <a:ext cx="441972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 flipV="1">
            <a:off x="540972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133720" y="2438280"/>
            <a:ext cx="5715000" cy="87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, the SW is open and there is a small current in the circuit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12"/>
          <p:cNvGraphicFramePr/>
          <p:nvPr/>
        </p:nvGraphicFramePr>
        <p:xfrm>
          <a:off x="2297160" y="3548160"/>
          <a:ext cx="4051080" cy="18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3548160"/>
                    <a:ext cx="405108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admin</cp:lastModifiedBy>
  <dcterms:modified xsi:type="dcterms:W3CDTF">2011-04-27T12:20:08Z</dcterms:modified>
  <cp:revision>189</cp:revision>
  <dc:subject/>
  <dc:title>PowerPoint Presentation</dc:title>
</cp:coreProperties>
</file>