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10.wmf" ContentType="image/x-wmf"/>
  <Override PartName="/ppt/media/image2.png" ContentType="image/png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5.wmf" ContentType="image/x-wmf"/>
  <Override PartName="/ppt/media/image28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94020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8CAE98B-C28B-4A9D-85AC-2073FB47837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BE26FBF-47C8-45BF-A2F7-DCBBF871470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EC580AF-8FFD-4BF9-B0F5-AD87E0AC688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70777D3-6C7E-4DD8-A6B2-AB4CF291839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463B138-2F0B-4DE0-A415-20BBCA77215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5244665-BD78-4D9C-932F-FD6058E9D91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FDA88C6-98DD-40AA-9CEB-2DC6DD34545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7F20100-AF13-4468-A152-3A2229C297B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5689120-0ACF-4020-983E-06822956CA7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9A8DCF9-3A5B-4598-A632-D3E990BE06E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FAA76BD-361B-4850-B264-E74DA11605D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25108E3-48A6-4C80-97B2-837641CC9C6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DB5633C-8E74-4F84-8E9C-953C8784140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6189C5D-B323-465A-9DD6-BDDFFA510C8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56A3B5B-F4F2-48DC-97BF-A5983DD4AA5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DCFC64D-BFCD-4D3E-88A2-269C497A5C2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4ED90E6-568A-4146-A9FE-A7AB1DEAB99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7196671-E120-4E42-971A-B6FF76E72B1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AA4552B-B60E-43AF-A324-01E1E1DCF23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0F4A995-6AB7-4EA4-A381-B2FF64FF1E7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78CB1B9-4FD2-482D-BB0C-C7820F6566B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BE58599-2936-4F48-88E2-8999C2965E5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06B1941-495A-46FF-9A1D-6F23D959E85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FC69455-B362-456B-A7C9-C21A66146DE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A629878-1F3D-4340-8C28-F57DD7DC693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B750161-89CD-4346-AAB3-12EB5CC5E26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6B8C70B-EA81-4312-AAF8-5E13D0762B0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D24A42A-4582-4175-99ED-8A503203F70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3ACEAAA-88C7-4B55-A47B-04E5D0635DF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832C199-A1BE-427F-A893-B415A4BCEDF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CE91D66-3C4C-427B-9BDA-052A6E01C7C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25AD9E7-1491-452F-9DFA-EF7E4ECAB1E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3162EA7-3F9A-4910-83D2-B5404AECA3D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A7E4563-E960-437F-AC9A-6DC3950650E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873C96B-EB26-450D-B806-4AEA183FDCD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D0224C6-B009-44CD-BD0A-3738175038D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C6AC010-2E3D-48BC-871F-3835AB70417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CFF46B5-DE5D-4BFB-85F9-7F87E3CC5FC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228600" y="146160"/>
            <a:ext cx="236232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b727"/>
              </a:gs>
              <a:gs pos="100000">
                <a:srgbClr val="996633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2"/>
          <p:cNvSpPr/>
          <p:nvPr/>
        </p:nvSpPr>
        <p:spPr>
          <a:xfrm>
            <a:off x="30492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ter 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15228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inciples of Electric Circuits, Conventional Flow,  9</a:t>
            </a:r>
            <a:r>
              <a:rPr b="0" i="1" lang="en-US" sz="1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loyd, Pea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609588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533520" y="914400"/>
            <a:ext cx="8153280" cy="5486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28600" y="146160"/>
            <a:ext cx="236232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b727"/>
              </a:gs>
              <a:gs pos="100000">
                <a:srgbClr val="996633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0492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ter 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152280" y="6477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inciples of Electric Circuits, Conventional Flow,  9</a:t>
            </a:r>
            <a:r>
              <a:rPr b="0" i="1" lang="en-US" sz="1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loy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6095880" y="6477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2010 Pearson Higher Education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pper Saddle River, NJ 07458. •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5790960" cy="4705200"/>
          </a:xfrm>
          <a:prstGeom prst="rect">
            <a:avLst/>
          </a:prstGeom>
          <a:ln w="0">
            <a:noFill/>
          </a:ln>
        </p:spPr>
      </p:pic>
      <p:sp>
        <p:nvSpPr>
          <p:cNvPr id="99" name="WordArt 10"/>
          <p:cNvSpPr txBox="1"/>
          <p:nvPr/>
        </p:nvSpPr>
        <p:spPr>
          <a:xfrm>
            <a:off x="5029200" y="5257800"/>
            <a:ext cx="2133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hapter 13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2209680" y="3429000"/>
            <a:ext cx="4419720" cy="2362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990720" y="1279440"/>
            <a:ext cx="213336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523880" y="2362320"/>
            <a:ext cx="655344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 closes and immediately a voltage appears acro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tends to oppose an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cur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Object 8"/>
          <p:cNvGraphicFramePr/>
          <p:nvPr/>
        </p:nvGraphicFramePr>
        <p:xfrm>
          <a:off x="2286000" y="3276720"/>
          <a:ext cx="4051440" cy="21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3276720"/>
                    <a:ext cx="4051440" cy="21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4" name="Group 12"/>
          <p:cNvGrpSpPr/>
          <p:nvPr/>
        </p:nvGrpSpPr>
        <p:grpSpPr>
          <a:xfrm>
            <a:off x="4572000" y="5029200"/>
            <a:ext cx="4191120" cy="1191240"/>
            <a:chOff x="4572000" y="5029200"/>
            <a:chExt cx="4191120" cy="1191240"/>
          </a:xfrm>
        </p:grpSpPr>
        <p:sp>
          <p:nvSpPr>
            <p:cNvPr id="185" name="Text Box 9"/>
            <p:cNvSpPr/>
            <p:nvPr/>
          </p:nvSpPr>
          <p:spPr>
            <a:xfrm>
              <a:off x="6705720" y="5029200"/>
              <a:ext cx="2057400" cy="119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itially, the meter reads same current as before the switch was close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0"/>
            <p:cNvSpPr/>
            <p:nvPr/>
          </p:nvSpPr>
          <p:spPr>
            <a:xfrm flipH="1" flipV="1">
              <a:off x="4572000" y="5409720"/>
              <a:ext cx="2209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Text Box 14"/>
          <p:cNvSpPr/>
          <p:nvPr/>
        </p:nvSpPr>
        <p:spPr>
          <a:xfrm>
            <a:off x="1143000" y="1279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nz’s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2209680" y="3429000"/>
            <a:ext cx="4419720" cy="2362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990720" y="1279440"/>
            <a:ext cx="213336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523880" y="2362320"/>
            <a:ext cx="6553440" cy="875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a time, the current stabilizes at a higher level (due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s the voltage decays across the c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Object 8"/>
          <p:cNvGraphicFramePr/>
          <p:nvPr/>
        </p:nvGraphicFramePr>
        <p:xfrm>
          <a:off x="2286000" y="3508200"/>
          <a:ext cx="4051440" cy="19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3508200"/>
                    <a:ext cx="405144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9"/>
          <p:cNvSpPr/>
          <p:nvPr/>
        </p:nvSpPr>
        <p:spPr>
          <a:xfrm>
            <a:off x="1143000" y="1279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nz’s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10"/>
          <p:cNvGrpSpPr/>
          <p:nvPr/>
        </p:nvGrpSpPr>
        <p:grpSpPr>
          <a:xfrm>
            <a:off x="4572000" y="5029200"/>
            <a:ext cx="4191120" cy="1191240"/>
            <a:chOff x="4572000" y="5029200"/>
            <a:chExt cx="4191120" cy="1191240"/>
          </a:xfrm>
        </p:grpSpPr>
        <p:sp>
          <p:nvSpPr>
            <p:cNvPr id="196" name="Text Box 11"/>
            <p:cNvSpPr/>
            <p:nvPr/>
          </p:nvSpPr>
          <p:spPr>
            <a:xfrm>
              <a:off x="6705720" y="5029200"/>
              <a:ext cx="2057400" cy="119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ter, the meter reads a higher current because of the load chang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2"/>
            <p:cNvSpPr/>
            <p:nvPr/>
          </p:nvSpPr>
          <p:spPr>
            <a:xfrm flipH="1" flipV="1">
              <a:off x="4572000" y="5409720"/>
              <a:ext cx="2209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85800" y="3417840"/>
            <a:ext cx="7696080" cy="2743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066680" y="1295280"/>
            <a:ext cx="30481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219320" y="1295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actical ind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676520" y="1981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tors come in a variety of sizes. A few common ones are shown he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Object 7"/>
          <p:cNvGraphicFramePr/>
          <p:nvPr/>
        </p:nvGraphicFramePr>
        <p:xfrm>
          <a:off x="793800" y="3809880"/>
          <a:ext cx="7556400" cy="20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3800" y="3809880"/>
                    <a:ext cx="755640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66680" y="1295280"/>
            <a:ext cx="27432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ries ind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295280" y="18684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nductors are connected in series, the total inductance is the sum of the individual inductors. The general equation for inductors in serie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657600" y="5359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.18 m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7"/>
          <p:cNvGraphicFramePr/>
          <p:nvPr/>
        </p:nvGraphicFramePr>
        <p:xfrm>
          <a:off x="2895480" y="3078000"/>
          <a:ext cx="2629080" cy="42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3078000"/>
                    <a:ext cx="26290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WordArt 9"/>
          <p:cNvSpPr txBox="1"/>
          <p:nvPr/>
        </p:nvSpPr>
        <p:spPr>
          <a:xfrm>
            <a:off x="990720" y="3505320"/>
            <a:ext cx="12189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371600" y="4267080"/>
            <a:ext cx="346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1.5 mH inductor is connected in series with an 68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inductor, the total inductan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13"/>
          <p:cNvGrpSpPr/>
          <p:nvPr/>
        </p:nvGrpSpPr>
        <p:grpSpPr>
          <a:xfrm>
            <a:off x="5029200" y="4267080"/>
            <a:ext cx="3352680" cy="1524240"/>
            <a:chOff x="5029200" y="4267080"/>
            <a:chExt cx="3352680" cy="1524240"/>
          </a:xfrm>
        </p:grpSpPr>
        <p:sp>
          <p:nvSpPr>
            <p:cNvPr id="215" name="Rectangle 10"/>
            <p:cNvSpPr/>
            <p:nvPr/>
          </p:nvSpPr>
          <p:spPr>
            <a:xfrm>
              <a:off x="5029200" y="4267080"/>
              <a:ext cx="3352680" cy="15242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6" name="Object 12"/>
            <p:cNvGraphicFramePr/>
            <p:nvPr/>
          </p:nvGraphicFramePr>
          <p:xfrm>
            <a:off x="5410080" y="4572000"/>
            <a:ext cx="2667240" cy="903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7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410080" y="4572000"/>
                      <a:ext cx="2667240" cy="90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066680" y="1295280"/>
            <a:ext cx="28958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rallel ind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295280" y="18684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nductors are connected in parallel, the total inductance is smaller than the smallest one. The general equation for inductors in parall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295280" y="40384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tal inductance of two inductor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905120" y="5562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you can use the product-over-sum r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Object 8"/>
          <p:cNvGraphicFramePr/>
          <p:nvPr/>
        </p:nvGraphicFramePr>
        <p:xfrm>
          <a:off x="2971800" y="3117960"/>
          <a:ext cx="244476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3117960"/>
                    <a:ext cx="24447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9"/>
          <p:cNvGraphicFramePr/>
          <p:nvPr/>
        </p:nvGraphicFramePr>
        <p:xfrm>
          <a:off x="3657600" y="4572000"/>
          <a:ext cx="1290600" cy="957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57600" y="4572000"/>
                    <a:ext cx="12906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048120" y="3962520"/>
            <a:ext cx="3124080" cy="1828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1066680" y="1295280"/>
            <a:ext cx="28958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rallel indu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WordArt 6"/>
          <p:cNvSpPr txBox="1"/>
          <p:nvPr/>
        </p:nvSpPr>
        <p:spPr>
          <a:xfrm>
            <a:off x="1447920" y="1981080"/>
            <a:ext cx="12189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362320" y="257184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1.5 mH inductor is connected in parallel with an 68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inductor, the total inductan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5105520" y="3308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68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Object 9"/>
          <p:cNvGraphicFramePr/>
          <p:nvPr/>
        </p:nvGraphicFramePr>
        <p:xfrm>
          <a:off x="3276720" y="4145040"/>
          <a:ext cx="2776320" cy="149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4145040"/>
                    <a:ext cx="2776320" cy="14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5181480" y="533520"/>
            <a:ext cx="3200400" cy="561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066680" y="1295280"/>
            <a:ext cx="39625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219320" y="1295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ductors in dc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219320" y="204300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n inductor is connected in series with a resistor and dc source, the current change is expon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7"/>
          <p:cNvSpPr/>
          <p:nvPr/>
        </p:nvSpPr>
        <p:spPr>
          <a:xfrm flipH="1" flipV="1">
            <a:off x="2227320" y="3924360"/>
            <a:ext cx="45864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8"/>
          <p:cNvSpPr/>
          <p:nvPr/>
        </p:nvSpPr>
        <p:spPr>
          <a:xfrm flipH="1">
            <a:off x="2227320" y="4208400"/>
            <a:ext cx="4665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9"/>
          <p:cNvGraphicFramePr/>
          <p:nvPr/>
        </p:nvGraphicFramePr>
        <p:xfrm>
          <a:off x="5284800" y="990720"/>
          <a:ext cx="3083040" cy="480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84800" y="990720"/>
                    <a:ext cx="30830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0"/>
          <p:cNvGraphicFramePr/>
          <p:nvPr/>
        </p:nvGraphicFramePr>
        <p:xfrm>
          <a:off x="5670720" y="1201680"/>
          <a:ext cx="1876320" cy="4297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70720" y="1201680"/>
                    <a:ext cx="187632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11"/>
          <p:cNvGraphicFramePr/>
          <p:nvPr/>
        </p:nvGraphicFramePr>
        <p:xfrm>
          <a:off x="1488960" y="3921120"/>
          <a:ext cx="2594160" cy="156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9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88960" y="3921120"/>
                    <a:ext cx="259416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876920" y="533520"/>
            <a:ext cx="3504960" cy="5610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066680" y="1295280"/>
            <a:ext cx="37339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219320" y="1295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ductors in dc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1219320" y="19810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shape curves are seen if a square wave is used for the sour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5105520" y="16765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5105520" y="30481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5105520" y="44197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0"/>
          <p:cNvSpPr/>
          <p:nvPr/>
        </p:nvSpPr>
        <p:spPr>
          <a:xfrm flipH="1" flipV="1">
            <a:off x="2303640" y="3924360"/>
            <a:ext cx="45864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1"/>
          <p:cNvSpPr/>
          <p:nvPr/>
        </p:nvSpPr>
        <p:spPr>
          <a:xfrm flipH="1">
            <a:off x="2226960" y="421164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Object 12"/>
          <p:cNvGraphicFramePr/>
          <p:nvPr/>
        </p:nvGraphicFramePr>
        <p:xfrm>
          <a:off x="1371600" y="3886200"/>
          <a:ext cx="2895480" cy="17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886200"/>
                    <a:ext cx="2895480" cy="17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13"/>
          <p:cNvGraphicFramePr/>
          <p:nvPr/>
        </p:nvGraphicFramePr>
        <p:xfrm>
          <a:off x="5707080" y="1446120"/>
          <a:ext cx="2598840" cy="411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3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07080" y="1446120"/>
                    <a:ext cx="2598840" cy="41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3581280" y="1981080"/>
            <a:ext cx="4800600" cy="4162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1066680" y="1295280"/>
            <a:ext cx="45720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21932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versal exponential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762120" y="2016000"/>
            <a:ext cx="2743200" cy="228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 values for current and voltage can be read from a universal curve. For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rcuit, the time consta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Object 8"/>
          <p:cNvGraphicFramePr/>
          <p:nvPr/>
        </p:nvGraphicFramePr>
        <p:xfrm>
          <a:off x="1752480" y="4419720"/>
          <a:ext cx="762120" cy="76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4419720"/>
                    <a:ext cx="76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9"/>
          <p:cNvGraphicFramePr/>
          <p:nvPr/>
        </p:nvGraphicFramePr>
        <p:xfrm>
          <a:off x="3809880" y="1981080"/>
          <a:ext cx="4524480" cy="407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1981080"/>
                    <a:ext cx="452448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10"/>
          <p:cNvGrpSpPr/>
          <p:nvPr/>
        </p:nvGrpSpPr>
        <p:grpSpPr>
          <a:xfrm>
            <a:off x="5410080" y="2933640"/>
            <a:ext cx="2895840" cy="368280"/>
            <a:chOff x="5410080" y="2933640"/>
            <a:chExt cx="2895840" cy="368280"/>
          </a:xfrm>
        </p:grpSpPr>
        <p:sp>
          <p:nvSpPr>
            <p:cNvPr id="274" name="Text Box 11"/>
            <p:cNvSpPr/>
            <p:nvPr/>
          </p:nvSpPr>
          <p:spPr>
            <a:xfrm>
              <a:off x="6370560" y="2933640"/>
              <a:ext cx="193536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ising expon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5410080" y="31240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13"/>
          <p:cNvGrpSpPr/>
          <p:nvPr/>
        </p:nvGrpSpPr>
        <p:grpSpPr>
          <a:xfrm>
            <a:off x="5327640" y="4495680"/>
            <a:ext cx="3047760" cy="368280"/>
            <a:chOff x="5327640" y="4495680"/>
            <a:chExt cx="3047760" cy="368280"/>
          </a:xfrm>
        </p:grpSpPr>
        <p:sp>
          <p:nvSpPr>
            <p:cNvPr id="277" name="Text Box 14"/>
            <p:cNvSpPr/>
            <p:nvPr/>
          </p:nvSpPr>
          <p:spPr>
            <a:xfrm>
              <a:off x="6338520" y="4495680"/>
              <a:ext cx="2036880" cy="3682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lling expon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5"/>
            <p:cNvSpPr/>
            <p:nvPr/>
          </p:nvSpPr>
          <p:spPr>
            <a:xfrm flipH="1">
              <a:off x="5327640" y="4686120"/>
              <a:ext cx="104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6"/>
          <p:cNvSpPr txBox="1"/>
          <p:nvPr/>
        </p:nvSpPr>
        <p:spPr>
          <a:xfrm>
            <a:off x="762120" y="3048120"/>
            <a:ext cx="12189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990720" y="3657600"/>
            <a:ext cx="2971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se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rcuit, when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3886200" y="1981080"/>
            <a:ext cx="4800600" cy="4162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17"/>
          <p:cNvGraphicFramePr/>
          <p:nvPr/>
        </p:nvGraphicFramePr>
        <p:xfrm>
          <a:off x="4114800" y="1981080"/>
          <a:ext cx="4524480" cy="407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981080"/>
                    <a:ext cx="452448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Text Box 25"/>
          <p:cNvSpPr/>
          <p:nvPr/>
        </p:nvSpPr>
        <p:spPr>
          <a:xfrm>
            <a:off x="990720" y="44956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he rising exponential at the 67% lev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7"/>
          <p:cNvSpPr/>
          <p:nvPr/>
        </p:nvSpPr>
        <p:spPr>
          <a:xfrm>
            <a:off x="5505480" y="3352680"/>
            <a:ext cx="0" cy="228600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28"/>
          <p:cNvSpPr/>
          <p:nvPr/>
        </p:nvSpPr>
        <p:spPr>
          <a:xfrm>
            <a:off x="2362320" y="5200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fter 1.1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1066680" y="18288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ves can give specific information about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rc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0"/>
          <p:cNvSpPr/>
          <p:nvPr/>
        </p:nvSpPr>
        <p:spPr>
          <a:xfrm>
            <a:off x="1066680" y="1295280"/>
            <a:ext cx="44960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121932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versal exponential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1812960"/>
            <a:ext cx="6553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tance is the property of a conductor t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pose a change in 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ffect of inductance is greatly magnified by winding a coil on a magnetic mate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990720" y="1279440"/>
            <a:ext cx="213336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1279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duc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1447920" y="3962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mbols for inductors (coils)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00200" y="4662360"/>
            <a:ext cx="5791320" cy="1054080"/>
            <a:chOff x="1600200" y="4662360"/>
            <a:chExt cx="5791320" cy="1054080"/>
          </a:xfrm>
        </p:grpSpPr>
        <p:sp>
          <p:nvSpPr>
            <p:cNvPr id="106" name="Text Box 12"/>
            <p:cNvSpPr/>
            <p:nvPr/>
          </p:nvSpPr>
          <p:spPr>
            <a:xfrm>
              <a:off x="1752480" y="5348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ir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8"/>
            <p:cNvSpPr/>
            <p:nvPr/>
          </p:nvSpPr>
          <p:spPr>
            <a:xfrm>
              <a:off x="3200400" y="534816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ron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9"/>
            <p:cNvSpPr/>
            <p:nvPr/>
          </p:nvSpPr>
          <p:spPr>
            <a:xfrm>
              <a:off x="4495680" y="534816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rrite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" name="Object 20"/>
            <p:cNvGraphicFramePr/>
            <p:nvPr/>
          </p:nvGraphicFramePr>
          <p:xfrm>
            <a:off x="1600200" y="4662360"/>
            <a:ext cx="5354640" cy="67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0" name="Object 2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4662360"/>
                      <a:ext cx="53546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Text Box 21"/>
            <p:cNvSpPr/>
            <p:nvPr/>
          </p:nvSpPr>
          <p:spPr>
            <a:xfrm>
              <a:off x="5943600" y="534816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ari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066680" y="1805040"/>
            <a:ext cx="7543800" cy="44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versal curves can be applied to general formulas for the current (or voltage) curv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rcuits. The general current formula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=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Rt/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inal value of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nitial value of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nstantaneous value of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nal current is greater than the initial current when the inductive field is building, or less than the initial current when the field is collap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7"/>
          <p:cNvSpPr/>
          <p:nvPr/>
        </p:nvSpPr>
        <p:spPr>
          <a:xfrm>
            <a:off x="1066680" y="1295280"/>
            <a:ext cx="44960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1219320" y="1295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iversal exponential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066680" y="1295280"/>
            <a:ext cx="35053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1219320" y="1295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ductive reac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828800" y="21337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tive reactance is the opposition to ac by an inductor. The equation for inductive reactan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WordArt 7"/>
          <p:cNvSpPr txBox="1"/>
          <p:nvPr/>
        </p:nvSpPr>
        <p:spPr>
          <a:xfrm>
            <a:off x="1447920" y="3733920"/>
            <a:ext cx="12189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133720" y="441972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actance of a 3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inductor when a frequency of 550 kHz is applied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400800" y="47721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14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10"/>
          <p:cNvGraphicFramePr/>
          <p:nvPr/>
        </p:nvGraphicFramePr>
        <p:xfrm>
          <a:off x="3657600" y="3314880"/>
          <a:ext cx="1257480" cy="41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3314880"/>
                    <a:ext cx="12574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3809880" y="2209680"/>
            <a:ext cx="4572000" cy="3429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1066680" y="1295280"/>
            <a:ext cx="35053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1219320" y="12952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ductive phase sh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1143000" y="2286000"/>
            <a:ext cx="266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ine wave is applied to an inductor, there is a phase shift between voltage and current such that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voltage always leads the current by 90</a:t>
            </a:r>
            <a:r>
              <a:rPr b="0" lang="en-US" sz="2400" spc="-1" strike="noStrike" baseline="30000">
                <a:solidFill>
                  <a:srgbClr val="cc33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Object 7"/>
          <p:cNvGraphicFramePr/>
          <p:nvPr/>
        </p:nvGraphicFramePr>
        <p:xfrm>
          <a:off x="4038480" y="2438280"/>
          <a:ext cx="4343400" cy="29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2438280"/>
                    <a:ext cx="4343400" cy="29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2"/>
          <p:cNvSpPr/>
          <p:nvPr/>
        </p:nvSpPr>
        <p:spPr>
          <a:xfrm>
            <a:off x="1066680" y="1905120"/>
            <a:ext cx="723924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e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deally, inductors do not dissipate power.  However, a small amount of power is dissipated in winding resistance given by the 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tive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eactive power is a measure of the rate at which the inductor stores and returns energy. One form of the reactive power equation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t for reactive power is the V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1066680" y="1295280"/>
            <a:ext cx="335304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1219320" y="12952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wer in an ind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581280" y="2971800"/>
            <a:ext cx="144792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1066680" y="19051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uality fa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f a coil is given by the ratio of reactive power to true po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066680" y="1295280"/>
            <a:ext cx="205740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219320" y="12952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of a 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Object 5"/>
          <p:cNvGraphicFramePr/>
          <p:nvPr/>
        </p:nvGraphicFramePr>
        <p:xfrm>
          <a:off x="3708360" y="2995560"/>
          <a:ext cx="122400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2995560"/>
                    <a:ext cx="12240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Text Box 8"/>
          <p:cNvSpPr/>
          <p:nvPr/>
        </p:nvSpPr>
        <p:spPr>
          <a:xfrm>
            <a:off x="1219320" y="40384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series circuit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cels, le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11"/>
          <p:cNvGrpSpPr/>
          <p:nvPr/>
        </p:nvGrpSpPr>
        <p:grpSpPr>
          <a:xfrm>
            <a:off x="3581280" y="4648320"/>
            <a:ext cx="1447920" cy="914400"/>
            <a:chOff x="3581280" y="4648320"/>
            <a:chExt cx="1447920" cy="914400"/>
          </a:xfrm>
        </p:grpSpPr>
        <p:pic>
          <p:nvPicPr>
            <p:cNvPr id="323" name="Rectangle 9" descr=""/>
            <p:cNvPicPr/>
            <p:nvPr/>
          </p:nvPicPr>
          <p:blipFill>
            <a:blip r:embed="rId4"/>
            <a:stretch/>
          </p:blipFill>
          <p:spPr>
            <a:xfrm>
              <a:off x="3581280" y="4648320"/>
              <a:ext cx="1447920" cy="914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24" name="Object 10"/>
            <p:cNvGraphicFramePr/>
            <p:nvPr/>
          </p:nvGraphicFramePr>
          <p:xfrm>
            <a:off x="3790800" y="4682160"/>
            <a:ext cx="1026720" cy="84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90800" y="4682160"/>
                      <a:ext cx="1026720" cy="84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6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3"/>
          <p:cNvSpPr/>
          <p:nvPr/>
        </p:nvSpPr>
        <p:spPr>
          <a:xfrm>
            <a:off x="457200" y="1371600"/>
            <a:ext cx="198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duced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ductance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4"/>
          <p:cNvSpPr/>
          <p:nvPr/>
        </p:nvSpPr>
        <p:spPr>
          <a:xfrm>
            <a:off x="2514600" y="13716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lectrical device formed by a wire wound around a core having the property of inductance; also known as a c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2514600" y="283536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ops or turns of wire in an indu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6"/>
          <p:cNvSpPr/>
          <p:nvPr/>
        </p:nvSpPr>
        <p:spPr>
          <a:xfrm>
            <a:off x="2514600" y="3571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 produced as a result of a changing magnetic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2514600" y="46483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perty of an inductor whereby a change in current causes the inductor to produce a voltage that opposes the change in cur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8"/>
          <p:cNvSpPr/>
          <p:nvPr/>
        </p:nvSpPr>
        <p:spPr>
          <a:xfrm>
            <a:off x="3657600" y="457200"/>
            <a:ext cx="266688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0"/>
          <p:cNvSpPr/>
          <p:nvPr/>
        </p:nvSpPr>
        <p:spPr>
          <a:xfrm>
            <a:off x="533520" y="1589040"/>
            <a:ext cx="205740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enry (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L time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ductive reac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Quality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2590920" y="21859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xed time interval set by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, that determines the time response of a circuit. It equals the ratio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2590920" y="342108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pposition of an inductor to sinusoidal current. The unit is the o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2590920" y="154764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t of induc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3657600" y="457200"/>
            <a:ext cx="266688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2592360" y="43513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io of reactive power to true power for an indu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914400" y="190512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ssuming all other factors are the same, the inductance of an inductor will be larger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more turns are 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 area is made l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 length is sh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ll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914400" y="19051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he henry is defined as the inductance of a coil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523880" y="2503440"/>
            <a:ext cx="6705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nstant current of one amp develops one vo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volt is induced due to a change in current of one amp per sec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mp is induced due to a change in voltage of one vo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position to current is one o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914400" y="19051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he symbol for a ferrite core inducto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523880" y="2590920"/>
            <a:ext cx="6098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Object 7"/>
          <p:cNvGraphicFramePr/>
          <p:nvPr/>
        </p:nvGraphicFramePr>
        <p:xfrm>
          <a:off x="1981080" y="2743200"/>
          <a:ext cx="885960" cy="235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743200"/>
                    <a:ext cx="88596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990720" y="1143000"/>
            <a:ext cx="259056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143000" y="10666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lf Induc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066680" y="1752480"/>
            <a:ext cx="7315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inductance is usually just called inductance, symboliz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inductance is a measure of a coil’s ability to establish an induced voltage as a result of a change in its curr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uced voltage always opposes the change in current, which is basically a statement of Lenz’s la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143000" y="4451400"/>
            <a:ext cx="731520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t of inductance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n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One henry is the inductance of a coil when a current, changing at a rate of one ampere per second, induces one volt across the c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914400" y="1905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The symbol for a variable inducto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523880" y="2590920"/>
            <a:ext cx="6098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Object 6"/>
          <p:cNvGraphicFramePr/>
          <p:nvPr/>
        </p:nvGraphicFramePr>
        <p:xfrm>
          <a:off x="1981080" y="2743200"/>
          <a:ext cx="885960" cy="235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2743200"/>
                    <a:ext cx="88596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914400" y="190512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The total inductance of a 27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inductor connected in series with a 1.2 mH inductor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2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27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59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1.47 m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914400" y="190512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The total inductance of a 27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inductor connected in parallel with a 1.2 mH inductor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2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27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59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1.47 m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914400" y="1905120"/>
            <a:ext cx="74674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When an inductor is connected through a series resistor and switch to a dc voltage source, the voltage across the resistor after the switch closes has the shap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 straight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 rising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 falling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4038480" y="2400480"/>
            <a:ext cx="4191120" cy="2247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914400" y="190512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For circuit shown, the time constan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270 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27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 270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  3.70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Object 6"/>
          <p:cNvGraphicFramePr/>
          <p:nvPr/>
        </p:nvGraphicFramePr>
        <p:xfrm>
          <a:off x="4114800" y="2449440"/>
          <a:ext cx="3962520" cy="195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2449440"/>
                    <a:ext cx="396252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914400" y="1905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For circuit shown, assume the period of the square wave is 10 times longer than the time constant. The shape of the voltage acro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809880" y="3276720"/>
            <a:ext cx="4496040" cy="228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Object 6"/>
          <p:cNvGraphicFramePr/>
          <p:nvPr/>
        </p:nvGraphicFramePr>
        <p:xfrm>
          <a:off x="3962520" y="3429000"/>
          <a:ext cx="4257720" cy="176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3429000"/>
                    <a:ext cx="42577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7"/>
          <p:cNvGraphicFramePr/>
          <p:nvPr/>
        </p:nvGraphicFramePr>
        <p:xfrm>
          <a:off x="2141640" y="3200400"/>
          <a:ext cx="1349280" cy="258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1640" y="3200400"/>
                    <a:ext cx="1349280" cy="25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Text Box 8"/>
          <p:cNvSpPr/>
          <p:nvPr/>
        </p:nvSpPr>
        <p:spPr>
          <a:xfrm>
            <a:off x="1600200" y="3305160"/>
            <a:ext cx="60948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914400" y="1905120"/>
            <a:ext cx="7467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If a sine wave from a function generator is applied to an inductor, the curr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lag voltage by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lag voltage by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be in phase with the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n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886200" y="457200"/>
            <a:ext cx="144792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2895480" y="1828800"/>
            <a:ext cx="2743200" cy="3657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3276720" y="2057400"/>
            <a:ext cx="1828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4343400" y="2590920"/>
            <a:ext cx="1752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990720" y="1279440"/>
            <a:ext cx="259056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1143000" y="127944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lf Induc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1143000" y="1971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uced voltage is given by the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5"/>
              <p:cNvSpPr txBox="1"/>
              <p:nvPr/>
            </p:nvSpPr>
            <p:spPr>
              <a:xfrm>
                <a:off x="6629400" y="1752480"/>
                <a:ext cx="13431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Text Box 27"/>
          <p:cNvSpPr/>
          <p:nvPr/>
        </p:nvSpPr>
        <p:spPr>
          <a:xfrm>
            <a:off x="1981080" y="25909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inductance if 37 mV is induced across a coil if the current is changing at a rate of 680 mA/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28"/>
          <p:cNvSpPr txBox="1"/>
          <p:nvPr/>
        </p:nvSpPr>
        <p:spPr>
          <a:xfrm>
            <a:off x="1447920" y="2438280"/>
            <a:ext cx="10666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Rectangle 30"/>
          <p:cNvSpPr/>
          <p:nvPr/>
        </p:nvSpPr>
        <p:spPr>
          <a:xfrm>
            <a:off x="641520" y="3801960"/>
            <a:ext cx="8084880" cy="2438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4876920" y="5334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4 m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35"/>
              <p:cNvSpPr txBox="1"/>
              <p:nvPr/>
            </p:nvSpPr>
            <p:spPr>
              <a:xfrm>
                <a:off x="2133720" y="5181480"/>
                <a:ext cx="12207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39"/>
              <p:cNvSpPr txBox="1"/>
              <p:nvPr/>
            </p:nvSpPr>
            <p:spPr>
              <a:xfrm>
                <a:off x="2057400" y="3962520"/>
                <a:ext cx="12952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Text Box 40"/>
          <p:cNvSpPr/>
          <p:nvPr/>
        </p:nvSpPr>
        <p:spPr>
          <a:xfrm>
            <a:off x="16002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rrang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1"/>
              <p:cNvSpPr txBox="1"/>
              <p:nvPr/>
            </p:nvSpPr>
            <p:spPr>
              <a:xfrm>
                <a:off x="3348000" y="5237280"/>
                <a:ext cx="15843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7</m:t>
                        </m:r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 A/s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066680" y="1295280"/>
            <a:ext cx="441972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219320" y="12952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ctors affecting induc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371600" y="19810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factors affect the amount of inductance for a coil. The equation for the inductance of a coil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4016520" y="2838600"/>
          <a:ext cx="1469880" cy="88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16520" y="2838600"/>
                    <a:ext cx="146988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7"/>
          <p:cNvSpPr/>
          <p:nvPr/>
        </p:nvSpPr>
        <p:spPr>
          <a:xfrm>
            <a:off x="1371600" y="3429000"/>
            <a:ext cx="67057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nductance in hen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umber of turns of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ermeability in H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oil length in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828800" y="157176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inductance of a 2.0 cm long, 150 turn coil wrapped on an low carbon steel core that is 0.50 cm diameter? The permeability of low carbon steel is 2.5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1219320" y="1371600"/>
            <a:ext cx="12189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0" name="Group 11"/>
          <p:cNvGrpSpPr/>
          <p:nvPr/>
        </p:nvGrpSpPr>
        <p:grpSpPr>
          <a:xfrm>
            <a:off x="647640" y="3305160"/>
            <a:ext cx="8077320" cy="2882880"/>
            <a:chOff x="647640" y="3305160"/>
            <a:chExt cx="8077320" cy="2882880"/>
          </a:xfrm>
        </p:grpSpPr>
        <p:sp>
          <p:nvSpPr>
            <p:cNvPr id="141" name="Rectangle 6"/>
            <p:cNvSpPr/>
            <p:nvPr/>
          </p:nvSpPr>
          <p:spPr>
            <a:xfrm>
              <a:off x="647640" y="3305160"/>
              <a:ext cx="8077320" cy="2882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2" name="Object 7"/>
            <p:cNvGraphicFramePr/>
            <p:nvPr/>
          </p:nvGraphicFramePr>
          <p:xfrm>
            <a:off x="1981080" y="3429000"/>
            <a:ext cx="4800600" cy="53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3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81080" y="3429000"/>
                      <a:ext cx="4800600" cy="5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4" name="Object 8"/>
          <p:cNvGraphicFramePr/>
          <p:nvPr/>
        </p:nvGraphicFramePr>
        <p:xfrm>
          <a:off x="1981080" y="4024440"/>
          <a:ext cx="129564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024440"/>
                    <a:ext cx="12956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9"/>
          <p:cNvSpPr/>
          <p:nvPr/>
        </p:nvSpPr>
        <p:spPr>
          <a:xfrm>
            <a:off x="2438280" y="5638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2 m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5307120"/>
            <a:ext cx="511812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87120" y="5345280"/>
            <a:ext cx="918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020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28400" y="5097600"/>
            <a:ext cx="22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28400" y="5670720"/>
            <a:ext cx="22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272400" y="4648320"/>
            <a:ext cx="3668040" cy="487440"/>
            <a:chOff x="3272400" y="4648320"/>
            <a:chExt cx="3668040" cy="487440"/>
          </a:xfrm>
        </p:grpSpPr>
        <p:sp>
          <p:nvSpPr>
            <p:cNvPr id="152" name=""/>
            <p:cNvSpPr/>
            <p:nvPr/>
          </p:nvSpPr>
          <p:spPr>
            <a:xfrm>
              <a:off x="3656880" y="46483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6560" y="46483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72400" y="4800240"/>
              <a:ext cx="3664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150 t  x  2.510 H/m  x  7.8510 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48160" y="464832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7280" y="47242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219320" y="1447920"/>
            <a:ext cx="6095880" cy="5331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219320" y="146196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ysical parameters affecting induc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600200" y="2286000"/>
            <a:ext cx="64008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uctance given by the equation in the previous slide is for the ideal case. In practice, inductors have winding resis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winding capacitan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An equivalent circuit for a practical inductor including these effects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10"/>
          <p:cNvGraphicFramePr/>
          <p:nvPr/>
        </p:nvGraphicFramePr>
        <p:xfrm>
          <a:off x="3200400" y="4191120"/>
          <a:ext cx="3124080" cy="17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4191120"/>
                    <a:ext cx="312408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990720" y="1279440"/>
            <a:ext cx="213336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447920" y="1905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Lenz’s law stat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523880" y="2438280"/>
            <a:ext cx="617220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 current through a coi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 induced voltage is created across the coil that always opposes the change in cur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2362320" y="42670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practical circuit, the current can change because of a change in the load as shown in the following circuit exampl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143000" y="1279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nz’s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3352680" y="457200"/>
            <a:ext cx="198144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990720" y="1279440"/>
            <a:ext cx="2133360" cy="5335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143000" y="12794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nz’s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447920" y="1905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asic circuit to demonstrate Lenz’s law is sh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2209680" y="3429000"/>
            <a:ext cx="4419720" cy="2362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"/>
          <p:cNvSpPr/>
          <p:nvPr/>
        </p:nvSpPr>
        <p:spPr>
          <a:xfrm flipH="1" flipV="1">
            <a:off x="540972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2133720" y="2438280"/>
            <a:ext cx="5715000" cy="875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ly, the SW is open and there is a small current in the circuit throug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Object 12"/>
          <p:cNvGraphicFramePr/>
          <p:nvPr/>
        </p:nvGraphicFramePr>
        <p:xfrm>
          <a:off x="2297160" y="3548160"/>
          <a:ext cx="4051080" cy="189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7160" y="3548160"/>
                    <a:ext cx="4051080" cy="18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5:29:44Z</dcterms:created>
  <dc:creator>David  Buchla</dc:creator>
  <dc:description/>
  <dc:language>en-US</dc:language>
  <cp:lastModifiedBy>admin</cp:lastModifiedBy>
  <dcterms:modified xsi:type="dcterms:W3CDTF">2011-04-27T12:20:08Z</dcterms:modified>
  <cp:revision>189</cp:revision>
  <dc:subject/>
  <dc:title>PowerPoint Presentation</dc:title>
</cp:coreProperties>
</file>