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439F-5207-4FEE-BAB8-361E6CDF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8657-46EB-40A5-80F6-AB928F62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23C9-7482-4821-A1FF-DCBB64C21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E5B-8656-459D-94A5-18DD3EE9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2922-8ED4-4006-A4EF-9FE2AE683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C749-65F2-4805-9C0D-18E0211F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23A9-C141-43C5-8A3B-95A90AF0A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B60-85DC-41D1-8FCE-56172C79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80B-085D-49FD-8113-23446879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E4D-1AE0-407F-AEEA-CF35EDDF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628-2BE0-4DCC-A9B4-A8ED949F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693-FED9-4870-97BE-9972A0B4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20A-B872-4673-93B3-AF9462E3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56F-4193-4285-B3F5-24D04590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AE3-B4A6-4C54-8FE3-ACFEF6B3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278-4BD0-4C2E-BC52-55AA1480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D2B-05CB-44D0-B330-F95C77AB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3FA-599F-4BDF-ABDE-F6F7101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C86-0003-4B43-9873-9BB079D6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C88C-D121-48E8-9452-3B92DBCB010E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aking Inferen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metimes a writer will leave certain details out of a story to make it more dramatic or funny. In these cases, it is up to the reader to draw his/her own conclusion based on the information given. These conclusions are known as inferences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to Make an Infere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you read about the characters and plot detai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on sens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r own experi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rebuchet MS"/>
              </a:rPr>
              <a:t>to fill in the missing detail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ake an Inference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es this image tell m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" name="Picture 4" descr="stampoutgarfield"/>
          <p:cNvPicPr/>
          <p:nvPr/>
        </p:nvPicPr>
        <p:blipFill>
          <a:blip r:embed="rId1"/>
          <a:stretch/>
        </p:blipFill>
        <p:spPr>
          <a:xfrm>
            <a:off x="3886200" y="3048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Question…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id I already know that helped me make that inferenc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d I use picture or written clue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w Do Good Readers Make Inferences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us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d/text cl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cture cl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fine unknown wor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ok for emotion (feeling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what they already kno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ok for explanations for ev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K themselves question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ake Another Infere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ss White was watching her students play in the playground. Jack finds a frog, picks it up, and runs over to show it to Miss White. Miss White screams, jumps, and runs as fast as she can into the schoo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can you infer from this passag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the “clues” in this passage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bdf5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How do you know that you are being asked to make an inferenc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52480" y="2286000"/>
            <a:ext cx="7010640" cy="403848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ne of these verbs will be use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sugges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hich answer does the text suggest is 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imply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hich answer does the author imply is 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inf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(What can you infer from the text as the reason…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with which would the author agre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ith which answer would the author agree as to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which sentence would the author most likely use…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Which sentence would the author most likely use to explain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22:16:49Z</dcterms:created>
  <dc:creator>Ashley White</dc:creator>
  <dc:description/>
  <dc:language>en-US</dc:language>
  <cp:lastModifiedBy>Ghadah</cp:lastModifiedBy>
  <cp:lastPrinted>2008-11-05T00:56:18Z</cp:lastPrinted>
  <dcterms:modified xsi:type="dcterms:W3CDTF">2017-11-20T03:39:44Z</dcterms:modified>
  <cp:revision>15</cp:revision>
  <dc:subject/>
  <dc:title>PowerPoint Presentation  -  Making Inferences</dc:title>
</cp:coreProperties>
</file>