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D405-DB35-449F-893C-5286FBF30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C209-9784-4002-BBB8-E2071C711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739F-C9F9-44D1-9567-E3294062B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7EC7-3B62-4D2E-958D-4C97A1D0A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354E-4770-4DD3-AF74-2D53570BE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E418-1B9F-4940-92E6-9C0E8A8BB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558F-B47F-47F9-B9D8-D1CC03338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BA1-AFE4-458C-BD08-03B95F69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EA0-417E-4F12-92B2-FDD22E42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7E1-E68C-4EAC-9BB9-F77B5BC7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0BB-30CF-4A67-8DBB-C5A701AD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F33-6BD5-494C-A623-EEE5C875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5E3-ADC6-4760-89C7-8D86154A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8E9-2630-4041-9CC4-9FAB573D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60E-BFBB-4EBC-8314-CA4DEF4E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813-AA4E-48ED-8DED-123C61EE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467-8C2B-4A10-A3A0-A198A437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B0F-3772-4943-AD21-4D4B6B5B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D12-C545-4192-B4D9-653ECEE0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AA86-F551-4462-B65C-C5290912E21A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aking Inferenc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bdf5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metimes a writer will leave certain details out of a story to make it more dramatic or funny. In these cases, it is up to the reader to draw his/her own conclusion based on the information given. These conclusions are known as inferences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bdf5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How to Make an Inferen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rebuchet MS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you read about the characters and plot detai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on sens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r own experie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rebuchet MS"/>
              </a:rPr>
              <a:t>to fill in the missing details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ake an Inference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es this image tell m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" name="Picture 4" descr="stampoutgarfield"/>
          <p:cNvPicPr/>
          <p:nvPr/>
        </p:nvPicPr>
        <p:blipFill>
          <a:blip r:embed="rId1"/>
          <a:stretch/>
        </p:blipFill>
        <p:spPr>
          <a:xfrm>
            <a:off x="3886200" y="30481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bdf5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Question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id I already know that helped me make that inferenc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d I use picture or written clue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bdf5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How Do Good Readers Make Inferences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y us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ord/text clu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icture clu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fine unknown wor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ook for emotion (feeling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 what they already know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ook for explanations for eve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K themselves questions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bdf5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ake Another Inferen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ss White was watching her students play in the playground. Jack finds a frog, picks it up, and runs over to show it to Miss White. Miss White screams, jumps, and runs as fast as she can into the schoo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can you infer from this passage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are the “clues” in this passage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bdf5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How do you know that you are being asked to make an inferenc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52480" y="2286000"/>
            <a:ext cx="7010640" cy="403848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ne of these verbs will be used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sugges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Which answer does the text suggest is …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imply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Which answer does the author imply is …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infer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(What can you infer from the text as the reason….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with which would the author agre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With which answer would the author agree as to…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which sentence would the author most likely use…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Which sentence would the author most likely use to explain…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22:16:49Z</dcterms:created>
  <dc:creator>Ashley White</dc:creator>
  <dc:description/>
  <dc:language>en-US</dc:language>
  <cp:lastModifiedBy>Ghadah</cp:lastModifiedBy>
  <cp:lastPrinted>2008-11-05T00:56:18Z</cp:lastPrinted>
  <dcterms:modified xsi:type="dcterms:W3CDTF">2017-11-20T03:39:44Z</dcterms:modified>
  <cp:revision>15</cp:revision>
  <dc:subject/>
  <dc:title>PowerPoint Presentation  -  Making Inferences</dc:title>
</cp:coreProperties>
</file>