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91CD-D1EC-46C2-ACFA-B8CAB3E7F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F8E-0CAB-43AB-B7DF-57245B5C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FB3-FEF6-48D7-8AF2-EE5CC0F7A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2572-1060-4AE7-8E08-CD337FCDD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5D98-AC14-434D-BC81-80B849B8B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CCF6-E3CC-46D6-A69D-866D94588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1C1C-50BD-4006-91D1-7717F5B3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434E-5E7D-4F2F-A904-673B69D51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4A36-6044-4F4B-839C-DBF16F885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3F01-AA8C-4A93-BCF7-2DA18ABC9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A893-BB73-4350-BA2E-F08EF03C8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92F2-E96D-4BA5-BD13-86A3CA493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3273-8031-4B6E-9A35-F3A834A15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0A8F-2E55-4257-9648-9DF83CAA8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337C-C404-4FD1-8BC6-458E2EF1D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EB21-4EEC-4E25-ACBC-FF6024888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B7FE-AF70-4DA7-ADD7-C8DC0EE9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CABB-642F-4493-9525-886B5A8B4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7886-3126-4B51-BBDD-5015F7EE4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0E60-BBEE-4DE8-9BF7-9ECD000E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683-4882-4779-B0B1-8ADFB8221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F072-123E-4F48-A707-A9E5F84A1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916-F895-4901-B874-321D5A6DD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E21C-8E0A-4461-AD80-F97A51FA0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A01-8488-4CA6-AEC7-EA918E06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2CF-01E1-482E-BEAF-987349CE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A74-4E48-474A-875D-4796BD81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2BE-3547-41C6-9B58-4644BEED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426D-8826-4D38-86A5-4767928B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126-EE1B-4DC6-AC7A-7D3522CB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0554-B625-4314-ACB6-23C7F0FC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1328-84A5-494C-9730-D6769FD4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16B5-5017-4573-B700-F1579F85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2772-24AB-499E-A11D-389EE38F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C684-15DD-41F9-B7CB-7ED5005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7C4-5783-4865-891F-5F5FFECA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8B1C-E271-4479-979A-7EEDAB3D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0054-07D3-42ED-8EDD-61B63BA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495F-BC86-4EC0-B7B4-8CC59564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8EAD-5DB5-45E0-A97B-72C9A515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BF37-C4B8-407C-AFC3-FB355B89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C42B-DBD8-4168-9EE3-BD3E39A0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F917-D311-41E0-9F70-95F5D7AA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BD1D-9414-402F-BD8C-8A8AE6A2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9F73-6EF6-4DC7-A625-22703F08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6402-E128-4C63-9412-8AD690DE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C5E-F620-47B5-B3B0-933AEC90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9BA7-6C24-4F32-A45F-3204C7BA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4E51-964A-426F-ADC1-22E522F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C99B-AC10-4BD4-896A-CB168A3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4114-A965-45E0-A3B0-48011836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E5EF-7DA4-45B9-9364-344E7BA7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74C5-ECD7-43C6-8746-0B1175A1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7546-AA15-4BD0-8DD8-01A86273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FA3-C1EB-45B2-BE5A-0DD2EC61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35B-3B69-4E9B-81A8-0A73C7A6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ADD-980C-404E-ABE6-38CA4B0A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1F9-3C1E-4527-A110-FBF68D2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07A-1867-449B-AABA-744A541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9D8-3DE0-4ECF-AFB3-6DF628B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FC6-8285-491E-B420-858839F6C22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BE7-68AA-4BF6-8C61-F9271CF214F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4AA7-D3EB-44FA-887A-E62032C2549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Chapter 11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mbria"/>
              </a:rPr>
              <a:t>INSTRUCTIONAL METHO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hoose  colors that provide a high level of contrast between background and tex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Use graphics for presenting large amount of numerical dat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o not overdue the use of action figures, which can distract the audie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Make sure that all audiovisual material is functional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Lecture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st effect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argets large group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6560" y="18284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Not individualiz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assiv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roup Discuss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n instructional method in which learners are together to exchange information, feelings, and opinions with each other and the teacher to achieve educational objectiv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roup Discuss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timulates sharing of ideas and emotio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and affective domains of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7524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hy member does not particip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Dominant member overwhelms the group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Highly diverse groups may have difficulty interact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One-to-One Instruc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in which the teacher delivers personally designed instruction to a learner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One-to-One Instruc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ailored to individual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 needs and goal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ll three learning domai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an be expensive because it is labor intens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Isolates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n instructional method in which the learner is shown by the teacher how to perform a particular skil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44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reviews exact skill for th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psychomotor domain learning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May be expensive because all learners need to easily visualize skill.  This requires use of technology or small groups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eturn 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in which the learner attempts to perform a skill with cues from the teacher as needed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eturn 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Individual guidanc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psychomotor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Viewing individual performance is labor intens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Instructional  Strategy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ambria"/>
              </a:rPr>
              <a:t>Is the overall plan that for teaching and learning experience that involves used of one or several method ofd instructions to achieve the desired learning outcomes (Rothwell &amp; Kazans 2004) 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am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2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3504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Gam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n instructional method requiring the learner to participate in a competitive activity with preset rules to achieve an educational ob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Gam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Games can be simple or they can be more complex to challenge the learner</a:t>
            </a:r>
            <a:r>
              <a:rPr b="0" lang="ja-JP" sz="2400" spc="-1" strike="noStrike">
                <a:solidFill>
                  <a:srgbClr val="595959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 ability to use higher order problem-solving and critical thinking strateg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Gam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e goal is for the learners to win a game by applying knowledge and rehearsing skills previously learn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am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erceived as 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un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  by many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ll three domains of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oo competitive for som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im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3700440" cy="1676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214200" y="3962520"/>
            <a:ext cx="4357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imul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129492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A trial-and-error method of teaching requiring creation of a hypothetical or artificial experience to engage the learner in an activity that reflects real-life conditions without the risk-taking consequences of an actual situa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Types of Sim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Written simulation e.g case stud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linical simulation e.g mock caediac arres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Model simul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omputer simul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imul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1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ractice 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reality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 in a safe sett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and psychomotor domains of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Labor intens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sts of equipmen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266688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2568600" y="3352680"/>
            <a:ext cx="6095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Instructional Methods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chniques or approaches that the teacher uses to bring the learner in contact with the content to be learn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way information is thought that bring the learner in contact with the content to be learn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ole-Play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where learners participate in an unrehearsed dramatization to elicit their feelings to achieve affective domain objectiv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e responsibility of the teacher is to design a situation with enough information for learners to be able to assume the role of some one else without actually giving them a script to follow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For role playing to be employed effectively, the teacher must be sure that the group has attained a comfort level that allows each member to feel secure enough to participate in a dramatizatio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ambria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Develops 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nderstanding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 of oth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ffec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Learner can exaggerate or under-develop the ro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Model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200400" cy="2043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847960" cy="219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2610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ole-Model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An instructional method in which the teacher </a:t>
            </a:r>
            <a:r>
              <a:rPr b="0" lang="ja-JP" sz="26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models</a:t>
            </a:r>
            <a:r>
              <a:rPr b="0" lang="ja-JP" sz="26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 or exhibits behaviors that the learner may imitate or adopt as he or she is socialized into a role. Learning from role-modeling is called identification and emanates from socialization theori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ole-Model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Helps with socialization into ro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ffec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Requires rapport between teacher and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lf-Instr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209600" y="20527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200400" cy="188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2104920" y="4302000"/>
            <a:ext cx="3915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elf-Instruction  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to provide activities that guide the learner in independently achieving the educational objectiv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Such as self instructional package, individualized activities , programmed instructio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lf-Instruction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Each self -instruction module need to contain the following element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n introduction and statement of propos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list of pre-requisite skill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list of behavioral objectiv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prete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Instructional Method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Lec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Group Discuss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One-to-One Instruc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Demonstr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Return Demonstr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Gam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mul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Role-play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Role-model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lf-instruc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lf-Instruction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n identification of learning resources and learning activiti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Periodic self-asese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postte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elf-Instruc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lf-pac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st-effect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nsisten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Learner may procrastin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Requires literac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Factors in Selection of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Instructional Method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66520"/>
            <a:ext cx="77724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are the predetermined objectiv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are the characteristics of the targeted audienc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resources are availabl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are the teach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strengths and limitation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514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Evaluation of Instructional Method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181480" cy="2157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555480" y="3962520"/>
            <a:ext cx="33148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Arial"/>
              </a:rPr>
              <a:t>Evaluation of Instructional Methods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2088" r="0" b="2088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Arial"/>
              </a:rPr>
              <a:t>Creative Techniques to Enhance Verbal Present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1871640" y="4500720"/>
            <a:ext cx="3257640" cy="1400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266760" y="2209680"/>
            <a:ext cx="2676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Creative Techniques to Enhance Verbal Present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6212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Enthusiasm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Humo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Risk-tak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Dram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Problem-solv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Role-model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Anecdot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Technolog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eneral Principles for All Teach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90720" y="121932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Give positive reinforce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roject acceptance/sensitivit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e organized, give direc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licit and provide feedbac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Use question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Know your audi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Use repetition and pac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ummarize key poi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Cambria"/>
              </a:rPr>
              <a:t>Instructional Setting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</a:rPr>
              <a:t>Healthcare setting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</a:rPr>
              <a:t>Health-related setting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</a:rPr>
              <a:t>Non-healthcare setting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ambria"/>
              </a:rPr>
              <a:t>Sharing Resour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Nurses in each of the setting types can establish a health education committee to coordinate health education programming, ensure effective use of resources, and avoid duplication of effort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Arial"/>
              </a:rPr>
              <a:t> </a:t>
            </a:r>
            <a:r>
              <a:rPr b="0" i="1" lang="en-US" sz="3700" spc="-1" strike="noStrike">
                <a:solidFill>
                  <a:srgbClr val="ffc000"/>
                </a:solidFill>
                <a:latin typeface="Arial"/>
              </a:rPr>
              <a:t>Is there one perfect Instructional Method to teach all learners in all settings?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ummary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structional Methods and Settings module has presented in-depth review of the various instructional methods and compared  the advantages and limitations of each approach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umma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s a nurse educator you have the responsibility to select proper methods that match the learner characteristics ,behavioral objectives , teacher characteristics and available recours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1333440" y="1943280"/>
            <a:ext cx="5372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0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ecision about which method to use must be based on  consideration of such major factors as: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udience characteristic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Learning Styl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Educator expertis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Objectives of learn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Potential for achieving learning outcom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ost effectivenes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Instructional sett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Evolving technology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Lecture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in which the teacher verbally transmits information directly to groups of learners for the purpose of education.  It is highly structured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Components of Le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Le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Presentation of the lecture must be adher to the follwing general guideline (Evans 2000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o not put al;l content on the slide ,but include only the key concep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Use large font possib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o not exceed 25 words per slid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20:30:18Z</dcterms:created>
  <dc:creator>Microsoft Office User</dc:creator>
  <dc:description/>
  <dc:language>en-US</dc:language>
  <cp:lastModifiedBy>Alshehri</cp:lastModifiedBy>
  <cp:lastPrinted>2001-04-11T17:18:28Z</cp:lastPrinted>
  <dcterms:modified xsi:type="dcterms:W3CDTF">2016-11-30T11:10:49Z</dcterms:modified>
  <cp:revision>2</cp:revision>
  <dc:subject/>
  <dc:title>Chapter 11</dc:title>
</cp:coreProperties>
</file>