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B2B3-9E9C-4075-A811-6A59EB261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4943-7E31-4012-843D-B4E9D0F16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BDF6-8CEE-4106-BDAE-8CD49CA8C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FD19-BEDD-4948-A6A3-4EDF324A1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7289-DAD9-48EC-9AE8-F510ABE5B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8515-39A4-40FE-8CB3-5AEF182B6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51DB-2C33-4160-8C16-9FF8AC040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8C25-C787-40E1-9D0B-7A7D0F4DF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212E-CAFC-417E-A183-8D0A5F432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BC86-12D2-4394-8FC8-BF1C18A83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029B-AFBE-4C0C-BB39-59E91FE3C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2FBB-AB3B-44DF-9EF4-BD7659150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1F4F-8125-4EDF-A748-76FC3764B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F159-E7D1-4C28-A6CA-9F0C895B8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4F97-5A3B-4946-BC58-246641EE4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103D-5423-4496-8E34-809FA5821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3A3F-2334-4A9D-B397-13ABF40E7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21B6-813F-4013-9DAD-6E783CBDD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131A-B97E-40B5-AF7F-6CD301F02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1837-E328-4268-AA4A-820A920AC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B697-092D-4379-BA33-32F77A22B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E87A-1975-46C0-B83E-C3845E4DD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77AC-B705-4AC3-8EC6-5E10DEAF4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538-B3DF-4FE2-8000-5181A6506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062-B511-4305-8375-EF57BF1D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4CF-5836-4A86-845E-DFCA15F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D25-E9D7-479E-8C4B-E225A8DE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6C8-F598-42A7-B05A-C1635D1C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E40D-6E3C-46CA-8DA7-7D084680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C280-0484-4F94-B39C-7C1DDA45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9C04-6BF4-48BB-A109-1D71528E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A948-77A7-476E-AE48-6ACBB318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D238-3812-4B6E-9347-4650EBBA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B3D2-0553-4E13-A2AA-61CD9D8B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D3EA-9F40-4E4D-BD04-FAEB7D41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955-6E22-440D-82EF-BE2F7E69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B94C-B9CA-4E01-89ED-D773D2D7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8B94-272A-4B7C-92EB-D59A5657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3F19-6777-45E6-9BF5-C28D1B6C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33D1-AAE9-4367-945B-0B3DFDD3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61D2-CDA6-47CB-BA3A-F2051CFE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324CD-1B25-4053-A54D-59FBD82D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D9767-2D98-4DA9-901B-0D7B552B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4F87C-2E48-4899-A977-AC3679BF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C4B2-F456-40C4-A775-2CE17F0D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C74C-366B-42B5-8B53-861DF18B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394-9CA2-462E-984D-2CD31678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08E4A-A7E8-4909-AFF1-9D57EAE9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EE41-376F-4660-B427-7BAE30CE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AA76-F26A-40AE-8689-7BA6B4F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D99C-9B87-4932-AF9D-6EC70506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9320-E598-4E30-8050-46D2BB00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5B75-CAE9-4B1F-8622-B163A532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8CAD-25C9-4C28-A17C-E44E4AE2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FB8-2F6C-42A0-BD34-D3DF3E7D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60B-104B-45A3-B999-4825BE23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607-1308-4C0A-8930-A700CCF2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0D8-5315-4A52-855D-92B37BD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4AE-111D-46DC-BF78-C65FB55B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8C7-F69A-4B3A-978F-5AD77391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44E5-0ED0-49FC-B0BA-D74CC175913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8F33-48C5-444E-A486-5EA1E9AC27A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8468-C005-449A-9ABF-2FC6CFC23D5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s Gothic MT"/>
              </a:rPr>
              <a:t>Chapter 11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ambria"/>
              </a:rPr>
              <a:t>INSTRUCTIONAL METHO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hoose  colors that provide a high level of contrast between background and tex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Use graphics for presenting large amount of numerical dat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o not overdue the use of action figures, which can distract the audienc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Make sure that all audiovisual material is functional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Lecture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ost effectiv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Targets large group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cognitive domain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76560" y="18284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Not individualize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Passive learn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Group Discuss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n instructional method in which learners are together to exchange information, feelings, and opinions with each other and the teacher to achieve educational objectiv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Group Discuss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timulates sharing of ideas and emotion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cognitive and affective domains of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7524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hy member does not participat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Dominant member overwhelms the group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Highly diverse groups may have difficulty interact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One-to-One Instruc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An instructional method in which the teacher delivers personally designed instruction to a learner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One-to-One Instruc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Tailored to individual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’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 needs and goal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all three learning domain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an be expensive because it is labor intensiv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Isolates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Demonstr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n instructional method in which the learner is shown by the teacher how to perform a particular skil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Demonstr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44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Previews exact skill for the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psychomotor domain learning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May be expensive because all learners need to easily visualize skill.  This requires use of technology or small groups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Return Demonstr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An instructional method in which the learner attempts to perform a skill with cues from the teacher as needed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Return Demonstr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44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Individual guidanc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psychomotor domain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Viewing individual performance is labor intensiv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Instructional  Strategy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959"/>
                </a:solidFill>
                <a:latin typeface="Cambria"/>
              </a:rPr>
              <a:t>Is the overall plan that for teaching and learning experience that involves used of one or several method ofd instructions to achieve the desired learning outcomes (Rothwell &amp; Kazans 2004) 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Gam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42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3504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Gam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n instructional method requiring the learner to participate in a competitive activity with preset rules to achieve an educational objectiv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Gam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Games can be simple or they can be more complex to challenge the learner</a:t>
            </a:r>
            <a:r>
              <a:rPr b="0" lang="ja-JP" sz="2400" spc="-1" strike="noStrike">
                <a:solidFill>
                  <a:srgbClr val="595959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s ability to use higher order problem-solving and critical thinking strateg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Gam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e goal is for the learners to win a game by applying knowledge and rehearsing skills previously learne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Gam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Perceived as 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fun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  by many learn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all three domains of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Too competitive for some learn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im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776680" y="1600200"/>
            <a:ext cx="359064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4800600" y="3962520"/>
            <a:ext cx="3700440" cy="1676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214200" y="3962520"/>
            <a:ext cx="4357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Simul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400" y="129492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A trial-and-error method of teaching requiring creation of a hypothetical or artificial experience to engage the learner in an activity that reflects real-life conditions without the risk-taking consequences of an actual situatio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Types of Sim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Written simulation e.g case stud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linical simulation e.g mock caediac arres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Model simul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omputer simul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Simula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091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Practice 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reality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 in a safe sett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cognitive and psychomotor domains of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Labor intensiv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osts of equipmen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Role-Play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266688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2568600" y="3352680"/>
            <a:ext cx="6095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Arial"/>
              </a:rPr>
              <a:t>Instructional Methods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echniques or approaches that the teacher uses to bring the learner in contact with the content to be learn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way information is thought that bring the learner in contact with the content to be learn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Role-Play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An instructional method where learners participate in an unrehearsed dramatization to elicit their feelings to achieve affective domain objectiv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Role-Play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e responsibility of the teacher is to design a situation with enough information for learners to be able to assume the role of some one else without actually giving them a script to follow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Role-Play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For role playing to be employed effectively, the teacher must be sure that the group has attained a comfort level that allows each member to feel secure enough to participate in a dramatization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ambria"/>
              </a:rPr>
              <a:t>Role-Play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Active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Develops 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nderstanding</a:t>
            </a:r>
            <a:r>
              <a:rPr b="0" lang="ja-JP" sz="18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 of other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affective domain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Learner can exaggerate or under-develop the rol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Role-Model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200400" cy="2043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847960" cy="219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5181480" y="1981080"/>
            <a:ext cx="261000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Role-Model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4400" y="13712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An instructional method in which the teacher </a:t>
            </a:r>
            <a:r>
              <a:rPr b="0" lang="ja-JP" sz="2600" spc="-1" strike="noStrike">
                <a:solidFill>
                  <a:srgbClr val="595959"/>
                </a:solidFill>
                <a:latin typeface="Cambria"/>
              </a:rPr>
              <a:t>“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models</a:t>
            </a:r>
            <a:r>
              <a:rPr b="0" lang="ja-JP" sz="2600" spc="-1" strike="noStrike">
                <a:solidFill>
                  <a:srgbClr val="595959"/>
                </a:solidFill>
                <a:latin typeface="Cambria"/>
              </a:rPr>
              <a:t>”</a:t>
            </a: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 or exhibits behaviors that the learner may imitate or adopt as he or she is socialized into a role. Learning from role-modeling is called identification and emanates from socialization theories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Role-Model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Helps with socialization into rol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affective domain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Requires rapport between teacher and learn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elf-Instr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209600" y="205272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200400" cy="1886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2104920" y="4302000"/>
            <a:ext cx="39150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Self-Instruction  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An instructional method to provide activities that guide the learner in independently achieving the educational objectiv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Such as self instructional package, individualized activities , programmed instruction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elf-Instruction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Each self -instruction module need to contain the following element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n introduction and statement of propos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 list of pre-requisite skill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 list of behavioral objectiv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 pretes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Instructional Method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Lectu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Group Discuss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One-to-One Instruc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Demonstra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Return Demonstra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Gam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mula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Role-play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Role-model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lf-instruc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elf-Instruction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n identification of learning resources and learning activiti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Periodic self-asesem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 posttes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Self-Instruction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Self-pace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ost-effectiv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Consisten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Useful for cognitive domain learn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</a:rPr>
              <a:t>Limit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Learner may procrastinat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mbria"/>
              </a:rPr>
              <a:t>Requires literac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Factors in Selection of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Instructional Method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66520"/>
            <a:ext cx="77724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hat are the predetermined objective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hat are the characteristics of the targeted audience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hat resources are available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What are the teacher</a:t>
            </a:r>
            <a:r>
              <a:rPr b="0" lang="ja-JP" sz="2400" spc="-1" strike="noStrike">
                <a:solidFill>
                  <a:srgbClr val="595959"/>
                </a:solidFill>
                <a:latin typeface="Cambria"/>
              </a:rPr>
              <a:t>’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s strengths and limitation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5145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Evaluation of Instructional Method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181480" cy="2157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555480" y="3962520"/>
            <a:ext cx="33148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Arial"/>
              </a:rPr>
              <a:t>Evaluation of Instructional Methods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rcRect l="0" t="2088" r="0" b="2088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Arial"/>
              </a:rPr>
              <a:t>Creative Techniques to Enhance Verbal Presentation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1871640" y="4500720"/>
            <a:ext cx="3257640" cy="1400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266760" y="2209680"/>
            <a:ext cx="2676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Creative Techniques to Enhance Verbal Presentation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6212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Enthusiasm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Humor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Risk-tak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Drama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Problem-solv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Role-modeling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Anecdote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mbria"/>
              </a:rPr>
              <a:t>Technology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General Principles for All Teach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90720" y="1219320"/>
            <a:ext cx="7162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Give positive reinforceme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Project acceptance/sensitivit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Be organized, give direc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Elicit and provide feedback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Use question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Know your audie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Use repetition and pac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Summarize key poin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Cambria"/>
              </a:rPr>
              <a:t>Instructional Settings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</a:rPr>
              <a:t>Healthcare setting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</a:rPr>
              <a:t>Health-related setting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</a:rPr>
              <a:t>Non-healthcare setting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ambria"/>
              </a:rPr>
              <a:t>Sharing Resour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Nurses in each of the setting types can establish a health education committee to coordinate health education programming, ensure effective use of resources, and avoid duplication of effort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Arial"/>
              </a:rPr>
              <a:t> </a:t>
            </a:r>
            <a:r>
              <a:rPr b="0" i="1" lang="en-US" sz="3700" spc="-1" strike="noStrike">
                <a:solidFill>
                  <a:srgbClr val="ffc000"/>
                </a:solidFill>
                <a:latin typeface="Arial"/>
              </a:rPr>
              <a:t>Is there one perfect Instructional Method to teach all learners in all settings?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ummary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nstructional Methods and Settings module has presented in-depth review of the various instructional methods and compared  the advantages and limitations of each approach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umma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As a nurse educator you have the responsibility to select proper methods that match the learner characteristics ,behavioral objectives , teacher characteristics and available recours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1333440" y="1943280"/>
            <a:ext cx="5372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140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Decision about which method to use must be based on  consideration of such major factors as: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udience characteristic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Learning Styl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Educator expertis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Objectives of learn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Potential for achieving learning outcom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ost effectivenes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Instructional sett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Evolving technology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Cambria"/>
              </a:rPr>
              <a:t>Lecture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</a:rPr>
              <a:t>Defini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mbria"/>
              </a:rPr>
              <a:t>An instructional method in which the teacher verbally transmits information directly to groups of learners for the purpose of education.  It is highly structured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Components of Lectu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Lectu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Presentation of the lecture must be adher to the follwing general guideline (Evans 2000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o not put al;l content on the slide ,but include only the key concep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Use large font possib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Do not exceed 25 words per slid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20:30:18Z</dcterms:created>
  <dc:creator>Microsoft Office User</dc:creator>
  <dc:description/>
  <dc:language>en-US</dc:language>
  <cp:lastModifiedBy>Alshehri</cp:lastModifiedBy>
  <cp:lastPrinted>2001-04-11T17:18:28Z</cp:lastPrinted>
  <dcterms:modified xsi:type="dcterms:W3CDTF">2016-11-30T11:10:49Z</dcterms:modified>
  <cp:revision>2</cp:revision>
  <dc:subject/>
  <dc:title>Chapter 11</dc:title>
</cp:coreProperties>
</file>