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0C047AC-4301-4660-A6DB-06D34388BD8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D68416A-686A-436B-A45B-9083F279725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D45695E1-315B-4CC5-A19D-36587DA177E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D635-B097-4C4B-B308-118DA92AD39B}"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757A-E38F-4327-8BD6-700554ACC0AA}"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1E176CE-92B8-446D-AC88-B900A6A1619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A7A83C4-6095-4470-88AF-8777138A425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C3EBFBA7-585A-42AE-B109-725D1AE953E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CD7E3-6F15-4037-A593-A0366CAC0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531E-7FDE-4D38-A698-85AE142AA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CA714-B2DB-4F48-AA0C-F1B43C71D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63F88-55EA-4EBA-8177-AE1823D9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7A53-9491-45D1-AA06-ADBB2034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D990-3B5F-405E-86C5-E7032268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45B6D-AD5B-407A-AA0D-6A3821C8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7E34-B1F7-4D6C-AD02-0FA082AF7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8C6F-9AA1-4269-ADF6-580531B5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CFB9-C0F0-45EE-B30C-40CB8D148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03DA-35A6-49AF-B8A8-7E6F63D0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4D08-7E14-4E62-B145-526C811B8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06A0-5200-4637-BD06-2C88933B09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Decision Making Processes</a:t>
            </a:r>
            <a:endParaRPr b="0" lang="en-US" sz="36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 </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7430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thical 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8T18:21:18Z</dcterms:modified>
  <cp:revision>33</cp:revision>
  <dc:subject/>
  <dc:title>Slide 1</dc:title>
</cp:coreProperties>
</file>