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024499-CE6A-4301-8CAB-ABC7F9C70E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7924C9-2514-4861-AAF8-65E7FDB980A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D4EC96-A3E6-4C4C-8607-B7C7247B1DD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ED2814-6C11-43D4-9887-94B8C5024E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6EBCCA-A3A9-4AFC-B4BC-9A9180022E7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7AB4E1-BD61-4815-808C-7999BEEC728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41D4A9-CE5E-4BA9-B9A1-E1431798A6F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7B23C1-8ECA-44AE-B19A-7C76258087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C90502-9F84-421C-A2FA-CC7D50D1B38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341501-982C-4CA4-B7CC-CEC412CA66E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A67211-8464-4527-AC62-0DCFECB167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1858E1-6CB1-4172-B43C-AE62C12A08D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A4FF6B-8805-46C6-8FC5-109218DE0E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E5C060-83F1-4C5F-8A2A-1301D4E6CC9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2B7180-E327-4D45-AD59-D90BD27CB58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F7ECD1-226D-49A6-826F-0D6DBEB2768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5E6CAB-D35A-46F7-91FE-733C53C13D2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18BA8D-BBA6-4085-A55E-8B149D0334F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707D5D-DB0A-494D-BDD7-284FC35BCA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389B6C-456C-41E3-9E08-F36AC9525BE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7AA07E-CA28-47D2-8190-2A321313581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807E00-5DE8-4C39-8228-A79971665C6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EF6E31-70DE-4676-8FEB-FCC70582EA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2F482F-77C9-4F6A-8FBE-DF6A20B2DCF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AE77C6-C9F1-4127-8B37-E8A0AD870D3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AFC69D-39C5-42B8-99C2-00E81FF75E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1E7165-A15D-4F4D-A20A-21283DB34D3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34AC82-E7EB-4721-9F8F-4EB972B780B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46529A-985E-43C5-BA8B-40652DF216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E7A681-2F67-4EFF-8DF1-8A5616562A5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02BEFF-D601-42B2-AB21-F660B484EA5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F7D41C-D1BF-49A7-8672-0272636ED22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C5C056-AF37-4B6C-B7A8-95FDD32FE5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90DD45-88E0-4FDD-8405-C9D69768C29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8F09A9-246C-4634-A722-A4D64EA041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EEFB1D-B8A4-4203-A113-CCA717E5C74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BE0803-0338-4DD5-8BDD-E44C5424D61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8603F1-A1A2-4703-A0B1-7CB4232006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9B7A08-D6A9-4464-970E-D3F1E4237C0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FD18D8-0FE2-49AC-9E3E-EB45466E20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26E169-CD2D-4AE2-A1CF-293BF0EF11C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4F41C5-5AB1-4FA6-B442-2638BA6225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52C78C-13DA-4657-B174-2CB6E831F2F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A86117-1737-442D-86D1-21B00F7FAE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96E232-03BA-49C8-9D86-3A8550B668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C051C0-F06D-4484-8196-ADC64643CD8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5F5-F190-4A90-9FB9-F6B9A703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E56-541B-476C-A8C8-4EBC5012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9F7-47F2-422A-A39A-D0E37BD5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07F-FC10-4401-BD98-17CFE7B3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7B02-1DD7-4754-A3F6-18D99604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BF0D-CC7C-4F16-B7BE-BDE44139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47C0-95B5-4E1A-B4C1-1251A779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7FE6-967D-4D9E-9F75-738C56C8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E300-E03D-401E-A485-3AF95A2B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F680-2F1F-43CA-BF9C-BCB4E04D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64BE-16F8-4413-BF6A-5154C4B7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E6B-F5A1-4F44-934E-92869111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0EB6-6331-4F98-BEC5-3D3F54B6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4604-B841-4928-8D09-8ED63298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F173-F071-4CA3-994E-287983E6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1D42-73BD-4EC3-A1DF-FAB74D44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1580-24CB-4FEE-AED6-7AA12157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D667-CB4F-43C4-97F8-D0EB761C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897-D676-492A-8DC9-FC9BEE86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5D7-51A2-4B52-9B71-8FD051FF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91F-E27B-4374-98AA-7A002F81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D1E-8970-4CF2-A0AF-894DCC45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365-FF00-4C71-AA37-D0569EA1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0FE-8AE5-45A1-93E6-7BE4CA6F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SE301_Topic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EAE0-DA10-4354-9067-C2116036EDC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SE301_Topic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7F6C-5781-4EE4-AA13-720EB8B7E4A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84B7-0629-44A3-840E-739FD678D38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04920" y="685800"/>
            <a:ext cx="845820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9900"/>
                </a:solidFill>
                <a:latin typeface="Garamond"/>
              </a:rPr>
              <a:t>       </a:t>
            </a:r>
            <a:br>
              <a:rPr sz="3500"/>
            </a:br>
            <a:r>
              <a:rPr b="0" lang="en-GB" sz="2800" spc="-1" strike="noStrike">
                <a:solidFill>
                  <a:srgbClr val="4d6600"/>
                </a:solidFill>
                <a:latin typeface="Verdana"/>
              </a:rPr>
              <a:t>Approximating functions, polynomial interpolation (Lagrange and Newton’s divided differences) formulas, error approximations</a:t>
            </a:r>
            <a:br>
              <a:rPr sz="33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228600" y="3124080"/>
            <a:ext cx="8534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851E-39AB-4784-A6B7-FD702DEBD9E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533520" y="2514600"/>
            <a:ext cx="548640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Quadratic Interpolation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 any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ree 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polynomi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interpolates the three points 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4495680" y="1676520"/>
                <a:ext cx="4419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533520" y="2743200"/>
                <a:ext cx="60753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Line 7"/>
          <p:cNvSpPr/>
          <p:nvPr/>
        </p:nvSpPr>
        <p:spPr>
          <a:xfrm flipV="1">
            <a:off x="8153280" y="37335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7391520" y="5029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7162920" y="3809880"/>
            <a:ext cx="1569960" cy="100836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1421" h="635">
                <a:moveTo>
                  <a:pt x="1421" y="79"/>
                </a:moveTo>
                <a:cubicBezTo>
                  <a:pt x="1322" y="168"/>
                  <a:pt x="1053" y="635"/>
                  <a:pt x="816" y="622"/>
                </a:cubicBezTo>
                <a:cubicBezTo>
                  <a:pt x="579" y="609"/>
                  <a:pt x="308" y="30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7315200" y="4038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7620120" y="4495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8534520" y="4038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00EB-9F77-4F6C-A921-63FF2CB1B19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80880" y="2514600"/>
            <a:ext cx="8534520" cy="2743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Garamond"/>
              </a:rPr>
              <a:t>General n</a:t>
            </a:r>
            <a:r>
              <a:rPr b="0" lang="en-US" sz="4800" spc="-1" strike="noStrike" baseline="30000">
                <a:solidFill>
                  <a:srgbClr val="ff0000"/>
                </a:solidFill>
                <a:latin typeface="Garamond"/>
              </a:rPr>
              <a:t>th</a:t>
            </a:r>
            <a:r>
              <a:rPr b="0" lang="en-US" sz="4800" spc="-1" strike="noStrike">
                <a:solidFill>
                  <a:srgbClr val="ff0000"/>
                </a:solidFill>
                <a:latin typeface="Garamond"/>
              </a:rPr>
              <a:t> Order Interpolatio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 any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+1 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polynomi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interpolates all points i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5"/>
              <p:cNvSpPr txBox="1"/>
              <p:nvPr/>
            </p:nvSpPr>
            <p:spPr>
              <a:xfrm>
                <a:off x="4149720" y="1676520"/>
                <a:ext cx="4229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6"/>
              <p:cNvSpPr txBox="1"/>
              <p:nvPr/>
            </p:nvSpPr>
            <p:spPr>
              <a:xfrm>
                <a:off x="533520" y="2819520"/>
                <a:ext cx="8116920" cy="23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FBE5-1F30-43CC-B337-E3EDCCA2BBE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Divided Differenc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80880" y="1523880"/>
                <a:ext cx="8305920" cy="371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Zeroth order DD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rst order D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cond order 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E75D-7C7D-4C1E-8ACF-A8D866A8848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Divided Difference Tab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1752480"/>
          <a:ext cx="7543800" cy="1752840"/>
        </p:xfrm>
        <a:graphic>
          <a:graphicData uri="http://schemas.openxmlformats.org/drawingml/2006/table">
            <a:tbl>
              <a:tblPr/>
              <a:tblGrid>
                <a:gridCol w="838440"/>
                <a:gridCol w="1295280"/>
                <a:gridCol w="1676520"/>
                <a:gridCol w="1600200"/>
                <a:gridCol w="213336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, ,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00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Object 42"/>
              <p:cNvSpPr txBox="1"/>
              <p:nvPr/>
            </p:nvSpPr>
            <p:spPr>
              <a:xfrm>
                <a:off x="1066680" y="4114800"/>
                <a:ext cx="670572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CE97-487C-4384-A473-0B5DE1FC360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Divided Difference Tab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3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0" y="1674720"/>
          <a:ext cx="1981080" cy="2783160"/>
        </p:xfrm>
        <a:graphic>
          <a:graphicData uri="http://schemas.openxmlformats.org/drawingml/2006/table">
            <a:tbl>
              <a:tblPr/>
              <a:tblGrid>
                <a:gridCol w="992160"/>
                <a:gridCol w="98892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21" descr=""/>
          <p:cNvPicPr/>
          <p:nvPr/>
        </p:nvPicPr>
        <p:blipFill>
          <a:blip r:embed="rId1"/>
          <a:stretch/>
        </p:blipFill>
        <p:spPr>
          <a:xfrm>
            <a:off x="7162920" y="1752480"/>
            <a:ext cx="30456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609480" y="1523880"/>
          <a:ext cx="5562720" cy="1828800"/>
        </p:xfrm>
        <a:graphic>
          <a:graphicData uri="http://schemas.openxmlformats.org/drawingml/2006/table">
            <a:tbl>
              <a:tblPr/>
              <a:tblGrid>
                <a:gridCol w="1390680"/>
                <a:gridCol w="1390680"/>
                <a:gridCol w="1390680"/>
                <a:gridCol w="139068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 ,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193" name="Text Box 49"/>
          <p:cNvSpPr/>
          <p:nvPr/>
        </p:nvSpPr>
        <p:spPr>
          <a:xfrm>
            <a:off x="380880" y="380988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Entries of the divided difference table are obtained from the data table using simple oper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8208-C459-4E20-B4A0-8011C1023CA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Divided Difference Tab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3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0" y="1674720"/>
          <a:ext cx="1522440" cy="1955880"/>
        </p:xfrm>
        <a:graphic>
          <a:graphicData uri="http://schemas.openxmlformats.org/drawingml/2006/table">
            <a:tbl>
              <a:tblPr/>
              <a:tblGrid>
                <a:gridCol w="762120"/>
                <a:gridCol w="760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98" name="Picture 21" descr=""/>
          <p:cNvPicPr/>
          <p:nvPr/>
        </p:nvPicPr>
        <p:blipFill>
          <a:blip r:embed="rId1"/>
          <a:stretch/>
        </p:blipFill>
        <p:spPr>
          <a:xfrm>
            <a:off x="7010280" y="1676520"/>
            <a:ext cx="30492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609480" y="1600200"/>
          <a:ext cx="5486400" cy="19810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 ,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49"/>
          <p:cNvSpPr/>
          <p:nvPr/>
        </p:nvSpPr>
        <p:spPr>
          <a:xfrm>
            <a:off x="609480" y="3652920"/>
            <a:ext cx="7925040" cy="2466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 first two column of 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able are the data colum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Third column:  First order differen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column: Second order differen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F112-5EDE-4F05-98E5-1D06B090B54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Divided Difference Tab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3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58000" y="1674720"/>
          <a:ext cx="1522440" cy="2783160"/>
        </p:xfrm>
        <a:graphic>
          <a:graphicData uri="http://schemas.openxmlformats.org/drawingml/2006/table">
            <a:tbl>
              <a:tblPr/>
              <a:tblGrid>
                <a:gridCol w="762120"/>
                <a:gridCol w="76032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pic>
        <p:nvPicPr>
          <p:cNvPr id="205" name="Picture 21" descr=""/>
          <p:cNvPicPr/>
          <p:nvPr/>
        </p:nvPicPr>
        <p:blipFill>
          <a:blip r:embed="rId1"/>
          <a:stretch/>
        </p:blipFill>
        <p:spPr>
          <a:xfrm>
            <a:off x="7772400" y="1752480"/>
            <a:ext cx="33012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" descr=""/>
          <p:cNvPicPr/>
          <p:nvPr/>
        </p:nvPicPr>
        <p:blipFill>
          <a:blip r:embed="rId2"/>
          <a:stretch/>
        </p:blipFill>
        <p:spPr>
          <a:xfrm>
            <a:off x="7010280" y="1752480"/>
            <a:ext cx="30492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609480" y="1905120"/>
          <a:ext cx="4724640" cy="138276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8116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08" name="Rectangle 50"/>
          <p:cNvSpPr/>
          <p:nvPr/>
        </p:nvSpPr>
        <p:spPr>
          <a:xfrm>
            <a:off x="914400" y="2286000"/>
            <a:ext cx="167652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51"/>
          <p:cNvSpPr/>
          <p:nvPr/>
        </p:nvSpPr>
        <p:spPr>
          <a:xfrm flipH="1">
            <a:off x="1600200" y="297180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52"/>
              <p:cNvSpPr txBox="1"/>
              <p:nvPr/>
            </p:nvSpPr>
            <p:spPr>
              <a:xfrm>
                <a:off x="763560" y="3890880"/>
                <a:ext cx="1722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53"/>
          <p:cNvSpPr/>
          <p:nvPr/>
        </p:nvSpPr>
        <p:spPr>
          <a:xfrm>
            <a:off x="533520" y="3886200"/>
            <a:ext cx="4038480" cy="190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54"/>
          <p:cNvSpPr/>
          <p:nvPr/>
        </p:nvSpPr>
        <p:spPr>
          <a:xfrm flipV="1">
            <a:off x="2590920" y="2514600"/>
            <a:ext cx="761760" cy="17524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55"/>
              <p:cNvSpPr txBox="1"/>
              <p:nvPr/>
            </p:nvSpPr>
            <p:spPr>
              <a:xfrm>
                <a:off x="609480" y="4800600"/>
                <a:ext cx="3505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80B5-37CF-4A09-A407-CEA31B0B387E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Divided Difference Tab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3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0" y="1674720"/>
          <a:ext cx="1522440" cy="2783160"/>
        </p:xfrm>
        <a:graphic>
          <a:graphicData uri="http://schemas.openxmlformats.org/drawingml/2006/table">
            <a:tbl>
              <a:tblPr/>
              <a:tblGrid>
                <a:gridCol w="762120"/>
                <a:gridCol w="76032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pic>
        <p:nvPicPr>
          <p:cNvPr id="218" name="Picture 21" descr=""/>
          <p:cNvPicPr/>
          <p:nvPr/>
        </p:nvPicPr>
        <p:blipFill>
          <a:blip r:embed="rId1"/>
          <a:stretch/>
        </p:blipFill>
        <p:spPr>
          <a:xfrm>
            <a:off x="7746840" y="1752480"/>
            <a:ext cx="330480" cy="457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2" descr=""/>
          <p:cNvPicPr/>
          <p:nvPr/>
        </p:nvPicPr>
        <p:blipFill>
          <a:blip r:embed="rId2"/>
          <a:stretch/>
        </p:blipFill>
        <p:spPr>
          <a:xfrm>
            <a:off x="7137360" y="1752480"/>
            <a:ext cx="30492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609480" y="1905120"/>
          <a:ext cx="4724640" cy="138276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8116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21" name="Rectangle 60"/>
          <p:cNvSpPr/>
          <p:nvPr/>
        </p:nvSpPr>
        <p:spPr>
          <a:xfrm>
            <a:off x="914400" y="2666880"/>
            <a:ext cx="167652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61"/>
          <p:cNvSpPr/>
          <p:nvPr/>
        </p:nvSpPr>
        <p:spPr>
          <a:xfrm>
            <a:off x="1600200" y="32767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62"/>
              <p:cNvSpPr txBox="1"/>
              <p:nvPr/>
            </p:nvSpPr>
            <p:spPr>
              <a:xfrm>
                <a:off x="763560" y="3914640"/>
                <a:ext cx="17226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Rectangle 63"/>
          <p:cNvSpPr/>
          <p:nvPr/>
        </p:nvSpPr>
        <p:spPr>
          <a:xfrm>
            <a:off x="685800" y="3886200"/>
            <a:ext cx="426708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64"/>
          <p:cNvSpPr/>
          <p:nvPr/>
        </p:nvSpPr>
        <p:spPr>
          <a:xfrm flipV="1">
            <a:off x="2514600" y="2819160"/>
            <a:ext cx="762120" cy="10666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65"/>
              <p:cNvSpPr txBox="1"/>
              <p:nvPr/>
            </p:nvSpPr>
            <p:spPr>
              <a:xfrm>
                <a:off x="762120" y="4876920"/>
                <a:ext cx="35049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600F-4FF5-4BD7-8ED8-D1108CD69CA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Divided Difference Tab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3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58000" y="1674720"/>
          <a:ext cx="1522440" cy="2783160"/>
        </p:xfrm>
        <a:graphic>
          <a:graphicData uri="http://schemas.openxmlformats.org/drawingml/2006/table">
            <a:tbl>
              <a:tblPr/>
              <a:tblGrid>
                <a:gridCol w="762120"/>
                <a:gridCol w="76032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231" name="Picture 21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33048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2" descr=""/>
          <p:cNvPicPr/>
          <p:nvPr/>
        </p:nvPicPr>
        <p:blipFill>
          <a:blip r:embed="rId2"/>
          <a:stretch/>
        </p:blipFill>
        <p:spPr>
          <a:xfrm>
            <a:off x="7086600" y="1752480"/>
            <a:ext cx="30492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609480" y="1905120"/>
          <a:ext cx="4724640" cy="138276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8116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4" name="Object 60"/>
              <p:cNvSpPr txBox="1"/>
              <p:nvPr/>
            </p:nvSpPr>
            <p:spPr>
              <a:xfrm>
                <a:off x="1066680" y="4191120"/>
                <a:ext cx="16765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61"/>
          <p:cNvSpPr/>
          <p:nvPr/>
        </p:nvSpPr>
        <p:spPr>
          <a:xfrm>
            <a:off x="609480" y="2286000"/>
            <a:ext cx="3505320" cy="1066680"/>
          </a:xfrm>
          <a:prstGeom prst="rect">
            <a:avLst/>
          </a:prstGeom>
          <a:noFill/>
          <a:ln w="5724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62"/>
          <p:cNvSpPr/>
          <p:nvPr/>
        </p:nvSpPr>
        <p:spPr>
          <a:xfrm>
            <a:off x="685800" y="4038480"/>
            <a:ext cx="5181480" cy="2133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63"/>
          <p:cNvSpPr/>
          <p:nvPr/>
        </p:nvSpPr>
        <p:spPr>
          <a:xfrm>
            <a:off x="1523880" y="335268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64"/>
          <p:cNvSpPr/>
          <p:nvPr/>
        </p:nvSpPr>
        <p:spPr>
          <a:xfrm flipV="1">
            <a:off x="2743200" y="2590560"/>
            <a:ext cx="1905120" cy="19047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65"/>
              <p:cNvSpPr txBox="1"/>
              <p:nvPr/>
            </p:nvSpPr>
            <p:spPr>
              <a:xfrm>
                <a:off x="838080" y="4952880"/>
                <a:ext cx="47912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ED87-8044-4A47-BB6B-3A8368C9343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Divided Difference Tab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3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858000" y="1674720"/>
          <a:ext cx="1522440" cy="2783160"/>
        </p:xfrm>
        <a:graphic>
          <a:graphicData uri="http://schemas.openxmlformats.org/drawingml/2006/table">
            <a:tbl>
              <a:tblPr/>
              <a:tblGrid>
                <a:gridCol w="762120"/>
                <a:gridCol w="76032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244" name="Picture 21" descr=""/>
          <p:cNvPicPr/>
          <p:nvPr/>
        </p:nvPicPr>
        <p:blipFill>
          <a:blip r:embed="rId1"/>
          <a:stretch/>
        </p:blipFill>
        <p:spPr>
          <a:xfrm>
            <a:off x="7772400" y="1752480"/>
            <a:ext cx="330120" cy="457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"/>
          <p:cNvPicPr/>
          <p:nvPr/>
        </p:nvPicPr>
        <p:blipFill>
          <a:blip r:embed="rId2"/>
          <a:stretch/>
        </p:blipFill>
        <p:spPr>
          <a:xfrm>
            <a:off x="7086600" y="1752480"/>
            <a:ext cx="30492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609480" y="1905120"/>
          <a:ext cx="4724640" cy="138276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8116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7" name="Object 50"/>
              <p:cNvSpPr txBox="1"/>
              <p:nvPr/>
            </p:nvSpPr>
            <p:spPr>
              <a:xfrm>
                <a:off x="1066680" y="4579920"/>
                <a:ext cx="64771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Line 51"/>
          <p:cNvSpPr/>
          <p:nvPr/>
        </p:nvSpPr>
        <p:spPr>
          <a:xfrm>
            <a:off x="2590920" y="2438280"/>
            <a:ext cx="75960" cy="228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Line 52"/>
          <p:cNvSpPr/>
          <p:nvPr/>
        </p:nvSpPr>
        <p:spPr>
          <a:xfrm>
            <a:off x="3429000" y="2514600"/>
            <a:ext cx="0" cy="21337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53"/>
          <p:cNvSpPr/>
          <p:nvPr/>
        </p:nvSpPr>
        <p:spPr>
          <a:xfrm>
            <a:off x="5029200" y="2514600"/>
            <a:ext cx="76320" cy="2057400"/>
          </a:xfrm>
          <a:prstGeom prst="line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54"/>
          <p:cNvSpPr/>
          <p:nvPr/>
        </p:nvSpPr>
        <p:spPr>
          <a:xfrm>
            <a:off x="838080" y="2514600"/>
            <a:ext cx="0" cy="289548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55"/>
          <p:cNvSpPr/>
          <p:nvPr/>
        </p:nvSpPr>
        <p:spPr>
          <a:xfrm>
            <a:off x="838080" y="5410080"/>
            <a:ext cx="5410440" cy="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56"/>
          <p:cNvSpPr/>
          <p:nvPr/>
        </p:nvSpPr>
        <p:spPr>
          <a:xfrm flipV="1">
            <a:off x="4419720" y="5105520"/>
            <a:ext cx="0" cy="30456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57"/>
          <p:cNvSpPr/>
          <p:nvPr/>
        </p:nvSpPr>
        <p:spPr>
          <a:xfrm flipV="1">
            <a:off x="6172200" y="502920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Oval 58"/>
          <p:cNvSpPr/>
          <p:nvPr/>
        </p:nvSpPr>
        <p:spPr>
          <a:xfrm>
            <a:off x="762120" y="2286000"/>
            <a:ext cx="609480" cy="380880"/>
          </a:xfrm>
          <a:prstGeom prst="ellipse">
            <a:avLst/>
          </a:prstGeom>
          <a:noFill/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Oval 59"/>
          <p:cNvSpPr/>
          <p:nvPr/>
        </p:nvSpPr>
        <p:spPr>
          <a:xfrm>
            <a:off x="914400" y="2666880"/>
            <a:ext cx="609480" cy="381240"/>
          </a:xfrm>
          <a:prstGeom prst="ellipse">
            <a:avLst/>
          </a:prstGeom>
          <a:noFill/>
          <a:ln cap="rnd" w="572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60"/>
          <p:cNvSpPr/>
          <p:nvPr/>
        </p:nvSpPr>
        <p:spPr>
          <a:xfrm flipH="1">
            <a:off x="990360" y="3048120"/>
            <a:ext cx="75960" cy="266688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61"/>
          <p:cNvSpPr/>
          <p:nvPr/>
        </p:nvSpPr>
        <p:spPr>
          <a:xfrm>
            <a:off x="1066680" y="5715000"/>
            <a:ext cx="6172200" cy="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62"/>
          <p:cNvSpPr/>
          <p:nvPr/>
        </p:nvSpPr>
        <p:spPr>
          <a:xfrm flipV="1">
            <a:off x="7238880" y="5181480"/>
            <a:ext cx="0" cy="53352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63"/>
          <p:cNvSpPr/>
          <p:nvPr/>
        </p:nvSpPr>
        <p:spPr>
          <a:xfrm>
            <a:off x="838080" y="5791320"/>
            <a:ext cx="7696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[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]+</a:t>
            </a:r>
            <a:r>
              <a:rPr b="0" lang="en-US" sz="2000" spc="-1" strike="noStrike">
                <a:solidFill>
                  <a:srgbClr val="99cc00"/>
                </a:solidFill>
                <a:latin typeface="Verdana"/>
              </a:rPr>
              <a:t>F[x</a:t>
            </a:r>
            <a:r>
              <a:rPr b="0" lang="en-US" sz="2000" spc="-1" strike="noStrike" baseline="-25000">
                <a:solidFill>
                  <a:srgbClr val="99cc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99cc00"/>
                </a:solidFill>
                <a:latin typeface="Verdana"/>
              </a:rPr>
              <a:t>,x</a:t>
            </a:r>
            <a:r>
              <a:rPr b="0" lang="en-US" sz="2000" spc="-1" strike="noStrike" baseline="-25000">
                <a:solidFill>
                  <a:srgbClr val="99cc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99cc00"/>
                </a:solidFill>
                <a:latin typeface="Verdan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x-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+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F[x</a:t>
            </a:r>
            <a:r>
              <a:rPr b="0" lang="en-US" sz="2000" spc="-1" strike="noStrike" baseline="-25000">
                <a:solidFill>
                  <a:srgbClr val="cc99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,x</a:t>
            </a:r>
            <a:r>
              <a:rPr b="0" lang="en-US" sz="2000" spc="-1" strike="noStrike" baseline="-25000">
                <a:solidFill>
                  <a:srgbClr val="cc99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,x</a:t>
            </a:r>
            <a:r>
              <a:rPr b="0" lang="en-US" sz="2000" spc="-1" strike="noStrike" baseline="-25000">
                <a:solidFill>
                  <a:srgbClr val="cc99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x-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(x-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7171-BFBB-4758-88C3-7597EDD979E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5100"/>
            </a:b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ntroduction to Interpo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66680" y="3123720"/>
            <a:ext cx="7467840" cy="29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polation Probl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istence and Unique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near and Quadratic Interpolati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wton’s Divided Difference Metho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perties of Divided Dif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17D7-28E7-4CA1-91C9-B072D81F5DC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wo Examp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763560" y="2441520"/>
          <a:ext cx="1674720" cy="2435400"/>
        </p:xfrm>
        <a:graphic>
          <a:graphicData uri="http://schemas.openxmlformats.org/drawingml/2006/table">
            <a:tbl>
              <a:tblPr/>
              <a:tblGrid>
                <a:gridCol w="801720"/>
                <a:gridCol w="87300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99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99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99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99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99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99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99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99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Text Box 21"/>
          <p:cNvSpPr/>
          <p:nvPr/>
        </p:nvSpPr>
        <p:spPr>
          <a:xfrm>
            <a:off x="533520" y="17524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btain the interpolating polynomials for the two 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399360" y="2441520"/>
          <a:ext cx="1677960" cy="2411640"/>
        </p:xfrm>
        <a:graphic>
          <a:graphicData uri="http://schemas.openxmlformats.org/drawingml/2006/table">
            <a:tbl>
              <a:tblPr/>
              <a:tblGrid>
                <a:gridCol w="799920"/>
                <a:gridCol w="8780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Text Box 39"/>
          <p:cNvSpPr/>
          <p:nvPr/>
        </p:nvSpPr>
        <p:spPr>
          <a:xfrm>
            <a:off x="1066680" y="50292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observ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29D7-93D3-4FFB-89E0-A255B239732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wo Examp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4"/>
              <p:cNvSpPr txBox="1"/>
              <p:nvPr/>
            </p:nvSpPr>
            <p:spPr>
              <a:xfrm>
                <a:off x="609480" y="4194000"/>
                <a:ext cx="3429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72" name=""/>
          <p:cNvGraphicFramePr/>
          <p:nvPr/>
        </p:nvGraphicFramePr>
        <p:xfrm>
          <a:off x="533520" y="1674720"/>
          <a:ext cx="2436840" cy="24145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8040"/>
                <a:gridCol w="6098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867280" y="1905120"/>
          <a:ext cx="2438640" cy="20700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74" name="Object 78"/>
              <p:cNvSpPr txBox="1"/>
              <p:nvPr/>
            </p:nvSpPr>
            <p:spPr>
              <a:xfrm>
                <a:off x="4800600" y="4114800"/>
                <a:ext cx="3538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Text Box 79"/>
          <p:cNvSpPr/>
          <p:nvPr/>
        </p:nvSpPr>
        <p:spPr>
          <a:xfrm>
            <a:off x="609480" y="5105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Ordering the points should not affect the interpolating polynomi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A214-0D39-44DB-B3F8-EDDB69FF722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roperties of Divided Differen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4"/>
              <p:cNvSpPr txBox="1"/>
              <p:nvPr/>
            </p:nvSpPr>
            <p:spPr>
              <a:xfrm>
                <a:off x="762120" y="2666880"/>
                <a:ext cx="71625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Text Box 5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rdering the points should not affect the divided differen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FE93-0936-440E-AD68-3A82CDAEFA8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a polynomial to interpolate the da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019920" y="1523880"/>
          <a:ext cx="2590560" cy="4530960"/>
        </p:xfrm>
        <a:graphic>
          <a:graphicData uri="http://schemas.openxmlformats.org/drawingml/2006/table">
            <a:tbl>
              <a:tblPr/>
              <a:tblGrid>
                <a:gridCol w="1182600"/>
                <a:gridCol w="14079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CB7A-F619-4209-B10F-21CA59B0C63E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609480" y="1981080"/>
          <a:ext cx="8077320" cy="2743200"/>
        </p:xfrm>
        <a:graphic>
          <a:graphicData uri="http://schemas.openxmlformats.org/drawingml/2006/table">
            <a:tbl>
              <a:tblPr/>
              <a:tblGrid>
                <a:gridCol w="633600"/>
                <a:gridCol w="793800"/>
                <a:gridCol w="1187280"/>
                <a:gridCol w="1728720"/>
                <a:gridCol w="175284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,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 ,  ,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1.66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.54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0.6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.83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88" name="Object 54"/>
              <p:cNvSpPr txBox="1"/>
              <p:nvPr/>
            </p:nvSpPr>
            <p:spPr>
              <a:xfrm>
                <a:off x="685800" y="4876920"/>
                <a:ext cx="7880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67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17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50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0844-493C-4EB3-B963-0917F5BEF82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431640" y="1523880"/>
                <a:ext cx="8282160" cy="376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polating Condition: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  The interpolating Polynomial is uniqu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  Different methods can be used to obtain 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-Newton Divided Difference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Section 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- Lagrange Interpolation       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Section 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- Other methods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dering the points should not affect the interpolating polynomia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B47C-7CF4-4B26-BC4B-BD34E2405FB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700"/>
            </a:b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Lagrange Interpo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446B-B065-4B70-A38A-FF0CFE16E53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he Interpolation Proble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Given a set o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point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Find a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order polynomi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hat passes through all points, such tha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819000" y="2286000"/>
                <a:ext cx="69724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5"/>
              <p:cNvSpPr txBox="1"/>
              <p:nvPr/>
            </p:nvSpPr>
            <p:spPr>
              <a:xfrm>
                <a:off x="5410080" y="3286080"/>
                <a:ext cx="10670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6"/>
              <p:cNvSpPr txBox="1"/>
              <p:nvPr/>
            </p:nvSpPr>
            <p:spPr>
              <a:xfrm>
                <a:off x="1136520" y="4648320"/>
                <a:ext cx="4770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7"/>
          <p:cNvSpPr/>
          <p:nvPr/>
        </p:nvSpPr>
        <p:spPr>
          <a:xfrm>
            <a:off x="914400" y="4419720"/>
            <a:ext cx="5486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5E63-1932-47DE-A885-4A4D5CEC37B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Lagrange Interpo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blem: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the polynomial of least order           such tha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grange Interpolation Formul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4"/>
              <p:cNvSpPr txBox="1"/>
              <p:nvPr/>
            </p:nvSpPr>
            <p:spPr>
              <a:xfrm>
                <a:off x="1371600" y="3519360"/>
                <a:ext cx="5410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6"/>
              <p:cNvSpPr txBox="1"/>
              <p:nvPr/>
            </p:nvSpPr>
            <p:spPr>
              <a:xfrm>
                <a:off x="5105520" y="3002040"/>
                <a:ext cx="838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7" name=""/>
          <p:cNvGraphicFramePr/>
          <p:nvPr/>
        </p:nvGraphicFramePr>
        <p:xfrm>
          <a:off x="3429000" y="1600200"/>
          <a:ext cx="4952880" cy="121932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990720"/>
                <a:gridCol w="990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8" name="Object 27"/>
              <p:cNvSpPr txBox="1"/>
              <p:nvPr/>
            </p:nvSpPr>
            <p:spPr>
              <a:xfrm>
                <a:off x="5791320" y="1600200"/>
                <a:ext cx="3394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28"/>
              <p:cNvSpPr txBox="1"/>
              <p:nvPr/>
            </p:nvSpPr>
            <p:spPr>
              <a:xfrm>
                <a:off x="7772400" y="1600200"/>
                <a:ext cx="396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9"/>
              <p:cNvSpPr txBox="1"/>
              <p:nvPr/>
            </p:nvSpPr>
            <p:spPr>
              <a:xfrm>
                <a:off x="4724280" y="2209680"/>
                <a:ext cx="3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30"/>
              <p:cNvSpPr txBox="1"/>
              <p:nvPr/>
            </p:nvSpPr>
            <p:spPr>
              <a:xfrm>
                <a:off x="5791320" y="2209680"/>
                <a:ext cx="366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31"/>
              <p:cNvSpPr txBox="1"/>
              <p:nvPr/>
            </p:nvSpPr>
            <p:spPr>
              <a:xfrm>
                <a:off x="7772400" y="2209680"/>
                <a:ext cx="3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32"/>
              <p:cNvSpPr txBox="1"/>
              <p:nvPr/>
            </p:nvSpPr>
            <p:spPr>
              <a:xfrm>
                <a:off x="3824280" y="1600200"/>
                <a:ext cx="338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33"/>
              <p:cNvSpPr txBox="1"/>
              <p:nvPr/>
            </p:nvSpPr>
            <p:spPr>
              <a:xfrm>
                <a:off x="3886200" y="2209680"/>
                <a:ext cx="366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34"/>
              <p:cNvSpPr txBox="1"/>
              <p:nvPr/>
            </p:nvSpPr>
            <p:spPr>
              <a:xfrm>
                <a:off x="5410080" y="4191120"/>
                <a:ext cx="3286080" cy="20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6" name="Rectangle 35"/>
          <p:cNvSpPr/>
          <p:nvPr/>
        </p:nvSpPr>
        <p:spPr>
          <a:xfrm>
            <a:off x="533520" y="4114800"/>
            <a:ext cx="8229600" cy="2133720"/>
          </a:xfrm>
          <a:prstGeom prst="rect">
            <a:avLst/>
          </a:prstGeom>
          <a:noFill/>
          <a:ln w="381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5"/>
              <p:cNvSpPr txBox="1"/>
              <p:nvPr/>
            </p:nvSpPr>
            <p:spPr>
              <a:xfrm>
                <a:off x="4724280" y="1600200"/>
                <a:ext cx="3668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7D5A-8016-44C0-B8FE-F78B94B056D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Lagrange Interpo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812880" y="2004840"/>
                <a:ext cx="6449760" cy="247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 called the cardinal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 cardinals are 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order polynomials:</m:t>
                        </m:r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8287-3661-4585-A4C2-9AEDA25E9FB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t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35053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nterpolation was used for long time to provide an estimate of a tabulated function at values that are not available in the t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hat is sin (0.15)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562720" y="1600200"/>
          <a:ext cx="3124080" cy="3429000"/>
        </p:xfrm>
        <a:graphic>
          <a:graphicData uri="http://schemas.openxmlformats.org/drawingml/2006/table">
            <a:tbl>
              <a:tblPr/>
              <a:tblGrid>
                <a:gridCol w="1562040"/>
                <a:gridCol w="156204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9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9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07" name="Rectangle 27"/>
          <p:cNvSpPr/>
          <p:nvPr/>
        </p:nvSpPr>
        <p:spPr>
          <a:xfrm>
            <a:off x="457200" y="5105520"/>
            <a:ext cx="8305920" cy="114300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Linear Interpolation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sin (0.15) ≈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0.149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rue valu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4 decimal digits)  sin (0.15) =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0.149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A705-E3B6-4013-B016-D99A9135981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Lagrange Interpolation 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6095880" y="1828800"/>
          <a:ext cx="2681280" cy="914400"/>
        </p:xfrm>
        <a:graphic>
          <a:graphicData uri="http://schemas.openxmlformats.org/drawingml/2006/table">
            <a:tbl>
              <a:tblPr/>
              <a:tblGrid>
                <a:gridCol w="692280"/>
                <a:gridCol w="716040"/>
                <a:gridCol w="71748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/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26" name="Object 21"/>
              <p:cNvSpPr txBox="1"/>
              <p:nvPr/>
            </p:nvSpPr>
            <p:spPr>
              <a:xfrm>
                <a:off x="609480" y="1981080"/>
                <a:ext cx="5639040" cy="364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9E7D-290C-4689-B191-20CD32E2D77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a polynomial to interpola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Newton’s interpolation method and Lagrange interpolation method must give the same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5867280" y="1600200"/>
          <a:ext cx="2819520" cy="45306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5456-6A1D-4B03-B67B-73D71A1A5DA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ton’s Interpolation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1600200"/>
          <a:ext cx="7053120" cy="45306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/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/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/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E33A-FA0D-4AD7-9C82-E13BCBE4D66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Interpolating Polynom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990720" y="1905120"/>
                <a:ext cx="7175520" cy="36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4CE5-0AD8-4922-A441-C0974A1B9D5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Interpolating Polynomial Using Lagrange Interpolation Metho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1574640" y="1523880"/>
                <a:ext cx="6426360" cy="463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7152-C867-468B-86F6-3C5691A2E93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Inverse Interpolation</a:t>
            </a:r>
            <a:br>
              <a:rPr sz="4000"/>
            </a:b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 Error in Polynomial Interpol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BAEA-0A0F-43EE-9AAA-DEA5570FB57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Inverse Interpol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533520" y="1646280"/>
                <a:ext cx="62895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lem:  Given a table of valu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such that: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where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give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46" name=""/>
          <p:cNvGraphicFramePr/>
          <p:nvPr/>
        </p:nvGraphicFramePr>
        <p:xfrm>
          <a:off x="1828800" y="2819520"/>
          <a:ext cx="4952880" cy="106668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990720"/>
                <a:gridCol w="9903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Object 26"/>
              <p:cNvSpPr txBox="1"/>
              <p:nvPr/>
            </p:nvSpPr>
            <p:spPr>
              <a:xfrm>
                <a:off x="4003560" y="2743200"/>
                <a:ext cx="339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7"/>
              <p:cNvSpPr txBox="1"/>
              <p:nvPr/>
            </p:nvSpPr>
            <p:spPr>
              <a:xfrm>
                <a:off x="6019920" y="2809800"/>
                <a:ext cx="396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8"/>
              <p:cNvSpPr txBox="1"/>
              <p:nvPr/>
            </p:nvSpPr>
            <p:spPr>
              <a:xfrm>
                <a:off x="3124080" y="3343320"/>
                <a:ext cx="3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9"/>
              <p:cNvSpPr txBox="1"/>
              <p:nvPr/>
            </p:nvSpPr>
            <p:spPr>
              <a:xfrm>
                <a:off x="4038480" y="3343320"/>
                <a:ext cx="3668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0"/>
              <p:cNvSpPr txBox="1"/>
              <p:nvPr/>
            </p:nvSpPr>
            <p:spPr>
              <a:xfrm>
                <a:off x="6019920" y="3343320"/>
                <a:ext cx="3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1"/>
              <p:cNvSpPr txBox="1"/>
              <p:nvPr/>
            </p:nvSpPr>
            <p:spPr>
              <a:xfrm>
                <a:off x="2057400" y="2809800"/>
                <a:ext cx="338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2"/>
              <p:cNvSpPr txBox="1"/>
              <p:nvPr/>
            </p:nvSpPr>
            <p:spPr>
              <a:xfrm>
                <a:off x="2057400" y="3343320"/>
                <a:ext cx="366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4" name="Text Box 33"/>
          <p:cNvSpPr/>
          <p:nvPr/>
        </p:nvSpPr>
        <p:spPr>
          <a:xfrm>
            <a:off x="380880" y="4191120"/>
            <a:ext cx="8382240" cy="1432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e approach</a:t>
            </a:r>
            <a:r>
              <a:rPr b="1" lang="en-US" sz="2400" spc="-1" strike="noStrike" u="sng">
                <a:solidFill>
                  <a:srgbClr val="cccc66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cccc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olynomial interpolation to obt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nterpolate the data then use Newton’s method to find a solution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4"/>
              <p:cNvSpPr txBox="1"/>
              <p:nvPr/>
            </p:nvSpPr>
            <p:spPr>
              <a:xfrm>
                <a:off x="2990880" y="5676840"/>
                <a:ext cx="3181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Rectangle 35"/>
          <p:cNvSpPr/>
          <p:nvPr/>
        </p:nvSpPr>
        <p:spPr>
          <a:xfrm>
            <a:off x="2362320" y="5105520"/>
            <a:ext cx="2438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3138480" y="2766960"/>
                <a:ext cx="3668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2DA7-3B32-4B8F-A53C-55E28EED110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Inverse Interpol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124080" y="1981080"/>
          <a:ext cx="4953240" cy="106704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0720"/>
                <a:gridCol w="9907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2" name="Object 25"/>
              <p:cNvSpPr txBox="1"/>
              <p:nvPr/>
            </p:nvSpPr>
            <p:spPr>
              <a:xfrm>
                <a:off x="5375160" y="1981080"/>
                <a:ext cx="339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6"/>
              <p:cNvSpPr txBox="1"/>
              <p:nvPr/>
            </p:nvSpPr>
            <p:spPr>
              <a:xfrm>
                <a:off x="7391520" y="1981080"/>
                <a:ext cx="396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27"/>
              <p:cNvSpPr txBox="1"/>
              <p:nvPr/>
            </p:nvSpPr>
            <p:spPr>
              <a:xfrm>
                <a:off x="4329000" y="2514600"/>
                <a:ext cx="3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28"/>
              <p:cNvSpPr txBox="1"/>
              <p:nvPr/>
            </p:nvSpPr>
            <p:spPr>
              <a:xfrm>
                <a:off x="5348160" y="2514600"/>
                <a:ext cx="3668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9"/>
              <p:cNvSpPr txBox="1"/>
              <p:nvPr/>
            </p:nvSpPr>
            <p:spPr>
              <a:xfrm>
                <a:off x="7391520" y="2514600"/>
                <a:ext cx="3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0"/>
              <p:cNvSpPr txBox="1"/>
              <p:nvPr/>
            </p:nvSpPr>
            <p:spPr>
              <a:xfrm>
                <a:off x="3395520" y="2006640"/>
                <a:ext cx="338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1"/>
              <p:cNvSpPr txBox="1"/>
              <p:nvPr/>
            </p:nvSpPr>
            <p:spPr>
              <a:xfrm>
                <a:off x="3352680" y="2514600"/>
                <a:ext cx="366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Text Box 32"/>
          <p:cNvSpPr/>
          <p:nvPr/>
        </p:nvSpPr>
        <p:spPr>
          <a:xfrm>
            <a:off x="533520" y="1969920"/>
            <a:ext cx="25905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Inverse interpolation:</a:t>
            </a:r>
            <a:r>
              <a:rPr b="0" lang="en-US" sz="1800" spc="-1" strike="noStrike">
                <a:solidFill>
                  <a:srgbClr val="cccc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1. Exchange the ro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of x and 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2. Perform polynom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Interpolation on t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new 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3. Evaluat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33"/>
              <p:cNvSpPr txBox="1"/>
              <p:nvPr/>
            </p:nvSpPr>
            <p:spPr>
              <a:xfrm>
                <a:off x="853920" y="5423040"/>
                <a:ext cx="24228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1" name=""/>
          <p:cNvGraphicFramePr/>
          <p:nvPr/>
        </p:nvGraphicFramePr>
        <p:xfrm>
          <a:off x="3200400" y="3965400"/>
          <a:ext cx="4876920" cy="1046160"/>
        </p:xfrm>
        <a:graphic>
          <a:graphicData uri="http://schemas.openxmlformats.org/drawingml/2006/table">
            <a:tbl>
              <a:tblPr/>
              <a:tblGrid>
                <a:gridCol w="1035000"/>
                <a:gridCol w="961920"/>
                <a:gridCol w="959040"/>
                <a:gridCol w="961920"/>
                <a:gridCol w="95904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AutoShape 54"/>
          <p:cNvSpPr/>
          <p:nvPr/>
        </p:nvSpPr>
        <p:spPr>
          <a:xfrm>
            <a:off x="5029200" y="3124080"/>
            <a:ext cx="1981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55"/>
              <p:cNvSpPr txBox="1"/>
              <p:nvPr/>
            </p:nvSpPr>
            <p:spPr>
              <a:xfrm>
                <a:off x="3429000" y="3962520"/>
                <a:ext cx="366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56"/>
              <p:cNvSpPr txBox="1"/>
              <p:nvPr/>
            </p:nvSpPr>
            <p:spPr>
              <a:xfrm>
                <a:off x="4343400" y="3962520"/>
                <a:ext cx="3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57"/>
              <p:cNvSpPr txBox="1"/>
              <p:nvPr/>
            </p:nvSpPr>
            <p:spPr>
              <a:xfrm>
                <a:off x="5410080" y="3962520"/>
                <a:ext cx="3668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58"/>
              <p:cNvSpPr txBox="1"/>
              <p:nvPr/>
            </p:nvSpPr>
            <p:spPr>
              <a:xfrm>
                <a:off x="7391520" y="3962520"/>
                <a:ext cx="3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59"/>
              <p:cNvSpPr txBox="1"/>
              <p:nvPr/>
            </p:nvSpPr>
            <p:spPr>
              <a:xfrm>
                <a:off x="3429000" y="4572000"/>
                <a:ext cx="338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60"/>
              <p:cNvSpPr txBox="1"/>
              <p:nvPr/>
            </p:nvSpPr>
            <p:spPr>
              <a:xfrm>
                <a:off x="4329000" y="4572000"/>
                <a:ext cx="366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61"/>
              <p:cNvSpPr txBox="1"/>
              <p:nvPr/>
            </p:nvSpPr>
            <p:spPr>
              <a:xfrm>
                <a:off x="5486400" y="4572000"/>
                <a:ext cx="339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62"/>
              <p:cNvSpPr txBox="1"/>
              <p:nvPr/>
            </p:nvSpPr>
            <p:spPr>
              <a:xfrm>
                <a:off x="7391520" y="4572000"/>
                <a:ext cx="396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4"/>
              <p:cNvSpPr txBox="1"/>
              <p:nvPr/>
            </p:nvSpPr>
            <p:spPr>
              <a:xfrm>
                <a:off x="4357800" y="2004840"/>
                <a:ext cx="3664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C5C0-5AC0-4CD7-B61F-2AE273F4FB2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Inverse Interpol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4"/>
          <p:cNvSpPr/>
          <p:nvPr/>
        </p:nvSpPr>
        <p:spPr>
          <a:xfrm flipV="1">
            <a:off x="1143000" y="2209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5"/>
          <p:cNvSpPr/>
          <p:nvPr/>
        </p:nvSpPr>
        <p:spPr>
          <a:xfrm>
            <a:off x="1143000" y="3657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251460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7"/>
          <p:cNvSpPr/>
          <p:nvPr/>
        </p:nvSpPr>
        <p:spPr>
          <a:xfrm flipV="1">
            <a:off x="5943600" y="2209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Freeform 8"/>
          <p:cNvSpPr/>
          <p:nvPr/>
        </p:nvSpPr>
        <p:spPr>
          <a:xfrm>
            <a:off x="1219320" y="2743200"/>
            <a:ext cx="1828800" cy="762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152" h="480">
                <a:moveTo>
                  <a:pt x="0" y="0"/>
                </a:moveTo>
                <a:cubicBezTo>
                  <a:pt x="120" y="36"/>
                  <a:pt x="240" y="72"/>
                  <a:pt x="336" y="144"/>
                </a:cubicBezTo>
                <a:cubicBezTo>
                  <a:pt x="432" y="216"/>
                  <a:pt x="488" y="384"/>
                  <a:pt x="576" y="432"/>
                </a:cubicBezTo>
                <a:cubicBezTo>
                  <a:pt x="664" y="480"/>
                  <a:pt x="768" y="440"/>
                  <a:pt x="864" y="432"/>
                </a:cubicBezTo>
                <a:cubicBezTo>
                  <a:pt x="960" y="424"/>
                  <a:pt x="1096" y="400"/>
                  <a:pt x="1152" y="384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Freeform 9"/>
          <p:cNvSpPr/>
          <p:nvPr/>
        </p:nvSpPr>
        <p:spPr>
          <a:xfrm rot="17528400">
            <a:off x="6095880" y="2438280"/>
            <a:ext cx="1828800" cy="762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152" h="480">
                <a:moveTo>
                  <a:pt x="0" y="0"/>
                </a:moveTo>
                <a:cubicBezTo>
                  <a:pt x="120" y="36"/>
                  <a:pt x="240" y="72"/>
                  <a:pt x="336" y="144"/>
                </a:cubicBezTo>
                <a:cubicBezTo>
                  <a:pt x="432" y="216"/>
                  <a:pt x="488" y="384"/>
                  <a:pt x="576" y="432"/>
                </a:cubicBezTo>
                <a:cubicBezTo>
                  <a:pt x="664" y="480"/>
                  <a:pt x="768" y="440"/>
                  <a:pt x="864" y="432"/>
                </a:cubicBezTo>
                <a:cubicBezTo>
                  <a:pt x="960" y="424"/>
                  <a:pt x="1096" y="400"/>
                  <a:pt x="1152" y="384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10"/>
          <p:cNvSpPr/>
          <p:nvPr/>
        </p:nvSpPr>
        <p:spPr>
          <a:xfrm>
            <a:off x="5943600" y="3657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11"/>
          <p:cNvSpPr/>
          <p:nvPr/>
        </p:nvSpPr>
        <p:spPr>
          <a:xfrm>
            <a:off x="1143000" y="3200400"/>
            <a:ext cx="2057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12"/>
          <p:cNvSpPr/>
          <p:nvPr/>
        </p:nvSpPr>
        <p:spPr>
          <a:xfrm>
            <a:off x="6934320" y="2209680"/>
            <a:ext cx="0" cy="144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094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75438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5562720" y="2209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4FC3-174A-4EB5-8293-CE5DC274DEF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Inverse Interpol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533520" y="1905120"/>
            <a:ext cx="7696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What is the limitation of inverse interpol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685800" y="3809880"/>
            <a:ext cx="76201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function has an inver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must be distinc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685800" y="3809880"/>
            <a:ext cx="7162920" cy="1524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04EF-6799-4D8D-8A68-F84BF5B6BF6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he Interpolation Proble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Given a set o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point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Find a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order polynomi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hat passes through all points, such tha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819000" y="2286000"/>
                <a:ext cx="69724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5334120" y="3260880"/>
                <a:ext cx="106668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136520" y="4648320"/>
                <a:ext cx="4770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Rectangle 7"/>
          <p:cNvSpPr/>
          <p:nvPr/>
        </p:nvSpPr>
        <p:spPr>
          <a:xfrm>
            <a:off x="914400" y="4419720"/>
            <a:ext cx="5486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BC8B-4A07-4AEE-9E27-8CBCB819330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nverse Interpolation </a:t>
            </a:r>
            <a:br>
              <a:rPr sz="4400"/>
            </a:b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Example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762120" y="2276640"/>
                <a:ext cx="671328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lem: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iven the tab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Find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such that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7" name="Rectangle 5"/>
          <p:cNvSpPr/>
          <p:nvPr/>
        </p:nvSpPr>
        <p:spPr>
          <a:xfrm>
            <a:off x="457200" y="1447920"/>
            <a:ext cx="8077320" cy="472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572000" y="1752480"/>
          <a:ext cx="3124080" cy="914400"/>
        </p:xfrm>
        <a:graphic>
          <a:graphicData uri="http://schemas.openxmlformats.org/drawingml/2006/table">
            <a:tbl>
              <a:tblPr/>
              <a:tblGrid>
                <a:gridCol w="746280"/>
                <a:gridCol w="747720"/>
                <a:gridCol w="745920"/>
                <a:gridCol w="884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838080" y="3581280"/>
          <a:ext cx="5334120" cy="1224000"/>
        </p:xfrm>
        <a:graphic>
          <a:graphicData uri="http://schemas.openxmlformats.org/drawingml/2006/table">
            <a:tbl>
              <a:tblPr/>
              <a:tblGrid>
                <a:gridCol w="1368720"/>
                <a:gridCol w="1158840"/>
                <a:gridCol w="1333440"/>
                <a:gridCol w="14731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.8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4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30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10" name="Object 53"/>
              <p:cNvSpPr txBox="1"/>
              <p:nvPr/>
            </p:nvSpPr>
            <p:spPr>
              <a:xfrm>
                <a:off x="609480" y="5046840"/>
                <a:ext cx="79819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3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17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3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17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87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4D4D-59E0-40DE-BA22-588829DDD5D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Errors in polynomial Interpol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Polynomial interpolation may lead to large errors (especially for high order polynomial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E CAREF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When an n</a:t>
            </a:r>
            <a:r>
              <a:rPr b="0" lang="en-US" sz="2400" spc="-1" strike="noStrike" baseline="30000">
                <a:solidFill>
                  <a:srgbClr val="0000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order interpolating polynomial is used, the error is related to the (n+1)</a:t>
            </a:r>
            <a:r>
              <a:rPr b="0" lang="en-US" sz="2400" spc="-1" strike="noStrike" baseline="30000">
                <a:solidFill>
                  <a:srgbClr val="0000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order derivati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0B57-9166-4F0B-8DC2-A9D8AFCE2A7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416" name="Line 3"/>
          <p:cNvSpPr/>
          <p:nvPr/>
        </p:nvSpPr>
        <p:spPr>
          <a:xfrm flipH="1">
            <a:off x="2895120" y="2895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Line 4"/>
          <p:cNvSpPr/>
          <p:nvPr/>
        </p:nvSpPr>
        <p:spPr>
          <a:xfrm flipH="1" flipV="1">
            <a:off x="3733560" y="480060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10</a:t>
            </a:r>
            <a:r>
              <a:rPr b="0" lang="en-US" sz="4000" spc="-1" strike="noStrike" baseline="30000">
                <a:solidFill>
                  <a:srgbClr val="999900"/>
                </a:solidFill>
                <a:latin typeface="Garamond"/>
              </a:rPr>
              <a:t>th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Order Polynomial Interpolation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DAB5-C98F-4A19-9646-67C166A6EC5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1295280" y="4419720"/>
            <a:ext cx="601992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114800" y="3352680"/>
            <a:ext cx="3886200" cy="533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6324480" y="1981080"/>
            <a:ext cx="2362320" cy="838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6"/>
              <p:cNvSpPr txBox="1"/>
              <p:nvPr/>
            </p:nvSpPr>
            <p:spPr>
              <a:xfrm>
                <a:off x="1100160" y="1523880"/>
                <a:ext cx="7586640" cy="405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be a function such that: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continuous on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, and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 any polynomial of degree 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at interpolates 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at 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ly spaced poin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]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cluding the end point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: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Errors in polynomial Interpol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orem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AC13-F83E-4521-99EF-C9315B93BAB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785880" y="1523880"/>
                <a:ext cx="6810480" cy="470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e want to use 9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order polynomial to interpolate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sing 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equally spaced point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n the interval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75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875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D4BD-EBB4-4CE3-B42C-1FA00F0A7EA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The interpolating polynomial is uniq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Different methods can be used to obtain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Newton’s divided dif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Lagrange interpo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Polynomial interpolation can be sensitive to data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E CAREFUL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when high order polynomials are us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4B33-EFD3-4DD1-B3B1-DD3105ED238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5867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Verdana"/>
              </a:rPr>
              <a:t>An experiment is used to determine the viscosity of water as a function  of temperature. The following table is generated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Problem: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Estimate the viscosity when the temperature is 8 degree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943600" y="1447920"/>
          <a:ext cx="2895480" cy="3654360"/>
        </p:xfrm>
        <a:graphic>
          <a:graphicData uri="http://schemas.openxmlformats.org/drawingml/2006/table">
            <a:tbl>
              <a:tblPr/>
              <a:tblGrid>
                <a:gridCol w="1523880"/>
                <a:gridCol w="137160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degre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cos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9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1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24"/>
          <p:cNvSpPr/>
          <p:nvPr/>
        </p:nvSpPr>
        <p:spPr>
          <a:xfrm>
            <a:off x="228600" y="1447920"/>
            <a:ext cx="5715000" cy="3657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86D1-69E1-495C-9D03-17804F0DAA7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562720" y="2514600"/>
            <a:ext cx="3200400" cy="2590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Interpolation Proble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3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nd a polynomial that fits the data points exact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5"/>
              <p:cNvSpPr txBox="1"/>
              <p:nvPr/>
            </p:nvSpPr>
            <p:spPr>
              <a:xfrm>
                <a:off x="925560" y="2895480"/>
                <a:ext cx="3328920" cy="22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5715000" y="2646360"/>
                <a:ext cx="2808360" cy="30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iscosity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mperature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lynomial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efficients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7"/>
          <p:cNvSpPr/>
          <p:nvPr/>
        </p:nvSpPr>
        <p:spPr>
          <a:xfrm>
            <a:off x="533520" y="5257800"/>
            <a:ext cx="82296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Linear Interpolation:  V(T)= 1.73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−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0.0422 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5715000"/>
            <a:ext cx="48769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V(8)= 1.392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9ACE-AC8E-4E81-8AC9-47E0F88BC73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xistence and Uniquenes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453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Given a set of n+1 point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Verdana"/>
              </a:rPr>
              <a:t>Assumption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        are </a:t>
            </a:r>
            <a:r>
              <a:rPr b="0" lang="en-US" sz="2500" spc="-1" strike="noStrike">
                <a:solidFill>
                  <a:srgbClr val="ff0000"/>
                </a:solidFill>
                <a:latin typeface="Verdana"/>
              </a:rPr>
              <a:t>distin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Verdana"/>
              </a:rPr>
              <a:t>Theore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is a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Verdana"/>
              </a:rPr>
              <a:t>uniqu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olynomial </a:t>
            </a: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(x)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Verdana"/>
              </a:rPr>
              <a:t>order ≤ 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such that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1044720" y="5334120"/>
                <a:ext cx="6750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5"/>
              <p:cNvSpPr txBox="1"/>
              <p:nvPr/>
            </p:nvSpPr>
            <p:spPr>
              <a:xfrm>
                <a:off x="3048120" y="3048120"/>
                <a:ext cx="1828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914400" y="2286000"/>
                <a:ext cx="5962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89CE-497B-4191-ABF4-EFE5793B086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Examples of Polynomial Interpolatio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530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Linear Interpo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any two points, there is one polynomial of order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≤ 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passes through the two poi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1640" y="1447560"/>
            <a:ext cx="4419720" cy="4530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Quadratic Interpo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any three points there is one polynomial of order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≤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passes through the three poi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5"/>
          <p:cNvSpPr/>
          <p:nvPr/>
        </p:nvSpPr>
        <p:spPr>
          <a:xfrm flipV="1">
            <a:off x="137160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91440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7"/>
          <p:cNvSpPr/>
          <p:nvPr/>
        </p:nvSpPr>
        <p:spPr>
          <a:xfrm flipV="1">
            <a:off x="1447920" y="274320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1676520" y="3657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 flipV="1">
            <a:off x="632448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586728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5791320" y="2666880"/>
            <a:ext cx="2255760" cy="1008360"/>
          </a:xfrm>
          <a:custGeom>
            <a:avLst/>
            <a:gdLst>
              <a:gd name="textAreaLeft" fmla="*/ 0 w 2255760"/>
              <a:gd name="textAreaRight" fmla="*/ 2256120 w 225576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1421" h="635">
                <a:moveTo>
                  <a:pt x="1421" y="79"/>
                </a:moveTo>
                <a:cubicBezTo>
                  <a:pt x="1322" y="168"/>
                  <a:pt x="1053" y="635"/>
                  <a:pt x="816" y="622"/>
                </a:cubicBezTo>
                <a:cubicBezTo>
                  <a:pt x="579" y="609"/>
                  <a:pt x="308" y="30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Oval 12"/>
          <p:cNvSpPr/>
          <p:nvPr/>
        </p:nvSpPr>
        <p:spPr>
          <a:xfrm>
            <a:off x="2438280" y="30481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Oval 13"/>
          <p:cNvSpPr/>
          <p:nvPr/>
        </p:nvSpPr>
        <p:spPr>
          <a:xfrm>
            <a:off x="5867280" y="274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731520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7848720" y="2819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E8A0-088A-4946-96BF-1513CBA33CA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Linear Interpolation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Given any two point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he line that interpolates the two points i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Exampl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a polynomial that interpolates (1,2) and (2,4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3962520" y="1600200"/>
                <a:ext cx="3276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Line 5"/>
          <p:cNvSpPr/>
          <p:nvPr/>
        </p:nvSpPr>
        <p:spPr>
          <a:xfrm flipV="1">
            <a:off x="7772400" y="15238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73152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7"/>
          <p:cNvSpPr/>
          <p:nvPr/>
        </p:nvSpPr>
        <p:spPr>
          <a:xfrm flipV="1">
            <a:off x="7543800" y="1904760"/>
            <a:ext cx="12193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8077320" y="2666880"/>
            <a:ext cx="7596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8534520" y="2057400"/>
            <a:ext cx="7596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0"/>
              <p:cNvSpPr txBox="1"/>
              <p:nvPr/>
            </p:nvSpPr>
            <p:spPr>
              <a:xfrm>
                <a:off x="1523880" y="3048120"/>
                <a:ext cx="4086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1"/>
              <p:cNvSpPr txBox="1"/>
              <p:nvPr/>
            </p:nvSpPr>
            <p:spPr>
              <a:xfrm>
                <a:off x="1685880" y="4986360"/>
                <a:ext cx="2998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22:58:36Z</dcterms:created>
  <dc:creator>PHILIPS</dc:creator>
  <dc:description/>
  <dc:language>en-US</dc:language>
  <cp:lastModifiedBy>PHILIPS</cp:lastModifiedBy>
  <dcterms:modified xsi:type="dcterms:W3CDTF">2016-02-22T05:36:34Z</dcterms:modified>
  <cp:revision>142</cp:revision>
  <dc:subject/>
  <dc:title>Slide 1</dc:title>
</cp:coreProperties>
</file>