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62BE5D-F200-465C-ABCC-DC9F0B3B1B5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CC1CC9-0214-43F1-B520-38194F17579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3D20E1-D8AD-4C0E-8784-4D5C7E3E7D3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31706D-28AD-41CB-AEA9-69372850B46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F13219-8E64-4417-B764-6ACEDD55B84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6FE2F2-63C3-42D2-AD1B-79142068ACC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2527B4-79C5-4751-B7B5-017ED193298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896250-C948-442F-BBE2-DCA298A337B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719766-35DD-44ED-9703-9CFAF4474B2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3A39BD-1E1F-4E94-A725-632784BDC8C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3DAAC9-D42B-4DBB-92A9-E92C78DBF1C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AB184E-1F5C-402C-8987-0BE3003F29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707F44-1030-4CFC-A9BC-E5B1EACB612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C94309-E6E3-47C5-A846-D4FF39904FC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7420D3-50F2-4475-8D64-6D9353689A0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EA169A-2CC4-4FDD-A07A-11B80461D13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AD8A24-6037-4FF2-A97C-EF7862C9DF5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1D2128-25DA-4E09-9966-5FEA8E62845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A318E1-E1D1-419A-B857-85D334209F7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1FF340-67CE-4DE8-BBA2-2DA3B5E8700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958692-C39E-4941-A45B-E30B78B8626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59F477-0A9F-4E73-A4D0-A577AAF5FAF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2E63DD-69D2-4297-974E-246D9DE6123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11AF2A-ED48-4FEE-A32B-37E7D1F0F8D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1570D6-292E-4419-8456-096E4B69DF7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0E57BC-8660-45EC-800D-FB178B9DE5D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9B6AB0-0E06-4B18-9408-7740822F5EA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584874-B80F-4F4F-8F2B-89881ADC76E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B28981-308A-429D-8A45-D5056FF09FE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B3D939-ABEA-4946-91B4-E7D2FDBC3C0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09BFED-4345-40DA-9963-C77E90D04BD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235B3E-B3B4-4319-B73B-285F78DDB9E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09AD60-9DFB-4DBE-8861-880A360F4CD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37B235-F172-482F-8ACA-A2FD802CE08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BDC7DC-B398-4492-8A01-FD1EC49B31E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7EB7AF-5C60-492B-9000-8EFD6B30536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7DA959-AE52-4895-9E05-72E98776A78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477D44-7BE1-4B62-8494-F0DA0EBC270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5B873D-A431-443F-900E-311CF70912F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E5C640-9C43-43E9-95EF-EFFAE4FC896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400226-DC3B-4B21-BB37-DE7F819A20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456060-04ED-4AA4-99A6-2E38DA1B785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503AE8-2F77-4D63-BF12-F5A8D9BBF9F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110FE5-353A-4D74-885F-6EC11E07C82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06FB6C-4B94-4FF6-B7F8-99AF48CA303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DCA337-A125-42D7-9603-C5DE384F1F9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506-45B4-40B6-BE3C-D7900183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EE3E-7A49-489D-98E8-5B7F2CD0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147-03B5-499C-8A98-8331645A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180A-F4BF-41A7-B555-E302513E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2334-1F54-44B2-A639-BEFFD648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DB3E-7F51-4772-878A-15EDA14C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62CC-8B15-42B7-95D7-BADFA639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DB30-A49C-41D7-B9DD-C2F64119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5F96-6041-4CD6-8E9E-DFCBE804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55CC-696B-45EE-82A2-43A1E23A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50AF-994E-4DBB-BCFE-7878727D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7F83-1287-4532-A553-FBD15ABD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63F4-6062-4BDD-AADB-616C2454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6FE0-4F43-4E35-8B49-C892B2F0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EFD8-0D0D-4B84-84A2-49732126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0585-5293-42D1-9A04-B6FC789B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EF19-DA59-49E6-B388-3273EDBE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AD33-2130-4172-8730-F5CBF081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3D6-9DA3-4F43-A4E6-3028FDF9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76F-7371-47A8-B991-12FDA4BA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6E36-5B3E-4D34-954F-708F3A3A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7060-0347-4A6E-806A-A782FD92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533-0925-4BE3-91F2-E23F987E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C271-1C86-47FE-8CB7-62B6B117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SE301_Topic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A0CC-672E-4310-8775-55AE0A2DB1F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SE301_Topic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BE5C-60FE-4DA0-B91D-38AEAE3666E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A164-7580-4902-94F8-BBA37461A0A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04920" y="685800"/>
            <a:ext cx="845820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9900"/>
                </a:solidFill>
                <a:latin typeface="Garamond"/>
              </a:rPr>
              <a:t>       </a:t>
            </a:r>
            <a:br>
              <a:rPr sz="3500"/>
            </a:br>
            <a:r>
              <a:rPr b="0" lang="en-GB" sz="2800" spc="-1" strike="noStrike">
                <a:solidFill>
                  <a:srgbClr val="4d6600"/>
                </a:solidFill>
                <a:latin typeface="Verdana"/>
              </a:rPr>
              <a:t>Approximating functions, polynomial interpolation (Lagrange and Newton’s divided differences) formulas, error approximations</a:t>
            </a:r>
            <a:br>
              <a:rPr sz="33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228600" y="3124080"/>
            <a:ext cx="85345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9459-CCD1-44E4-B736-F226B8FF9FA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533520" y="2514600"/>
            <a:ext cx="548640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Garamond"/>
              </a:rPr>
              <a:t>Quadratic Interpolation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n any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ree poi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polynomi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interpolates the three points 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4495680" y="1676520"/>
                <a:ext cx="4419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533520" y="2743200"/>
                <a:ext cx="60753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Line 7"/>
          <p:cNvSpPr/>
          <p:nvPr/>
        </p:nvSpPr>
        <p:spPr>
          <a:xfrm flipV="1">
            <a:off x="8153280" y="37335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Line 8"/>
          <p:cNvSpPr/>
          <p:nvPr/>
        </p:nvSpPr>
        <p:spPr>
          <a:xfrm>
            <a:off x="7391520" y="5029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Freeform 9"/>
          <p:cNvSpPr/>
          <p:nvPr/>
        </p:nvSpPr>
        <p:spPr>
          <a:xfrm>
            <a:off x="7162920" y="3809880"/>
            <a:ext cx="1569960" cy="100836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1421" h="635">
                <a:moveTo>
                  <a:pt x="1421" y="79"/>
                </a:moveTo>
                <a:cubicBezTo>
                  <a:pt x="1322" y="168"/>
                  <a:pt x="1053" y="635"/>
                  <a:pt x="816" y="622"/>
                </a:cubicBezTo>
                <a:cubicBezTo>
                  <a:pt x="579" y="609"/>
                  <a:pt x="308" y="30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7315200" y="4038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7620120" y="4495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8534520" y="4038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D495-936A-4F80-8A8F-5485543755DF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80880" y="2514600"/>
            <a:ext cx="8534520" cy="2743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Garamond"/>
              </a:rPr>
              <a:t>General n</a:t>
            </a:r>
            <a:r>
              <a:rPr b="0" lang="en-US" sz="4800" spc="-1" strike="noStrike" baseline="30000">
                <a:solidFill>
                  <a:srgbClr val="ff0000"/>
                </a:solidFill>
                <a:latin typeface="Garamond"/>
              </a:rPr>
              <a:t>th</a:t>
            </a:r>
            <a:r>
              <a:rPr b="0" lang="en-US" sz="4800" spc="-1" strike="noStrike">
                <a:solidFill>
                  <a:srgbClr val="ff0000"/>
                </a:solidFill>
                <a:latin typeface="Garamond"/>
              </a:rPr>
              <a:t> Order Interpolation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n any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+1 poi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polynomi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interpolates all points i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5"/>
              <p:cNvSpPr txBox="1"/>
              <p:nvPr/>
            </p:nvSpPr>
            <p:spPr>
              <a:xfrm>
                <a:off x="4149720" y="1676520"/>
                <a:ext cx="4229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6"/>
              <p:cNvSpPr txBox="1"/>
              <p:nvPr/>
            </p:nvSpPr>
            <p:spPr>
              <a:xfrm>
                <a:off x="533520" y="2819520"/>
                <a:ext cx="8116920" cy="23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4254-DBFE-4C74-AF1D-3049729B577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Divided Differenc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380880" y="1523880"/>
                <a:ext cx="8305920" cy="371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Zeroth order DD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rst order D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cond order 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F058-E137-42E6-A43C-B14CBB8F0F90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Divided Difference Tab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38080" y="1752480"/>
          <a:ext cx="7543800" cy="1752840"/>
        </p:xfrm>
        <a:graphic>
          <a:graphicData uri="http://schemas.openxmlformats.org/drawingml/2006/table">
            <a:tbl>
              <a:tblPr/>
              <a:tblGrid>
                <a:gridCol w="838440"/>
                <a:gridCol w="1295280"/>
                <a:gridCol w="1676520"/>
                <a:gridCol w="1600200"/>
                <a:gridCol w="213336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 ,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 ,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, ,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00"/>
                    </a:solidFill>
                  </a:tcPr>
                </a:tc>
              </a:tr>
              <a:tr h="368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x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8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8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8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86" name="Object 42"/>
              <p:cNvSpPr txBox="1"/>
              <p:nvPr/>
            </p:nvSpPr>
            <p:spPr>
              <a:xfrm>
                <a:off x="1066680" y="4114800"/>
                <a:ext cx="670572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E7C2-258B-4638-8A06-0E9FBECFFF3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Divided Difference Tab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3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0" y="1674720"/>
          <a:ext cx="1981080" cy="2783160"/>
        </p:xfrm>
        <a:graphic>
          <a:graphicData uri="http://schemas.openxmlformats.org/drawingml/2006/table">
            <a:tbl>
              <a:tblPr/>
              <a:tblGrid>
                <a:gridCol w="992160"/>
                <a:gridCol w="98892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Picture 21" descr=""/>
          <p:cNvPicPr/>
          <p:nvPr/>
        </p:nvPicPr>
        <p:blipFill>
          <a:blip r:embed="rId1"/>
          <a:stretch/>
        </p:blipFill>
        <p:spPr>
          <a:xfrm>
            <a:off x="7162920" y="1752480"/>
            <a:ext cx="30456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609480" y="1523880"/>
          <a:ext cx="5562720" cy="1828800"/>
        </p:xfrm>
        <a:graphic>
          <a:graphicData uri="http://schemas.openxmlformats.org/drawingml/2006/table">
            <a:tbl>
              <a:tblPr/>
              <a:tblGrid>
                <a:gridCol w="1390680"/>
                <a:gridCol w="1390680"/>
                <a:gridCol w="1390680"/>
                <a:gridCol w="139068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 ,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 ,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193" name="Text Box 49"/>
          <p:cNvSpPr/>
          <p:nvPr/>
        </p:nvSpPr>
        <p:spPr>
          <a:xfrm>
            <a:off x="380880" y="380988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Entries of the divided difference table are obtained from the data table using simple oper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0299-544C-46C1-8FEE-508058540A9C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Divided Difference Tab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3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0" y="1674720"/>
          <a:ext cx="1522440" cy="1955880"/>
        </p:xfrm>
        <a:graphic>
          <a:graphicData uri="http://schemas.openxmlformats.org/drawingml/2006/table">
            <a:tbl>
              <a:tblPr/>
              <a:tblGrid>
                <a:gridCol w="762120"/>
                <a:gridCol w="760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98" name="Picture 21" descr=""/>
          <p:cNvPicPr/>
          <p:nvPr/>
        </p:nvPicPr>
        <p:blipFill>
          <a:blip r:embed="rId1"/>
          <a:stretch/>
        </p:blipFill>
        <p:spPr>
          <a:xfrm>
            <a:off x="7010280" y="1676520"/>
            <a:ext cx="30492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609480" y="1600200"/>
          <a:ext cx="5486400" cy="19810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 ,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 ,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200" name="Text Box 49"/>
          <p:cNvSpPr/>
          <p:nvPr/>
        </p:nvSpPr>
        <p:spPr>
          <a:xfrm>
            <a:off x="609480" y="3652920"/>
            <a:ext cx="7925040" cy="2466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 first two column of th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able are the data colum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Third column:  First order differen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column: Second order differen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75CE-312B-474F-9EAA-102F1421BB4E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Divided Difference Tab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3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858000" y="1674720"/>
          <a:ext cx="1522440" cy="2783160"/>
        </p:xfrm>
        <a:graphic>
          <a:graphicData uri="http://schemas.openxmlformats.org/drawingml/2006/table">
            <a:tbl>
              <a:tblPr/>
              <a:tblGrid>
                <a:gridCol w="762120"/>
                <a:gridCol w="76032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7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pic>
        <p:nvPicPr>
          <p:cNvPr id="205" name="Picture 21" descr=""/>
          <p:cNvPicPr/>
          <p:nvPr/>
        </p:nvPicPr>
        <p:blipFill>
          <a:blip r:embed="rId1"/>
          <a:stretch/>
        </p:blipFill>
        <p:spPr>
          <a:xfrm>
            <a:off x="7772400" y="1752480"/>
            <a:ext cx="330120" cy="457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2" descr=""/>
          <p:cNvPicPr/>
          <p:nvPr/>
        </p:nvPicPr>
        <p:blipFill>
          <a:blip r:embed="rId2"/>
          <a:stretch/>
        </p:blipFill>
        <p:spPr>
          <a:xfrm>
            <a:off x="7010280" y="1752480"/>
            <a:ext cx="30492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609480" y="1905120"/>
          <a:ext cx="4724640" cy="138276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181160"/>
                <a:gridCol w="118116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 ,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 ,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08" name="Rectangle 50"/>
          <p:cNvSpPr/>
          <p:nvPr/>
        </p:nvSpPr>
        <p:spPr>
          <a:xfrm>
            <a:off x="914400" y="2286000"/>
            <a:ext cx="1676520" cy="685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51"/>
          <p:cNvSpPr/>
          <p:nvPr/>
        </p:nvSpPr>
        <p:spPr>
          <a:xfrm flipH="1">
            <a:off x="1600200" y="2971800"/>
            <a:ext cx="76320" cy="914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52"/>
              <p:cNvSpPr txBox="1"/>
              <p:nvPr/>
            </p:nvSpPr>
            <p:spPr>
              <a:xfrm>
                <a:off x="763560" y="3890880"/>
                <a:ext cx="17226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53"/>
          <p:cNvSpPr/>
          <p:nvPr/>
        </p:nvSpPr>
        <p:spPr>
          <a:xfrm>
            <a:off x="533520" y="3886200"/>
            <a:ext cx="4038480" cy="190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54"/>
          <p:cNvSpPr/>
          <p:nvPr/>
        </p:nvSpPr>
        <p:spPr>
          <a:xfrm flipV="1">
            <a:off x="2590920" y="2514600"/>
            <a:ext cx="761760" cy="17524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55"/>
              <p:cNvSpPr txBox="1"/>
              <p:nvPr/>
            </p:nvSpPr>
            <p:spPr>
              <a:xfrm>
                <a:off x="609480" y="4800600"/>
                <a:ext cx="3505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5776-C458-46E8-A369-043B9FCAF65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Divided Difference Tab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3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0" y="1674720"/>
          <a:ext cx="1522440" cy="2783160"/>
        </p:xfrm>
        <a:graphic>
          <a:graphicData uri="http://schemas.openxmlformats.org/drawingml/2006/table">
            <a:tbl>
              <a:tblPr/>
              <a:tblGrid>
                <a:gridCol w="762120"/>
                <a:gridCol w="76032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7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pic>
        <p:nvPicPr>
          <p:cNvPr id="218" name="Picture 21" descr=""/>
          <p:cNvPicPr/>
          <p:nvPr/>
        </p:nvPicPr>
        <p:blipFill>
          <a:blip r:embed="rId1"/>
          <a:stretch/>
        </p:blipFill>
        <p:spPr>
          <a:xfrm>
            <a:off x="7746840" y="1752480"/>
            <a:ext cx="330480" cy="457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2" descr=""/>
          <p:cNvPicPr/>
          <p:nvPr/>
        </p:nvPicPr>
        <p:blipFill>
          <a:blip r:embed="rId2"/>
          <a:stretch/>
        </p:blipFill>
        <p:spPr>
          <a:xfrm>
            <a:off x="7137360" y="1752480"/>
            <a:ext cx="30492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609480" y="1905120"/>
          <a:ext cx="4724640" cy="138276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181160"/>
                <a:gridCol w="118116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 ,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 ,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21" name="Rectangle 60"/>
          <p:cNvSpPr/>
          <p:nvPr/>
        </p:nvSpPr>
        <p:spPr>
          <a:xfrm>
            <a:off x="914400" y="2666880"/>
            <a:ext cx="1676520" cy="685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61"/>
          <p:cNvSpPr/>
          <p:nvPr/>
        </p:nvSpPr>
        <p:spPr>
          <a:xfrm>
            <a:off x="1600200" y="32767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62"/>
              <p:cNvSpPr txBox="1"/>
              <p:nvPr/>
            </p:nvSpPr>
            <p:spPr>
              <a:xfrm>
                <a:off x="763560" y="3914640"/>
                <a:ext cx="17226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Rectangle 63"/>
          <p:cNvSpPr/>
          <p:nvPr/>
        </p:nvSpPr>
        <p:spPr>
          <a:xfrm>
            <a:off x="685800" y="3886200"/>
            <a:ext cx="4267080" cy="220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64"/>
          <p:cNvSpPr/>
          <p:nvPr/>
        </p:nvSpPr>
        <p:spPr>
          <a:xfrm flipV="1">
            <a:off x="2514600" y="2819160"/>
            <a:ext cx="762120" cy="10666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65"/>
              <p:cNvSpPr txBox="1"/>
              <p:nvPr/>
            </p:nvSpPr>
            <p:spPr>
              <a:xfrm>
                <a:off x="762120" y="4876920"/>
                <a:ext cx="35049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830C-F02B-4932-9BCE-465EB32C916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Divided Difference Tab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3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858000" y="1674720"/>
          <a:ext cx="1522440" cy="2783160"/>
        </p:xfrm>
        <a:graphic>
          <a:graphicData uri="http://schemas.openxmlformats.org/drawingml/2006/table">
            <a:tbl>
              <a:tblPr/>
              <a:tblGrid>
                <a:gridCol w="762120"/>
                <a:gridCol w="76032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7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231" name="Picture 21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33048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2" descr=""/>
          <p:cNvPicPr/>
          <p:nvPr/>
        </p:nvPicPr>
        <p:blipFill>
          <a:blip r:embed="rId2"/>
          <a:stretch/>
        </p:blipFill>
        <p:spPr>
          <a:xfrm>
            <a:off x="7086600" y="1752480"/>
            <a:ext cx="30492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609480" y="1905120"/>
          <a:ext cx="4724640" cy="138276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181160"/>
                <a:gridCol w="118116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 ,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 ,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34" name="Object 60"/>
              <p:cNvSpPr txBox="1"/>
              <p:nvPr/>
            </p:nvSpPr>
            <p:spPr>
              <a:xfrm>
                <a:off x="1066680" y="4191120"/>
                <a:ext cx="16765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61"/>
          <p:cNvSpPr/>
          <p:nvPr/>
        </p:nvSpPr>
        <p:spPr>
          <a:xfrm>
            <a:off x="609480" y="2286000"/>
            <a:ext cx="3505320" cy="1066680"/>
          </a:xfrm>
          <a:prstGeom prst="rect">
            <a:avLst/>
          </a:prstGeom>
          <a:noFill/>
          <a:ln w="5724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62"/>
          <p:cNvSpPr/>
          <p:nvPr/>
        </p:nvSpPr>
        <p:spPr>
          <a:xfrm>
            <a:off x="685800" y="4038480"/>
            <a:ext cx="5181480" cy="2133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Line 63"/>
          <p:cNvSpPr/>
          <p:nvPr/>
        </p:nvSpPr>
        <p:spPr>
          <a:xfrm>
            <a:off x="1523880" y="3352680"/>
            <a:ext cx="0" cy="6858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64"/>
          <p:cNvSpPr/>
          <p:nvPr/>
        </p:nvSpPr>
        <p:spPr>
          <a:xfrm flipV="1">
            <a:off x="2743200" y="2590560"/>
            <a:ext cx="1905120" cy="19047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65"/>
              <p:cNvSpPr txBox="1"/>
              <p:nvPr/>
            </p:nvSpPr>
            <p:spPr>
              <a:xfrm>
                <a:off x="838080" y="4952880"/>
                <a:ext cx="47912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AC4D-A9FB-4171-844E-397C888F57A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Divided Difference Tab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3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858000" y="1674720"/>
          <a:ext cx="1522440" cy="2783160"/>
        </p:xfrm>
        <a:graphic>
          <a:graphicData uri="http://schemas.openxmlformats.org/drawingml/2006/table">
            <a:tbl>
              <a:tblPr/>
              <a:tblGrid>
                <a:gridCol w="762120"/>
                <a:gridCol w="76032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7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244" name="Picture 21" descr=""/>
          <p:cNvPicPr/>
          <p:nvPr/>
        </p:nvPicPr>
        <p:blipFill>
          <a:blip r:embed="rId1"/>
          <a:stretch/>
        </p:blipFill>
        <p:spPr>
          <a:xfrm>
            <a:off x="7772400" y="1752480"/>
            <a:ext cx="330120" cy="457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2" descr=""/>
          <p:cNvPicPr/>
          <p:nvPr/>
        </p:nvPicPr>
        <p:blipFill>
          <a:blip r:embed="rId2"/>
          <a:stretch/>
        </p:blipFill>
        <p:spPr>
          <a:xfrm>
            <a:off x="7086600" y="1752480"/>
            <a:ext cx="30492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609480" y="1905120"/>
          <a:ext cx="4724640" cy="138276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181160"/>
                <a:gridCol w="118116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 ,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 , 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47" name="Object 50"/>
              <p:cNvSpPr txBox="1"/>
              <p:nvPr/>
            </p:nvSpPr>
            <p:spPr>
              <a:xfrm>
                <a:off x="1066680" y="4579920"/>
                <a:ext cx="64771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Line 51"/>
          <p:cNvSpPr/>
          <p:nvPr/>
        </p:nvSpPr>
        <p:spPr>
          <a:xfrm>
            <a:off x="2590920" y="2438280"/>
            <a:ext cx="75960" cy="228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Line 52"/>
          <p:cNvSpPr/>
          <p:nvPr/>
        </p:nvSpPr>
        <p:spPr>
          <a:xfrm>
            <a:off x="3429000" y="2514600"/>
            <a:ext cx="0" cy="21337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Line 53"/>
          <p:cNvSpPr/>
          <p:nvPr/>
        </p:nvSpPr>
        <p:spPr>
          <a:xfrm>
            <a:off x="5029200" y="2514600"/>
            <a:ext cx="76320" cy="2057400"/>
          </a:xfrm>
          <a:prstGeom prst="line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54"/>
          <p:cNvSpPr/>
          <p:nvPr/>
        </p:nvSpPr>
        <p:spPr>
          <a:xfrm>
            <a:off x="838080" y="2514600"/>
            <a:ext cx="0" cy="289548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Line 55"/>
          <p:cNvSpPr/>
          <p:nvPr/>
        </p:nvSpPr>
        <p:spPr>
          <a:xfrm>
            <a:off x="838080" y="5410080"/>
            <a:ext cx="5410440" cy="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56"/>
          <p:cNvSpPr/>
          <p:nvPr/>
        </p:nvSpPr>
        <p:spPr>
          <a:xfrm flipV="1">
            <a:off x="4419720" y="5105520"/>
            <a:ext cx="0" cy="30456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57"/>
          <p:cNvSpPr/>
          <p:nvPr/>
        </p:nvSpPr>
        <p:spPr>
          <a:xfrm flipV="1">
            <a:off x="6172200" y="5029200"/>
            <a:ext cx="0" cy="45720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Oval 58"/>
          <p:cNvSpPr/>
          <p:nvPr/>
        </p:nvSpPr>
        <p:spPr>
          <a:xfrm>
            <a:off x="762120" y="2286000"/>
            <a:ext cx="609480" cy="380880"/>
          </a:xfrm>
          <a:prstGeom prst="ellipse">
            <a:avLst/>
          </a:prstGeom>
          <a:noFill/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Oval 59"/>
          <p:cNvSpPr/>
          <p:nvPr/>
        </p:nvSpPr>
        <p:spPr>
          <a:xfrm>
            <a:off x="914400" y="2666880"/>
            <a:ext cx="609480" cy="381240"/>
          </a:xfrm>
          <a:prstGeom prst="ellipse">
            <a:avLst/>
          </a:prstGeom>
          <a:noFill/>
          <a:ln cap="rnd" w="572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60"/>
          <p:cNvSpPr/>
          <p:nvPr/>
        </p:nvSpPr>
        <p:spPr>
          <a:xfrm flipH="1">
            <a:off x="990360" y="3048120"/>
            <a:ext cx="75960" cy="266688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61"/>
          <p:cNvSpPr/>
          <p:nvPr/>
        </p:nvSpPr>
        <p:spPr>
          <a:xfrm>
            <a:off x="1066680" y="5715000"/>
            <a:ext cx="6172200" cy="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62"/>
          <p:cNvSpPr/>
          <p:nvPr/>
        </p:nvSpPr>
        <p:spPr>
          <a:xfrm flipV="1">
            <a:off x="7238880" y="5181480"/>
            <a:ext cx="0" cy="53352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63"/>
          <p:cNvSpPr/>
          <p:nvPr/>
        </p:nvSpPr>
        <p:spPr>
          <a:xfrm>
            <a:off x="838080" y="5791320"/>
            <a:ext cx="7696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[x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]+</a:t>
            </a:r>
            <a:r>
              <a:rPr b="0" lang="en-US" sz="2000" spc="-1" strike="noStrike">
                <a:solidFill>
                  <a:srgbClr val="99cc00"/>
                </a:solidFill>
                <a:latin typeface="Verdana"/>
              </a:rPr>
              <a:t>F[x</a:t>
            </a:r>
            <a:r>
              <a:rPr b="0" lang="en-US" sz="2000" spc="-1" strike="noStrike" baseline="-25000">
                <a:solidFill>
                  <a:srgbClr val="99cc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99cc00"/>
                </a:solidFill>
                <a:latin typeface="Verdana"/>
              </a:rPr>
              <a:t>,x</a:t>
            </a:r>
            <a:r>
              <a:rPr b="0" lang="en-US" sz="2000" spc="-1" strike="noStrike" baseline="-25000">
                <a:solidFill>
                  <a:srgbClr val="99cc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99cc00"/>
                </a:solidFill>
                <a:latin typeface="Verdan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x-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+</a:t>
            </a:r>
            <a:r>
              <a:rPr b="0" lang="en-US" sz="2000" spc="-1" strike="noStrike">
                <a:solidFill>
                  <a:srgbClr val="cc9900"/>
                </a:solidFill>
                <a:latin typeface="Verdana"/>
              </a:rPr>
              <a:t>F[x</a:t>
            </a:r>
            <a:r>
              <a:rPr b="0" lang="en-US" sz="2000" spc="-1" strike="noStrike" baseline="-25000">
                <a:solidFill>
                  <a:srgbClr val="cc99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cc9900"/>
                </a:solidFill>
                <a:latin typeface="Verdana"/>
              </a:rPr>
              <a:t>,x</a:t>
            </a:r>
            <a:r>
              <a:rPr b="0" lang="en-US" sz="2000" spc="-1" strike="noStrike" baseline="-25000">
                <a:solidFill>
                  <a:srgbClr val="cc99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cc9900"/>
                </a:solidFill>
                <a:latin typeface="Verdana"/>
              </a:rPr>
              <a:t>,x</a:t>
            </a:r>
            <a:r>
              <a:rPr b="0" lang="en-US" sz="2000" spc="-1" strike="noStrike" baseline="-25000">
                <a:solidFill>
                  <a:srgbClr val="cc99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cc9900"/>
                </a:solidFill>
                <a:latin typeface="Verdan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x-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(x-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DE1D-385C-4AD3-9F75-DB8B4B0C15B4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5100"/>
            </a:b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ntroduction to Interpo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066680" y="3123720"/>
            <a:ext cx="7467840" cy="29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polation Probl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istence and Uniquen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near and Quadratic Interpolatio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wton’s Divided Difference Metho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perties of Divided Dif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E9C1-EE18-499E-A0B5-C68F575D03E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wo Examp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763560" y="2441520"/>
          <a:ext cx="1674720" cy="2435400"/>
        </p:xfrm>
        <a:graphic>
          <a:graphicData uri="http://schemas.openxmlformats.org/drawingml/2006/table">
            <a:tbl>
              <a:tblPr/>
              <a:tblGrid>
                <a:gridCol w="801720"/>
                <a:gridCol w="87300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99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99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99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99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99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99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99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99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Text Box 21"/>
          <p:cNvSpPr/>
          <p:nvPr/>
        </p:nvSpPr>
        <p:spPr>
          <a:xfrm>
            <a:off x="533520" y="17524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btain the interpolating polynomials for the two 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399360" y="2441520"/>
          <a:ext cx="1677960" cy="2411640"/>
        </p:xfrm>
        <a:graphic>
          <a:graphicData uri="http://schemas.openxmlformats.org/drawingml/2006/table">
            <a:tbl>
              <a:tblPr/>
              <a:tblGrid>
                <a:gridCol w="799920"/>
                <a:gridCol w="87804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Text Box 39"/>
          <p:cNvSpPr/>
          <p:nvPr/>
        </p:nvSpPr>
        <p:spPr>
          <a:xfrm>
            <a:off x="1066680" y="50292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observ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F33D-671A-45CB-B297-72A1B25EF91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wo Examp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4"/>
              <p:cNvSpPr txBox="1"/>
              <p:nvPr/>
            </p:nvSpPr>
            <p:spPr>
              <a:xfrm>
                <a:off x="609480" y="4194000"/>
                <a:ext cx="34290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72" name=""/>
          <p:cNvGraphicFramePr/>
          <p:nvPr/>
        </p:nvGraphicFramePr>
        <p:xfrm>
          <a:off x="533520" y="1674720"/>
          <a:ext cx="2436840" cy="241452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8040"/>
                <a:gridCol w="60984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5867280" y="1905120"/>
          <a:ext cx="2438640" cy="20700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74" name="Object 78"/>
              <p:cNvSpPr txBox="1"/>
              <p:nvPr/>
            </p:nvSpPr>
            <p:spPr>
              <a:xfrm>
                <a:off x="4800600" y="4114800"/>
                <a:ext cx="3538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5" name="Text Box 79"/>
          <p:cNvSpPr/>
          <p:nvPr/>
        </p:nvSpPr>
        <p:spPr>
          <a:xfrm>
            <a:off x="609480" y="5105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Ordering the points should not affect the interpolating polynomi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36F8-AE91-4A03-8598-0376E945B6E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roperties of Divided Differen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4"/>
              <p:cNvSpPr txBox="1"/>
              <p:nvPr/>
            </p:nvSpPr>
            <p:spPr>
              <a:xfrm>
                <a:off x="762120" y="2666880"/>
                <a:ext cx="71625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Text Box 5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rdering the points should not affect the divided differenc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8B8B-F1E3-4A7F-ADDA-46E2D297908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a polynomial to interpolate the da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019920" y="1523880"/>
          <a:ext cx="2590560" cy="4530960"/>
        </p:xfrm>
        <a:graphic>
          <a:graphicData uri="http://schemas.openxmlformats.org/drawingml/2006/table">
            <a:tbl>
              <a:tblPr/>
              <a:tblGrid>
                <a:gridCol w="1182600"/>
                <a:gridCol w="140796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D09F-224D-4850-8CE7-346B2594DB08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609480" y="1981080"/>
          <a:ext cx="8077320" cy="2743200"/>
        </p:xfrm>
        <a:graphic>
          <a:graphicData uri="http://schemas.openxmlformats.org/drawingml/2006/table">
            <a:tbl>
              <a:tblPr/>
              <a:tblGrid>
                <a:gridCol w="633600"/>
                <a:gridCol w="793800"/>
                <a:gridCol w="1187280"/>
                <a:gridCol w="1728720"/>
                <a:gridCol w="1752840"/>
                <a:gridCol w="19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 , 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 , , 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[ ,  ,  ,  , 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1.66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.54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0.6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.83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88" name="Object 54"/>
              <p:cNvSpPr txBox="1"/>
              <p:nvPr/>
            </p:nvSpPr>
            <p:spPr>
              <a:xfrm>
                <a:off x="685800" y="4876920"/>
                <a:ext cx="7880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67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17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50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2B61-951C-453C-A561-B27549192A3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431640" y="1523880"/>
                <a:ext cx="8282160" cy="376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polating Condition: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*  The interpolating Polynomial is uniqu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*  Different methods can be used to obtain 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-Newton Divided Difference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Section 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- Lagrange Interpolation       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Section 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- Other methods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dering the points should not affect the interpolating polynomia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56A0-7B32-487F-B534-6268E2A4EF3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700"/>
            </a:b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Lagrange Interpo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61B7-5C25-4DCA-99A0-B73EDF6CB670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he Interpolation Proble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Given a set o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point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Find a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order polynomia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that passes through all points, such tha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819000" y="2286000"/>
                <a:ext cx="69724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5"/>
              <p:cNvSpPr txBox="1"/>
              <p:nvPr/>
            </p:nvSpPr>
            <p:spPr>
              <a:xfrm>
                <a:off x="5410080" y="3286080"/>
                <a:ext cx="10670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6"/>
              <p:cNvSpPr txBox="1"/>
              <p:nvPr/>
            </p:nvSpPr>
            <p:spPr>
              <a:xfrm>
                <a:off x="1136520" y="4648320"/>
                <a:ext cx="4770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Rectangle 7"/>
          <p:cNvSpPr/>
          <p:nvPr/>
        </p:nvSpPr>
        <p:spPr>
          <a:xfrm>
            <a:off x="914400" y="4419720"/>
            <a:ext cx="5486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00E2-7B4B-465D-AF97-D0FA3C5367E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Lagrange Interpo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blem: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 the polynomial of least order           such that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grange Interpolation Formul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4"/>
              <p:cNvSpPr txBox="1"/>
              <p:nvPr/>
            </p:nvSpPr>
            <p:spPr>
              <a:xfrm>
                <a:off x="1371600" y="3519360"/>
                <a:ext cx="5410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6"/>
              <p:cNvSpPr txBox="1"/>
              <p:nvPr/>
            </p:nvSpPr>
            <p:spPr>
              <a:xfrm>
                <a:off x="5105520" y="3002040"/>
                <a:ext cx="838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7" name=""/>
          <p:cNvGraphicFramePr/>
          <p:nvPr/>
        </p:nvGraphicFramePr>
        <p:xfrm>
          <a:off x="3429000" y="1600200"/>
          <a:ext cx="4952880" cy="121932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  <a:gridCol w="990720"/>
                <a:gridCol w="9903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8" name="Object 27"/>
              <p:cNvSpPr txBox="1"/>
              <p:nvPr/>
            </p:nvSpPr>
            <p:spPr>
              <a:xfrm>
                <a:off x="5791320" y="1600200"/>
                <a:ext cx="3394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28"/>
              <p:cNvSpPr txBox="1"/>
              <p:nvPr/>
            </p:nvSpPr>
            <p:spPr>
              <a:xfrm>
                <a:off x="7772400" y="1600200"/>
                <a:ext cx="396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9"/>
              <p:cNvSpPr txBox="1"/>
              <p:nvPr/>
            </p:nvSpPr>
            <p:spPr>
              <a:xfrm>
                <a:off x="4724280" y="2209680"/>
                <a:ext cx="395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30"/>
              <p:cNvSpPr txBox="1"/>
              <p:nvPr/>
            </p:nvSpPr>
            <p:spPr>
              <a:xfrm>
                <a:off x="5791320" y="2209680"/>
                <a:ext cx="3664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31"/>
              <p:cNvSpPr txBox="1"/>
              <p:nvPr/>
            </p:nvSpPr>
            <p:spPr>
              <a:xfrm>
                <a:off x="7772400" y="2209680"/>
                <a:ext cx="395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32"/>
              <p:cNvSpPr txBox="1"/>
              <p:nvPr/>
            </p:nvSpPr>
            <p:spPr>
              <a:xfrm>
                <a:off x="3824280" y="1600200"/>
                <a:ext cx="338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33"/>
              <p:cNvSpPr txBox="1"/>
              <p:nvPr/>
            </p:nvSpPr>
            <p:spPr>
              <a:xfrm>
                <a:off x="3886200" y="2209680"/>
                <a:ext cx="3668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34"/>
              <p:cNvSpPr txBox="1"/>
              <p:nvPr/>
            </p:nvSpPr>
            <p:spPr>
              <a:xfrm>
                <a:off x="5410080" y="4191120"/>
                <a:ext cx="3286080" cy="20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6" name="Rectangle 35"/>
          <p:cNvSpPr/>
          <p:nvPr/>
        </p:nvSpPr>
        <p:spPr>
          <a:xfrm>
            <a:off x="533520" y="4114800"/>
            <a:ext cx="8229600" cy="2133720"/>
          </a:xfrm>
          <a:prstGeom prst="rect">
            <a:avLst/>
          </a:prstGeom>
          <a:noFill/>
          <a:ln w="3816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5"/>
              <p:cNvSpPr txBox="1"/>
              <p:nvPr/>
            </p:nvSpPr>
            <p:spPr>
              <a:xfrm>
                <a:off x="4724280" y="1600200"/>
                <a:ext cx="3668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750F-6A9F-4686-9A77-3A68CF9CE93E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Lagrange Interpo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812880" y="2004840"/>
                <a:ext cx="6449760" cy="247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 called the cardinal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 cardinals are 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order polynomials:</m:t>
                        </m:r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4F13-52A8-45B9-828B-DF106427AED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t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35053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nterpolation was used for long time to provide an estimate of a tabulated function at values that are not available in the t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hat is sin (0.15)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562720" y="1600200"/>
          <a:ext cx="3124080" cy="3429000"/>
        </p:xfrm>
        <a:graphic>
          <a:graphicData uri="http://schemas.openxmlformats.org/drawingml/2006/table">
            <a:tbl>
              <a:tblPr/>
              <a:tblGrid>
                <a:gridCol w="1562040"/>
                <a:gridCol w="156204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9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29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07" name="Rectangle 27"/>
          <p:cNvSpPr/>
          <p:nvPr/>
        </p:nvSpPr>
        <p:spPr>
          <a:xfrm>
            <a:off x="457200" y="5105520"/>
            <a:ext cx="8305920" cy="114300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Linear Interpolation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 sin (0.15) ≈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0.149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rue valu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4 decimal digits)  sin (0.15) =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0.149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1A25-B4C1-4B45-8A1E-C32A6C07D008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Lagrange Interpolation 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6095880" y="1828800"/>
          <a:ext cx="2681280" cy="914400"/>
        </p:xfrm>
        <a:graphic>
          <a:graphicData uri="http://schemas.openxmlformats.org/drawingml/2006/table">
            <a:tbl>
              <a:tblPr/>
              <a:tblGrid>
                <a:gridCol w="692280"/>
                <a:gridCol w="716040"/>
                <a:gridCol w="71748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/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26" name="Object 21"/>
              <p:cNvSpPr txBox="1"/>
              <p:nvPr/>
            </p:nvSpPr>
            <p:spPr>
              <a:xfrm>
                <a:off x="609480" y="1981080"/>
                <a:ext cx="5639040" cy="364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317D-F06F-4C8B-8648-578D8F8CBBF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34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a polynomial to interpolat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Newton’s interpolation method and Lagrange interpolation method must give the same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5867280" y="1600200"/>
          <a:ext cx="2819520" cy="45306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FB05-94BD-46C0-A7BA-A36794268120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wton’s Interpolation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57200" y="1600200"/>
          <a:ext cx="7053120" cy="45306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/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5/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4/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0F22-B7C1-4397-83FB-B78BB31E6AE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Interpolating Polynom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990720" y="1905120"/>
                <a:ext cx="7175520" cy="36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D20A-1630-45F6-AEE9-D8E9522EEAA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Interpolating Polynomial Using Lagrange Interpolation Metho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3"/>
              <p:cNvSpPr txBox="1"/>
              <p:nvPr/>
            </p:nvSpPr>
            <p:spPr>
              <a:xfrm>
                <a:off x="1574640" y="1523880"/>
                <a:ext cx="6426360" cy="463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DE8B-F18D-4A40-9292-9EC2D396DE0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Inverse Interpolation</a:t>
            </a:r>
            <a:br>
              <a:rPr sz="4000"/>
            </a:b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 Error in Polynomial Interpola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43AB-4AB7-495E-96C6-17D35E07222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Inverse Interpola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4"/>
              <p:cNvSpPr txBox="1"/>
              <p:nvPr/>
            </p:nvSpPr>
            <p:spPr>
              <a:xfrm>
                <a:off x="533520" y="1646280"/>
                <a:ext cx="62895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blem:  Given a table of valu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such that: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where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give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46" name=""/>
          <p:cNvGraphicFramePr/>
          <p:nvPr/>
        </p:nvGraphicFramePr>
        <p:xfrm>
          <a:off x="1828800" y="2819520"/>
          <a:ext cx="4952880" cy="106668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  <a:gridCol w="990720"/>
                <a:gridCol w="9903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7" name="Object 26"/>
              <p:cNvSpPr txBox="1"/>
              <p:nvPr/>
            </p:nvSpPr>
            <p:spPr>
              <a:xfrm>
                <a:off x="4003560" y="2743200"/>
                <a:ext cx="339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7"/>
              <p:cNvSpPr txBox="1"/>
              <p:nvPr/>
            </p:nvSpPr>
            <p:spPr>
              <a:xfrm>
                <a:off x="6019920" y="2809800"/>
                <a:ext cx="396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8"/>
              <p:cNvSpPr txBox="1"/>
              <p:nvPr/>
            </p:nvSpPr>
            <p:spPr>
              <a:xfrm>
                <a:off x="3124080" y="3343320"/>
                <a:ext cx="395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9"/>
              <p:cNvSpPr txBox="1"/>
              <p:nvPr/>
            </p:nvSpPr>
            <p:spPr>
              <a:xfrm>
                <a:off x="4038480" y="3343320"/>
                <a:ext cx="3668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30"/>
              <p:cNvSpPr txBox="1"/>
              <p:nvPr/>
            </p:nvSpPr>
            <p:spPr>
              <a:xfrm>
                <a:off x="6019920" y="3343320"/>
                <a:ext cx="395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1"/>
              <p:cNvSpPr txBox="1"/>
              <p:nvPr/>
            </p:nvSpPr>
            <p:spPr>
              <a:xfrm>
                <a:off x="2057400" y="2809800"/>
                <a:ext cx="338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2"/>
              <p:cNvSpPr txBox="1"/>
              <p:nvPr/>
            </p:nvSpPr>
            <p:spPr>
              <a:xfrm>
                <a:off x="2057400" y="3343320"/>
                <a:ext cx="3668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4" name="Text Box 33"/>
          <p:cNvSpPr/>
          <p:nvPr/>
        </p:nvSpPr>
        <p:spPr>
          <a:xfrm>
            <a:off x="380880" y="4191120"/>
            <a:ext cx="8382240" cy="1432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e approach</a:t>
            </a:r>
            <a:r>
              <a:rPr b="1" lang="en-US" sz="2400" spc="-1" strike="noStrike" u="sng">
                <a:solidFill>
                  <a:srgbClr val="cccc66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cccc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olynomial interpolation to obt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nterpolate the data then use Newton’s method to find a solution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4"/>
              <p:cNvSpPr txBox="1"/>
              <p:nvPr/>
            </p:nvSpPr>
            <p:spPr>
              <a:xfrm>
                <a:off x="2990880" y="5676840"/>
                <a:ext cx="3181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Rectangle 35"/>
          <p:cNvSpPr/>
          <p:nvPr/>
        </p:nvSpPr>
        <p:spPr>
          <a:xfrm>
            <a:off x="2362320" y="5105520"/>
            <a:ext cx="2438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5"/>
              <p:cNvSpPr txBox="1"/>
              <p:nvPr/>
            </p:nvSpPr>
            <p:spPr>
              <a:xfrm>
                <a:off x="3138480" y="2766960"/>
                <a:ext cx="3668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9CAE-5CC9-4528-9A1D-8BFF8BA0B6FD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Inverse Interpola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3124080" y="1981080"/>
          <a:ext cx="4953240" cy="106704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0720"/>
                <a:gridCol w="9907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62" name="Object 25"/>
              <p:cNvSpPr txBox="1"/>
              <p:nvPr/>
            </p:nvSpPr>
            <p:spPr>
              <a:xfrm>
                <a:off x="5375160" y="1981080"/>
                <a:ext cx="339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6"/>
              <p:cNvSpPr txBox="1"/>
              <p:nvPr/>
            </p:nvSpPr>
            <p:spPr>
              <a:xfrm>
                <a:off x="7391520" y="1981080"/>
                <a:ext cx="396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27"/>
              <p:cNvSpPr txBox="1"/>
              <p:nvPr/>
            </p:nvSpPr>
            <p:spPr>
              <a:xfrm>
                <a:off x="4329000" y="2514600"/>
                <a:ext cx="395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28"/>
              <p:cNvSpPr txBox="1"/>
              <p:nvPr/>
            </p:nvSpPr>
            <p:spPr>
              <a:xfrm>
                <a:off x="5348160" y="2514600"/>
                <a:ext cx="3668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29"/>
              <p:cNvSpPr txBox="1"/>
              <p:nvPr/>
            </p:nvSpPr>
            <p:spPr>
              <a:xfrm>
                <a:off x="7391520" y="2514600"/>
                <a:ext cx="395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30"/>
              <p:cNvSpPr txBox="1"/>
              <p:nvPr/>
            </p:nvSpPr>
            <p:spPr>
              <a:xfrm>
                <a:off x="3395520" y="2006640"/>
                <a:ext cx="338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1"/>
              <p:cNvSpPr txBox="1"/>
              <p:nvPr/>
            </p:nvSpPr>
            <p:spPr>
              <a:xfrm>
                <a:off x="3352680" y="2514600"/>
                <a:ext cx="3668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Text Box 32"/>
          <p:cNvSpPr/>
          <p:nvPr/>
        </p:nvSpPr>
        <p:spPr>
          <a:xfrm>
            <a:off x="533520" y="1969920"/>
            <a:ext cx="25905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Inverse interpolation:</a:t>
            </a:r>
            <a:r>
              <a:rPr b="0" lang="en-US" sz="1800" spc="-1" strike="noStrike">
                <a:solidFill>
                  <a:srgbClr val="cccc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1. Exchange the ro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of x and 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2. Perform polynom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Interpolation on t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new 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3. Evaluat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33"/>
              <p:cNvSpPr txBox="1"/>
              <p:nvPr/>
            </p:nvSpPr>
            <p:spPr>
              <a:xfrm>
                <a:off x="853920" y="5423040"/>
                <a:ext cx="24228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1" name=""/>
          <p:cNvGraphicFramePr/>
          <p:nvPr/>
        </p:nvGraphicFramePr>
        <p:xfrm>
          <a:off x="3200400" y="3965400"/>
          <a:ext cx="4876920" cy="1046160"/>
        </p:xfrm>
        <a:graphic>
          <a:graphicData uri="http://schemas.openxmlformats.org/drawingml/2006/table">
            <a:tbl>
              <a:tblPr/>
              <a:tblGrid>
                <a:gridCol w="1035000"/>
                <a:gridCol w="961920"/>
                <a:gridCol w="959040"/>
                <a:gridCol w="961920"/>
                <a:gridCol w="95904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AutoShape 54"/>
          <p:cNvSpPr/>
          <p:nvPr/>
        </p:nvSpPr>
        <p:spPr>
          <a:xfrm>
            <a:off x="5029200" y="3124080"/>
            <a:ext cx="198108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55"/>
              <p:cNvSpPr txBox="1"/>
              <p:nvPr/>
            </p:nvSpPr>
            <p:spPr>
              <a:xfrm>
                <a:off x="3429000" y="3962520"/>
                <a:ext cx="3668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56"/>
              <p:cNvSpPr txBox="1"/>
              <p:nvPr/>
            </p:nvSpPr>
            <p:spPr>
              <a:xfrm>
                <a:off x="4343400" y="3962520"/>
                <a:ext cx="395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57"/>
              <p:cNvSpPr txBox="1"/>
              <p:nvPr/>
            </p:nvSpPr>
            <p:spPr>
              <a:xfrm>
                <a:off x="5410080" y="3962520"/>
                <a:ext cx="3668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58"/>
              <p:cNvSpPr txBox="1"/>
              <p:nvPr/>
            </p:nvSpPr>
            <p:spPr>
              <a:xfrm>
                <a:off x="7391520" y="3962520"/>
                <a:ext cx="395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59"/>
              <p:cNvSpPr txBox="1"/>
              <p:nvPr/>
            </p:nvSpPr>
            <p:spPr>
              <a:xfrm>
                <a:off x="3429000" y="4572000"/>
                <a:ext cx="338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60"/>
              <p:cNvSpPr txBox="1"/>
              <p:nvPr/>
            </p:nvSpPr>
            <p:spPr>
              <a:xfrm>
                <a:off x="4329000" y="4572000"/>
                <a:ext cx="3668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61"/>
              <p:cNvSpPr txBox="1"/>
              <p:nvPr/>
            </p:nvSpPr>
            <p:spPr>
              <a:xfrm>
                <a:off x="5486400" y="4572000"/>
                <a:ext cx="339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62"/>
              <p:cNvSpPr txBox="1"/>
              <p:nvPr/>
            </p:nvSpPr>
            <p:spPr>
              <a:xfrm>
                <a:off x="7391520" y="4572000"/>
                <a:ext cx="396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4"/>
              <p:cNvSpPr txBox="1"/>
              <p:nvPr/>
            </p:nvSpPr>
            <p:spPr>
              <a:xfrm>
                <a:off x="4357800" y="2004840"/>
                <a:ext cx="3664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521E-9F95-4D53-A795-5E9E8E4CC31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Inverse Interpola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4"/>
          <p:cNvSpPr/>
          <p:nvPr/>
        </p:nvSpPr>
        <p:spPr>
          <a:xfrm flipV="1">
            <a:off x="1143000" y="22096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5"/>
          <p:cNvSpPr/>
          <p:nvPr/>
        </p:nvSpPr>
        <p:spPr>
          <a:xfrm>
            <a:off x="1143000" y="3657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251460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Line 7"/>
          <p:cNvSpPr/>
          <p:nvPr/>
        </p:nvSpPr>
        <p:spPr>
          <a:xfrm flipV="1">
            <a:off x="5943600" y="22096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Freeform 8"/>
          <p:cNvSpPr/>
          <p:nvPr/>
        </p:nvSpPr>
        <p:spPr>
          <a:xfrm>
            <a:off x="1219320" y="2743200"/>
            <a:ext cx="1828800" cy="7621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152" h="480">
                <a:moveTo>
                  <a:pt x="0" y="0"/>
                </a:moveTo>
                <a:cubicBezTo>
                  <a:pt x="120" y="36"/>
                  <a:pt x="240" y="72"/>
                  <a:pt x="336" y="144"/>
                </a:cubicBezTo>
                <a:cubicBezTo>
                  <a:pt x="432" y="216"/>
                  <a:pt x="488" y="384"/>
                  <a:pt x="576" y="432"/>
                </a:cubicBezTo>
                <a:cubicBezTo>
                  <a:pt x="664" y="480"/>
                  <a:pt x="768" y="440"/>
                  <a:pt x="864" y="432"/>
                </a:cubicBezTo>
                <a:cubicBezTo>
                  <a:pt x="960" y="424"/>
                  <a:pt x="1096" y="400"/>
                  <a:pt x="1152" y="384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Freeform 9"/>
          <p:cNvSpPr/>
          <p:nvPr/>
        </p:nvSpPr>
        <p:spPr>
          <a:xfrm rot="17528400">
            <a:off x="6095880" y="2438280"/>
            <a:ext cx="1828800" cy="7621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152" h="480">
                <a:moveTo>
                  <a:pt x="0" y="0"/>
                </a:moveTo>
                <a:cubicBezTo>
                  <a:pt x="120" y="36"/>
                  <a:pt x="240" y="72"/>
                  <a:pt x="336" y="144"/>
                </a:cubicBezTo>
                <a:cubicBezTo>
                  <a:pt x="432" y="216"/>
                  <a:pt x="488" y="384"/>
                  <a:pt x="576" y="432"/>
                </a:cubicBezTo>
                <a:cubicBezTo>
                  <a:pt x="664" y="480"/>
                  <a:pt x="768" y="440"/>
                  <a:pt x="864" y="432"/>
                </a:cubicBezTo>
                <a:cubicBezTo>
                  <a:pt x="960" y="424"/>
                  <a:pt x="1096" y="400"/>
                  <a:pt x="1152" y="384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10"/>
          <p:cNvSpPr/>
          <p:nvPr/>
        </p:nvSpPr>
        <p:spPr>
          <a:xfrm>
            <a:off x="5943600" y="3657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11"/>
          <p:cNvSpPr/>
          <p:nvPr/>
        </p:nvSpPr>
        <p:spPr>
          <a:xfrm>
            <a:off x="1143000" y="3200400"/>
            <a:ext cx="2057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Line 12"/>
          <p:cNvSpPr/>
          <p:nvPr/>
        </p:nvSpPr>
        <p:spPr>
          <a:xfrm>
            <a:off x="6934320" y="2209680"/>
            <a:ext cx="0" cy="144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094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75438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5562720" y="2209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A907-57F7-413C-93A7-94DE955F86F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Inverse Interpola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533520" y="1905120"/>
            <a:ext cx="76960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es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What is the limitation of inverse interpol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685800" y="3809880"/>
            <a:ext cx="76201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iginal function has an invers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…, 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must be distinc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685800" y="3809880"/>
            <a:ext cx="7162920" cy="15242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0F5C-52C5-4E1A-8D93-5C28C86B3DC4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he Interpolation Proble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Given a set o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point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Find a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order polynomi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that passes through all points, such tha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819000" y="2286000"/>
                <a:ext cx="69724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5334120" y="3260880"/>
                <a:ext cx="106668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136520" y="4648320"/>
                <a:ext cx="4770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Rectangle 7"/>
          <p:cNvSpPr/>
          <p:nvPr/>
        </p:nvSpPr>
        <p:spPr>
          <a:xfrm>
            <a:off x="914400" y="4419720"/>
            <a:ext cx="5486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7D08-AA34-4DF8-A04F-BCA3BABB439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nverse Interpolation </a:t>
            </a:r>
            <a:br>
              <a:rPr sz="4400"/>
            </a:b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Example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4"/>
              <p:cNvSpPr txBox="1"/>
              <p:nvPr/>
            </p:nvSpPr>
            <p:spPr>
              <a:xfrm>
                <a:off x="762120" y="2276640"/>
                <a:ext cx="671328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blem: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iven the tabl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Find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such that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7" name="Rectangle 5"/>
          <p:cNvSpPr/>
          <p:nvPr/>
        </p:nvSpPr>
        <p:spPr>
          <a:xfrm>
            <a:off x="457200" y="1447920"/>
            <a:ext cx="8077320" cy="472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572000" y="1752480"/>
          <a:ext cx="3124080" cy="914400"/>
        </p:xfrm>
        <a:graphic>
          <a:graphicData uri="http://schemas.openxmlformats.org/drawingml/2006/table">
            <a:tbl>
              <a:tblPr/>
              <a:tblGrid>
                <a:gridCol w="746280"/>
                <a:gridCol w="747720"/>
                <a:gridCol w="745920"/>
                <a:gridCol w="884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838080" y="3581280"/>
          <a:ext cx="5334120" cy="1224000"/>
        </p:xfrm>
        <a:graphic>
          <a:graphicData uri="http://schemas.openxmlformats.org/drawingml/2006/table">
            <a:tbl>
              <a:tblPr/>
              <a:tblGrid>
                <a:gridCol w="1368720"/>
                <a:gridCol w="1158840"/>
                <a:gridCol w="1333440"/>
                <a:gridCol w="14731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.83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4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30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10" name="Object 53"/>
              <p:cNvSpPr txBox="1"/>
              <p:nvPr/>
            </p:nvSpPr>
            <p:spPr>
              <a:xfrm>
                <a:off x="609480" y="5046840"/>
                <a:ext cx="79819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3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17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3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17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87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D5FF-DFBE-40A8-AF7E-A160C640BA4C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Errors in polynomial Interpola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Polynomial interpolation may lead to large errors (especially for high order polynomial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E CAREFU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When an n</a:t>
            </a:r>
            <a:r>
              <a:rPr b="0" lang="en-US" sz="2400" spc="-1" strike="noStrike" baseline="30000">
                <a:solidFill>
                  <a:srgbClr val="0000ff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order interpolating polynomial is used, the error is related to the (n+1)</a:t>
            </a:r>
            <a:r>
              <a:rPr b="0" lang="en-US" sz="2400" spc="-1" strike="noStrike" baseline="30000">
                <a:solidFill>
                  <a:srgbClr val="0000ff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order derivativ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706D-5A1E-4481-9D10-7D9AA19FFE5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416" name="Line 3"/>
          <p:cNvSpPr/>
          <p:nvPr/>
        </p:nvSpPr>
        <p:spPr>
          <a:xfrm flipH="1">
            <a:off x="2895120" y="2895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Line 4"/>
          <p:cNvSpPr/>
          <p:nvPr/>
        </p:nvSpPr>
        <p:spPr>
          <a:xfrm flipH="1" flipV="1">
            <a:off x="3733560" y="480060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10</a:t>
            </a:r>
            <a:r>
              <a:rPr b="0" lang="en-US" sz="4000" spc="-1" strike="noStrike" baseline="30000">
                <a:solidFill>
                  <a:srgbClr val="999900"/>
                </a:solidFill>
                <a:latin typeface="Garamond"/>
              </a:rPr>
              <a:t>th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Order Polynomial Interpolation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FC82-A870-47B6-905C-C3ADB33F64A4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1295280" y="4419720"/>
            <a:ext cx="601992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114800" y="3352680"/>
            <a:ext cx="3886200" cy="533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6324480" y="1981080"/>
            <a:ext cx="2362320" cy="838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6"/>
              <p:cNvSpPr txBox="1"/>
              <p:nvPr/>
            </p:nvSpPr>
            <p:spPr>
              <a:xfrm>
                <a:off x="1100160" y="1523880"/>
                <a:ext cx="7586640" cy="405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be a function such that: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continuous on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, and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e any polynomial of degree 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at interpolates 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at 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ly spaced point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]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cluding the end point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: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Errors in polynomial Interpol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orem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62BB-7741-49C7-A00A-70288761044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785880" y="1523880"/>
                <a:ext cx="6810480" cy="470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e want to use 9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order polynomial to interpolate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sing 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 equally spaced point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n the interval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75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)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875</m:t>
                                    </m:r>
                                  </m:num>
                                  <m:den>
                                    <m:r>
                                      <m:t xml:space="preserve">9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B1E2-F29A-4F47-A207-FA0067453A9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The interpolating polynomial is uniq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Different methods can be used to obtain 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Newton’s divided dif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Lagrange interpo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Polynomial interpolation can be sensitive to data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BE CAREFUL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when high order polynomials are us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17CB-0B7A-49C6-8380-5A22CCAD563D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5867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Verdana"/>
              </a:rPr>
              <a:t>An experiment is used to determine the viscosity of water as a function  of temperature. The following table is generated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Problem: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Estimate the viscosity when the temperature is 8 degree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943600" y="1447920"/>
          <a:ext cx="2895480" cy="3654360"/>
        </p:xfrm>
        <a:graphic>
          <a:graphicData uri="http://schemas.openxmlformats.org/drawingml/2006/table">
            <a:tbl>
              <a:tblPr/>
              <a:tblGrid>
                <a:gridCol w="1523880"/>
                <a:gridCol w="137160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degre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scos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79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1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3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24"/>
          <p:cNvSpPr/>
          <p:nvPr/>
        </p:nvSpPr>
        <p:spPr>
          <a:xfrm>
            <a:off x="228600" y="1447920"/>
            <a:ext cx="5715000" cy="3657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4463-6D54-423C-BB33-19E0D175323C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562720" y="2514600"/>
            <a:ext cx="3200400" cy="2590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Interpolation Proble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3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nd a polynomial that fits the data points exact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5"/>
              <p:cNvSpPr txBox="1"/>
              <p:nvPr/>
            </p:nvSpPr>
            <p:spPr>
              <a:xfrm>
                <a:off x="925560" y="2895480"/>
                <a:ext cx="3328920" cy="22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5715000" y="2646360"/>
                <a:ext cx="2808360" cy="30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iscosity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mperature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lynomial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efficients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7"/>
          <p:cNvSpPr/>
          <p:nvPr/>
        </p:nvSpPr>
        <p:spPr>
          <a:xfrm>
            <a:off x="533520" y="5257800"/>
            <a:ext cx="82296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Linear Interpolation:  V(T)= 1.73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−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0.0422 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5715000"/>
            <a:ext cx="48769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V(8)= 1.392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0C72-6A72-45E6-979C-564A04B8088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xistence and Uniquenes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76960" cy="4530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Given a set of n+1 point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0000"/>
                </a:solidFill>
                <a:uFillTx/>
                <a:latin typeface="Verdana"/>
              </a:rPr>
              <a:t>Assumption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              are </a:t>
            </a:r>
            <a:r>
              <a:rPr b="0" lang="en-US" sz="2500" spc="-1" strike="noStrike">
                <a:solidFill>
                  <a:srgbClr val="ff0000"/>
                </a:solidFill>
                <a:latin typeface="Verdana"/>
              </a:rPr>
              <a:t>distin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0000"/>
                </a:solidFill>
                <a:uFillTx/>
                <a:latin typeface="Verdana"/>
              </a:rPr>
              <a:t>Theorem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re is a </a:t>
            </a:r>
            <a:r>
              <a:rPr b="0" lang="en-US" sz="2500" spc="-1" strike="noStrike" u="sng">
                <a:solidFill>
                  <a:srgbClr val="0000ff"/>
                </a:solidFill>
                <a:uFillTx/>
                <a:latin typeface="Verdana"/>
              </a:rPr>
              <a:t>uniqu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polynomial </a:t>
            </a: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(x)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Verdana"/>
              </a:rPr>
              <a:t>order ≤ n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such that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1044720" y="5334120"/>
                <a:ext cx="6750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n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5"/>
              <p:cNvSpPr txBox="1"/>
              <p:nvPr/>
            </p:nvSpPr>
            <p:spPr>
              <a:xfrm>
                <a:off x="3048120" y="3048120"/>
                <a:ext cx="1828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914400" y="2286000"/>
                <a:ext cx="5962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E9B0-783A-411C-9ECD-A3ECF50D804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Examples of Polynomial Interpolatio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530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Linear Interpo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ven any two points, there is one polynomial of order </a:t>
            </a: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≤ 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at passes through the two poi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1640" y="1447560"/>
            <a:ext cx="4419720" cy="4530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Quadratic Interpo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ven any three points there is one polynomial of order </a:t>
            </a: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≤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at passes through the three poi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5"/>
          <p:cNvSpPr/>
          <p:nvPr/>
        </p:nvSpPr>
        <p:spPr>
          <a:xfrm flipV="1">
            <a:off x="1371600" y="2514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91440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7"/>
          <p:cNvSpPr/>
          <p:nvPr/>
        </p:nvSpPr>
        <p:spPr>
          <a:xfrm flipV="1">
            <a:off x="1447920" y="2743200"/>
            <a:ext cx="15238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1676520" y="3657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 flipV="1">
            <a:off x="6324480" y="2514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586728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5791320" y="2666880"/>
            <a:ext cx="2255760" cy="1008360"/>
          </a:xfrm>
          <a:custGeom>
            <a:avLst/>
            <a:gdLst>
              <a:gd name="textAreaLeft" fmla="*/ 0 w 2255760"/>
              <a:gd name="textAreaRight" fmla="*/ 2256120 w 225576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1421" h="635">
                <a:moveTo>
                  <a:pt x="1421" y="79"/>
                </a:moveTo>
                <a:cubicBezTo>
                  <a:pt x="1322" y="168"/>
                  <a:pt x="1053" y="635"/>
                  <a:pt x="816" y="622"/>
                </a:cubicBezTo>
                <a:cubicBezTo>
                  <a:pt x="579" y="609"/>
                  <a:pt x="308" y="30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Oval 12"/>
          <p:cNvSpPr/>
          <p:nvPr/>
        </p:nvSpPr>
        <p:spPr>
          <a:xfrm>
            <a:off x="2438280" y="30481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Oval 13"/>
          <p:cNvSpPr/>
          <p:nvPr/>
        </p:nvSpPr>
        <p:spPr>
          <a:xfrm>
            <a:off x="5867280" y="274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7315200" y="3429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7848720" y="2819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860A-ED45-4DB1-817C-55C26985F3DC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Garamond"/>
              </a:rPr>
              <a:t>Linear Interpolation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162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Given any two point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The line that interpolates the two points i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Exampl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 a polynomial that interpolates (1,2) and (2,4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3962520" y="1600200"/>
                <a:ext cx="3276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Line 5"/>
          <p:cNvSpPr/>
          <p:nvPr/>
        </p:nvSpPr>
        <p:spPr>
          <a:xfrm flipV="1">
            <a:off x="7772400" y="15238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6"/>
          <p:cNvSpPr/>
          <p:nvPr/>
        </p:nvSpPr>
        <p:spPr>
          <a:xfrm>
            <a:off x="73152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7"/>
          <p:cNvSpPr/>
          <p:nvPr/>
        </p:nvSpPr>
        <p:spPr>
          <a:xfrm flipV="1">
            <a:off x="7543800" y="1904760"/>
            <a:ext cx="12193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8"/>
          <p:cNvSpPr/>
          <p:nvPr/>
        </p:nvSpPr>
        <p:spPr>
          <a:xfrm>
            <a:off x="8077320" y="2666880"/>
            <a:ext cx="7596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Oval 9"/>
          <p:cNvSpPr/>
          <p:nvPr/>
        </p:nvSpPr>
        <p:spPr>
          <a:xfrm>
            <a:off x="8534520" y="2057400"/>
            <a:ext cx="7596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0"/>
              <p:cNvSpPr txBox="1"/>
              <p:nvPr/>
            </p:nvSpPr>
            <p:spPr>
              <a:xfrm>
                <a:off x="1523880" y="3048120"/>
                <a:ext cx="4086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1"/>
              <p:cNvSpPr txBox="1"/>
              <p:nvPr/>
            </p:nvSpPr>
            <p:spPr>
              <a:xfrm>
                <a:off x="1685880" y="4986360"/>
                <a:ext cx="2998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22:58:36Z</dcterms:created>
  <dc:creator>PHILIPS</dc:creator>
  <dc:description/>
  <dc:language>en-US</dc:language>
  <cp:lastModifiedBy>PHILIPS</cp:lastModifiedBy>
  <dcterms:modified xsi:type="dcterms:W3CDTF">2016-02-22T05:36:34Z</dcterms:modified>
  <cp:revision>142</cp:revision>
  <dc:subject/>
  <dc:title>Slide 1</dc:title>
</cp:coreProperties>
</file>