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9E2-95D0-4025-B044-14F6B335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CFA-028C-441F-BA68-06666AC6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8BA-AC85-4562-BC1B-F968B237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CAA-1F63-4F19-A54A-B3BEBE8A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89C-4B68-44CB-A431-6C901317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6B5-8BE4-430C-BEF5-1BCAD580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FBB-DD1C-46FF-9EC0-85416BB5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645-18B6-4587-AF89-7A37E3CD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A06-14D5-4C7B-9C09-2D1AF057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2CE-07C4-4F8E-92AD-45432584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ED6-5EE3-4FE4-BE0B-E5B16EC8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D15-8E27-47BE-AE9D-C2951132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9FAB-1EC5-4083-B405-82FC42820A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SC1201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gramming Language 2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19280" y="1197000"/>
          <a:ext cx="6408720" cy="4303800"/>
        </p:xfrm>
        <a:graphic>
          <a:graphicData uri="http://schemas.openxmlformats.org/drawingml/2006/table">
            <a:tbl>
              <a:tblPr/>
              <a:tblGrid>
                <a:gridCol w="3205080"/>
                <a:gridCol w="32036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term 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ter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qui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42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h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ال  الرسول صلى الله عليه و سلم : ( من غشنا فليس منا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ي خير ترتجي إذا تخلى عنكِ الرسول صلى الله عليه و سلم و أعلن البراءة منكِ 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h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or more assignments are found to be copied, then each student will ge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 m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respective of whether she copied or did herself and allowed to co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f the Cheating repeated for the second time I will start using the minu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not allowed to copy from a former student or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f M. Almuny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 nalmunyif@yah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: http://fac.ksu.edu.sa/nalmuny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: building 26 – lab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 to update your phone number 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dug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3578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400078-0.jpeg"/>
          <p:cNvPicPr/>
          <p:nvPr/>
        </p:nvPicPr>
        <p:blipFill>
          <a:blip r:embed="rId1"/>
          <a:stretch/>
        </p:blipFill>
        <p:spPr>
          <a:xfrm>
            <a:off x="2411280" y="1125360"/>
            <a:ext cx="3818160" cy="49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661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link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lanetpdf.com/developer/article.asp?ContentID=6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000.L.jpg"/>
          <p:cNvPicPr/>
          <p:nvPr/>
        </p:nvPicPr>
        <p:blipFill>
          <a:blip r:embed="rId1"/>
          <a:stretch/>
        </p:blipFill>
        <p:spPr>
          <a:xfrm>
            <a:off x="2828880" y="1166760"/>
            <a:ext cx="3486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34356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importa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 You are allowed to mi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your lectures only or you will not be allowed to enter the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Late attendance is not consid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87280" y="4437000"/>
            <a:ext cx="6820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37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work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up work !! Study before th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ubmit Soft and Hard copy of your work named 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Name_Yo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ject sh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1201 Lab #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ouf</cp:lastModifiedBy>
  <dcterms:modified xsi:type="dcterms:W3CDTF">2014-02-07T12:27:59Z</dcterms:modified>
  <cp:revision>663</cp:revision>
  <dc:subject/>
  <dc:title>Diapositiva 1</dc:title>
</cp:coreProperties>
</file>