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ABA-3C99-49F1-9F8A-EE1F16C3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5A9-D915-4215-8859-51DD528A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25A-B178-424D-AD5B-4E8A9EB6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411-59DB-4FFA-AC0F-C8A340B6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E47-D551-4BFA-B571-0DC9A860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E65-6FE3-48BA-8C8F-8A8C6866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C28-FF9C-437C-9A15-69E31365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15D-AA70-4E62-98E8-401EF49E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96C-B955-4144-805F-085AAB90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A75-FA81-4120-91B7-F3B3B5DC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5C3-E0B8-434E-ABB8-80BDAEB1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D56-1A9A-4E38-BA19-BDC408CE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9F13-BF66-44A6-8838-1421D872CB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0728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SC1201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gramming Language 2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619280" y="1197000"/>
          <a:ext cx="6408720" cy="4303800"/>
        </p:xfrm>
        <a:graphic>
          <a:graphicData uri="http://schemas.openxmlformats.org/drawingml/2006/table">
            <a:tbl>
              <a:tblPr/>
              <a:tblGrid>
                <a:gridCol w="3205080"/>
                <a:gridCol w="320364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term 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term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 qui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42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he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ال  الرسول صلى الله عليه و سلم : ( من غشنا فليس منا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ي خير ترتجي إذا تخلى عنكِ الرسول صلى الله عليه و سلم و أعلن البراءة منكِ ؟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he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wo or more assignments are found to be copied, then each student will ge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ro m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respective of whether she copied or did herself and allowed to co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f the Cheating repeated for the second time I will start using the minu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not allowed to copy from a former student or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f M. Almuny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  nalmunyif@yaho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: http://fac.ksu.edu.sa/nalmuny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: building 26 – lab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 to update your phone number i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dug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35780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400078-0.jpeg"/>
          <p:cNvPicPr/>
          <p:nvPr/>
        </p:nvPicPr>
        <p:blipFill>
          <a:blip r:embed="rId1"/>
          <a:stretch/>
        </p:blipFill>
        <p:spPr>
          <a:xfrm>
            <a:off x="2411280" y="1125360"/>
            <a:ext cx="3818160" cy="49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5661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link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lanetpdf.com/developer/article.asp?ContentID=6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000.L.jpg"/>
          <p:cNvPicPr/>
          <p:nvPr/>
        </p:nvPicPr>
        <p:blipFill>
          <a:blip r:embed="rId1"/>
          <a:stretch/>
        </p:blipFill>
        <p:spPr>
          <a:xfrm>
            <a:off x="2828880" y="1166760"/>
            <a:ext cx="34862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War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34356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War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anc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importa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 You are allowed to mi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your lectures only or you will not be allowed to enter the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Late attendance is not consid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187280" y="4437000"/>
            <a:ext cx="6820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War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376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War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work 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up work !! Study before the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submit Soft and Hard copy of your work named 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Name_You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ject sh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1201 Lab #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ouf</cp:lastModifiedBy>
  <dcterms:modified xsi:type="dcterms:W3CDTF">2014-02-07T12:27:59Z</dcterms:modified>
  <cp:revision>663</cp:revision>
  <dc:subject/>
  <dc:title>Diapositiva 1</dc:title>
</cp:coreProperties>
</file>