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BA896-F121-454F-A86C-3DADB0392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14CD-1BB3-4803-998A-33A50AB5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5631-3F06-4106-B6A4-D5ADF6AFC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7D2B7-C7CB-4E25-8A9E-36CDA93FC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FCF15-9783-4BEF-A314-D098A1E14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F35C0-E541-4095-BF65-C5BF2D8E9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969D6-45EA-482D-BD3A-631208D89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D555E-45AC-4A61-A3B7-7321E89F8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6BE88-187D-41C3-95B2-86C2B9CA7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5C57D-E538-4EFD-A7AF-798AD3282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517A-26DC-41E1-A786-3D73729D8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8906D-5DFD-40E5-96AE-5846A08FA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E89DA-A41D-4403-BE34-0151DA15A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E6D2D-3481-4070-B7BF-A6EE4FDA1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1B6EB-DBC2-438F-87C4-794BD6D15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01809-70FC-4F70-B365-968097968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97AF6A-94A7-4302-8371-1252A1F6C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73889-95EC-412E-8308-14C9D3FA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0D78-16BC-4FC8-A9B9-9F2CFEE30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C69D8-1E95-4BCF-AB67-BD220D585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02A3F-95F5-4010-BBEA-7DD7732D1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1999-765F-4ADF-9FCA-45B2B4B9C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5D8C0-1E11-4F0C-9225-53B71BEC0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8E937-66E0-430C-9EF5-AD931459E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C5F2-4480-4F22-B79A-1A329C120E0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3EFF-20C2-4F08-9618-390DAC3A5BC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PSYCHOLOGY</a:t>
            </a:r>
            <a:endParaRPr b="0" lang="en-US" sz="4800" spc="-1" strike="noStrike">
              <a:solidFill>
                <a:srgbClr val="b2b2b2"/>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Psycholog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Abdullah AL-ZAhrani</a:t>
            </a:r>
            <a:endParaRPr b="0" lang="en-US" sz="3200" spc="-1" strike="noStrike">
              <a:solidFill>
                <a:srgbClr val="ffffff"/>
              </a:solidFill>
              <a:latin typeface="Arial"/>
            </a:endParaRPr>
          </a:p>
        </p:txBody>
      </p:sp>
    </p:spTree>
  </p:cSld>
  <p:transition>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Introduction to Psychology</a:t>
            </a:r>
            <a:endParaRPr b="0" lang="en-US" sz="4400" spc="-1" strike="noStrike">
              <a:solidFill>
                <a:srgbClr val="b2b2b2"/>
              </a:solidFill>
              <a:latin typeface="Arial"/>
            </a:endParaRPr>
          </a:p>
        </p:txBody>
      </p:sp>
      <p:sp>
        <p:nvSpPr>
          <p:cNvPr id="101" name="PlaceHolder 2"/>
          <p:cNvSpPr>
            <a:spLocks noGrp="1"/>
          </p:cNvSpPr>
          <p:nvPr>
            <p:ph/>
          </p:nvPr>
        </p:nvSpPr>
        <p:spPr>
          <a:xfrm>
            <a:off x="324000" y="1789200"/>
            <a:ext cx="8229600" cy="50688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Psychology, and Why is it a scien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fferent branches of the field of psychology? </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o psychologists work?</a:t>
            </a:r>
            <a:endParaRPr b="0"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Definition of Psychology</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y is the scientific study of behavior and mental proces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sychology attempts to explain, predict, modify, and ultimately improve the lives of people and the world in which they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5" name="PlaceHolder 2"/>
          <p:cNvSpPr>
            <a:spLocks noGrp="1"/>
          </p:cNvSpPr>
          <p:nvPr>
            <p:ph/>
          </p:nvPr>
        </p:nvSpPr>
        <p:spPr>
          <a:xfrm>
            <a:off x="468360" y="1844280"/>
            <a:ext cx="8229600" cy="4530600"/>
          </a:xfrm>
          <a:prstGeom prst="rect">
            <a:avLst/>
          </a:prstGeom>
          <a:noFill/>
          <a:ln w="0">
            <a:noFill/>
          </a:ln>
        </p:spPr>
        <p:txBody>
          <a:bodyPr lIns="90000" rIns="90000" tIns="46800" bIns="46800" anchor="t">
            <a:normAutofit/>
          </a:bodyPr>
          <a:p>
            <a:pPr marL="609480" indent="-6094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 specialty areas in physical and mental health is that;</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psychology which deals with the study, diagnosis and treatment of abnormal behavior.</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lth psychology explores the relationship between psychological factors and physical aliments or disease (e.g., stress can affect physical health).</a:t>
            </a:r>
            <a:endParaRPr b="0" lang="en-US" sz="2800" spc="-1" strike="noStrike">
              <a:solidFill>
                <a:srgbClr val="ffffff"/>
              </a:solidFill>
              <a:latin typeface="Arial"/>
            </a:endParaRPr>
          </a:p>
          <a:p>
            <a:pPr marL="609480" indent="-609480">
              <a:lnSpc>
                <a:spcPct val="80000"/>
              </a:lnSpc>
              <a:spcBef>
                <a:spcPts val="7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seling psychology which focuses primarily on educational, social and career adjustment problems.</a:t>
            </a:r>
            <a:endParaRPr b="0" lang="en-US" sz="2800" spc="-1" strike="noStrike">
              <a:solidFill>
                <a:srgbClr val="fffff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3507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7"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al psychology is concerned       with teaching and learning processes. For example, concerned with ways of understanding intelligence, developing better teaching techniques, and understanding teacher-student interaction.</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hool psychology, in contrast, is the specialty area devoted to assessing children in elementary and secondary   </a:t>
            </a:r>
            <a:endParaRPr b="0" lang="en-US" sz="32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498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 </a:t>
            </a:r>
            <a:r>
              <a:rPr b="0" lang="en-US" sz="4400" spc="-1" strike="noStrike">
                <a:solidFill>
                  <a:srgbClr val="b2b2b2"/>
                </a:solidFill>
                <a:latin typeface="Arial"/>
              </a:rPr>
              <a:t>The Branches of Psychology</a:t>
            </a:r>
            <a:endParaRPr b="0" lang="en-US" sz="4400" spc="-1" strike="noStrike">
              <a:solidFill>
                <a:srgbClr val="b2b2b2"/>
              </a:solidFill>
              <a:latin typeface="Arial"/>
            </a:endParaRPr>
          </a:p>
        </p:txBody>
      </p:sp>
      <p:sp>
        <p:nvSpPr>
          <p:cNvPr id="109" name="PlaceHolder 2"/>
          <p:cNvSpPr>
            <a:spLocks noGrp="1"/>
          </p:cNvSpPr>
          <p:nvPr>
            <p:ph/>
          </p:nvPr>
        </p:nvSpPr>
        <p:spPr>
          <a:xfrm>
            <a:off x="468360" y="1915920"/>
            <a:ext cx="8229600" cy="49417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chools who have academic or emotional problems and developing solution to teach problems.</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en-US" sz="3200" spc="-1" strike="noStrike">
                <a:solidFill>
                  <a:srgbClr val="ffffff"/>
                </a:solidFill>
                <a:latin typeface="Arial"/>
              </a:rPr>
              <a:t>	</a:t>
            </a:r>
            <a:r>
              <a:rPr b="0" lang="en-US" sz="3200" spc="-1" strike="noStrike">
                <a:solidFill>
                  <a:srgbClr val="ffffff"/>
                </a:solidFill>
                <a:latin typeface="Arial"/>
              </a:rPr>
              <a:t>Social psychology is the study of how people’s thoughts, feelings, and actions are affected by others. Social psychologists focus on such diverse topics as human aggression, liking and loving, persuasion, and conformity.</a:t>
            </a:r>
            <a:endParaRPr b="0" lang="en-US" sz="3200" spc="-1" strike="noStrike">
              <a:solidFill>
                <a:srgbClr val="ffffff"/>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90000"/>
              </a:lnSpc>
              <a:spcBef>
                <a:spcPts val="700"/>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al psychology, is the branch of psychology that studies how people grow and change from moment of conception through death.</a:t>
            </a:r>
            <a:endParaRPr b="0" lang="en-US" sz="2800" spc="-1" strike="noStrike">
              <a:solidFill>
                <a:srgbClr val="ffffff"/>
              </a:solidFill>
              <a:latin typeface="Arial"/>
            </a:endParaRPr>
          </a:p>
          <a:p>
            <a:pPr marL="609480" indent="-609480">
              <a:lnSpc>
                <a:spcPct val="90000"/>
              </a:lnSpc>
              <a:spcBef>
                <a:spcPts val="700"/>
              </a:spcBef>
              <a:buClr>
                <a:srgbClr val="ffffcc"/>
              </a:buClr>
              <a:buSzPct val="7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ity psychology, attempts to explain both consistency and change in a person’s behavior over time. Also, the individual traits that differentiate the behavior of one person from another when they confront the same situatio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psychology and why is it a sci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	</a:t>
            </a:r>
            <a:r>
              <a:rPr b="0" lang="en-US" sz="2800" spc="-1" strike="noStrike">
                <a:solidFill>
                  <a:srgbClr val="ffffff"/>
                </a:solidFill>
                <a:latin typeface="Arial"/>
              </a:rPr>
              <a:t>Although the definition of psychology- the scientific study of behavior and mental processes-is clear-cut, it is also deceptively simple, since “behavior” encompasses not just what people do, but their thoughts, feelings, perceptions, reasoning, memory, and biological activities. </a:t>
            </a:r>
            <a:endParaRPr b="0" lang="en-US" sz="2800" spc="-1" strike="noStrike">
              <a:solidFill>
                <a:srgbClr val="ffffff"/>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Branches of Psychology</a:t>
            </a:r>
            <a:endParaRPr b="0" lang="en-US" sz="4000" spc="-1" strike="noStrike">
              <a:solidFill>
                <a:srgbClr val="b2b2b2"/>
              </a:solidFill>
              <a:latin typeface="Arial"/>
            </a:endParaRPr>
          </a:p>
        </p:txBody>
      </p:sp>
      <p:sp>
        <p:nvSpPr>
          <p:cNvPr id="115"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t branches of the field of psycholog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sychology includes a number of major specialty areas. Biopsychologists focus on the biological basis of behavior. While experimental psychologists study the processes of sensing, perceiving, learning and thinking about the world. Cognitive psychology, considers the study of higher mental processes, including thinking, language, memory, problem solving, knowing, reasoning, judging, and decision making.         </a:t>
            </a:r>
            <a:endParaRPr b="0" lang="en-US" sz="2800" spc="-1" strike="noStrike">
              <a:solidFill>
                <a:srgbClr val="ffffff"/>
              </a:solidFill>
              <a:latin typeface="Arial"/>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0:53:44Z</dcterms:created>
  <dc:creator>acer</dc:creator>
  <dc:description/>
  <dc:language>en-US</dc:language>
  <cp:lastModifiedBy>Customer</cp:lastModifiedBy>
  <dcterms:modified xsi:type="dcterms:W3CDTF">2008-10-19T19:34:32Z</dcterms:modified>
  <cp:revision>9</cp:revision>
  <dc:subject/>
  <dc:title> The Theories Of Structure And Development Of Personality</dc:title>
</cp:coreProperties>
</file>