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20C-D0C0-434F-9598-1BA944EB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53E-AC30-4C52-9F0B-74E9FF4E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863-4CB8-412C-B9D7-943F3021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48D-ABD9-474B-B98A-447431B0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5BDF-CDEA-4163-A85C-9B0E24D0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9FB5-69AE-492E-BC4D-CA01873B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F374-C76F-475E-BD81-2E9C5343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93A-D643-45DD-A945-0033E7EC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88BC-E1C7-42F2-B1E3-9CB6446D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19F-6A72-4B98-81DC-33D2E176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5A52-704D-4DBA-A906-F8B78FA3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2A0-B585-4195-921A-C52E0762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D928-1F03-49E1-8DFB-0670ACCBB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280" y="533520"/>
            <a:ext cx="891540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cture (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tion </a:t>
            </a:r>
            <a:br>
              <a:rPr sz="4400"/>
            </a:br>
            <a:br>
              <a:rPr sz="4400"/>
            </a:br>
            <a:r>
              <a:rPr b="1" i="1" lang="en-AU" sz="3200" spc="-1" strike="noStrike">
                <a:solidFill>
                  <a:srgbClr val="000000"/>
                </a:solidFill>
                <a:latin typeface="Calibri"/>
              </a:rPr>
              <a:t>RAD 45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i="1" lang="en-AU" sz="3200" spc="-1" strike="noStrike">
                <a:solidFill>
                  <a:srgbClr val="000000"/>
                </a:solidFill>
                <a:latin typeface="Calibri"/>
              </a:rPr>
              <a:t>Computing in Medical Imagin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2133720" y="3886200"/>
            <a:ext cx="419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lanoud Alsal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3348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s to be cove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90720" y="1219320"/>
          <a:ext cx="7076880" cy="4849560"/>
        </p:xfrm>
        <a:graphic>
          <a:graphicData uri="http://schemas.openxmlformats.org/drawingml/2006/table">
            <a:tbl>
              <a:tblPr/>
              <a:tblGrid>
                <a:gridCol w="5333760"/>
                <a:gridCol w="1743120"/>
              </a:tblGrid>
              <a:tr h="182520">
                <a:tc gridSpan="2"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ct h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68040" rIns="68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7030a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7030a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040" rIns="68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7030a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Calibri"/>
                          <a:ea typeface="Calibri"/>
                        </a:rPr>
                        <a:t>Computer syste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040" rIns="6804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7030a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Basic Computing Princip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040" rIns="680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Networking and Communication Basi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040" rIns="680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Computed Radiography-Cassette Based Equipment'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040" rIns="680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Image Acqui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040" rIns="680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A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Digital Radi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040" rIns="680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A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PACS Fundament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040" rIns="680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PACS Quality 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040" rIns="680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Student Presen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Rad 454 Out 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7720" y="2361960"/>
            <a:ext cx="8153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velop basic knowledge of computing in medical ima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vide basic knowledge of digital imaging and computer networking in medical ima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roduce and familiarize students  to Picture Archiving and Communication System( PA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Course 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ignments &amp; attendance :     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al Presentation:       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actical project &amp; oral exam:  1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d term exam :   15 + 1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nal exam :                   4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resentation Topi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Topics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- computer in N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- computer in CT/M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- computer in ultrasou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- computer in general X- 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 t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l exam (part of practical sess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 ex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ext book and other 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Digital Radiography and PACS, Christi Carter and Beth Veale , Mosby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maging registration educational web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outube educational imaging progr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e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ther computation 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00:29:40Z</dcterms:created>
  <dc:creator>Halima Hawesa</dc:creator>
  <dc:description/>
  <dc:language>en-US</dc:language>
  <cp:lastModifiedBy>User</cp:lastModifiedBy>
  <dcterms:modified xsi:type="dcterms:W3CDTF">2012-09-04T14:54:44Z</dcterms:modified>
  <cp:revision>29</cp:revision>
  <dc:subject/>
  <dc:title>Dr Halima Hawesa</dc:title>
</cp:coreProperties>
</file>