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CA1-0A73-4AA2-A3FE-1F7B5ACF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16C1-2CBE-43B9-91D6-724A6496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F34-E736-47BF-95A7-77ABBC9E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2637-9648-4CBD-874B-D734688D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723-D310-4225-AE92-FC946E4A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55B6-DC22-4E00-A138-8C286351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ACA9-14EE-493E-A932-31A54747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4D4C-1E42-4E25-9F1D-59FC1C5D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CB9-C47E-46E1-919E-D2112208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071-1AFA-4745-9492-C2D61E98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F59D-6556-4B25-8C05-AE3A6E30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A85-9A56-4FE3-BD9A-C3D616D8F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FEEA-5761-40BF-ACE3-45CED0C2988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abic Typesetting"/>
                <a:cs typeface="me_quran"/>
              </a:rPr>
              <a:t>مقدمة في علم البرمائيات والزواح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Herpetolog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1873080"/>
            <a:ext cx="9077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1556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80" y="1508040"/>
            <a:ext cx="9134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295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bc0000"/>
                </a:solidFill>
                <a:latin typeface="Arial"/>
              </a:rPr>
              <a:t>المملكة الحيوان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1125360"/>
            <a:ext cx="8636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92720" y="1628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لافقار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3924000" y="1125360"/>
            <a:ext cx="7189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1628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حبل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56000" y="2060640"/>
            <a:ext cx="863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249228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فقار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4200" y="2492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بليات بدائ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203280" y="2060640"/>
            <a:ext cx="718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781360"/>
            <a:ext cx="8636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4716000" y="2781360"/>
            <a:ext cx="4302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04000" y="278136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عديمة الفكو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08360" y="3357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فقاريات فك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7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03280" y="3860640"/>
            <a:ext cx="60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592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272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38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4292640"/>
            <a:ext cx="10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سماك الغضروف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651640" y="4292640"/>
            <a:ext cx="100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أسماك العظم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29264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البرمائ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5080" y="429264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الزواح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4292640"/>
            <a:ext cx="10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طي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0920" y="429264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ثدي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0836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4941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85928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0820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4653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2000" y="4941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11280" y="530064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باعيات الأطر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566100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84360" y="5662440"/>
            <a:ext cx="503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3640" y="595008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ليس لها أغشية جن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92360" y="5942160"/>
            <a:ext cx="12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لديها أغشية جنين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65120" y="27082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339640" y="2805120"/>
            <a:ext cx="29052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2339640" y="227628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184464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بليات رأس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250812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نصف حبلي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71640" y="306864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حبليات ذي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ff"/>
                </a:solidFill>
                <a:latin typeface="Arial"/>
              </a:rPr>
              <a:t>الترتيب الزمني في نشأة المملكة الحيوان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8805960" cy="5492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27280" y="224784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180648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ثابت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227664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56000" y="177336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ثابت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24316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79280" y="1197000"/>
            <a:ext cx="8805960" cy="5492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12880" y="1773360"/>
            <a:ext cx="172908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ثابت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2243160"/>
            <a:ext cx="1728720" cy="642600"/>
          </a:xfrm>
          <a:prstGeom prst="rect">
            <a:avLst/>
          </a:prstGeom>
          <a:solidFill>
            <a:srgbClr val="e5e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00"/>
                </a:solidFill>
                <a:latin typeface="Arial"/>
              </a:rPr>
              <a:t>متغيرة درجة الحرار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1197000"/>
            <a:ext cx="8805960" cy="5492880"/>
            <a:chOff x="179280" y="1197000"/>
            <a:chExt cx="8805960" cy="549288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179280" y="1197000"/>
              <a:ext cx="8805960" cy="54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2612880" y="1773360"/>
              <a:ext cx="1729080" cy="642600"/>
            </a:xfrm>
            <a:prstGeom prst="rect">
              <a:avLst/>
            </a:prstGeom>
            <a:solidFill>
              <a:srgbClr val="e5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ثابتة درجة الحرا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627280" y="2243160"/>
              <a:ext cx="1728720" cy="642600"/>
            </a:xfrm>
            <a:prstGeom prst="rect">
              <a:avLst/>
            </a:prstGeom>
            <a:solidFill>
              <a:srgbClr val="e5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000000"/>
                  </a:solidFill>
                  <a:latin typeface="Arial"/>
                </a:rPr>
                <a:t>متغيرة درجة الحرار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160" y="77760"/>
            <a:ext cx="9144000" cy="67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916000" y="188640"/>
            <a:ext cx="3609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me_quran"/>
              </a:rPr>
              <a:t>خصائص البرمائيا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ثنائية الحياة (برية ومائي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تحول كلي أثناء النمو (دورة حياة الضفدع)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rph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بيوض بدون أغشية جنينية أو غطاء كل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طور اليافع له خياشيم ، والطور البالغ له رئ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يمكن أن يتنفس عن طريق الجلد ، ويأخذ حاجته من الماء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(فلا يشرب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جلد رقيق ومخاطي وبدون قشور أو حراش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لقلب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حجرا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بدون مخالب أو أظافر حقيق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أسنان متشابه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d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له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أزواج من الأعصاب الدماغ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متغيرة درجة الحرارة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totherms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، وتبيت شتو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إخصاب خارجي في الضفادع والعلاجم ، وداخلي في السلمندرات والديدان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02920" y="188640"/>
            <a:ext cx="6481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me_quran"/>
              </a:rPr>
              <a:t>الكائنات الحية متغيرة درجة الحر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403280" y="1103400"/>
            <a:ext cx="640872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3280" y="777960"/>
            <a:ext cx="64818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4248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ff"/>
                </a:solidFill>
                <a:latin typeface="Arial"/>
                <a:cs typeface="me_quran"/>
              </a:rPr>
              <a:t>أنواع المجموعات السن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031760" y="1600200"/>
            <a:ext cx="6924960" cy="3413160"/>
            <a:chOff x="1031760" y="1600200"/>
            <a:chExt cx="6924960" cy="3413160"/>
          </a:xfrm>
        </p:grpSpPr>
        <p:pic>
          <p:nvPicPr>
            <p:cNvPr id="109" name="" descr=""/>
            <p:cNvPicPr/>
            <p:nvPr/>
          </p:nvPicPr>
          <p:blipFill>
            <a:blip r:embed="rId2"/>
            <a:stretch/>
          </p:blipFill>
          <p:spPr>
            <a:xfrm>
              <a:off x="1031760" y="1600200"/>
              <a:ext cx="6924960" cy="3413160"/>
            </a:xfrm>
            <a:prstGeom prst="rect">
              <a:avLst/>
            </a:prstGeom>
            <a:ln w="28440">
              <a:solidFill>
                <a:srgbClr val="ff0000"/>
              </a:solidFill>
              <a:miter/>
            </a:ln>
          </p:spPr>
        </p:pic>
        <p:sp>
          <p:nvSpPr>
            <p:cNvPr id="110" name=""/>
            <p:cNvSpPr/>
            <p:nvPr/>
          </p:nvSpPr>
          <p:spPr>
            <a:xfrm>
              <a:off x="6110280" y="38322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للتماسي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11760" y="3865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للسحال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74680" y="1743120"/>
              <a:ext cx="11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للأفاعي والأسماك والبرمائيا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608120" y="2679840"/>
              <a:ext cx="0" cy="1439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08120" y="4119480"/>
              <a:ext cx="503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67400" y="16002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جراب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24120" y="167148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جانب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182680" y="1743120"/>
              <a:ext cx="10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800" spc="-1" strike="noStrike">
                  <a:solidFill>
                    <a:srgbClr val="ff0000"/>
                  </a:solidFill>
                  <a:latin typeface="Arial"/>
                </a:rPr>
                <a:t>سطح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62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ff"/>
                </a:solidFill>
                <a:latin typeface="Arial"/>
                <a:cs typeface="me_quran"/>
              </a:rPr>
              <a:t>المقارنة بين جلد البرمائيات والزواح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211480" y="907920"/>
            <a:ext cx="4319640" cy="5689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916360" y="4941720"/>
            <a:ext cx="936360" cy="648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16360" y="2971800"/>
            <a:ext cx="934920" cy="1177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03400" y="1039680"/>
            <a:ext cx="935280" cy="228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03400" y="1293840"/>
            <a:ext cx="935280" cy="1127160"/>
          </a:xfrm>
          <a:prstGeom prst="rect">
            <a:avLst/>
          </a:prstGeom>
          <a:noFill/>
          <a:ln w="28440">
            <a:solidFill>
              <a:srgbClr val="29a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16360" y="4183200"/>
            <a:ext cx="934920" cy="253800"/>
          </a:xfrm>
          <a:prstGeom prst="rect">
            <a:avLst/>
          </a:prstGeom>
          <a:noFill/>
          <a:ln w="28440">
            <a:solidFill>
              <a:srgbClr val="29a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6360" y="5635800"/>
            <a:ext cx="934920" cy="863280"/>
          </a:xfrm>
          <a:prstGeom prst="rect">
            <a:avLst/>
          </a:prstGeom>
          <a:noFill/>
          <a:ln w="28440">
            <a:solidFill>
              <a:srgbClr val="29a3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4T06:50:04Z</dcterms:created>
  <dc:creator>خالد</dc:creator>
  <dc:description/>
  <dc:language>en-US</dc:language>
  <cp:lastModifiedBy>khale</cp:lastModifiedBy>
  <dcterms:modified xsi:type="dcterms:W3CDTF">2014-02-08T10:20:28Z</dcterms:modified>
  <cp:revision>11</cp:revision>
  <dc:subject/>
  <dc:title>مقدمة في علم البرمائيات والزواحف</dc:title>
</cp:coreProperties>
</file>