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B87-552F-4CF1-8373-98B84EAC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CAE-1D61-4CEB-84C2-1A39A3E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5C2-E86F-45D9-99C9-6D2A82E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518-3FA3-4CC9-9E62-D78B24BC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5D1-406E-43B1-94D8-AF9A9A3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524-6823-49BE-80EF-B13F8AD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F0C-27B1-477D-B391-71110A7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901-19E6-47DD-8AB4-2B6CD6F7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811-47A4-4CD4-9F57-79A0A757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2D0-9536-47F5-B223-704511E2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930-3B2E-4E3B-A94D-C2DEE533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C7A-F32A-4B26-9224-33E28A5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6372-4B4F-4A85-B7F9-4AB49DE7BC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abic Typesetting"/>
                <a:cs typeface="me_quran"/>
              </a:rPr>
              <a:t>مقدمة في علم البرمائيات والزو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erpet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873080"/>
            <a:ext cx="9077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155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0" y="1508040"/>
            <a:ext cx="9134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95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c0000"/>
                </a:solidFill>
                <a:latin typeface="Arial"/>
              </a:rPr>
              <a:t>المملكة الحيو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1125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628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افقار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24000" y="1125360"/>
            <a:ext cx="71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162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حبل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060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فقار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4200" y="2492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03280" y="2060640"/>
            <a:ext cx="71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781360"/>
            <a:ext cx="863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16000" y="2781360"/>
            <a:ext cx="430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2781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ديمة الفك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357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فقاريات فك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386064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429264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سماك الغضروف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4292640"/>
            <a:ext cx="100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سماك العظ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برمائ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508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زواح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42926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ي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ثدي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4941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82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530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باعيات الأطر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66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84360" y="566244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5950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ليس لها أغشية جن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5942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لديها أغشية جن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27082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39640" y="2805120"/>
            <a:ext cx="2905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39640" y="2276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844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رأ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5081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صف حبل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068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ذي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الترتيب الزمني في نشأة المملكة الحيو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805960" cy="549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7280" y="224784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80648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27664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7733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2431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805960" cy="549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12880" y="1773360"/>
            <a:ext cx="172908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22431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1197000"/>
            <a:ext cx="8805960" cy="5492880"/>
            <a:chOff x="179280" y="1197000"/>
            <a:chExt cx="8805960" cy="5492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179280" y="1197000"/>
              <a:ext cx="8805960" cy="54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612880" y="1773360"/>
              <a:ext cx="1729080" cy="642600"/>
            </a:xfrm>
            <a:prstGeom prst="rect">
              <a:avLst/>
            </a:prstGeom>
            <a:solidFill>
              <a:srgbClr val="e5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ثابتة درجة الحرا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7280" y="2243160"/>
              <a:ext cx="1728720" cy="642600"/>
            </a:xfrm>
            <a:prstGeom prst="rect">
              <a:avLst/>
            </a:prstGeom>
            <a:solidFill>
              <a:srgbClr val="e5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متغيرة درجة الحرا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" y="7776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6000" y="188640"/>
            <a:ext cx="3609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خصائص البرمائ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ثنائية الحياة (برية وم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ول كلي أثناء النمو (دورة حياة الضفدع)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ض بدون أغشية جنينية أو غطاء كل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ور اليافع له خياشيم ، والطور البالغ له ر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يتنفس عن طريق الجلد ، ويأخذ حاجته من الماء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فلا يشر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جلد رقيق ومخاطي وبدون قشور أو حراش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لقلب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ج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ون مخالب أو أظافر حقيق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سنان متشابه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d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أزواج من الأعصاب الدماغ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تغيرة درجة الحرا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otherm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وتبيت شت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خصاب خارجي في الضفادع والعلاجم ، وداخلي في السلمندرات والد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الكائنات الحية متغيرة درجة الحر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103400"/>
            <a:ext cx="64087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3280" y="777960"/>
            <a:ext cx="64818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  <a:cs typeface="me_quran"/>
              </a:rPr>
              <a:t>أنواع المجموعات الس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31760" y="1600200"/>
            <a:ext cx="6924960" cy="3413160"/>
            <a:chOff x="1031760" y="1600200"/>
            <a:chExt cx="6924960" cy="34131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31760" y="1600200"/>
              <a:ext cx="6924960" cy="34131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6110280" y="38322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تماسي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1760" y="3865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سحال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4680" y="17431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أفاعي والأسماك والبرمائ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8120" y="2679840"/>
              <a:ext cx="0" cy="1439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8120" y="4119480"/>
              <a:ext cx="503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7400" y="16002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جراب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24120" y="167148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جانب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2680" y="17431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سطح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المقارنة بين جلد البرمائيات والزواح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11480" y="907920"/>
            <a:ext cx="4319640" cy="568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16360" y="4941720"/>
            <a:ext cx="93636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971800"/>
            <a:ext cx="934920" cy="117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03400" y="1039680"/>
            <a:ext cx="9352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03400" y="1293840"/>
            <a:ext cx="935280" cy="112716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4183200"/>
            <a:ext cx="934920" cy="25380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635800"/>
            <a:ext cx="934920" cy="86328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6:50:04Z</dcterms:created>
  <dc:creator>خالد</dc:creator>
  <dc:description/>
  <dc:language>en-US</dc:language>
  <cp:lastModifiedBy>khale</cp:lastModifiedBy>
  <dcterms:modified xsi:type="dcterms:W3CDTF">2014-02-08T10:20:28Z</dcterms:modified>
  <cp:revision>11</cp:revision>
  <dc:subject/>
  <dc:title>مقدمة في علم البرمائيات والزواحف</dc:title>
</cp:coreProperties>
</file>