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B518-6258-43FB-BC7B-48A37AA8938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4DBA-185B-41B3-9746-1D563DA74F9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FF7A-1F40-4C12-ABCA-6EED9175136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C2B5-C23C-4F1F-B05B-BD93E950111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6B3C-6416-4152-A388-2845D92EA09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FA94-2EB8-4432-99E2-D9D1FBF7122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7EC4-7FA7-4D89-A233-42C9DA30E65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1A4C-6CE4-440D-8113-1551B1FB669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4D26-096D-40E1-8467-B9BDC81C48A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4673-3FE6-4CFC-A98B-98191B26E95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2C8E-7680-4A49-A95C-6A7FA0D2E98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2EE0-4359-4FDF-B29F-A8CB3816463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FB09-2788-4046-A734-7204B94C697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B6D2-B6B4-45AF-8954-4820ED21768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65EA-A2DE-4CED-9AD7-FD474372F1C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AE2B-58EE-4822-9610-94E33044DB3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7D20-4577-4D45-8113-AB0CCD66E1E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120F-A821-4337-86C5-71243339278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824A-21E6-410C-B36C-9CC64332600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EE2C-5CB1-413F-95C0-7F50E0689F6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0E7D-B8EC-4505-99E1-EA96E6D79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68EB-D84B-4397-98B4-119560CD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AD7E-9215-41BC-AD39-609BB017C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64F0-3763-4A36-8C8C-4CFCCD126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C642-D328-4E1B-83D1-D68E00FA4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745B-334D-4859-B4AA-F2E1BB9D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D527-613A-4B20-B9E9-99B253AA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A5BE-552B-45DB-A936-0218CF33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4FAE-5A14-4707-9162-E1700F13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1B02-BB3D-4CD9-A0FD-AE8BA382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3609-8487-497F-AAA2-C23291DF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157F-A9F2-4ED1-8DD3-C7DF063F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0713-D558-4E55-865F-A1F7F06A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3C78-0327-4F9B-B167-0FD8FC5B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3388-DC6D-4628-87EB-06ECE7B8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C8B5-B69C-4E1F-95AD-28D3FEDF9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E40BF-16DA-492E-95C8-EF578DAB1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328E9-32F2-41CA-8DB7-F132B738C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8F660-FCA0-4D17-A04F-D16033EE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245EB-0745-4768-A94C-61D9C0E2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6D5A2-4C13-415E-97D5-7D657634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45939-E6A0-4808-80C3-FE6F7E99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557F-7CB3-41C2-81B7-0EC61BC6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703AC-4962-4CAD-8099-E1F7FC32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2DABF-1B49-4C9B-8CE3-EEBDE08E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5D5E0-D90D-4F7D-80B6-A71DBFA2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36A16-0FDB-422B-8F1C-A462E2A7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D59A9-FB1B-427B-87A9-EBC2BD98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F2C74-CCF7-4FF0-B924-47E06858B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89AB6-3524-410F-8991-6964CF342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CD7B4-2450-4590-9DFD-8BF31C644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148AC-740E-4899-A49E-AC0F36C1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6C227-7EA0-41F4-B743-3904B55E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1EC0-C033-461E-BAC4-EFE8026C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F90E7-2764-4663-9F25-6B7E2A38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83163-49EF-4D53-B934-5A58F09C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2F1FA-ABBF-49CB-8F22-6A3572A6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EBB79-9E90-45C3-857D-26957E20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F3565-1D98-422D-BCD5-27E7DCAC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7B365-9B98-404E-BC67-DFA86445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8DEB6-3DDA-4EA9-8BED-0B951AD3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A9548-110B-4744-A4F5-FC0D750D0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06F15-6929-478C-8DA5-FD9591576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360ED-B826-44BB-AF1B-4568272BA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895C-4D62-454B-B920-E4CF32FF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89EBA-26A6-4B34-92AA-8FBAD1D7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BA8E8-4097-4EF3-99B7-BD703280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F8298-1636-4651-BF7C-BF5D4560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09120-4F78-423A-9F59-CDFB975A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5E7BA-09D1-4508-AC8F-3E1AC804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5D064-927B-4781-9318-31C92DD4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309F6-A771-42FA-A713-A40E00AB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57CEA-1C1D-41D2-807C-B80749E4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1BB0D-0026-42A8-B3DA-18F3089C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7FD5A-3E07-40A2-B91F-90F676F0F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0E4D-1514-43D3-8778-37B6D6E76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74ED6-28D2-4C11-9638-9CA2E67A0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E6465-7BF1-40AE-B6B7-357F71D42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CD54A-3812-40C7-B88C-4DD54ABB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C8AB8-3FD9-4111-9339-1CCD74D1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3DF77-F606-47C2-A866-F49108D0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7A93D-5D4A-4C70-998A-E1403EE2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6FEA5-C441-4408-BB5A-7AB16F37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F62EF-D9CF-4B16-8A0F-BAD787F0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52525-2073-4A0F-BD16-9276B360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3E369-0A5E-4298-BAF4-5BD887A8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1258-BD2B-482A-9DA8-BA1381AC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AD63A-BD13-482F-9C1A-D3CBFD99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5C9A3-D2CF-41BD-97DA-D9DD6A9C2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C204E-C35A-488E-B226-19D6F5D65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3B1D9-5BDA-4734-852E-15CD8B12F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EF616-891D-42E8-9D06-818BE4F2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32793-10C6-498F-B5DF-6B233D3B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78A52-5F93-40C0-84CE-1D05DBF8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3A2F9-C459-4818-9708-8641A38E4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789FF-1203-489E-8B38-47F984F5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58FED-92D2-4E6B-8367-82A51626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A6F6-4BCC-4F8A-8688-D7DC6B89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B3832-80EF-46CE-AF24-EF203EA7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B0647-3362-443C-BDE9-10427AD5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63ECE-0D50-4742-A9B6-36AC52F3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F302B-4FCF-4252-9F6D-C3C7293AB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57E3A-1A7A-4464-974E-C7EDC457F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D9F48-9963-4FCD-8974-12CF4D09F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E3DBD-B103-4A1F-B5E2-B2E7B880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3353E-9C81-4144-A28E-EE48B6E0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F0DC8-A1E4-41E7-9128-7B4E0D28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A6E57-F2D6-490F-BC29-19B4009B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80F5-2A06-4BE4-9B4F-CE4F4F3D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D7653-3FBC-409C-A650-1A89AC93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51251-6B6A-4DF3-8139-8D46087B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0396A-4CF6-4A5C-A40D-CEDCD0B1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BEE5F-D423-4D6C-A15D-F67BFE06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E402C-22AC-4B0B-BB22-493E3625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83700-3EEC-4B5B-8C62-C27B04504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3444D-BE9F-471B-A76E-2267A7BE6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185B-C5CE-4803-8C92-D20C2C8832DD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F7E8-8E4E-4105-A3D0-3B76DE83F03A}" type="slidenum">
              <a:rPr b="0" lang="ar-S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5DA0-59C1-4C90-804F-EE7C6073935B}" type="slidenum">
              <a:rPr b="0" lang="ar-S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599D-3A55-4975-ACBE-94FDB67AA47C}" type="slidenum">
              <a:rPr b="0" lang="ar-S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7845-FE6F-47BF-A113-C00E189F880B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A9C2-137F-4118-ACB7-7A845A3BE31B}" type="slidenum">
              <a:rPr b="0" lang="ar-S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82A5-E7E8-4BB6-9522-12DEE696E3C3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2BC7-60C0-4755-A78B-B525FFE52FDC}" type="slidenum">
              <a:rPr b="0" lang="ar-S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AAALNAJIM@KSU.EDU.SA" TargetMode="Externa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371520" y="1749600"/>
            <a:ext cx="809604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E-commerce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Introduction and case stud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0680"/>
            <a:ext cx="8229600" cy="46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xchange-to-exchange (E2E): e-commerce model in which electronic exchanges formally connect to one another the purpose of exchanging inform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-government: e-commerce model in which a government entity buys or provides goods, services, or information to businesses or individual citize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le 2" descr=""/>
          <p:cNvPicPr/>
          <p:nvPr/>
        </p:nvPicPr>
        <p:blipFill>
          <a:blip r:embed="rId1"/>
          <a:stretch/>
        </p:blipFill>
        <p:spPr>
          <a:xfrm>
            <a:off x="328680" y="122400"/>
            <a:ext cx="8497800" cy="1341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0680"/>
            <a:ext cx="8229600" cy="46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Lucida Sans Unicode"/>
              </a:rPr>
              <a:t>Benefits to organization</a:t>
            </a:r>
            <a:r>
              <a:rPr b="1" lang="en-US" sz="2400" spc="-1" strike="noStrike">
                <a:solidFill>
                  <a:srgbClr val="99ccff"/>
                </a:solidFill>
                <a:latin typeface="Lucida Sans Unicod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Global reach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Cost reduction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Supply chain improvement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Extended hours: 24/7/365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Customization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New business model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Vendors’ specialization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Rapid time-to-market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Lower communication cost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Efficient procurement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Improved customer relation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Up-to-date company materia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No city business permits and fee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Other benefit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0680"/>
            <a:ext cx="8229600" cy="46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Lucida Sans Unicode"/>
              </a:rPr>
              <a:t>Benefits to consumers</a:t>
            </a:r>
            <a:r>
              <a:rPr b="1" lang="en-US" sz="2400" spc="-1" strike="noStrike">
                <a:solidFill>
                  <a:srgbClr val="99ccff"/>
                </a:solidFill>
                <a:latin typeface="Lucida Sans Unicod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Ubiquit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ore products and servic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heaper products and servic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stant deliver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formation availabilit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articipation in auc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lectronic communiti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et it your way”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o sales tax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0680"/>
            <a:ext cx="8229600" cy="46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Lucida Sans Unicode"/>
              </a:rPr>
              <a:t>Benefits to society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elecommut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igher standard of liv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ope for the poo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vailability of public servic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480680"/>
            <a:ext cx="8229600" cy="46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Lucida Sans Unicode"/>
              </a:rPr>
              <a:t>Benefits to society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Security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Trust and risk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Lack of qualified personne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Lack of business model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Culture 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User authentication and lack of public key infrastructure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Organization 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Fraud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Slow navigation on the Internet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Legal issues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mazon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orld's largest online retaile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tarted as an online bookstore, but soon diversified, selling DVDs, VHSs, CDs, video and MP3 downloads/streaming, software, video games, electronics, apparel, furniture, food, toys, and jewelry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Jeff Bezos* incorporated the company (as Cadabra) in July 1994 and the site went online as Amazon.com in 1995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mazon’s Founde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Jeffrey Preston  (49 years old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Users\Abood\Desktop\220px-Jeff_Bezos_2005.jpg"/>
          <p:cNvPicPr/>
          <p:nvPr/>
        </p:nvPicPr>
        <p:blipFill>
          <a:blip r:embed="rId2"/>
          <a:stretch/>
        </p:blipFill>
        <p:spPr>
          <a:xfrm>
            <a:off x="3059280" y="2060640"/>
            <a:ext cx="2900160" cy="2952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groups of four students, develop an e-business plan for either an actual business or a mock business. The project will consist of two phases: phase 1 is for creating the e-business plan, while phase 2 is for creating an actual e-business website for the proposed busines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Phase 1: Weight: 50%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Phase 2: Weight: 50%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-mail : 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AAALNAJIM@KSU.EDU.S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hone # 055344944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oogle Group : IS482_KSU  ( </a:t>
            </a:r>
            <a:r>
              <a:rPr b="0" lang="en-US" sz="2700" spc="-1" strike="noStrike" u="sng">
                <a:solidFill>
                  <a:srgbClr val="ff0000"/>
                </a:solidFill>
                <a:uFillTx/>
                <a:latin typeface="Lucida Sans Unicode"/>
              </a:rPr>
              <a:t>YOU SHOULD JOIN THE GROUP BEFORE 26/2/2014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Tit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Lucida Sans Unicode"/>
              </a:rPr>
              <a:t>Thank you</a:t>
            </a:r>
            <a:r>
              <a:rPr b="0" lang="en-US" sz="4000" spc="-1" strike="noStrike">
                <a:solidFill>
                  <a:srgbClr val="00b0f0"/>
                </a:solidFill>
                <a:latin typeface="Lucida Sans Unicod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ipe dir="r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-Commerce 2012, Business Technology Society, Pearson, 2012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By</a:t>
            </a:r>
            <a:br>
              <a:rPr sz="2800"/>
            </a:b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Kenneth Laudon and Carol Traver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C:\Users\Abood\Desktop\517KmU1t8aL.jpg"/>
          <p:cNvPicPr/>
          <p:nvPr/>
        </p:nvPicPr>
        <p:blipFill>
          <a:blip r:embed="rId2"/>
          <a:stretch/>
        </p:blipFill>
        <p:spPr>
          <a:xfrm>
            <a:off x="2987640" y="1484280"/>
            <a:ext cx="3282840" cy="4460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s a concept that describes the process of buying and selling or exchanging of products, services, and information via computer networks including the Internet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hat’s the difference between E-commerce and E-Business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spcAft>
                <a:spcPts val="1199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assified by market relationshi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spcAft>
                <a:spcPts val="601"/>
              </a:spcAft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usiness-to-Consumer (B2C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spcAft>
                <a:spcPts val="601"/>
              </a:spcAft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usiness-to-Business (B2B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spcAft>
                <a:spcPts val="1800"/>
              </a:spcAft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nsumer-to-Consumer (C2C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spcAft>
                <a:spcPts val="1199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assified by technology us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spcAft>
                <a:spcPts val="601"/>
              </a:spcAft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eer-to-Peer (P2P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spcAft>
                <a:spcPts val="1199"/>
              </a:spcAft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obile commerce (M-commerce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usiness-to-consumer (B2C) : online transactions are made between businesses and individual consumer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usiness-to-business (B2B): businesses make online transactions with other businesse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-tailing: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line retailing, usually B2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usiness-to-business-to-consumer (B2B2C): e-commerce model in which a business provides some product or service to a client business that maintains its own custom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0680"/>
            <a:ext cx="8229600" cy="46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nsumer-to-business (C2B)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-commerce model in which individuals use the Internet to sell products or services to organizations or individuals seek sellers to bid on products or services they ne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nsumer-to-consumer (C2C):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-commerce model in which consumers sell directly to other consume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eer-to-peer (P2P):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echnology that enables networked peer computers to share data and processing with each other directly; can be used in C2C, B2B, and B2C e-commerc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2" descr=""/>
          <p:cNvPicPr/>
          <p:nvPr/>
        </p:nvPicPr>
        <p:blipFill>
          <a:blip r:embed="rId1"/>
          <a:stretch/>
        </p:blipFill>
        <p:spPr>
          <a:xfrm>
            <a:off x="328680" y="122400"/>
            <a:ext cx="8497800" cy="1341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0680"/>
            <a:ext cx="8229600" cy="46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obile commerce (m-commerce):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-commerce transactions and activities conducted in a wireless environm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ocation-based commerce (l-commerce):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-commerce transactions targeted to individuals in specific locations, at specific tim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trabusiness EC: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-commerce category that includes all internal organizational activities that involve the exchange of goods, services, or information among various units and individuals in an organiz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le 2" descr=""/>
          <p:cNvPicPr/>
          <p:nvPr/>
        </p:nvPicPr>
        <p:blipFill>
          <a:blip r:embed="rId1"/>
          <a:stretch/>
        </p:blipFill>
        <p:spPr>
          <a:xfrm>
            <a:off x="328680" y="122400"/>
            <a:ext cx="8497800" cy="1341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0680"/>
            <a:ext cx="8229600" cy="46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usiness-to-employees (B2E):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-commerce model in which an organization delivers services, information, or products to its individual employe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llaborative commerce (c-commerce):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-commerce model in which individuals or groups communicate or collaborate onlin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-learning: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online delivery of information for purposes of training or educ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xchange (electronic):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 public electronic market with many buyers and selle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2" descr=""/>
          <p:cNvPicPr/>
          <p:nvPr/>
        </p:nvPicPr>
        <p:blipFill>
          <a:blip r:embed="rId1"/>
          <a:stretch/>
        </p:blipFill>
        <p:spPr>
          <a:xfrm>
            <a:off x="328680" y="122400"/>
            <a:ext cx="8497800" cy="1341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6T05:47:44Z</dcterms:created>
  <dc:creator>Abood</dc:creator>
  <dc:description/>
  <dc:language>en-US</dc:language>
  <cp:lastModifiedBy>Abood</cp:lastModifiedBy>
  <dcterms:modified xsi:type="dcterms:W3CDTF">2014-02-11T08:13:57Z</dcterms:modified>
  <cp:revision>16</cp:revision>
  <dc:subject/>
  <dc:title>IS482</dc:title>
</cp:coreProperties>
</file>