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45B8-D227-417D-AB7D-33D384CCD8F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132D-28B8-4918-9DE1-05C2822F25F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72DF-4F55-4A35-9341-CFA7042F8CE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9B70-8735-4603-AE11-7E075E099D4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3B5F-3EC8-4F94-A3C2-6585C081912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6DAB-FCC4-4323-A738-8047C0C84EC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6C61-1C42-4CB8-BF95-824B2F08B1C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D739-60B2-454D-9CA9-6DF9F6DBBEB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E1DC-A2AA-4CA9-9CA1-4B45D367F7A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CC8E-11DA-4EE7-89B9-49A9B35F4E5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B975-BB7E-47D4-9158-748D3162362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2EC0-888B-4C52-9D2D-76719CBAB3A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580F-BAE6-44DF-A14F-D57C6CC70E4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D94E-4C30-49F0-A564-6EC5FFE4A20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4A96-7BFF-4227-92D6-3B0F81E771E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5BDE-5DFA-48C1-A5A7-7AE025F3C0C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083A-B77C-4264-8463-3C5484D3279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8CBE-C289-4F3F-B4D2-9BE715546C4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950B-B073-477F-91A6-D9C05314851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34D3-A2BD-4101-B7CA-195710A4853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D96-522C-45C0-AEE9-1EC3A28D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06F-4089-4790-B686-297E7D0E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063-D0DB-4A39-9549-77A1E574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278-B1AD-4EE0-85B9-79D531D1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5852-6C0D-48A4-842E-859DBBCB2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14A7-7AA8-4569-BF62-51078F13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ABD4-9EF4-481F-955C-00DE560B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24D3-7DD8-4CF6-9967-1AF93BB0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56B4-5864-43FD-9005-A78B4810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78DE-456C-46B4-B2CD-530B2746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7B97-5407-4139-9278-CBD7A9D7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70D-771E-4ED3-A349-37DA762B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909A-AD92-41C0-B35D-6DD41355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C7EF-5935-4146-86B9-0D60D3BF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74AE-CD82-44A9-9908-6E9F2833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7965-8E05-4E30-BB44-75F785D8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7C2F-4716-45D4-901C-67326C68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8FEB3-BE36-4FDF-AC0F-682A9C3D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6E038-0B7C-4493-BC89-D225D8CB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F3176-0F48-4DC5-941B-A4AAB7CC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B59F8-77AB-4288-BDCD-5F415B2E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A874-8545-40E0-9AEC-8A76AC5A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73C6-6ADD-421A-8505-2194B7A5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B23A3-A0D7-440A-9E7A-A0CB123A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C570D-0D94-4F96-B72F-F65D61CB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CF22-E75B-417A-8B8A-0FBB1DE7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BC240-47AD-4390-BAFF-5D798AAB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52154-B19F-4ADF-B6D1-AA89993B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4C308-3D87-4ADE-AF6D-92D19C4A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1C1D1-4DEA-42BE-B1D9-030575EF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B5855-9845-4747-8308-7C3589CB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63201-B22B-4F8F-A500-70D9E953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B0FE4-4EFA-422B-BC5F-C4C91630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190-E7B9-48BE-A19B-05DC104E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A6EB6-64BB-4806-B019-3456B644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9EC4F-B2B6-4E3A-B541-7C19D386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A3010-C082-4157-BDF5-FE931884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9C356-DF0C-4314-9B30-D11EFE5D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D6C2E-6CB3-4F6B-A26D-B24F56E8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0840C-1638-410B-A841-1861E60C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E25DA-81D6-4083-8E4D-B7370B96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D9A9F-16B7-4450-8B29-99162D3A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E5C1C-9CD4-404C-B2E8-A537317C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E96BA-39E0-4E9C-B469-B7AA41EA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B5F1-D9D6-4E8A-B1BD-068E2C93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58ED6-B46C-404E-ACB7-F6A6A9A9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91E99-60AC-4D22-B5AD-8407D07C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833A8-8941-4185-B57B-6E612774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ED19F-BDD0-454F-A53E-4DB4AF88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E5947-FFBA-4E53-8B9F-9BBBE3EE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6ABD4-7883-4854-A1D5-0815C086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FBAD7-B88F-4224-BB48-1B9EE314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7E9FE-5F73-4797-919C-7C4BC3DA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025E3-B039-432E-8583-D61F5C68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468D0-B570-48FA-A1CE-AF5410AA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E6E9-0DA6-4CCE-AEA5-C6ADC836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3BB83-074F-4F8A-AAF5-28E38BEE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D21B5-6F57-4977-BAEF-33FF863A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4BD03-D66C-4AA5-BE73-22B64320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3130D-9798-45A4-BCF8-C1F74288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960B6-9956-4035-ADEE-B5C933A3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60302-3C69-4DD6-A334-66346317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057A9-7774-4E29-ACD7-67C30325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A07B6-682E-44EE-82EA-372B5E99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D9F4F-3D9D-4D84-8C68-E89B6C05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318BB-358C-42E9-A603-5ED12598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D39-256D-4339-B3DB-E80661D0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B51C7-9D26-4EA6-A419-1FE6F784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643E-0479-4E68-B18A-0895BB8F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3BB16-E5E2-4A6D-A05D-E75EA53A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1EF55-F268-4692-AAC3-86E4BCD9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C7999-F829-4591-A1DC-53973B85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C555D-0D43-4630-A918-EA147DAA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65040-91D2-4997-A9AB-ED960B51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5F8BC-1AED-4359-880A-0B409299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2E98F-B79D-455A-8B74-7B2DB4B1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B069E-5C4A-4F06-A46B-0318EDC8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498-E52D-4D31-A75E-DEF8BB55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C4E4A-1CF8-4BC7-BDF3-66DE1773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D87B7-48C8-4673-AB66-159090F1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3A89A-B129-422A-98A9-29B7FBE0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8A941-3504-4BB0-9DD0-5073DC1A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DAA68-D0B2-460D-8B0A-00182CA7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3B937-4F66-4DC7-9554-0C77A4EE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7E487-29FF-454A-8409-6FCEDEE2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64CAC-DDEE-410B-8912-AABB9E36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F2AA6-97E0-4D49-9067-13F2B9A1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568F6-F621-4ED2-8355-EC14F5DD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EA7-2817-460A-AEFA-F63D450C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F7E82-D5DF-4770-8776-61FC6026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BE4C3-8921-41B1-89A5-7C63E9EE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34F85-5393-4203-BB7B-760B0B83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3D441-1EE3-4B4A-B236-02BD06CB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01923-7CED-4D4D-BD9C-0CC97F64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1C04C-1A99-4421-9E60-4CD52439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57AB0-CCF5-40E2-8B4F-B92D11F0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EA01-58E7-423A-8FE3-22EF2C1EC193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2A13-2292-406E-ADE1-4FFA10C1341D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A14D-DAA3-49CA-A60E-F34B9F680118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753F-2600-48D5-B3E7-B8A9724EC1A7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CD45-BFB2-4395-B165-9BB46B91FAA3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7FA0-D4AF-43EB-8D30-5EC334C168D7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1337-5F1B-41A0-83C4-EABCE64346F2}" type="slidenum">
              <a:rPr b="0" lang="ar-S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A09B-115C-4FCD-9430-42BC6E453F00}" type="slidenum">
              <a:rPr b="0" lang="ar-S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AAALNAJIM@KSU.EDU.SA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371520" y="1749600"/>
            <a:ext cx="809604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-commerce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ntroduction and case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068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-to-exchange (E2E): e-commerce model in which electronic exchanges formally connect to one another the purpose of exchanging infor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-government: e-commerce model in which a government entity buys or provides goods, services, or information to businesses or individual citize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328680" y="122400"/>
            <a:ext cx="849780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068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Lucida Sans Unicode"/>
              </a:rPr>
              <a:t>Benefits to organization</a:t>
            </a:r>
            <a:r>
              <a:rPr b="1" lang="en-US" sz="2400" spc="-1" strike="noStrike">
                <a:solidFill>
                  <a:srgbClr val="99ccff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Global reach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ost reducti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upply chain improvement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xtended hours: 24/7/365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ustomizati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New business model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Vendors’ specialization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apid time-to-marke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ower communication cost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Efficient procuremen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Improved customer relation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Up-to-date company materia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No city business permits and fe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ther benefit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068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Lucida Sans Unicode"/>
              </a:rPr>
              <a:t>Benefits to consumers</a:t>
            </a:r>
            <a:r>
              <a:rPr b="1" lang="en-US" sz="2400" spc="-1" strike="noStrike">
                <a:solidFill>
                  <a:srgbClr val="99ccff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biqu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re products and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eaper products and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stant delive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formation availab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articipation in au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lectronic communit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et it your way”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 sales tax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068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Lucida Sans Unicode"/>
              </a:rPr>
              <a:t>Benefits to societ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elecommut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igher standard of liv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pe for the poo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vailability of public servic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068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Lucida Sans Unicode"/>
              </a:rPr>
              <a:t>Benefits to societ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ecurity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Trust and risk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ack of qualified personne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ack of business model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Culture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User authentication and lack of public key infrastructur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Organization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raud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Slow navigation on the Interne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egal issues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azon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orld's largest online retail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tarted as an online bookstore, but soon diversified, selling DVDs, VHSs, CDs, video and MP3 downloads/streaming, software, video games, electronics, apparel, furniture, food, toys, and jewelry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Jeff Bezos* incorporated the company (as Cadabra) in July 1994 and the site went online as Amazon.com in 1995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azon’s Found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Jeffrey Preston  (49 years old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Users\Abood\Desktop\220px-Jeff_Bezos_2005.jpg"/>
          <p:cNvPicPr/>
          <p:nvPr/>
        </p:nvPicPr>
        <p:blipFill>
          <a:blip r:embed="rId2"/>
          <a:stretch/>
        </p:blipFill>
        <p:spPr>
          <a:xfrm>
            <a:off x="3059280" y="2060640"/>
            <a:ext cx="2900160" cy="295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groups of four students, develop an e-business plan for either an actual business or a mock business. The project will consist of two phases: phase 1 is for creating the e-business plan, while phase 2 is for creating an actual e-business website for the proposed busines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Phase 1: Weight: 50%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Phase 2: Weight: 50%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-mail :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AAALNAJIM@KSU.EDU.S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hone # 055344944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ogle Group : IS482_KSU  ( </a:t>
            </a:r>
            <a:r>
              <a:rPr b="0" lang="en-US" sz="2700" spc="-1" strike="noStrike" u="sng">
                <a:solidFill>
                  <a:srgbClr val="ff0000"/>
                </a:solidFill>
                <a:uFillTx/>
                <a:latin typeface="Lucida Sans Unicode"/>
              </a:rPr>
              <a:t>YOU SHOULD JOIN THE GROUP BEFORE 26/2/2014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Lucida Sans Unicode"/>
              </a:rPr>
              <a:t>Thank you</a:t>
            </a:r>
            <a:r>
              <a:rPr b="0" lang="en-US" sz="4000" spc="-1" strike="noStrike">
                <a:solidFill>
                  <a:srgbClr val="00b0f0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ipe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-Commerce 2012, Business Technology Society, Pearson, 2012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y</a:t>
            </a:r>
            <a:br>
              <a:rPr sz="2800"/>
            </a:b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Kenneth Laudon and Carol Trave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Users\Abood\Desktop\517KmU1t8aL.jpg"/>
          <p:cNvPicPr/>
          <p:nvPr/>
        </p:nvPicPr>
        <p:blipFill>
          <a:blip r:embed="rId2"/>
          <a:stretch/>
        </p:blipFill>
        <p:spPr>
          <a:xfrm>
            <a:off x="2987640" y="1484280"/>
            <a:ext cx="3282840" cy="446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s a concept that describes the process of buying and selling or exchanging of products, services, and information via computer networks including the Internet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hat’s the difference between E-commerce and E-Busines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ified by market relation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usiness-to-Consumer (B2C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usiness-to-Business (B2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spcAft>
                <a:spcPts val="1800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sumer-to-Consumer (C2C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ified by technology u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spcAft>
                <a:spcPts val="601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er-to-Peer (P2P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spcAft>
                <a:spcPts val="1199"/>
              </a:spcAft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bile commerce (M-commerce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siness-to-consumer (B2C) : online transactions are made between businesses and individual consume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siness-to-business (B2B): businesses make online transactions with other business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-tailing: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line retailing, usually B2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siness-to-business-to-consumer (B2B2C): e-commerce model in which a business provides some product or service to a client business that maintains its own custom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068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sumer-to-business (C2B):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-commerce model in which individuals use the Internet to sell products or services to organizations or individuals seek sellers to bid on products or services they ne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nsumer-to-consumer (C2C)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-commerce model in which consumers sell directly to other consum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er-to-peer (P2P)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echnology that enables networked peer computers to share data and processing with each other directly; can be used in C2C, B2B, and B2C e-commerc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328680" y="122400"/>
            <a:ext cx="849780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068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bile commerce (m-commerce)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-commerce transactions and activities conducted in a wireless environ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ocation-based commerce (l-commerce)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-commerce transactions targeted to individuals in specific locations, at specific tim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trabusiness EC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-commerce category that includes all internal organizational activities that involve the exchange of goods, services, or information among various units and individuals in an organiz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328680" y="122400"/>
            <a:ext cx="849780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0680"/>
            <a:ext cx="82296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usiness-to-employees (B2E)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-commerce model in which an organization delivers services, information, or products to its individual employe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llaborative commerce (c-commerce)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-commerce model in which individuals or groups communicate or collaborate onli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-learning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online delivery of information for purposes of training or educ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hange (electronic):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 public electronic market with many buyers and sell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328680" y="122400"/>
            <a:ext cx="8497800" cy="1341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5:47:44Z</dcterms:created>
  <dc:creator>Abood</dc:creator>
  <dc:description/>
  <dc:language>en-US</dc:language>
  <cp:lastModifiedBy>Abood</cp:lastModifiedBy>
  <dcterms:modified xsi:type="dcterms:W3CDTF">2014-02-11T08:13:57Z</dcterms:modified>
  <cp:revision>16</cp:revision>
  <dc:subject/>
  <dc:title>IS482</dc:title>
</cp:coreProperties>
</file>