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159AD-0E81-47E9-BB44-CC77FC5B4429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DFCBB-359A-4905-B8F1-D6FC7B012F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46355-85C4-4EBC-BACD-87F381F17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C81FE-EDFD-44F8-B377-C2D9963FA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D4D6C-FBFA-4A9F-8C07-CD3BA9D05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668A9-C1CE-439D-AF09-F144E42F7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AE8F6-AE3A-48D5-9A08-3075DB55A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A3EBF-8A10-4159-A72C-F0183DECE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A92F9-60F2-4A3C-B776-DD9F61030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30C78-5760-4F7E-A679-6943CAAB8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A4CBC-60D8-4E21-A2CB-AFFDF8364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E0ED1-9D75-4D6A-9EB9-06BAFAA12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E9285-B91B-4C0F-A296-D0A4C4905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667C8-3FE5-4527-B084-FF16C1134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FC51F-8077-4E6D-B804-EB40186BAB8D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roduction to Serolog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fety r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rological re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rms /Items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riteria for Diagnos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Primary infe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28760" y="2214360"/>
            <a:ext cx="4039920" cy="395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roconver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esence of Ig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 fold rise or more in IgG ti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Re-infe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bsence to slight increase of Ig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 fold rise increase in Ig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rum 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356760" y="1643040"/>
            <a:ext cx="857268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What is serum 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rum :Blood- cells and clotting fac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lasma : blood – cel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Separatio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plain tube ( no anticoagulan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ave blood for 1 hour at room temp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parate the clo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entrifuge at 3000rpm for 10 mi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Flowchart: Direct Access Storage 6"/>
          <p:cNvSpPr/>
          <p:nvPr/>
        </p:nvSpPr>
        <p:spPr>
          <a:xfrm rot="16200000">
            <a:off x="6634080" y="4295520"/>
            <a:ext cx="1446120" cy="569880"/>
          </a:xfrm>
          <a:prstGeom prst="flowChartMagneticDrum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13"/>
          <p:cNvSpPr/>
          <p:nvPr/>
        </p:nvSpPr>
        <p:spPr>
          <a:xfrm>
            <a:off x="7929720" y="4500720"/>
            <a:ext cx="857160" cy="3571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r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14"/>
          <p:cNvSpPr/>
          <p:nvPr/>
        </p:nvSpPr>
        <p:spPr>
          <a:xfrm>
            <a:off x="7858080" y="5214960"/>
            <a:ext cx="785880" cy="2142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e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Can 18"/>
          <p:cNvSpPr/>
          <p:nvPr/>
        </p:nvSpPr>
        <p:spPr>
          <a:xfrm>
            <a:off x="7072200" y="3143160"/>
            <a:ext cx="571680" cy="1214640"/>
          </a:xfrm>
          <a:prstGeom prst="can">
            <a:avLst>
              <a:gd name="adj" fmla="val 11763"/>
            </a:avLst>
          </a:prstGeom>
          <a:solidFill>
            <a:srgbClr val="ffffff"/>
          </a:solidFill>
          <a:ln w="2556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Can 19"/>
          <p:cNvSpPr/>
          <p:nvPr/>
        </p:nvSpPr>
        <p:spPr>
          <a:xfrm>
            <a:off x="7072200" y="5072040"/>
            <a:ext cx="571680" cy="500040"/>
          </a:xfrm>
          <a:prstGeom prst="can">
            <a:avLst>
              <a:gd name="adj" fmla="val 25000"/>
            </a:avLst>
          </a:prstGeom>
          <a:solidFill>
            <a:srgbClr val="ff0000"/>
          </a:solidFill>
          <a:ln w="2556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rum preser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iquo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ust aliquot the serum into different tubes to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void freezing and thawing(Why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eep serum in fridge at 4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for 1 da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eep in freezer at -20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for more the 1 da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 frozen serum only once, discard after us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Disposal of seru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nd contaminated lab war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pose used serum tubes, microtiter plates ,universal tubes , bijou bottles in autoclave bag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pose used serological pipettes, microtiter tips, slides in disinfectant ja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 not throw tissue , gloves, paper in disinfectant ja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tems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icropipet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xed volume /adjustable volu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jectable / non eject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ultichannel micropipet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icrotiter plate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 -bott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- bott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lat bottom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ilu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is important to dilute patient samples for serological tes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Dilutio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=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Serum volu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tal volu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Total dilution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= serum volume + diluent volu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Serum volume=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tal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olume-diluent volu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Dilutio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= dilution of preceding tube x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Serum volu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tal volu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ubling serial dilu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4" descr="C:\Documents and Settings\user\My Documents\My Pictures\2fold serial dilution.jpg"/>
          <p:cNvPicPr/>
          <p:nvPr/>
        </p:nvPicPr>
        <p:blipFill>
          <a:blip r:embed="rId1"/>
          <a:stretch/>
        </p:blipFill>
        <p:spPr>
          <a:xfrm>
            <a:off x="500040" y="1500120"/>
            <a:ext cx="8215200" cy="514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914040" y="380880"/>
            <a:ext cx="75438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noclonal antibod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3" descr="&#10;C19F13.jpg                                                     00003578_x000c_Macintosh HD                   ABA78158:"/>
          <p:cNvPicPr/>
          <p:nvPr/>
        </p:nvPicPr>
        <p:blipFill>
          <a:blip r:embed="rId1"/>
          <a:stretch/>
        </p:blipFill>
        <p:spPr>
          <a:xfrm>
            <a:off x="357120" y="1214280"/>
            <a:ext cx="8501040" cy="528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fety ru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500040" y="1428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ar lab coa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is a must to wear glov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ver mouth pipet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er any cuts or bur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 not eat or drink in la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case of accident report to i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void hand to face oper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sh hands before you lea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serolog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s a branch of immunology dealing with study of Ag –Ab interactions in Vitro by different serological tes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g/A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f Lab diagnosi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- Save patient’s lif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- Prevent spread of dise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- Treatment therap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4- Confirm clinical diagnosi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b diagnosis of infectious disea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Isolation  and identification of causative agent by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. Morphological tests (microscopy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b. Biochemical react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. Cultural identifica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. Serological react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. Biotechnology: PCR-DNA probe- DNA finger print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Detection of specific Ab in sera of infected </a:t>
            </a:r>
            <a:r>
              <a:rPr b="1" lang="ar-SA" sz="30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patients using serological techniqu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rological Reac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Primar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1</a:t>
            </a:r>
            <a:r>
              <a:rPr b="0" lang="ar-SA" sz="3200" spc="-1" strike="noStrike">
                <a:solidFill>
                  <a:srgbClr val="ff0000"/>
                </a:solidFill>
                <a:latin typeface="Calibri"/>
              </a:rPr>
              <a:t>5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 It measures the direct interaction between Ag and Ab in Vitro( test tube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ample: Elisa, IFA, RIA tes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Secondary 2</a:t>
            </a:r>
            <a:r>
              <a:rPr b="0" lang="ar-SA" sz="3200" spc="-1" strike="noStrike">
                <a:solidFill>
                  <a:srgbClr val="ff0000"/>
                </a:solidFill>
                <a:latin typeface="Calibri"/>
              </a:rPr>
              <a:t>5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 It measures the consequences of interaction between Ag and Ab in Vitr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ample: Agglutination, CFT, Precipitation,    Neutralization tes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Tertiary 3</a:t>
            </a:r>
            <a:r>
              <a:rPr b="0" lang="ar-SA" sz="3200" spc="-1" strike="noStrike">
                <a:solidFill>
                  <a:srgbClr val="ff0000"/>
                </a:solidFill>
                <a:latin typeface="Calibri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 It measures Ag and Ab interactions in Vivo ( in body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rms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Valid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: A serological test should provide an indication of which individuals actually have the disease and which do no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Specific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 ability of a test to identify correctly those who do not have the disease.( have least cross reactivity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Sensitiv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 Ability of a test to identify correctly those who have the disease( can detect v. small amount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285480" y="1643040"/>
            <a:ext cx="8358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Sensitiv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rue positive rate of the test( no false -v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Specific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rue negative rate of the test(no false +v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est result      Test result         Total N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ositive         negative            of peop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ally have AIDS             99                  1                         1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o not have AIDS          199                9701                   99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tals                              298                9802                   10,0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Sensitivit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=99/100 x100 = 99%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Specificit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= 9701/9900x100= 98%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384120" y="2997360"/>
          <a:ext cx="7718400" cy="2108160"/>
        </p:xfrm>
        <a:graphic>
          <a:graphicData uri="http://schemas.openxmlformats.org/drawingml/2006/table">
            <a:tbl>
              <a:tblPr/>
              <a:tblGrid>
                <a:gridCol w="7718400"/>
              </a:tblGrid>
              <a:tr h="2108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r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Quantitative test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measures the amount of Ag or Ab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Qualitative test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detects the presence or absence of Ag or Ab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r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Seroconversion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s development of detectable specific Ab to microorganisms in serum as a result of infection or immuniz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Sero reversion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s the opposite of seroconversion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is when the test can no longer detect Ab or Ag in patient's seru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2T07:53:35Z</dcterms:created>
  <dc:creator>ksu</dc:creator>
  <dc:description/>
  <dc:language>en-US</dc:language>
  <cp:lastModifiedBy>ksu</cp:lastModifiedBy>
  <dcterms:modified xsi:type="dcterms:W3CDTF">2012-02-05T06:56:07Z</dcterms:modified>
  <cp:revision>28</cp:revision>
  <dc:subject/>
  <dc:title>Introduction to Serology</dc:title>
</cp:coreProperties>
</file>