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F0AB-4BC4-4991-BA75-B7C94A351B2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0CAA-805A-4E1B-BEBF-6C4DE1658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8DB-CADE-475D-9AAB-A0334EF7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20F-446E-4C61-B4F3-D8C8560D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739-5605-4792-91DB-EDBFD62F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498-3D28-440C-96E5-94D1F563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88B-1F1A-4235-BEEE-CA414C10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CD98-2FFD-4EB3-9546-D4576512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25A-7BB4-47AA-A940-D2279EEC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AC7-BE1C-4438-97F6-B5DA4671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139-DC2B-4411-8C92-02CE2D65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3AE-F6FA-4C83-9AD2-24D79A4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C4D-5905-4900-9CFB-B4255865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FF3-CCE6-474A-8C4F-1DB96DDC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5C2D-9E69-4599-A375-8C361E08E2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fety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rological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rms /Item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a for Diagn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imary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22143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o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ce of I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fold rise or more in IgG t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-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ence to slight increase of I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fold rise increase in I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um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760" y="1643040"/>
            <a:ext cx="8572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is serum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um :Blood- cells and clotting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ma : blood –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pa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lain tube ( no anticoagul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blood for 1 hour at room te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the c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ifuge at 3000rpm for 10 m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lowchart: Direct Access Storage 6"/>
          <p:cNvSpPr/>
          <p:nvPr/>
        </p:nvSpPr>
        <p:spPr>
          <a:xfrm rot="16200000">
            <a:off x="6634080" y="4295520"/>
            <a:ext cx="1446120" cy="569880"/>
          </a:xfrm>
          <a:prstGeom prst="flowChartMagneticDrum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7929720" y="4500720"/>
            <a:ext cx="8571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7858080" y="5214960"/>
            <a:ext cx="78588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n 18"/>
          <p:cNvSpPr/>
          <p:nvPr/>
        </p:nvSpPr>
        <p:spPr>
          <a:xfrm>
            <a:off x="7072200" y="3143160"/>
            <a:ext cx="571680" cy="1214640"/>
          </a:xfrm>
          <a:prstGeom prst="can">
            <a:avLst>
              <a:gd name="adj" fmla="val 11763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n 19"/>
          <p:cNvSpPr/>
          <p:nvPr/>
        </p:nvSpPr>
        <p:spPr>
          <a:xfrm>
            <a:off x="7072200" y="5072040"/>
            <a:ext cx="571680" cy="50004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um pre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qu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aliquot the serum into different tube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freezing and thawing(Wh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serum in fridge at 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1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in freezer at -2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more the 1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 frozen serum only once, discard after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posal of seru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contaminated lab w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ose used serum tubes, microtiter plates ,universal tubes , bijou bottles in autoclave ba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ose used serological pipettes, microtiter tips, slides in disinfectant j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throw tissue , gloves, paper in disinfectant j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pipe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volume /adjustable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jectable / non ejec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channel micropip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titer pl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-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-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 bott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important to dilute patient samples for serological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l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rum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tal dil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serum volume + diluen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um volume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-diluen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dilution of preceding tube 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rum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ubling serial 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Documents and Settings\user\My Documents\My Pictures\2fold serial dilution.jpg"/>
          <p:cNvPicPr/>
          <p:nvPr/>
        </p:nvPicPr>
        <p:blipFill>
          <a:blip r:embed="rId1"/>
          <a:stretch/>
        </p:blipFill>
        <p:spPr>
          <a:xfrm>
            <a:off x="500040" y="1500120"/>
            <a:ext cx="821520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clonal anti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&#10;C19F13.jpg                                                     00003578_x000c_Macintosh HD                   ABA78158:"/>
          <p:cNvPicPr/>
          <p:nvPr/>
        </p:nvPicPr>
        <p:blipFill>
          <a:blip r:embed="rId1"/>
          <a:stretch/>
        </p:blipFill>
        <p:spPr>
          <a:xfrm>
            <a:off x="357120" y="1214280"/>
            <a:ext cx="85010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fet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lab co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ust to wear glo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mouth pip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ny cuts or 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eat or drink i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ase of accident report to i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hand to face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 hands before you le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branch of immunology dealing with study of Ag –Ab interactions in Vitro by different serological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/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Lab diagno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Save patient’s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Prevent spread of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Treatment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 Confirm clinical diagn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 diagnosis of infectious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olation  and identification of causative agent b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. Morphological tests (microscop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. Biochemical 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. Cultural ident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. Serological 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 Biotechnology: PCR-DNA probe- DNA finger prin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etection of specific Ab in sera of infected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tients using serological techniq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ological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the direct interaction between Ag and Ab in Vitro( test tub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Elisa, IFA, RIA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ary 2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the consequences of interaction between Ag and Ab in Vi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gglutination, CFT, Precipitation,    Neutralization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rtiary 3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Ag and Ab interactions in Vivo ( in b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alid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A serological test should provide an indication of which individuals actually have the disease and which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bility of a test to identify correctly those who do not have the disease.( have least cross reac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bility of a test to identify correctly those who have the disease( can detect v. small amou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164304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positive rate of the test( no false -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negative rate of the test(no false +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result      Test result         Total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        negative           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ly have AIDS             99                  1                        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have AIDS          199                9701                   9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s                              298                9802                   1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99/100 x100 = 9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9701/9900x100= 9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4120" y="2997360"/>
          <a:ext cx="7718400" cy="2108160"/>
        </p:xfrm>
        <a:graphic>
          <a:graphicData uri="http://schemas.openxmlformats.org/drawingml/2006/table">
            <a:tbl>
              <a:tblPr/>
              <a:tblGrid>
                <a:gridCol w="771840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ntitative te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easures the amount of Ag o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litative t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etects the presence or absence of Ag o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oconvers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development of detectable specific Ab to microorganisms in serum as a result of infection or immu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o revers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opposite of seroconvers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when the test can no longer detect Ab or Ag in patient's se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7:53:35Z</dcterms:created>
  <dc:creator>ksu</dc:creator>
  <dc:description/>
  <dc:language>en-US</dc:language>
  <cp:lastModifiedBy>Esraa</cp:lastModifiedBy>
  <dcterms:modified xsi:type="dcterms:W3CDTF">2012-03-20T08:31:09Z</dcterms:modified>
  <cp:revision>28</cp:revision>
  <dc:subject/>
  <dc:title>Introduction to Serology</dc:title>
</cp:coreProperties>
</file>