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8ECBC-363A-4047-BAE6-66DBF2CDBF5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DF0E4-20D6-4327-B36E-7433A3327D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4A56-C95D-4C3C-AAF4-DCD2B025E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F198-F7E7-4DBD-BC67-F60005181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4866-0E3A-4CF8-8945-BA003B04C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4630-FBD1-4399-AF13-5D6C09FCE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1E32-03B5-49C5-80CE-547F04419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DB0A-A7A4-4519-AF69-92E6F7699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CBA7-A315-4BF9-9D28-156317138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4BDC-086D-4CB6-B721-38C90928F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6008-2CC1-4E51-B6F6-B86ED29CE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C59D-F38A-4E79-BEA2-EB71987EE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9374-2C88-4E41-B836-279238EE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2341-A014-4DF3-88C0-63D77D40F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DD734-6500-4B1B-AC65-9B95617146A2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duction to Ser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fety r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rological re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rms /Items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iteria for Diagno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Primary inf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28760" y="2214360"/>
            <a:ext cx="40399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roconver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sence of Ig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 fold rise or more in IgG t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Re-inf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sence to slight increase of Ig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 fold rise increase in Ig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rum 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56760" y="1643040"/>
            <a:ext cx="857268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What is serum 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rum :Blood- cells and clotting fa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sma : blood – ce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epar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plain tube ( no anticoagula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ve blood for 1 hour at room tem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parate the clo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ntrifuge at 3000rpm for 10 mi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Flowchart: Direct Access Storage 6"/>
          <p:cNvSpPr/>
          <p:nvPr/>
        </p:nvSpPr>
        <p:spPr>
          <a:xfrm rot="16200000">
            <a:off x="6634080" y="4295520"/>
            <a:ext cx="1446120" cy="569880"/>
          </a:xfrm>
          <a:prstGeom prst="flowChartMagneticDrum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3"/>
          <p:cNvSpPr/>
          <p:nvPr/>
        </p:nvSpPr>
        <p:spPr>
          <a:xfrm>
            <a:off x="7929720" y="4500720"/>
            <a:ext cx="85716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4"/>
          <p:cNvSpPr/>
          <p:nvPr/>
        </p:nvSpPr>
        <p:spPr>
          <a:xfrm>
            <a:off x="7858080" y="5214960"/>
            <a:ext cx="785880" cy="214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Can 18"/>
          <p:cNvSpPr/>
          <p:nvPr/>
        </p:nvSpPr>
        <p:spPr>
          <a:xfrm>
            <a:off x="7072200" y="3143160"/>
            <a:ext cx="571680" cy="1214640"/>
          </a:xfrm>
          <a:prstGeom prst="can">
            <a:avLst>
              <a:gd name="adj" fmla="val 11763"/>
            </a:avLst>
          </a:prstGeom>
          <a:solidFill>
            <a:srgbClr val="ffffff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Can 19"/>
          <p:cNvSpPr/>
          <p:nvPr/>
        </p:nvSpPr>
        <p:spPr>
          <a:xfrm>
            <a:off x="7072200" y="5072040"/>
            <a:ext cx="571680" cy="500040"/>
          </a:xfrm>
          <a:prstGeom prst="can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rum preser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iquo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st aliquot the serum into different tubes t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void freezing and thawing(Wh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ep serum in fridge at 4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or 1 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ep in freezer at -20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or more the 1 da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 frozen serum only once, discard after u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isposal of seru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nd contaminated lab wa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pose used serum tubes, microtiter plates ,universal tubes , bijou bottles in autoclave ba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pose used serological pipettes, microtiter tips, slides in disinfectant ja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not throw tissue , gloves, paper in disinfectant ja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cropipet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xed volume /adjustable volu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jectable / non eject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ltichannel micropipet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crotiter plat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 -bott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- bott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at botto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l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important to dilute patient samples for serological te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Dilu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erum volu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tal volu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otal dilutio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serum volume + diluent volu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erum volume=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tal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lume-diluent volu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Dilu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 dilution of preceding tube x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erum volu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tal volu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ubling serial dil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4" descr="C:\Documents and Settings\user\My Documents\My Pictures\2fold serial dilution.jpg"/>
          <p:cNvPicPr/>
          <p:nvPr/>
        </p:nvPicPr>
        <p:blipFill>
          <a:blip r:embed="rId1"/>
          <a:stretch/>
        </p:blipFill>
        <p:spPr>
          <a:xfrm>
            <a:off x="500040" y="1500120"/>
            <a:ext cx="8215200" cy="51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914040" y="380880"/>
            <a:ext cx="7543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noclonal antibod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3" descr="&#10;C19F13.jpg                                                     00003578_x000c_Macintosh HD                   ABA78158:"/>
          <p:cNvPicPr/>
          <p:nvPr/>
        </p:nvPicPr>
        <p:blipFill>
          <a:blip r:embed="rId1"/>
          <a:stretch/>
        </p:blipFill>
        <p:spPr>
          <a:xfrm>
            <a:off x="357120" y="1214280"/>
            <a:ext cx="850104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fety r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ar lab coa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must to wear glo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ver mouth pipet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er any cuts or bur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not eat or drink in la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case of accident report to i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void hand to face oper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sh hands before you lea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ser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a branch of immunology dealing with study of Ag –Ab interactions in Vitro by different serological te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g/A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Lab diagnosi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- Save patient’s lif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- Prevent spread of dise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- Treatment therap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- Confirm clinical diagno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b diagnosis of infectious dise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Isolation  and identification of causative agent b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. Morphological tests (microscopy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. Biochemical rea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. Cultural identific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. Serological rea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. Biotechnology: PCR-DNA probe- DNA finger prin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Detection of specific Ab in sera of infected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atients using serological techniqu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rological Rea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Primar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5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It measures the direct interaction between Ag and Ab in Vitro( test tube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: Elisa, IFA, RIA te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econdary 2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5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It measures the consequences of interaction between Ag and Ab in Vitr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: Agglutination, CFT, Precipitation,    Neutralization te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ertiary 3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It measures Ag and Ab interactions in Vivo ( in bod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rm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Valid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: A serological test should provide an indication of which individuals actually have the disease and which do no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pecific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ability of a test to identify correctly those who do not have the disease.( have least cross reactivit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ensitiv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Ability of a test to identify correctly those who have the disease( can detect v. small amount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85480" y="1643040"/>
            <a:ext cx="8358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ensitiv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ue positive rate of the test( no false -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pecific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ue negative rate of the test(no false +v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st result      Test result         Total 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sitive         negative            of peop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ally have AIDS             99                  1                         1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 not have AIDS          199                9701                   99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tals                              298                9802                   10,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Sensitivit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=99/100 x100 = 99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Specificit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= 9701/9900x100= 98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84120" y="2997360"/>
          <a:ext cx="7718400" cy="2108160"/>
        </p:xfrm>
        <a:graphic>
          <a:graphicData uri="http://schemas.openxmlformats.org/drawingml/2006/table">
            <a:tbl>
              <a:tblPr/>
              <a:tblGrid>
                <a:gridCol w="7718400"/>
              </a:tblGrid>
              <a:tr h="210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r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Quantitative test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measures the amount of Ag or Ab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Qualitative tes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detects the presence or absence of Ag or Ab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r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eroconversion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development of detectable specific Ab to microorganisms in serum as a result of infection or immun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ero reversion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the opposite of seroconversion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when the test can no longer detect Ab or Ag in patient's ser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2T07:53:35Z</dcterms:created>
  <dc:creator>ksu</dc:creator>
  <dc:description/>
  <dc:language>en-US</dc:language>
  <cp:lastModifiedBy>Esraa</cp:lastModifiedBy>
  <dcterms:modified xsi:type="dcterms:W3CDTF">2012-03-20T08:31:09Z</dcterms:modified>
  <cp:revision>28</cp:revision>
  <dc:subject/>
  <dc:title>Introduction to Serology</dc:title>
</cp:coreProperties>
</file>