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F83-8636-4877-8D9C-13FF3A3C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9F7-CEA4-4E78-9B89-1AFA623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922-4E24-494E-9238-273B4CCA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F14-E651-44FC-8B97-068A285F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AF9C-1D55-47BA-90A3-2699F8C8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D47D-91BB-4577-9FD1-6291DE26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72F8-4A01-42FA-871C-2902DB3B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F328-FF5A-413F-BF3C-8A24D70F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5F7D-337E-4F70-8B4E-1C12D762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D4FF-B6DD-4A19-8666-F223D32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94DE-2519-466C-90DE-6F302A0F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C40-1D88-4DA4-87E8-2777BCC6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F94E-F6B1-4479-B064-8B745C2B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473F-16F9-439A-98A8-255942B5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1397-6154-4D00-93E7-A279C5A4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C19B-911B-489E-90FD-B61E0D46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2930-0384-4020-8FFB-259D6734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A03DF-9170-47BE-A7F6-FCC3F3EB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A68F-D8CD-4E56-B948-25195435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B7DE-5D40-4DC8-8151-739A68C0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296D4-4D4B-4476-8674-3239610E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427F-1D6E-428E-A659-8A7AED30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656-67A2-4E66-AE1F-6006E553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2684-EB4B-4070-B22F-D64ED566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05C6-D205-4CF2-BC77-892C790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8899-077A-4270-97C0-D35D495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3604-683A-4CD4-BEDE-1CC38A96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228C-517C-488B-9227-6D5B35A6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B5E7-F854-49A1-B5F6-BC068A16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6B66-094A-4818-96E7-0DA4DFE8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62BB-2707-4196-8ADF-371E7FCB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B791-82B5-47B0-8A94-132955CE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7CE47-6CED-4878-B09A-C7D628B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EC3-23BC-4834-989F-CCC95D0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57CBB-3942-4C34-B5A9-CD60D752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75EC-D782-49FA-AB40-EDCAC31F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76DEE-452A-4582-8CD9-13E09592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73804-41DB-4FBC-99AD-71E40278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FC74-1953-44BE-AB31-1A37DBD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08162-24A2-48E6-A05A-D4857844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5B5A-6C61-44C8-B2C0-09AC542D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5A41-37A2-44CB-91BE-FB4D60E2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76D6A-ECD4-4798-8DC3-E8FFE803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B578-0F7F-4B4F-8D24-AE2A62CD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B0A-1D84-4330-8EC5-C2DCC4D1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1D45-8497-4A50-B6D0-FDF8C0B9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E2CBA-0DF4-4E0B-8FF2-8913FC44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8CEC-16CA-4FFD-B71E-5EC366E7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391B-5304-4525-8742-D3B9F160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3EF85-ECD8-48C8-BE0B-3CAAEDB7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058F-00F1-4584-B792-A7293EBB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6BDC-8FEF-4F72-B8EF-967C601A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518C7-AC33-46F7-8A90-35D2D9E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C2813-F8F2-4E07-9BE9-9E34C6E4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B713-757D-4E01-A380-F7182DAB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27F-A7FD-439E-B618-8EC169CA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59D19-5C4B-42AD-9D60-2CDE6F1A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59FBE-E38E-4747-A329-D0ADF0B5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93DF7-D939-4E9F-9C16-B5AB9418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FAFA7-9C92-412B-A3AA-7720FBA1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79927-9DE6-4633-82A1-F1B7FB4A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C1C76-A976-4FEE-BF7D-0B684CD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CC89E-6E90-4A7A-9558-F2F8D5DA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58AF1-EF69-43C8-A813-4DE1B22C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F1E61-5076-4C2D-9BD7-D3E6F24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DAC98-9C7D-436E-B91B-A1F84D6C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511-31DB-41BC-8AA0-61735059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32525-C3B8-406D-9581-D9008B7F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79ED2-BB10-481B-B4EE-2BECBCF4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5DA41-1888-425C-83D3-5CE13C69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A7345-1C41-4B41-9712-D23E992E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6F22B-CE55-4ED7-A623-0121A404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5D27E-6EBB-46DB-BBD1-D55F86DE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6398-F9E0-43A4-ADBC-B20F0FDF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4150C-0915-4EB6-8A9C-2F897BC0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4E110-1DA6-4D35-9695-376B428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87F6-C6FB-43B7-A267-E71F4B8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DF7-5F73-4888-A42F-E0BD384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210A3-F1AE-481C-8B48-5C4AC145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87E8A-74AE-4D82-843B-ABD38A22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671EE-6D6C-4F93-B0DC-6A878173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FC2CA-35B7-46A3-9827-5188E07C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4B2AE-ABB1-4CB4-BD58-BF735952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4AD-4BB2-4391-BEAE-3B839265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49D4-AA89-42A3-B282-12DD287A4895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C29F-A7ED-47D4-B873-43EA4F4027AD}" type="slidenum">
              <a:rPr b="0" lang="ar-SA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15E2-2F01-4CF5-954F-4CEE04287997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8730-DEA1-4DC7-AD39-DF7AB559DA98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C53B-68AE-4A84-A529-F7228E0A09C1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FB01-74CD-4312-8365-5757484477A7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A6B6-9B3E-4A6D-B355-55CB152A4622}" type="slidenum">
              <a:rPr b="0" lang="ar-SA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10920" y="3212640"/>
            <a:ext cx="6553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ae53"/>
                </a:solidFill>
                <a:latin typeface="Times New Roman"/>
                <a:ea typeface="Times New Roman"/>
              </a:rPr>
              <a:t>SAFETY RULE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ae53"/>
                </a:solidFill>
                <a:latin typeface="Times New Roman"/>
                <a:ea typeface="Times New Roman"/>
              </a:rPr>
              <a:t>SEROLOGICAL REACTION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ae53"/>
                </a:solidFill>
                <a:latin typeface="Times New Roman"/>
                <a:ea typeface="Times New Roman"/>
              </a:rPr>
              <a:t>TERMS /ITEMS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7534c"/>
                </a:solidFill>
                <a:uFillTx/>
                <a:latin typeface="Times New Roman"/>
              </a:rPr>
              <a:t>INTRODUCTION TO SEROLOGY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250920" y="189000"/>
            <a:ext cx="33573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S 4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logy Lab#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"/>
          <p:cNvSpPr/>
          <p:nvPr/>
        </p:nvSpPr>
        <p:spPr>
          <a:xfrm>
            <a:off x="539640" y="566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diyah Alrusayy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hanoof Alay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serology.jpg"/>
          <p:cNvPicPr/>
          <p:nvPr/>
        </p:nvPicPr>
        <p:blipFill>
          <a:blip r:embed="rId1"/>
          <a:stretch/>
        </p:blipFill>
        <p:spPr>
          <a:xfrm>
            <a:off x="6500880" y="1571760"/>
            <a:ext cx="2490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TERM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idity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: A serological test should provide an indication of which individuals actually have the disease and which do not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ity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: ability of a test to identify correctly those who do not have the disease.    ( have least cross reactivity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sitivity</a:t>
            </a:r>
            <a:r>
              <a:rPr b="0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: Ability of a test to identify correctly those who have the disease( can detect v. small amounts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EXAMPL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85480" y="1643040"/>
            <a:ext cx="83581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sitivity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: </a:t>
            </a:r>
            <a:r>
              <a:rPr b="0" lang="en-US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rue positive rate of the test          ( no false –ve 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ity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rue negative rate of the test          (no false +ve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est result      Test result         Total No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ositive         negative            of people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ally have AIDS             99                  1                         100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o not have AIDS          199                9701                   9900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Totals                              298                9802                   10,000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sitivity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=99/100 x100 = 99%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ity</a:t>
            </a:r>
            <a:r>
              <a:rPr b="0" lang="en-US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= 9701/9900x100= 98%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95280" y="3213000"/>
          <a:ext cx="7718400" cy="2108160"/>
        </p:xfrm>
        <a:graphic>
          <a:graphicData uri="http://schemas.openxmlformats.org/drawingml/2006/table">
            <a:tbl>
              <a:tblPr/>
              <a:tblGrid>
                <a:gridCol w="771840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85840" y="1557000"/>
            <a:ext cx="84009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Quantitative test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It measures the amount of Ag or Ab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Qualitative test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: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It detects the presence or absence of Ag or Ab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Seroconversion: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is development of detectable specific Ab to microorganisms in serum as a result of infection or immuniz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Sero reversion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is the opposite of seroconversion 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This is when the test can no longer detect Ab or Ag in patient's serum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CRITERIA FOR DIAGNOSING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58256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ary infection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760" y="1928880"/>
            <a:ext cx="4039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eroconvers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resence of IgM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9680" y="414288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-infection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4603680"/>
            <a:ext cx="4143240" cy="22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bsence to slight increase of IgM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4 fold rise increase in IgG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SERUM SEPAR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13840" y="1714680"/>
            <a:ext cx="8572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serum 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erum :Blood- cells and clotting factor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lasma : blood – cell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paration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se plain tube ( no anticoagulant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eave blood for 1 hour at room temp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eparate the clo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entrifuge at 3000 rpm for 10 mi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1"/>
          <a:stretch/>
        </p:blipFill>
        <p:spPr>
          <a:xfrm>
            <a:off x="7143840" y="1785960"/>
            <a:ext cx="2000160" cy="2928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"/>
          <p:cNvPicPr/>
          <p:nvPr/>
        </p:nvPicPr>
        <p:blipFill>
          <a:blip r:embed="rId2"/>
          <a:stretch/>
        </p:blipFill>
        <p:spPr>
          <a:xfrm>
            <a:off x="6676920" y="5000760"/>
            <a:ext cx="19670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SERUM PRESERV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liquoting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ust aliquot the serum into different tubes to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void freezing and thawing(Why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eep serum in fridge at 4c for 1 da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eep in freezer at -20c for more the 1 da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se  frozen serum only once, discard after us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3e86"/>
                </a:solidFill>
                <a:latin typeface="Times New Roman"/>
              </a:rPr>
              <a:t>DISPOSAL OF SERUM </a:t>
            </a:r>
            <a:br>
              <a:rPr sz="3600"/>
            </a:br>
            <a:r>
              <a:rPr b="1" lang="en-US" sz="3600" spc="-1" strike="noStrike">
                <a:solidFill>
                  <a:srgbClr val="aa3e86"/>
                </a:solidFill>
                <a:latin typeface="Times New Roman"/>
              </a:rPr>
              <a:t>AND CONTAMINATED LAB WARE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ispose used patient serum tubes, microtiter plates universal tubes , bijou bottles in autoclave bag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ispose used serological pipettes, microtiter tips, slides in disinfectant ja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Do not throw tissue , gloves, paper in disinfectant ja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IMPORTANT NOTES IN SER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Serum must not be hemolyzed or contaminated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its must be left 30 min at room temperature before using them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ontrols (+ve,-ve) must be used regularl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Check expiration date of kits, diluents and reagent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its even though are tested against HIV ,HBV must be considered biological hazard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Before using any kit, read the instructions provided carefully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ITEM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icropipett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Fixed volume /adjustable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Ejectable / non ejectab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ultichannel micropipett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icrotiter plat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 -bottom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V- bottom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Flat bottom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9" name="Picture 3" descr="p.jpg"/>
          <p:cNvPicPr/>
          <p:nvPr/>
        </p:nvPicPr>
        <p:blipFill>
          <a:blip r:embed="rId1"/>
          <a:stretch/>
        </p:blipFill>
        <p:spPr>
          <a:xfrm>
            <a:off x="5786280" y="207180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t’s importanc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Used in different Lab procedures.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It is important to dilute patient samples for serological test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akes Quantitative difference in what is going o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Example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/10 or 1:1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3e86"/>
                </a:solidFill>
                <a:latin typeface="Book Antiqua"/>
              </a:rPr>
              <a:t>GENERAL LABORATORY SAFETY PROTOCOLS AND RULES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004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Laboratory safety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ll students must read and understand the information of the laboratory safety and emergency procedures prior to the laboratory sess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 personal laboratory safety depends mostly on YOU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Dilution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= </a:t>
            </a:r>
            <a:r>
              <a:rPr b="0" lang="en-US" sz="2400" spc="-1" strike="noStrike" u="sng">
                <a:solidFill>
                  <a:srgbClr val="564b3c"/>
                </a:solidFill>
                <a:uFillTx/>
                <a:latin typeface="Century Gothic"/>
                <a:ea typeface="Arial"/>
              </a:rPr>
              <a:t>Serum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                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Total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Total volume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= serum volume + diluent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Serum volume=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Total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volume-diluent volum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Final Dilution</a:t>
            </a:r>
            <a:r>
              <a:rPr b="1" lang="en-US" sz="2000" spc="-1" strike="noStrike">
                <a:solidFill>
                  <a:srgbClr val="564b3c"/>
                </a:solidFill>
                <a:latin typeface="Century Gothic"/>
                <a:ea typeface="Arial"/>
              </a:rPr>
              <a:t>= dilution of preceding tube x </a:t>
            </a:r>
            <a:r>
              <a:rPr b="1" lang="en-US" sz="2000" spc="-1" strike="noStrike" u="sng">
                <a:solidFill>
                  <a:srgbClr val="564b3c"/>
                </a:solidFill>
                <a:uFillTx/>
                <a:latin typeface="Century Gothic"/>
                <a:ea typeface="Arial"/>
              </a:rPr>
              <a:t>Serum volume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  <a:ea typeface="Arial"/>
              </a:rPr>
              <a:t>                                                                                 </a:t>
            </a:r>
            <a:r>
              <a:rPr b="1" lang="en-US" sz="2000" spc="-1" strike="noStrike">
                <a:solidFill>
                  <a:srgbClr val="564b3c"/>
                </a:solidFill>
                <a:latin typeface="Century Gothic"/>
                <a:ea typeface="Arial"/>
              </a:rPr>
              <a:t>Total volume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SERIAL 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Defini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Serial dilutions are multiplicativ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Doubling Serial Dilu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t is a serial dilutio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t is a series of ½ dilu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ontent Placeholder 3" descr="http://faculty.sdmiramar.edu/dtrubovitz/micro/dilutions/sdilution.gif"/>
          <p:cNvPicPr/>
          <p:nvPr/>
        </p:nvPicPr>
        <p:blipFill>
          <a:blip r:embed="rId1"/>
          <a:stretch/>
        </p:blipFill>
        <p:spPr>
          <a:xfrm>
            <a:off x="503280" y="152280"/>
            <a:ext cx="8137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DOUBLING SERIAL 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8" name="Picture 4" descr="C:\Documents and Settings\user\My Documents\My Pictures\2fold serial dilution.jpg"/>
          <p:cNvPicPr/>
          <p:nvPr/>
        </p:nvPicPr>
        <p:blipFill>
          <a:blip r:embed="rId1"/>
          <a:stretch/>
        </p:blipFill>
        <p:spPr>
          <a:xfrm>
            <a:off x="500040" y="1500120"/>
            <a:ext cx="821520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DOUBLING SERIAL DI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st dilution =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2nd dilution = 1 /2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= 1/4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3rd dilution = 1/4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= 1/8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4th dilution = 1/8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= 1/16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5th dilution = 1/16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- 1/32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6th dilution = 1/32 x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1 /2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= 1/64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This results in a series of dilutions, each a doubling dilution of the previous on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TYP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611280" y="2060640"/>
            <a:ext cx="828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General and personal laboratory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Electrical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Chem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Bi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Emergenc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3e86"/>
                </a:solidFill>
                <a:latin typeface="Times New Roman"/>
              </a:rPr>
              <a:t>GENERAL  LABORATORY SAFETY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5248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- Wear lab co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- Never eat or drink in the laborator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- Read labels careful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4- Wear safety glasses or face shield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when working with hazardous material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nd/or equipmen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5- Wear gloves when using any hazardou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or toxic agen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6- Clothing: sandals should not be worn in the lab at any time. Shoes are required, if you have long hair or l, make sure it is tied back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2" name="Picture 3" descr="lab-safety.jpg"/>
          <p:cNvPicPr/>
          <p:nvPr/>
        </p:nvPicPr>
        <p:blipFill>
          <a:blip r:embed="rId1"/>
          <a:stretch/>
        </p:blipFill>
        <p:spPr>
          <a:xfrm>
            <a:off x="5857920" y="1143000"/>
            <a:ext cx="3071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3e86"/>
                </a:solidFill>
                <a:latin typeface="Times New Roman"/>
              </a:rPr>
              <a:t>GENERAL  LABORATORY SAFETY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95280" y="1844640"/>
            <a:ext cx="849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Keep the work area clear of all materials except those needed for y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  Extra books, purses, etc. should be kept away from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 Students are responsible for the proper disposal of used material if any in appropriate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Equipment Failure - If a piece of equipment fails while being used, report it immediately to your lab assistant or tutor. Never try to fix the problem yourself because you could harm yourself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Clean up your work area before le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 Wash your hands before leaving the lab and before 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EMERGENCY RESPONS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395280" y="1916280"/>
            <a:ext cx="8424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t is your responsibility to read safety and fire alarm posters and follow the instructions during an eme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Know the location of the fire extinguisher, eye wash, and safety shower in your lab and know how to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Notify your instructor immediately after any injury, fire or explosion, or sp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Know the building evacuatio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action.jpg"/>
          <p:cNvPicPr/>
          <p:nvPr/>
        </p:nvPicPr>
        <p:blipFill>
          <a:blip r:embed="rId1"/>
          <a:stretch/>
        </p:blipFill>
        <p:spPr>
          <a:xfrm>
            <a:off x="1928880" y="1143000"/>
            <a:ext cx="5286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WHAT IS SER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Is a branch of Immunology dealing with study of Ag –Ab interactions in Vitro by different serological te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Ag/Ab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Importance of Lab diagnosi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1- Save patient’s lif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2- Prevent spread of disea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3- Treatment therap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  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4- Confirm clinical diagnosi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3e86"/>
                </a:solidFill>
                <a:latin typeface="Book Antiqua"/>
              </a:rPr>
              <a:t>LAB DIAGNOSIS OF INFECTIOUS DISEASES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1.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Isolation  and identification of causative agent by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a. Morphological tests (microscopy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b. Biochemical reactions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c. Cultural identification 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d. Serological reactions  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e. Biotechnology: PCR-DNA probe- DNA fing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er printing 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2.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Detection of specific Ab in sera of infected patients using serological techniques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ar-SA" sz="26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  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3. Diagnosis of other diseases or change of condition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a3e86"/>
                </a:solidFill>
                <a:latin typeface="Times New Roman"/>
              </a:rPr>
              <a:t>SEROLOGICAL REACTION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8360" y="16999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Primar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t measures the direct interaction between Ag and Ab in Vitro( test tube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Example: Elisa, IFA, RIA te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Secondary 2</a:t>
            </a:r>
            <a:r>
              <a:rPr b="0" lang="ar-SA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t measures the consequences of interaction between Ag and Ab in Vitro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Example: Agglutination, CFT, Precipitation,    Neutralization te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Tertiary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3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easures Ag and Ab interactions in Vivo ( in body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7:53:35Z</dcterms:created>
  <dc:creator>ksu</dc:creator>
  <dc:description/>
  <dc:language>en-US</dc:language>
  <cp:lastModifiedBy>Alhanouf</cp:lastModifiedBy>
  <dcterms:modified xsi:type="dcterms:W3CDTF">2016-09-25T14:43:32Z</dcterms:modified>
  <cp:revision>81</cp:revision>
  <dc:subject/>
  <dc:title>Introduction to Serology</dc:title>
</cp:coreProperties>
</file>