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B1B-7286-49C2-98EA-B522377B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F31-BD01-4833-ACCE-B3A98A16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E4F-29CE-43F7-ABA0-27E5B342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63B-A818-4DA9-90E5-10B5175F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A8BE-58C4-49DE-AE11-2E695602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8B17-7DBF-476A-94E9-5FE08AD5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18DE-CD99-4C73-AD4C-374A5A3B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A425-23D0-4773-9602-848A0FB5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5963-0B5F-4DD7-8386-4AD6DF3C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FB60-C07A-4F30-B89F-7959B4F2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DB70-B529-40F9-A166-797F835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91B-4F4E-417C-965E-222F95DD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D255-4926-4D69-B97E-8E93475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CF4D-7099-4B1A-A98D-A85ED26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B59F-89A4-4D87-8219-407A5AE0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685A-2C82-46C9-9286-0CD2A833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C3B8-92C8-4759-94BB-4C179347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784A-B132-49BF-9041-CEA81CDB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A7D0-A846-431D-9681-B999088F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D670-D926-4FDE-A9F5-B2941EBB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7EA84-2293-4303-811F-945C9B90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8EBA-89B0-48A3-86B3-191FFB3F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C92-F640-4807-9EB3-91703B7C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524B-BE16-41C0-A682-A433DD45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CE62F-AB47-4FD1-A044-8D36414B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0489-BF84-41C2-B1A7-23F5395A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FCF9-8579-4C80-B21D-112E233A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A09C-CFFE-40F5-A162-DD8A4F8A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1E56-C1DD-4680-A5C6-9568BF24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27D3-0C63-489B-98C4-0AEDD81A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87F9-1287-40C7-9F25-90048F5F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93233-74CD-4E44-93AD-F341D19F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EBD9B-9C82-45A5-B6BD-ADB51049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8B5-B52E-40CA-8E74-AE43672B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564DC-D7E1-4920-9770-DAC949F2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7D9B-8B31-43BF-8669-87ACF439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0958-DD72-4D6B-B474-91CF06B7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22B6-2660-4B8D-BBDF-FF9E8A6A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4E3F-1AE8-4EA7-AA09-D94162B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22B7A-2528-4CF6-9DC1-2AA3264B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A1BD2-6CC9-4822-B81D-FA6C90E1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7CF8-1B68-4EF0-8D65-16D8596F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125E-81DF-4F13-A4A0-3327A8AA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CD57-50EA-4B36-BC25-A70106F2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67C-CE7D-409A-9429-2C69DAAB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AE534-88DB-41F8-B8C4-7D2FC5BE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3CCC3-A856-40A5-9D42-777EC8AE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41498-1F9C-4EE6-BA9F-55A4BC00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D7A6B-54F8-4947-8D27-85814853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6F9FC-B0D9-4517-BDAE-9CB728D0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49D0F-630B-4D38-91B3-47B796D7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DD4D8-03E3-4B61-97CC-2DE58D87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32654-B6D1-443A-BA20-EB3AA0C4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21D15-80FE-4A15-97E5-E05FD619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0A1B5-24D5-4972-AA89-B99B2047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8A5-1093-4A26-BC87-4FF7F3EB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A566D-F61D-4C61-A0D8-0C3F80D2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E3612-26AA-4CE2-840A-AF349DE5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DC253-185D-44C4-BBD7-D1968E78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31411-B9BA-4832-8193-3712997A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73013-7AB3-47FC-9605-92680C75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D17FC-A8B4-4E68-A2A6-AB021E07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0BABC-919F-4F96-8FA1-BA47AAC0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210F5-1CC5-4AF7-8C69-1426EBA4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1E636A-2736-413E-B903-03A4D801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B4F79-BBE4-4E74-81D5-D404D9D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823-2956-4CFE-9462-EC30E22C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48AE9-FA95-413A-AE51-E4C4F15E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6EF7F-1E07-464F-A7D9-DD46C566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29D30-32E0-4544-B24B-FD182AC5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BB984-5376-4C1B-AF5C-25D8C269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6BBF2-EF23-4324-B1DA-BAB4CB4D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CA57E-9E8A-44E0-B23B-1E2432C4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A19C0-E996-4EBB-A3A0-2DA4EB83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8FD76-0103-4A9B-A881-9B643C37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2B6E7-0D8A-4121-9E47-0951D5DC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AF7EB-3D98-41E1-AB2A-C879E356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9F1-C7AE-4109-80B9-57388AB6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74468-6D41-4DA5-A80C-56DDBB73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8B8F5-BA4A-40F7-ACBD-98A1F3D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D5129-F26A-4DF6-81B2-779C4F9C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8B9F4-CBE1-4C47-8CDC-F9470701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BDBD-E122-48DA-81A9-60343F14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F68-AEE3-48CD-98D0-CAE00F44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3962-032C-41CE-906C-1E02B8F28B3D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890C-68E5-4395-B8B1-7927E47418B2}" type="slidenum">
              <a:rPr b="0" lang="ar-SA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4B6-FF42-4F2E-A71F-338DB37D9EEF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9536-57A0-4F7B-BCF6-A5C6585D8796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3536-307B-41B6-A840-C4C3472061E9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3F23-CD69-457C-B9AB-BFDF98094954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A4D9-A880-4C78-B8DE-D1EEE9772648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10920" y="3212640"/>
            <a:ext cx="6553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ae53"/>
                </a:solidFill>
                <a:latin typeface="Times New Roman"/>
                <a:ea typeface="Times New Roman"/>
              </a:rPr>
              <a:t>SAFETY RULES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ae53"/>
                </a:solidFill>
                <a:latin typeface="Times New Roman"/>
                <a:ea typeface="Times New Roman"/>
              </a:rPr>
              <a:t>SEROLOGICAL REACTIONS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ae53"/>
                </a:solidFill>
                <a:latin typeface="Times New Roman"/>
                <a:ea typeface="Times New Roman"/>
              </a:rPr>
              <a:t>TERMS /ITEMS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7534c"/>
                </a:solidFill>
                <a:uFillTx/>
                <a:latin typeface="Times New Roman"/>
              </a:rPr>
              <a:t>INTRODUCTION TO SEROLOGY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250920" y="189000"/>
            <a:ext cx="33573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S 4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logy Lab#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"/>
          <p:cNvSpPr/>
          <p:nvPr/>
        </p:nvSpPr>
        <p:spPr>
          <a:xfrm>
            <a:off x="539640" y="5661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diyah Alrusayy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hanoof Alay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serology.jpg"/>
          <p:cNvPicPr/>
          <p:nvPr/>
        </p:nvPicPr>
        <p:blipFill>
          <a:blip r:embed="rId1"/>
          <a:stretch/>
        </p:blipFill>
        <p:spPr>
          <a:xfrm>
            <a:off x="6500880" y="1571760"/>
            <a:ext cx="2490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TERM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idity</a:t>
            </a: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: A serological test should provide an indication of which individuals actually have the disease and which do not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city</a:t>
            </a: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: ability of a test to identify correctly those who do not have the disease.    ( have least cross reactivity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sitivity</a:t>
            </a: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: Ability of a test to identify correctly those who have the disease( can detect v. small amounts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EXAMPL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85480" y="1643040"/>
            <a:ext cx="83581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sitivity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: </a:t>
            </a:r>
            <a:r>
              <a:rPr b="0" lang="en-US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rue positive rate of the test          ( no false –ve 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city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: </a:t>
            </a:r>
            <a:r>
              <a:rPr b="0" lang="en-US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rue negative rate of the test          (no false +ve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est result      Test result         Total No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ositive         negative            of people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eally have AIDS             99                  1                         100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o not have AIDS          199                9701                   9900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otals                              298                9802                   10,000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sitivity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=99/100 x100 = 99%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city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= 9701/9900x100= 98%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95280" y="3213000"/>
          <a:ext cx="7718400" cy="2108160"/>
        </p:xfrm>
        <a:graphic>
          <a:graphicData uri="http://schemas.openxmlformats.org/drawingml/2006/table">
            <a:tbl>
              <a:tblPr/>
              <a:tblGrid>
                <a:gridCol w="771840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85840" y="1557000"/>
            <a:ext cx="84009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Quantitative test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It measures the amount of Ag or Ab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Qualitative test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: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It detects the presence or absence of Ag or Ab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Seroconversion: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is development of detectable specific Ab to microorganisms in serum as a result of infection or immunizat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Sero reversion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is the opposite of seroconversion 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This is when the test can no longer detect Ab or Ag in patient's serum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CRITERIA FOR DIAGNOSING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5825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ary infection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8760" y="1928880"/>
            <a:ext cx="4039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eroconvers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resence of IgM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9680" y="414288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-infection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400" y="4603680"/>
            <a:ext cx="4143240" cy="22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bsence to slight increase of IgM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4 fold rise increase in IgG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6" name="Picture 7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714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SERUM SEPARA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13840" y="1714680"/>
            <a:ext cx="85726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serum 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erum :Blood- cells and clotting factor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lasma : blood – cell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paration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Use plain tube ( no anticoagulant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Leave blood for 1 hour at room temp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eparate the clo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Centrifuge at 3000 rpm for 10 mi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1"/>
          <a:stretch/>
        </p:blipFill>
        <p:spPr>
          <a:xfrm>
            <a:off x="7143840" y="1785960"/>
            <a:ext cx="2000160" cy="2928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"/>
          <p:cNvPicPr/>
          <p:nvPr/>
        </p:nvPicPr>
        <p:blipFill>
          <a:blip r:embed="rId2"/>
          <a:stretch/>
        </p:blipFill>
        <p:spPr>
          <a:xfrm>
            <a:off x="6676920" y="5000760"/>
            <a:ext cx="19670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SERUM PRESERVA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liquoting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ust aliquot the serum into different tubes to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void freezing and thawing(Why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eep serum in fridge at 4c for 1 da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eep in freezer at -20c for more the 1 da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Use  frozen serum only once, discard after us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3e86"/>
                </a:solidFill>
                <a:latin typeface="Times New Roman"/>
              </a:rPr>
              <a:t>DISPOSAL OF SERUM </a:t>
            </a:r>
            <a:br>
              <a:rPr sz="3600"/>
            </a:br>
            <a:r>
              <a:rPr b="1" lang="en-US" sz="3600" spc="-1" strike="noStrike">
                <a:solidFill>
                  <a:srgbClr val="aa3e86"/>
                </a:solidFill>
                <a:latin typeface="Times New Roman"/>
              </a:rPr>
              <a:t>AND CONTAMINATED LAB WARE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ispose used patient serum tubes, microtiter plates universal tubes , bijou bottles in autoclave bag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ispose used serological pipettes, microtiter tips, slides in disinfectant jar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o not throw tissue , gloves, paper in disinfectant jar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IMPORTANT NOTES IN SER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erum must not be hemolyzed or contaminated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its must be left 30 min at room temperature before using them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Controls (+ve,-ve) must be used regularl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Check expiration date of kits, diluents and reagent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its even though are tested against HIV ,HBV must be considered biological hazard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efore using any kit, read the instructions provided carefull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ITEM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icropipette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Fixed volume /adjustable volum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Ejectable / non ejectabl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ultichannel micropipett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icrotiter plat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U -bottom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V- bottom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Flat bottom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9" name="Picture 3" descr="p.jpg"/>
          <p:cNvPicPr/>
          <p:nvPr/>
        </p:nvPicPr>
        <p:blipFill>
          <a:blip r:embed="rId1"/>
          <a:stretch/>
        </p:blipFill>
        <p:spPr>
          <a:xfrm>
            <a:off x="5786280" y="207180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DI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t’s importanc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Used in different Lab procedures.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It is important to dilute patient samples for serological test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akes Quantitative difference in what is going o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Example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/10 or 1:1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3e86"/>
                </a:solidFill>
                <a:latin typeface="Book Antiqua"/>
              </a:rPr>
              <a:t>GENERAL LABORATORY SAFETY PROTOCOLS AND RULES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004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Laboratory safety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ll students must read and understand the information of the laboratory safety and emergency procedures prior to the laboratory sess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 personal laboratory safety depends mostly on YOU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DI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Dilution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= </a:t>
            </a:r>
            <a:r>
              <a:rPr b="0" lang="en-US" sz="2400" spc="-1" strike="noStrike" u="sng">
                <a:solidFill>
                  <a:srgbClr val="564b3c"/>
                </a:solidFill>
                <a:uFillTx/>
                <a:latin typeface="Century Gothic"/>
                <a:ea typeface="Arial"/>
              </a:rPr>
              <a:t>Serum volum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                  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Total volum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Total volume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= serum volume + diluent volum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Serum volume=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Total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volume-diluent volum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Final Dilution</a:t>
            </a:r>
            <a:r>
              <a:rPr b="1" lang="en-US" sz="2000" spc="-1" strike="noStrike">
                <a:solidFill>
                  <a:srgbClr val="564b3c"/>
                </a:solidFill>
                <a:latin typeface="Century Gothic"/>
                <a:ea typeface="Arial"/>
              </a:rPr>
              <a:t>= dilution of preceding tube x </a:t>
            </a:r>
            <a:r>
              <a:rPr b="1" lang="en-US" sz="2000" spc="-1" strike="noStrike" u="sng">
                <a:solidFill>
                  <a:srgbClr val="564b3c"/>
                </a:solidFill>
                <a:uFillTx/>
                <a:latin typeface="Century Gothic"/>
                <a:ea typeface="Arial"/>
              </a:rPr>
              <a:t>Serum volume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  <a:ea typeface="Arial"/>
              </a:rPr>
              <a:t>                                                                                 </a:t>
            </a:r>
            <a:r>
              <a:rPr b="1" lang="en-US" sz="2000" spc="-1" strike="noStrike">
                <a:solidFill>
                  <a:srgbClr val="564b3c"/>
                </a:solidFill>
                <a:latin typeface="Century Gothic"/>
                <a:ea typeface="Arial"/>
              </a:rPr>
              <a:t>Total volume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SERIAL DI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Definition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Serial dilutions are multiplicativ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Doubling Serial Dilution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t is a serial dilutio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t is a series of ½ dilu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ontent Placeholder 3" descr="http://faculty.sdmiramar.edu/dtrubovitz/micro/dilutions/sdilution.gif"/>
          <p:cNvPicPr/>
          <p:nvPr/>
        </p:nvPicPr>
        <p:blipFill>
          <a:blip r:embed="rId1"/>
          <a:stretch/>
        </p:blipFill>
        <p:spPr>
          <a:xfrm>
            <a:off x="503280" y="152280"/>
            <a:ext cx="8137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DOUBLING SERIAL DI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8" name="Picture 4" descr="C:\Documents and Settings\user\My Documents\My Pictures\2fold serial dilution.jpg"/>
          <p:cNvPicPr/>
          <p:nvPr/>
        </p:nvPicPr>
        <p:blipFill>
          <a:blip r:embed="rId1"/>
          <a:stretch/>
        </p:blipFill>
        <p:spPr>
          <a:xfrm>
            <a:off x="500040" y="1500120"/>
            <a:ext cx="821520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DOUBLING SERIAL DI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st dilution =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2nd dilution = 1 /2 x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= 1/4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3rd dilution = 1/4 x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= 1/8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4th dilution = 1/8 x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= 1/16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5th dilution = 1/16 x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- 1/32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6th dilution = 1/32 x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= 1/64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This results in a series of dilutions, each a doubling dilution of the previous on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TYP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611280" y="2060640"/>
            <a:ext cx="828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General and personal laboratory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Electrical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Chem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Bi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Emergenc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3e86"/>
                </a:solidFill>
                <a:latin typeface="Times New Roman"/>
              </a:rPr>
              <a:t>GENERAL  LABORATORY SAFETY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752480"/>
            <a:ext cx="82296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- Wear lab co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- Never eat or drink in the laborator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- Read labels careful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4- Wear safety glasses or face shield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when working with hazardous material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nd/or equipmen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5- Wear gloves when using any hazardou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r toxic agen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6- Clothing: sandals should not be worn in the lab at any time. Shoes are required, if you have long hair or l, make sure it is tied back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2" name="Picture 3" descr="lab-safety.jpg"/>
          <p:cNvPicPr/>
          <p:nvPr/>
        </p:nvPicPr>
        <p:blipFill>
          <a:blip r:embed="rId1"/>
          <a:stretch/>
        </p:blipFill>
        <p:spPr>
          <a:xfrm>
            <a:off x="5857920" y="1143000"/>
            <a:ext cx="3071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3e86"/>
                </a:solidFill>
                <a:latin typeface="Times New Roman"/>
              </a:rPr>
              <a:t>GENERAL  LABORATORY SAFETY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395280" y="1844640"/>
            <a:ext cx="849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Keep the work area clear of all materials except those needed for you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  Extra books, purses, etc. should be kept away from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 Students are responsible for the proper disposal of used material if any in appropriate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Equipment Failure - If a piece of equipment fails while being used, report it immediately to your lab assistant or tutor. Never try to fix the problem yourself because you could harm yourself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Clean up your work area before le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 Wash your hands before leaving the lab and before 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EMERGENCY RESPONS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395280" y="1916280"/>
            <a:ext cx="8424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t is your responsibility to read safety and fire alarm posters and follow the instructions during an eme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Know the location of the fire extinguisher, eye wash, and safety shower in your lab and know how to us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Notify your instructor immediately after any injury, fire or explosion, or sp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Know the building evacuatio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action.jpg"/>
          <p:cNvPicPr/>
          <p:nvPr/>
        </p:nvPicPr>
        <p:blipFill>
          <a:blip r:embed="rId1"/>
          <a:stretch/>
        </p:blipFill>
        <p:spPr>
          <a:xfrm>
            <a:off x="1928880" y="1143000"/>
            <a:ext cx="5286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WHAT IS SER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Is a branch of Immunology dealing with study of Ag –Ab interactions in Vitro by different serological test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Ag/Ab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Importance of Lab diagnosi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1- Save patient’s lif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2- Prevent spread of diseas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3- Treatment therap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4- Confirm clinical diagnosi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3e86"/>
                </a:solidFill>
                <a:latin typeface="Book Antiqua"/>
              </a:rPr>
              <a:t>LAB DIAGNOSIS OF INFECTIOUS DISEASES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1. </a:t>
            </a: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Isolation  and identification of causative agent by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a. Morphological tests (microscopy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b. Biochemical reactions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c. Cultural identification 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d. Serological reactions  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e. Biotechnology: PCR-DNA probe- DNA fing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er printing 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2.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Detection of specific Ab in sera of infected patients using serological techniques.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ar-SA" sz="26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  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3. Diagnosis of other diseases or change of condition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SEROLOGICAL REACTION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8360" y="16999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Primar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t measures the direct interaction between Ag and Ab in Vitro( test tube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Example: Elisa, IFA, RIA test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Secondary 2</a:t>
            </a:r>
            <a:r>
              <a:rPr b="0" lang="ar-SA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t measures the consequences of interaction between Ag and Ab in Vitro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Example: Agglutination, CFT, Precipitation,    Neutralization test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Tertiary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3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easures Ag and Ab interactions in Vivo ( in body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7:53:35Z</dcterms:created>
  <dc:creator>ksu</dc:creator>
  <dc:description/>
  <dc:language>en-US</dc:language>
  <cp:lastModifiedBy>Alhanouf</cp:lastModifiedBy>
  <dcterms:modified xsi:type="dcterms:W3CDTF">2016-09-25T14:43:32Z</dcterms:modified>
  <cp:revision>81</cp:revision>
  <dc:subject/>
  <dc:title>Introduction to Serology</dc:title>
</cp:coreProperties>
</file>