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3CBF05-0906-467C-9F90-BED3BBB1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899652-5E9A-4045-AF2C-D6FE4C14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480-226E-4FB4-BD20-C7C4B58A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8C9-3CC3-437C-8F34-D2A98A0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655-01C2-4A49-AD78-9E334D49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FA4-3491-420F-AD3E-8A16C866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368-F14F-4537-94BE-E93F5C31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F90-C327-4F05-B5CC-33E6156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206-70AA-41D5-B77F-1AC9C28A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FC7-057E-44F3-933E-980DD5F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AC-5456-480B-BF8E-17664F3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B52-A103-4880-80AB-3EEFC4D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CF8-B713-4989-8072-A02EBA2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FFB-2B60-4D83-BC71-48D53BD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A69-1778-48F2-A8C4-F23243E05E5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413-6D07-4E40-9B8D-3B74FFEF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301-0213-4997-BA7A-3DE93C83ABC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AD1-E4FC-4E98-88E7-07DB0024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6"/>
          <p:cNvSpPr/>
          <p:nvPr/>
        </p:nvSpPr>
        <p:spPr>
          <a:xfrm>
            <a:off x="609480" y="685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3"/>
          <p:cNvSpPr/>
          <p:nvPr/>
        </p:nvSpPr>
        <p:spPr>
          <a:xfrm>
            <a:off x="762120" y="2666880"/>
            <a:ext cx="7848360" cy="100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91b09"/>
                </a:solidFill>
                <a:latin typeface="Times New Roman"/>
              </a:rPr>
              <a:t>FORECA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9"/>
          <p:cNvSpPr/>
          <p:nvPr/>
        </p:nvSpPr>
        <p:spPr>
          <a:xfrm>
            <a:off x="104997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CC0-A961-415E-BCCD-E2754FF1852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231F-2E09-431A-94D9-AD81A2A1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91b09"/>
                </a:solidFill>
                <a:latin typeface="Arial"/>
              </a:rPr>
              <a:t>Foreca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13110f"/>
                </a:solidFill>
                <a:latin typeface="Arial"/>
              </a:rPr>
              <a:t>is a prediction of future events used for planning proces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reca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Function is to Predict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we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decisions we mak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who uses forecasting in their 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demand for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availability of man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inventory and materiel need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casting Metho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Foreca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individual or group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oreca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s made based on past history and a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Models: use only past hi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ncorporate into computer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: Causal Model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Forecast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methods:  </a:t>
            </a:r>
            <a:r>
              <a:rPr b="0" i="1" lang="en-US" sz="3000" spc="-1" strike="noStrike">
                <a:solidFill>
                  <a:srgbClr val="bbe0e3"/>
                </a:solidFill>
                <a:latin typeface="Arial"/>
              </a:rPr>
              <a:t>causal mode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bbe0e3"/>
                </a:solidFill>
                <a:latin typeface="Arial"/>
              </a:rPr>
              <a:t>time series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Y be the quantity to be forecasted and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n variables that have  predictive power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usal model is Y =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relationship is a linear one. Tha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AA16-0BAF-4F3F-9009-C39E4EA8346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F3C-A4C3-4D03-B78B-D8867F9C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2730600" y="2428920"/>
            <a:ext cx="3390840" cy="2654280"/>
            <a:chOff x="2730600" y="2428920"/>
            <a:chExt cx="3390840" cy="2654280"/>
          </a:xfrm>
        </p:grpSpPr>
        <p:sp>
          <p:nvSpPr>
            <p:cNvPr id="69" name="Oval 3"/>
            <p:cNvSpPr/>
            <p:nvPr/>
          </p:nvSpPr>
          <p:spPr>
            <a:xfrm>
              <a:off x="2730600" y="50198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2933640" y="4511520"/>
              <a:ext cx="6372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3289320" y="41306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3898800" y="415620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6058080" y="242892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5600880" y="258120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3543480" y="45878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203720" y="31654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4838760" y="380052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168880" y="329256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5600880" y="3191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ausal Method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5"/>
          <p:cNvGrpSpPr/>
          <p:nvPr/>
        </p:nvGrpSpPr>
        <p:grpSpPr>
          <a:xfrm>
            <a:off x="1338120" y="1876320"/>
            <a:ext cx="5717880" cy="4491720"/>
            <a:chOff x="1338120" y="1876320"/>
            <a:chExt cx="5717880" cy="4491720"/>
          </a:xfrm>
        </p:grpSpPr>
        <p:sp>
          <p:nvSpPr>
            <p:cNvPr id="82" name="Freeform 16"/>
            <p:cNvSpPr/>
            <p:nvPr/>
          </p:nvSpPr>
          <p:spPr>
            <a:xfrm>
              <a:off x="2036520" y="2346480"/>
              <a:ext cx="4498560" cy="3430440"/>
            </a:xfrm>
            <a:custGeom>
              <a:avLst/>
              <a:gdLst>
                <a:gd name="textAreaLeft" fmla="*/ 0 w 4498560"/>
                <a:gd name="textAreaRight" fmla="*/ 4498920 w 4498560"/>
                <a:gd name="textAreaTop" fmla="*/ 0 h 3430440"/>
                <a:gd name="textAreaBottom" fmla="*/ 3430800 h 3430440"/>
              </a:gdLst>
              <a:ahLst/>
              <a:rect l="textAreaLeft" t="textAreaTop" r="textAreaRight" b="textAreaBottom"/>
              <a:pathLst>
                <a:path w="2833" h="2161">
                  <a:moveTo>
                    <a:pt x="0" y="0"/>
                  </a:moveTo>
                  <a:lnTo>
                    <a:pt x="0" y="2160"/>
                  </a:lnTo>
                  <a:lnTo>
                    <a:pt x="2832" y="216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7"/>
            <p:cNvSpPr/>
            <p:nvPr/>
          </p:nvSpPr>
          <p:spPr>
            <a:xfrm rot="16200000">
              <a:off x="69480" y="3775320"/>
              <a:ext cx="2991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pendent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2785320" y="5913360"/>
              <a:ext cx="322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ependent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6671880" y="553248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1871280" y="18763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2"/>
          <p:cNvGrpSpPr/>
          <p:nvPr/>
        </p:nvGrpSpPr>
        <p:grpSpPr>
          <a:xfrm>
            <a:off x="2031840" y="2154240"/>
            <a:ext cx="2208240" cy="1698480"/>
            <a:chOff x="2031840" y="2154240"/>
            <a:chExt cx="2208240" cy="1698480"/>
          </a:xfrm>
        </p:grpSpPr>
        <p:sp>
          <p:nvSpPr>
            <p:cNvPr id="88" name="Rectangle 23"/>
            <p:cNvSpPr/>
            <p:nvPr/>
          </p:nvSpPr>
          <p:spPr>
            <a:xfrm>
              <a:off x="2125800" y="2154240"/>
              <a:ext cx="14554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imat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2031840" y="3852720"/>
              <a:ext cx="2208240" cy="0"/>
            </a:xfrm>
            <a:prstGeom prst="line">
              <a:avLst/>
            </a:prstGeom>
            <a:ln w="381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2122200" y="3321000"/>
              <a:ext cx="1522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2673360" y="1873080"/>
            <a:ext cx="5583600" cy="3139920"/>
            <a:chOff x="2673360" y="1873080"/>
            <a:chExt cx="5583600" cy="3139920"/>
          </a:xfrm>
        </p:grpSpPr>
        <p:sp>
          <p:nvSpPr>
            <p:cNvPr id="92" name="Line 27"/>
            <p:cNvSpPr/>
            <p:nvPr/>
          </p:nvSpPr>
          <p:spPr>
            <a:xfrm flipV="1">
              <a:off x="2673360" y="2422080"/>
              <a:ext cx="3530520" cy="25909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8"/>
            <p:cNvSpPr/>
            <p:nvPr/>
          </p:nvSpPr>
          <p:spPr>
            <a:xfrm>
              <a:off x="6417360" y="1873080"/>
              <a:ext cx="1839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9"/>
          <p:cNvGrpSpPr/>
          <p:nvPr/>
        </p:nvGrpSpPr>
        <p:grpSpPr>
          <a:xfrm>
            <a:off x="4360680" y="3308040"/>
            <a:ext cx="1938600" cy="1144080"/>
            <a:chOff x="4360680" y="3308040"/>
            <a:chExt cx="1938600" cy="1144080"/>
          </a:xfrm>
        </p:grpSpPr>
        <p:sp>
          <p:nvSpPr>
            <p:cNvPr id="95" name="Rectangle 30"/>
            <p:cNvSpPr/>
            <p:nvPr/>
          </p:nvSpPr>
          <p:spPr>
            <a:xfrm>
              <a:off x="5419800" y="3540240"/>
              <a:ext cx="87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 flipV="1">
              <a:off x="4360680" y="3308040"/>
              <a:ext cx="99684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2"/>
          <p:cNvGrpSpPr/>
          <p:nvPr/>
        </p:nvGrpSpPr>
        <p:grpSpPr>
          <a:xfrm>
            <a:off x="4240080" y="3835440"/>
            <a:ext cx="2643120" cy="1940040"/>
            <a:chOff x="4240080" y="3835440"/>
            <a:chExt cx="2643120" cy="1940040"/>
          </a:xfrm>
        </p:grpSpPr>
        <p:sp>
          <p:nvSpPr>
            <p:cNvPr id="98" name="Rectangle 33"/>
            <p:cNvSpPr/>
            <p:nvPr/>
          </p:nvSpPr>
          <p:spPr>
            <a:xfrm>
              <a:off x="4934160" y="4659480"/>
              <a:ext cx="1949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ue of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estimat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 flipH="1">
              <a:off x="4269960" y="5286240"/>
              <a:ext cx="5144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>
              <a:off x="4240080" y="3835440"/>
              <a:ext cx="0" cy="1940040"/>
            </a:xfrm>
            <a:prstGeom prst="line">
              <a:avLst/>
            </a:prstGeom>
            <a:ln w="381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6"/>
          <p:cNvGrpSpPr/>
          <p:nvPr/>
        </p:nvGrpSpPr>
        <p:grpSpPr>
          <a:xfrm>
            <a:off x="3404880" y="1819440"/>
            <a:ext cx="1274040" cy="2079000"/>
            <a:chOff x="3404880" y="1819440"/>
            <a:chExt cx="1274040" cy="2079000"/>
          </a:xfrm>
        </p:grpSpPr>
        <p:sp>
          <p:nvSpPr>
            <p:cNvPr id="102" name="Rectangle 37"/>
            <p:cNvSpPr/>
            <p:nvPr/>
          </p:nvSpPr>
          <p:spPr>
            <a:xfrm>
              <a:off x="3404880" y="1819440"/>
              <a:ext cx="1274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atio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 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3873600" y="2955960"/>
              <a:ext cx="41904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"/>
            <p:cNvSpPr/>
            <p:nvPr/>
          </p:nvSpPr>
          <p:spPr>
            <a:xfrm>
              <a:off x="3840120" y="2395440"/>
              <a:ext cx="92160" cy="1106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58" h="697">
                  <a:moveTo>
                    <a:pt x="57" y="696"/>
                  </a:moveTo>
                  <a:lnTo>
                    <a:pt x="0" y="69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me series is just collection of past values of the variable being predicted. Also known as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ï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. Goal i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late 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ast da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 Figures on following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202"/>
          <p:cNvPicPr/>
          <p:nvPr/>
        </p:nvPicPr>
        <p:blipFill>
          <a:blip r:embed="rId1"/>
          <a:stretch/>
        </p:blipFill>
        <p:spPr>
          <a:xfrm>
            <a:off x="304920" y="304920"/>
            <a:ext cx="8636040" cy="621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Sasidhar</cp:lastModifiedBy>
  <dcterms:modified xsi:type="dcterms:W3CDTF">2015-02-05T12:51:21Z</dcterms:modified>
  <cp:revision>175</cp:revision>
  <dc:subject/>
  <dc:title>PowerPoint Presentation</dc:title>
</cp:coreProperties>
</file>