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7021343-8B9F-448F-853C-F60C8DC7D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B1AF51B-CB94-4DEF-8401-7AC532E7A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3971880" y="7920"/>
            <a:ext cx="30384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971880" y="8850240"/>
            <a:ext cx="303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8850240"/>
            <a:ext cx="303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7920"/>
            <a:ext cx="30384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34560" y="4427640"/>
            <a:ext cx="514044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3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6620-2B45-4F50-A5FA-32DB62B0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2394-3DD3-439B-B6FC-DC0D9B74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113C-60D0-4D11-B076-BE80CC6C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D3EF-F716-40E5-9AFA-B6C590A10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F6DB-A9D4-48EC-8395-C0368722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AD73-FD35-41D3-ACB2-DCAB6222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126A-F48A-410D-9A7E-974AB63D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3A9F-63C6-4B92-B325-7A702AAC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9AA8-264E-4CC9-AD41-FF8D2C30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5701-9D39-457C-9D28-51250BE1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D349-D498-4A28-A920-5416252C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3154-24D1-4126-9B2A-BDA9EF65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AF5B-8C2A-44E7-A8FC-155C90F6D63B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B.Sasidh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9AB0-D47C-42D0-8926-23AA799EB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BED9-21C6-4EF4-9D75-076E4EEC8979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B.Sasidh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E832-5B75-40C9-A9AD-CFDBD44AF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26"/>
          <p:cNvSpPr/>
          <p:nvPr/>
        </p:nvSpPr>
        <p:spPr>
          <a:xfrm>
            <a:off x="609480" y="6858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33"/>
          <p:cNvSpPr/>
          <p:nvPr/>
        </p:nvSpPr>
        <p:spPr>
          <a:xfrm>
            <a:off x="762120" y="2666880"/>
            <a:ext cx="7848360" cy="1008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91b09"/>
                </a:solidFill>
                <a:latin typeface="Times New Roman"/>
              </a:rPr>
              <a:t>FORECAST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39"/>
          <p:cNvSpPr/>
          <p:nvPr/>
        </p:nvSpPr>
        <p:spPr>
          <a:xfrm>
            <a:off x="10499760" y="316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8E7B-74B9-4463-B415-26BCCA8698D0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B.Sasidh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45BA-1913-49EE-8146-1F43681B9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efini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91b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91b09"/>
                </a:solidFill>
                <a:latin typeface="Arial"/>
              </a:rPr>
              <a:t>Forecas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13110f"/>
                </a:solidFill>
                <a:latin typeface="Arial"/>
              </a:rPr>
              <a:t>is a prediction of future events used for planning process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Foreca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orecas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Function is to Predict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we interes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ects the decisions we make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who uses forecasting in their job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cast demand for product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cast availability of man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cast inventory and materiel need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casting Method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ctive Forecast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individual or group opi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Forecast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casts made based on past history and a mod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Series Models: use only past his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incorporate into computer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ression: Causal Model to pred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 Forecasting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primary methods:  </a:t>
            </a:r>
            <a:r>
              <a:rPr b="0" i="1" lang="en-US" sz="3000" spc="-1" strike="noStrike">
                <a:solidFill>
                  <a:srgbClr val="bbe0e3"/>
                </a:solidFill>
                <a:latin typeface="Arial"/>
              </a:rPr>
              <a:t>causal mode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bbe0e3"/>
                </a:solidFill>
                <a:latin typeface="Arial"/>
              </a:rPr>
              <a:t>time series metho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usal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Y be the quantity to be forecasted and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. . . 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n variables that have  predictive power for 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usal model is Y = f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. . . 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. . . ,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ypical relationship is a linear one. That i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. . .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2836-D360-4D74-9C1A-899FC49A126F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B.Sasidh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3E07-9287-48BB-8A9E-26882131C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2"/>
          <p:cNvGrpSpPr/>
          <p:nvPr/>
        </p:nvGrpSpPr>
        <p:grpSpPr>
          <a:xfrm>
            <a:off x="2730600" y="2428920"/>
            <a:ext cx="3390840" cy="2654280"/>
            <a:chOff x="2730600" y="2428920"/>
            <a:chExt cx="3390840" cy="2654280"/>
          </a:xfrm>
        </p:grpSpPr>
        <p:sp>
          <p:nvSpPr>
            <p:cNvPr id="69" name="Oval 3"/>
            <p:cNvSpPr/>
            <p:nvPr/>
          </p:nvSpPr>
          <p:spPr>
            <a:xfrm>
              <a:off x="2730600" y="5019840"/>
              <a:ext cx="6336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2933640" y="4511520"/>
              <a:ext cx="63720" cy="63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3289320" y="4130640"/>
              <a:ext cx="6336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3898800" y="4156200"/>
              <a:ext cx="6372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6058080" y="2428920"/>
              <a:ext cx="6336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5600880" y="2581200"/>
              <a:ext cx="63360" cy="63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3543480" y="4587840"/>
              <a:ext cx="6336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203720" y="3165480"/>
              <a:ext cx="6336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4838760" y="3800520"/>
              <a:ext cx="6336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168880" y="3292560"/>
              <a:ext cx="6336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5600880" y="3191040"/>
              <a:ext cx="6336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ausal Methods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inear 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5"/>
          <p:cNvGrpSpPr/>
          <p:nvPr/>
        </p:nvGrpSpPr>
        <p:grpSpPr>
          <a:xfrm>
            <a:off x="1338120" y="1876320"/>
            <a:ext cx="5717880" cy="4491720"/>
            <a:chOff x="1338120" y="1876320"/>
            <a:chExt cx="5717880" cy="4491720"/>
          </a:xfrm>
        </p:grpSpPr>
        <p:sp>
          <p:nvSpPr>
            <p:cNvPr id="82" name="Freeform 16"/>
            <p:cNvSpPr/>
            <p:nvPr/>
          </p:nvSpPr>
          <p:spPr>
            <a:xfrm>
              <a:off x="2036520" y="2346480"/>
              <a:ext cx="4498560" cy="3430440"/>
            </a:xfrm>
            <a:custGeom>
              <a:avLst/>
              <a:gdLst>
                <a:gd name="textAreaLeft" fmla="*/ 0 w 4498560"/>
                <a:gd name="textAreaRight" fmla="*/ 4498920 w 4498560"/>
                <a:gd name="textAreaTop" fmla="*/ 0 h 3430440"/>
                <a:gd name="textAreaBottom" fmla="*/ 3430800 h 3430440"/>
              </a:gdLst>
              <a:ahLst/>
              <a:rect l="textAreaLeft" t="textAreaTop" r="textAreaRight" b="textAreaBottom"/>
              <a:pathLst>
                <a:path w="2833" h="2161">
                  <a:moveTo>
                    <a:pt x="0" y="0"/>
                  </a:moveTo>
                  <a:lnTo>
                    <a:pt x="0" y="2160"/>
                  </a:lnTo>
                  <a:lnTo>
                    <a:pt x="2832" y="216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7"/>
            <p:cNvSpPr/>
            <p:nvPr/>
          </p:nvSpPr>
          <p:spPr>
            <a:xfrm rot="16200000">
              <a:off x="69480" y="3775320"/>
              <a:ext cx="2991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pendent vari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2785320" y="5913360"/>
              <a:ext cx="3229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dependent vari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6671880" y="553248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1871280" y="187632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22"/>
          <p:cNvGrpSpPr/>
          <p:nvPr/>
        </p:nvGrpSpPr>
        <p:grpSpPr>
          <a:xfrm>
            <a:off x="2031840" y="2154240"/>
            <a:ext cx="2208240" cy="1698480"/>
            <a:chOff x="2031840" y="2154240"/>
            <a:chExt cx="2208240" cy="1698480"/>
          </a:xfrm>
        </p:grpSpPr>
        <p:sp>
          <p:nvSpPr>
            <p:cNvPr id="88" name="Rectangle 23"/>
            <p:cNvSpPr/>
            <p:nvPr/>
          </p:nvSpPr>
          <p:spPr>
            <a:xfrm>
              <a:off x="2125800" y="2154240"/>
              <a:ext cx="14554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stimate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Y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fr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gres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q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24"/>
            <p:cNvSpPr/>
            <p:nvPr/>
          </p:nvSpPr>
          <p:spPr>
            <a:xfrm flipH="1">
              <a:off x="2031840" y="3852720"/>
              <a:ext cx="2208240" cy="0"/>
            </a:xfrm>
            <a:prstGeom prst="line">
              <a:avLst/>
            </a:prstGeom>
            <a:ln w="38160">
              <a:solidFill>
                <a:srgbClr val="bbe0e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5"/>
            <p:cNvSpPr/>
            <p:nvPr/>
          </p:nvSpPr>
          <p:spPr>
            <a:xfrm flipH="1">
              <a:off x="2122200" y="3321000"/>
              <a:ext cx="152280" cy="42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26"/>
          <p:cNvGrpSpPr/>
          <p:nvPr/>
        </p:nvGrpSpPr>
        <p:grpSpPr>
          <a:xfrm>
            <a:off x="2673360" y="1873080"/>
            <a:ext cx="5583600" cy="3139920"/>
            <a:chOff x="2673360" y="1873080"/>
            <a:chExt cx="5583600" cy="3139920"/>
          </a:xfrm>
        </p:grpSpPr>
        <p:sp>
          <p:nvSpPr>
            <p:cNvPr id="92" name="Line 27"/>
            <p:cNvSpPr/>
            <p:nvPr/>
          </p:nvSpPr>
          <p:spPr>
            <a:xfrm flipV="1">
              <a:off x="2673360" y="2422080"/>
              <a:ext cx="3530520" cy="259092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28"/>
            <p:cNvSpPr/>
            <p:nvPr/>
          </p:nvSpPr>
          <p:spPr>
            <a:xfrm>
              <a:off x="6417360" y="1873080"/>
              <a:ext cx="183960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gres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quation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=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+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b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29"/>
          <p:cNvGrpSpPr/>
          <p:nvPr/>
        </p:nvGrpSpPr>
        <p:grpSpPr>
          <a:xfrm>
            <a:off x="4360680" y="3308040"/>
            <a:ext cx="1938600" cy="1144080"/>
            <a:chOff x="4360680" y="3308040"/>
            <a:chExt cx="1938600" cy="1144080"/>
          </a:xfrm>
        </p:grpSpPr>
        <p:sp>
          <p:nvSpPr>
            <p:cNvPr id="95" name="Rectangle 30"/>
            <p:cNvSpPr/>
            <p:nvPr/>
          </p:nvSpPr>
          <p:spPr>
            <a:xfrm>
              <a:off x="5419800" y="3540240"/>
              <a:ext cx="87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tu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f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31"/>
            <p:cNvSpPr/>
            <p:nvPr/>
          </p:nvSpPr>
          <p:spPr>
            <a:xfrm flipH="1" flipV="1">
              <a:off x="4360680" y="3308040"/>
              <a:ext cx="996840" cy="39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32"/>
          <p:cNvGrpSpPr/>
          <p:nvPr/>
        </p:nvGrpSpPr>
        <p:grpSpPr>
          <a:xfrm>
            <a:off x="4240080" y="3835440"/>
            <a:ext cx="2643120" cy="1940040"/>
            <a:chOff x="4240080" y="3835440"/>
            <a:chExt cx="2643120" cy="1940040"/>
          </a:xfrm>
        </p:grpSpPr>
        <p:sp>
          <p:nvSpPr>
            <p:cNvPr id="98" name="Rectangle 33"/>
            <p:cNvSpPr/>
            <p:nvPr/>
          </p:nvSpPr>
          <p:spPr>
            <a:xfrm>
              <a:off x="4934160" y="4659480"/>
              <a:ext cx="19490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alue of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u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 estimate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34"/>
            <p:cNvSpPr/>
            <p:nvPr/>
          </p:nvSpPr>
          <p:spPr>
            <a:xfrm flipH="1">
              <a:off x="4269960" y="5286240"/>
              <a:ext cx="51444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35"/>
            <p:cNvSpPr/>
            <p:nvPr/>
          </p:nvSpPr>
          <p:spPr>
            <a:xfrm>
              <a:off x="4240080" y="3835440"/>
              <a:ext cx="0" cy="1940040"/>
            </a:xfrm>
            <a:prstGeom prst="line">
              <a:avLst/>
            </a:prstGeom>
            <a:ln w="38160">
              <a:solidFill>
                <a:srgbClr val="bbe0e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36"/>
          <p:cNvGrpSpPr/>
          <p:nvPr/>
        </p:nvGrpSpPr>
        <p:grpSpPr>
          <a:xfrm>
            <a:off x="3404880" y="1819440"/>
            <a:ext cx="1274040" cy="2079000"/>
            <a:chOff x="3404880" y="1819440"/>
            <a:chExt cx="1274040" cy="2079000"/>
          </a:xfrm>
        </p:grpSpPr>
        <p:sp>
          <p:nvSpPr>
            <p:cNvPr id="102" name="Rectangle 37"/>
            <p:cNvSpPr/>
            <p:nvPr/>
          </p:nvSpPr>
          <p:spPr>
            <a:xfrm>
              <a:off x="3404880" y="1819440"/>
              <a:ext cx="12740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iation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r err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38"/>
            <p:cNvSpPr/>
            <p:nvPr/>
          </p:nvSpPr>
          <p:spPr>
            <a:xfrm>
              <a:off x="3873600" y="2955960"/>
              <a:ext cx="419040" cy="94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56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5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39"/>
            <p:cNvSpPr/>
            <p:nvPr/>
          </p:nvSpPr>
          <p:spPr>
            <a:xfrm>
              <a:off x="3840120" y="2395440"/>
              <a:ext cx="92160" cy="11066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106640"/>
                <a:gd name="textAreaBottom" fmla="*/ 1107000 h 1106640"/>
              </a:gdLst>
              <a:ahLst/>
              <a:rect l="textAreaLeft" t="textAreaTop" r="textAreaRight" b="textAreaBottom"/>
              <a:pathLst>
                <a:path w="58" h="697">
                  <a:moveTo>
                    <a:pt x="57" y="696"/>
                  </a:moveTo>
                  <a:lnTo>
                    <a:pt x="0" y="696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Series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ime series is just collection of past values of the variable being predicted. Also known as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aï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. Goal is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solate patter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 past dat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ee Figures on following p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0202"/>
          <p:cNvPicPr/>
          <p:nvPr/>
        </p:nvPicPr>
        <p:blipFill>
          <a:blip r:embed="rId1"/>
          <a:stretch/>
        </p:blipFill>
        <p:spPr>
          <a:xfrm>
            <a:off x="304920" y="304920"/>
            <a:ext cx="8636040" cy="6216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p</dc:creator>
  <dc:description/>
  <dc:language>en-US</dc:language>
  <cp:lastModifiedBy>Sasidhar</cp:lastModifiedBy>
  <dcterms:modified xsi:type="dcterms:W3CDTF">2015-02-05T12:51:21Z</dcterms:modified>
  <cp:revision>175</cp:revision>
  <dc:subject/>
  <dc:title>PowerPoint Presentation</dc:title>
</cp:coreProperties>
</file>