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1C16-DFD0-4751-B14F-8690DFCDCB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D978-C43A-49FD-9090-4A707E131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4A6-3F22-466E-AB92-2C4B5848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09B-7334-416E-829A-A9B10634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87C87-DA53-4F75-A7FF-9E1B807A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0055-EE2E-4E5C-9BAB-F3B1516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499FB-12C4-4B49-B2B1-A8F57F3D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90FA4-DA2F-4BEA-BE89-3B124057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4BA67-4DF7-4B80-99D8-8BCFAC81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2EE2F-0841-4BDA-9E34-E702782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189A-1A1E-44AC-8CEC-404CFE82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6F6D7-AC81-459E-B5EF-F7B940ED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4310C-7F31-4C8F-A5B5-F9D86727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2987B-A3E9-405C-8FC8-7909756E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DB7-F136-4274-B1F5-48C462E1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C6B6C-F5CE-43AD-8211-BA4886C6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5433-CF38-45B2-A757-EC81DAE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3BA40-1737-4474-A599-D0EDBD1A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1489D-98A9-4AD9-8B3A-2F803E7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B9653-ECE6-42F5-A565-F18A94E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4ECFB-9D40-46CB-86BA-48AE4C78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87B46-915D-4931-A6A9-C2220D59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71A33-8784-4501-8465-13AF3EC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DAAB3-C00D-46D3-A40A-F9663C48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DD60B-7CFB-4D5B-9F5C-776B5423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78C-1ADD-4C0B-A833-9F963C07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C1E9A-755A-4B47-A15F-26D5069F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9EA93-D786-4E02-8F79-EDC06AFF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40DDD-B20D-4B0D-AB08-4D6DCF17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40F4D-1C79-4566-8DCF-1D204AD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89BFD-B36C-43FE-97B2-B32280FE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4A5B-8C72-4CF6-B23E-5B6687E3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2544-D3BF-4FAE-8452-FAD20B5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DCDB-66A7-469B-A4D4-3FBD120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DFD7-382D-46D4-AA11-11F40C6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BCEB-97A0-43FF-85E4-341972D8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1322-D380-4C3F-B32A-10F4042E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4FA25-57F9-4D6D-B26C-50405BF5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43937-7C47-4B11-AE5E-6F8A3B0D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4CE33-0CA0-4576-9621-9CEE614AE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412A7-AE11-40F3-B919-5F7075B1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E5C66-9A2C-495A-88B7-330A47F1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5696D-6CED-4E42-AC5E-58FB3129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DDB80-B6D2-40BE-9767-9D9E15F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12584-E23F-4152-9F6D-A4FEAFF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4D6D0-577A-4AED-9369-C41F8FE3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63725-A800-4226-882D-DD163FFE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A82D-E345-45B3-A2A2-D7C61C93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5F037-65E2-4AA3-A915-6801DC2A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A4BC8-E08E-4BB6-BA9A-B4DB229D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2E6CA-B87D-40D8-BC58-8E51385F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28AEC-ED81-409D-9F1E-FEC5B3F4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B613B-018F-4B3C-9322-BF0D3EF8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943D0-A8AB-431D-B5A9-99030954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3AFD8-DFFD-4C6E-8C01-B265121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A9159-4A33-40FB-A2DD-3BB6ED8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EAC4C-1DA5-4B99-8FA0-860CD1EB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21312-C6AC-479D-9B07-307056DB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D54-B95A-4B74-BA14-BB74DBA4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073C1-2210-4D60-B076-F185F43C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58F9E-F5BA-4EE5-B592-6CF8D9CA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EBC18-9CA5-419A-9FF7-CB956BD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B8EAC-D5DB-48EC-B794-F90D746C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C8252-74F4-46E0-97F9-39B42C4D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600C8-2A4F-4BCB-B64F-D26A645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9D0213-6789-42A5-A245-3970D913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8BBBC-BD1E-4883-82BF-B911502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ED0AA-E219-4D30-9FE1-E9F0E005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40F45-3520-4836-95D4-9D6CC70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81A2-CE68-46BB-8737-28ADFE27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D46B8C-FFB5-42C8-B358-DC5B7B90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D8684-588F-4C13-AAE3-D0DAFA6F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E3C71-3794-4EB1-8D67-9B7F234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A29CB-4101-4250-9CDF-929B3C3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E4F90-F836-444F-A084-590F8B38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88C52-97FA-44EE-BB12-029F2AAD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265F3-C02F-4108-A3C4-7C37AEEC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EEDDE-4D97-4316-9918-8FF62419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450A8-B602-4E70-9B8F-25F08C69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BE67-6F5D-4D87-8BD6-E692247A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B20-3597-49B4-91D4-7B2BB3D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7145-676F-456B-A9D6-ECE22213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E30-27FC-4D60-9927-29A15006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A497-121C-4940-9700-3FEE06F9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F343-370F-4A24-94EC-DDE1C6B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871-176E-43E3-8C97-6F05E8C0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2DF3-9CEC-48E9-8B19-0EB7E344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2C3-F2F2-4354-A07D-FC9238DA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6569-5448-4025-B041-CC1C56D8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6B89-10B6-4878-8041-68CD8D1C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AA3F4-1308-4003-9333-527A2627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9C83-1B3B-490A-AD77-E5EE8F42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48D68-5974-4AB0-8470-8CE13719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D2D-0AC2-48E3-B114-9C78408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3959-2623-4556-8A38-50BFE495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6791A-04C2-4089-BA04-041731E4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C84F-823C-49C9-86B8-CB54EDB9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0DBBE-8BF3-4C9A-923E-3597582C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10D8A-CE84-4297-ABE0-687BE8EE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EAB5-E776-4D37-B5F1-D78D9869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6E719-13D3-48F0-A19B-EE299FA7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FB7D5-E9BB-4AA3-9E6B-F5650FEF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BCC8-FFD9-4F49-8638-C9B49691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6C5E8-F84A-4881-908A-02A6252B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698-210B-4A3C-9740-2A6BFD8C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DEEA3-E4A5-4347-9D96-C1DB377A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ACA2-0095-4FCE-B118-C8C2B752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2C2BD-7A34-4247-9416-A0BCDB5F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D23E7-C424-47AB-B946-E7D9DDA6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26169-8A3D-41C6-8A4B-B61F87D7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DD30-2F66-4AEB-8B63-6F10CA8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5098-3F75-4170-BDC5-F79C3823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3E3C-FE58-48C8-8313-70129230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BCED-9172-4F81-B880-61AE1580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8E611-9BF0-40F2-AEC1-6B64AB8B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166-E45D-4E4E-85AB-B2877CE1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4A5EF-9BE0-41E3-8748-54A7EF53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AD563-E3F8-4367-A7C9-944E915E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A4CD-90BE-4A62-ABD1-C05BBF89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218A-8A01-45CF-BF98-D541C43E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3601-6362-40D7-B81C-01CA7748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2E612-4D38-4130-9A2B-14D7FCF3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7F9D-4BD8-482D-82FB-81C19E2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B1248-F776-4F92-9229-3C8D081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735DE-F6E3-4C2E-A4DD-F6097CEA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CF91-6CCD-47F2-A9B3-24E5CDBC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3F7-7174-4C02-8D15-E2076DB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5B23-6954-4004-AF6A-297689C0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F0363-84D4-4231-B832-B56C1056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4596-3ABD-4C5B-B2E7-23D5FDE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D82E4-1928-4914-ACA5-370DDEBD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05B7E-6B35-48DB-BCE1-2C1EC6B7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07112-B514-4888-822B-4BB01C93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F1DB8-DFA4-4FE0-A25B-E125B142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AB34B-23DA-4EE8-96B8-F3DF8B9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AE82A-6EB2-4C2B-A157-CE1B0F9A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19AAB-7C47-489E-A14B-5927A609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F2A-0C77-488F-82F9-1BCC5DD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1FED-0C24-49AB-A01A-AE6EC337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0D4EA-2F2D-4268-9205-39697BF4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D6126-98B8-49CF-9781-A281759C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8DF03-EB0D-4A88-900A-96A49223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D3989-7EC0-47CE-823E-0C5D99F1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8F5E-4AE7-4516-AE08-88831C9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DFB9A-BB6B-438D-826A-8295EC4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B51DD-39CA-49E4-8291-94A6BE79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C0B54-1A74-4E5C-A798-5F34200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55B64-4ADF-4D82-82C7-B429B6A1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B72-FFD4-4130-8443-D7A957BA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477BA-72D7-4173-AAA1-A0FF09AA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8660-9881-4110-8EFB-8AB4F4F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3F83-89A3-457F-8C9D-525549A7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B7FDB-088E-4B57-A842-E055E6DD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54591-3AC4-4B73-AC4D-70E305DD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1B7F3-C1DC-4A01-836D-D86B9230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93A9D-BFC4-48BF-B281-3B1718D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91A2-FC66-4BD5-8608-AC653A45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6B628-1320-4935-A1D3-2BF92A12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0F97F-1B11-4783-A6F5-4C662BB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203-1A39-4B87-8156-E39AFD4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8C97-C102-42FB-87DD-291197BC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9201B-269B-4879-B8D8-9CF3E3DA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D4EC3-7D52-4F2E-9D50-034C1DF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75889-F90F-4355-8693-662044C5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7B798-89E8-4715-A29D-16963DD1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9B9B9-5E54-4A03-9C18-96652B01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9431F-EEAF-4122-A319-35FEEBDC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CAFB5-33C9-4285-855F-83D5BBE4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050D-6297-4E7F-A643-2220917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6305D-B986-4F31-9190-E3B1F0D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CD1-47A1-4D6E-BFF1-7D5CB1BF45B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131B-14F0-416E-A496-544224E327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1C3-BC46-4635-BCB9-4DE3CBF23B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7C56-2E51-43C9-B842-20AD563C44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AC38-F457-4BF5-BF47-3FFED771F1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6316-8EC8-4BF9-8718-2123FB8F6727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0291-6C07-45D7-A78B-376725A0FD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AA7F-EC96-49DF-9D00-54887445FA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645F-783C-44A4-8CD8-14A3CD0183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39D3-C522-442D-B471-81122B5001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709-5B54-4F06-9637-464E48ED65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DD3-B7EE-4AAC-BE8D-2D243BBA8A0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A811-F7EB-447C-AF22-84F435585F4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63B1-4A4F-4750-B5AF-3316C6B95A2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Introduction </a:t>
            </a:r>
            <a:r>
              <a:rPr b="0" lang="en-US" sz="4400" spc="-1" strike="noStrike">
                <a:solidFill>
                  <a:srgbClr val="0000ff"/>
                </a:solidFill>
                <a:latin typeface="Perpetua"/>
              </a:rPr>
              <a:t>to</a:t>
            </a: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 Metabolism</a:t>
            </a:r>
            <a:r>
              <a:rPr b="0" lang="en-US" sz="6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Major purpose living things require energy for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: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chanical work in muscle contraction and other cellular mov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4" name="Picture 5" descr="active_transport"/>
          <p:cNvPicPr/>
          <p:nvPr/>
        </p:nvPicPr>
        <p:blipFill>
          <a:blip r:embed="rId1"/>
          <a:stretch/>
        </p:blipFill>
        <p:spPr>
          <a:xfrm>
            <a:off x="6248520" y="2057400"/>
            <a:ext cx="2604960" cy="23814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6095880" y="1295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ctive transport of molecules and ion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533520" y="57913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nthesis of biomolecules    and simple precur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http://t0.gstatic.com/images?q=tbn:ANd9GcSzngpfWKvA5VC8xt5enJLHSsxzbK7pb0o6ltZhHsQgqODi8gGmdA"/>
          <p:cNvPicPr/>
          <p:nvPr/>
        </p:nvPicPr>
        <p:blipFill>
          <a:blip r:embed="rId2"/>
          <a:stretch/>
        </p:blipFill>
        <p:spPr>
          <a:xfrm>
            <a:off x="685800" y="190512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http://t1.gstatic.com/images?q=tbn:ANd9GcRygyoZ33DHIN8v7RMF_nopRNLgP_oFQAtMNlxDnuUkOchbU2xG"/>
          <p:cNvPicPr/>
          <p:nvPr/>
        </p:nvPicPr>
        <p:blipFill>
          <a:blip r:embed="rId3"/>
          <a:stretch/>
        </p:blipFill>
        <p:spPr>
          <a:xfrm>
            <a:off x="3733920" y="487692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62160" y="3805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</a:rPr>
              <a:t>ATP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with three phosphate groups attached to the ribose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ＭＳ Ｐゴシック"/>
              </a:rPr>
              <a:t>Most important phosphate compound in met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of the common links between catabolism and anabolism is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is used to shuttle chemical energy from catabolism to an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1" descr="http://t1.gstatic.com/images?q=tbn:ANd9GcRygyoZ33DHIN8v7RMF_nopRNLgP_oFQAtMNlxDnuUkOchbU2xG"/>
          <p:cNvPicPr/>
          <p:nvPr/>
        </p:nvPicPr>
        <p:blipFill>
          <a:blip r:embed="rId1"/>
          <a:stretch/>
        </p:blipFill>
        <p:spPr>
          <a:xfrm>
            <a:off x="6248520" y="22860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ATP"/>
          <p:cNvPicPr/>
          <p:nvPr/>
        </p:nvPicPr>
        <p:blipFill>
          <a:blip r:embed="rId2"/>
          <a:stretch/>
        </p:blipFill>
        <p:spPr>
          <a:xfrm>
            <a:off x="4800600" y="3048120"/>
            <a:ext cx="411480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A large amount of energy is liberated whe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77960" y="1447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Cambria"/>
              </a:rPr>
              <a:t>1.</a:t>
            </a:r>
            <a:r>
              <a:rPr b="1" lang="en-US" sz="20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913320" y="50292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42217"/>
                </a:solidFill>
                <a:latin typeface="Franklin Gothic Book"/>
              </a:rPr>
              <a:t>2.</a:t>
            </a:r>
            <a:r>
              <a:rPr b="0" lang="en-US" sz="2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1447920" y="495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MP + PPi (pyrophospa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364400" y="14479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DP + Pi (orthophosphate)</a:t>
            </a: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5899320" cy="25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62120" y="533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P is continuously formed and consum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esting person consumes ~ 40kg of ATP/ 24 h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1168200" y="328464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DP</a:t>
            </a: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"/>
          <p:cNvSpPr/>
          <p:nvPr/>
        </p:nvSpPr>
        <p:spPr>
          <a:xfrm>
            <a:off x="2514600" y="365760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H="1">
            <a:off x="2437920" y="3429000"/>
            <a:ext cx="3429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217920" y="320832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TP</a:t>
            </a:r>
            <a:r>
              <a:rPr b="1" lang="en-US" sz="2400" spc="-1" strike="noStrike">
                <a:solidFill>
                  <a:srgbClr val="d3481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2209680" y="259092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ambria"/>
              </a:rPr>
              <a:t>Motion, Active transport, Biosynthesis, Signal amplification</a:t>
            </a:r>
            <a:r>
              <a:rPr b="0" lang="en-US" sz="18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247840" y="388620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2217"/>
                </a:solidFill>
                <a:latin typeface="Cambria"/>
              </a:rPr>
              <a:t>Photosynthesis or oxidation of fue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1295280" y="4876920"/>
            <a:ext cx="66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Basic model of energy exchange in bi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How do cells make ATP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mbria"/>
              </a:rPr>
              <a:t>3 mechanisms of phosphory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304920" y="2133720"/>
            <a:ext cx="88390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substrate level phosphorylation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re a substrate molecule (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p ) donates its high energy P to ADP making A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Oxidative phosphor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- transferred from organic molecules and  passed through a series of acceptors to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3.  </a:t>
            </a: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Photophosphorylation 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ccurs during photosynthesis –light energy used to make ATP 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THANK   YOU</a:t>
            </a: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 !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731" name="Picture 5" descr="coffee break"/>
          <p:cNvPicPr/>
          <p:nvPr/>
        </p:nvPicPr>
        <p:blipFill>
          <a:blip r:embed="rId1"/>
          <a:stretch/>
        </p:blipFill>
        <p:spPr>
          <a:xfrm>
            <a:off x="3352680" y="2133720"/>
            <a:ext cx="2276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228600" y="29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Bi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715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egra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04920" y="3733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Reduc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579132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Oxida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04920" y="4648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Lib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0492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91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800600" y="16002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Decomposition of large complex molecules into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286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Calibri"/>
              </a:rPr>
              <a:t>large complex organic molecules are constructed from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TextBox 14"/>
          <p:cNvGrpSpPr/>
          <p:nvPr/>
        </p:nvGrpSpPr>
        <p:grpSpPr>
          <a:xfrm>
            <a:off x="182520" y="512640"/>
            <a:ext cx="3067200" cy="736560"/>
            <a:chOff x="182520" y="512640"/>
            <a:chExt cx="3067200" cy="736560"/>
          </a:xfrm>
        </p:grpSpPr>
        <p:pic>
          <p:nvPicPr>
            <p:cNvPr id="616" name="TextBox 14" descr=""/>
            <p:cNvPicPr/>
            <p:nvPr/>
          </p:nvPicPr>
          <p:blipFill>
            <a:blip r:embed="rId1"/>
            <a:stretch/>
          </p:blipFill>
          <p:spPr>
            <a:xfrm>
              <a:off x="182520" y="512640"/>
              <a:ext cx="306720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2860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An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Down Arrow 21"/>
          <p:cNvSpPr/>
          <p:nvPr/>
        </p:nvSpPr>
        <p:spPr>
          <a:xfrm>
            <a:off x="152388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TextBox 22"/>
          <p:cNvGrpSpPr/>
          <p:nvPr/>
        </p:nvGrpSpPr>
        <p:grpSpPr>
          <a:xfrm>
            <a:off x="5516640" y="512640"/>
            <a:ext cx="3066840" cy="736560"/>
            <a:chOff x="5516640" y="512640"/>
            <a:chExt cx="3066840" cy="736560"/>
          </a:xfrm>
        </p:grpSpPr>
        <p:pic>
          <p:nvPicPr>
            <p:cNvPr id="620" name="TextBox 22" descr=""/>
            <p:cNvPicPr/>
            <p:nvPr/>
          </p:nvPicPr>
          <p:blipFill>
            <a:blip r:embed="rId2"/>
            <a:stretch/>
          </p:blipFill>
          <p:spPr>
            <a:xfrm>
              <a:off x="5516640" y="512640"/>
              <a:ext cx="306684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56272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Cat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Down Arrow 23"/>
          <p:cNvSpPr/>
          <p:nvPr/>
        </p:nvSpPr>
        <p:spPr>
          <a:xfrm>
            <a:off x="685800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3"/>
          <p:cNvSpPr/>
          <p:nvPr/>
        </p:nvSpPr>
        <p:spPr>
          <a:xfrm>
            <a:off x="53352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04920" y="990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Many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1295280" y="121932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60020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556272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r>
              <a:rPr b="1" lang="en-US" sz="2800" spc="-1" strike="noStrike">
                <a:solidFill>
                  <a:srgbClr val="d34817"/>
                </a:solidFill>
                <a:latin typeface="Cambria"/>
                <a:ea typeface="SimSu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181480" y="914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  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6324480" y="1143000"/>
            <a:ext cx="685800" cy="0"/>
          </a:xfrm>
          <a:prstGeom prst="line">
            <a:avLst/>
          </a:prstGeom>
          <a:ln w="2844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934320" y="914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533520" y="457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converging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562720" y="457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SimSu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91160" cy="508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2743200" y="2286000"/>
            <a:ext cx="4114800" cy="342900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Text Box 3"/>
          <p:cNvGrpSpPr/>
          <p:nvPr/>
        </p:nvGrpSpPr>
        <p:grpSpPr>
          <a:xfrm>
            <a:off x="487440" y="1189080"/>
            <a:ext cx="2835360" cy="1309680"/>
            <a:chOff x="487440" y="1189080"/>
            <a:chExt cx="2835360" cy="1309680"/>
          </a:xfrm>
        </p:grpSpPr>
        <p:pic>
          <p:nvPicPr>
            <p:cNvPr id="636" name="Text Box 3" descr=""/>
            <p:cNvPicPr/>
            <p:nvPr/>
          </p:nvPicPr>
          <p:blipFill>
            <a:blip r:embed="rId1"/>
            <a:stretch/>
          </p:blipFill>
          <p:spPr>
            <a:xfrm>
              <a:off x="487440" y="1189080"/>
              <a:ext cx="28353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33520" y="1219320"/>
              <a:ext cx="274320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Nutrie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Carbohydr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F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Protei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Rectangle 4"/>
          <p:cNvGrpSpPr/>
          <p:nvPr/>
        </p:nvGrpSpPr>
        <p:grpSpPr>
          <a:xfrm>
            <a:off x="639720" y="5389560"/>
            <a:ext cx="2914560" cy="882720"/>
            <a:chOff x="639720" y="5389560"/>
            <a:chExt cx="2914560" cy="882720"/>
          </a:xfrm>
        </p:grpSpPr>
        <p:pic>
          <p:nvPicPr>
            <p:cNvPr id="639" name="Rectangle 4" descr=""/>
            <p:cNvPicPr/>
            <p:nvPr/>
          </p:nvPicPr>
          <p:blipFill>
            <a:blip r:embed="rId2"/>
            <a:stretch/>
          </p:blipFill>
          <p:spPr>
            <a:xfrm>
              <a:off x="639720" y="5389560"/>
              <a:ext cx="29145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85800" y="5410080"/>
              <a:ext cx="28195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   </a:t>
              </a: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End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O, CO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,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N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5"/>
          <p:cNvSpPr/>
          <p:nvPr/>
        </p:nvSpPr>
        <p:spPr>
          <a:xfrm>
            <a:off x="2286000" y="2666880"/>
            <a:ext cx="0" cy="266724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0" y="3352680"/>
            <a:ext cx="2209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at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oxidative, ex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Rectangle 7"/>
          <p:cNvGrpSpPr/>
          <p:nvPr/>
        </p:nvGrpSpPr>
        <p:grpSpPr>
          <a:xfrm>
            <a:off x="6046920" y="1109520"/>
            <a:ext cx="2609640" cy="1590840"/>
            <a:chOff x="6046920" y="1109520"/>
            <a:chExt cx="2609640" cy="1590840"/>
          </a:xfrm>
        </p:grpSpPr>
        <p:pic>
          <p:nvPicPr>
            <p:cNvPr id="644" name="Rectangle 7" descr=""/>
            <p:cNvPicPr/>
            <p:nvPr/>
          </p:nvPicPr>
          <p:blipFill>
            <a:blip r:embed="rId3"/>
            <a:stretch/>
          </p:blipFill>
          <p:spPr>
            <a:xfrm>
              <a:off x="6046920" y="1109520"/>
              <a:ext cx="260964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169320" y="1143000"/>
              <a:ext cx="236628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Macro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rotein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olysaccharid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Lip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ucleic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Rectangle 8"/>
          <p:cNvGrpSpPr/>
          <p:nvPr/>
        </p:nvGrpSpPr>
        <p:grpSpPr>
          <a:xfrm>
            <a:off x="5894280" y="5072040"/>
            <a:ext cx="2944800" cy="1590840"/>
            <a:chOff x="5894280" y="5072040"/>
            <a:chExt cx="2944800" cy="1590840"/>
          </a:xfrm>
        </p:grpSpPr>
        <p:pic>
          <p:nvPicPr>
            <p:cNvPr id="647" name="Rectangle 8" descr=""/>
            <p:cNvPicPr/>
            <p:nvPr/>
          </p:nvPicPr>
          <p:blipFill>
            <a:blip r:embed="rId4"/>
            <a:stretch/>
          </p:blipFill>
          <p:spPr>
            <a:xfrm>
              <a:off x="5894280" y="5072040"/>
              <a:ext cx="294480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988600" y="5105520"/>
              <a:ext cx="27579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Precursor 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Amino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Sug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Fatty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itrogenous b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9"/>
          <p:cNvSpPr/>
          <p:nvPr/>
        </p:nvSpPr>
        <p:spPr>
          <a:xfrm flipV="1">
            <a:off x="6934320" y="2819520"/>
            <a:ext cx="0" cy="228600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6934320" y="3352680"/>
            <a:ext cx="205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An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reductive, end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"/>
          <p:cNvGrpSpPr/>
          <p:nvPr/>
        </p:nvGrpSpPr>
        <p:grpSpPr>
          <a:xfrm>
            <a:off x="2285640" y="3732840"/>
            <a:ext cx="991080" cy="486000"/>
            <a:chOff x="2285640" y="3732840"/>
            <a:chExt cx="991080" cy="486000"/>
          </a:xfrm>
        </p:grpSpPr>
        <p:sp>
          <p:nvSpPr>
            <p:cNvPr id="652" name="Line 12"/>
            <p:cNvSpPr/>
            <p:nvPr/>
          </p:nvSpPr>
          <p:spPr>
            <a:xfrm>
              <a:off x="2514600" y="41911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AutoShape 13"/>
            <p:cNvCxnSpPr/>
            <p:nvPr/>
          </p:nvCxnSpPr>
          <p:spPr>
            <a:xfrm flipH="1" rot="16200000">
              <a:off x="2157120" y="38613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54" name="Text Box 14"/>
          <p:cNvSpPr/>
          <p:nvPr/>
        </p:nvSpPr>
        <p:spPr>
          <a:xfrm>
            <a:off x="3809880" y="3657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ff"/>
                </a:solidFill>
                <a:latin typeface="Cambria"/>
              </a:rPr>
              <a:t>Chemical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43434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5263560" y="3352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3130200" y="35053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1240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4880520" y="2895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4422240" y="4419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Cambr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366156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5186880" y="4267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6019920" y="327672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2285640" y="3275640"/>
            <a:ext cx="991080" cy="486000"/>
            <a:chOff x="2285640" y="3275640"/>
            <a:chExt cx="991080" cy="486000"/>
          </a:xfrm>
        </p:grpSpPr>
        <p:sp>
          <p:nvSpPr>
            <p:cNvPr id="665" name="Line 25"/>
            <p:cNvSpPr/>
            <p:nvPr/>
          </p:nvSpPr>
          <p:spPr>
            <a:xfrm>
              <a:off x="2514600" y="37339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6" name="AutoShape 26"/>
            <p:cNvCxnSpPr/>
            <p:nvPr/>
          </p:nvCxnSpPr>
          <p:spPr>
            <a:xfrm flipH="1" rot="16200000">
              <a:off x="2157120" y="34041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grpSp>
        <p:nvGrpSpPr>
          <p:cNvPr id="667" name="Group 27"/>
          <p:cNvGrpSpPr/>
          <p:nvPr/>
        </p:nvGrpSpPr>
        <p:grpSpPr>
          <a:xfrm>
            <a:off x="2285640" y="2742120"/>
            <a:ext cx="991080" cy="486000"/>
            <a:chOff x="2285640" y="2742120"/>
            <a:chExt cx="991080" cy="486000"/>
          </a:xfrm>
        </p:grpSpPr>
        <p:sp>
          <p:nvSpPr>
            <p:cNvPr id="668" name="Line 28"/>
            <p:cNvSpPr/>
            <p:nvPr/>
          </p:nvSpPr>
          <p:spPr>
            <a:xfrm>
              <a:off x="2514600" y="320040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29"/>
            <p:cNvCxnSpPr/>
            <p:nvPr/>
          </p:nvCxnSpPr>
          <p:spPr>
            <a:xfrm flipH="1" rot="16200000">
              <a:off x="2157120" y="287064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0" name="Line 30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6019920" y="42670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2"/>
          <p:cNvSpPr/>
          <p:nvPr/>
        </p:nvSpPr>
        <p:spPr>
          <a:xfrm>
            <a:off x="6019920" y="47242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3"/>
          <p:cNvGrpSpPr/>
          <p:nvPr/>
        </p:nvGrpSpPr>
        <p:grpSpPr>
          <a:xfrm>
            <a:off x="2285640" y="4266000"/>
            <a:ext cx="991080" cy="486000"/>
            <a:chOff x="2285640" y="4266000"/>
            <a:chExt cx="991080" cy="486000"/>
          </a:xfrm>
        </p:grpSpPr>
        <p:sp>
          <p:nvSpPr>
            <p:cNvPr id="674" name="Line 34"/>
            <p:cNvSpPr/>
            <p:nvPr/>
          </p:nvSpPr>
          <p:spPr>
            <a:xfrm>
              <a:off x="2514600" y="472428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5" name="AutoShape 35"/>
            <p:cNvCxnSpPr/>
            <p:nvPr/>
          </p:nvCxnSpPr>
          <p:spPr>
            <a:xfrm flipH="1" rot="16200000">
              <a:off x="2157120" y="439452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6" name="Text Box 36"/>
          <p:cNvSpPr/>
          <p:nvPr/>
        </p:nvSpPr>
        <p:spPr>
          <a:xfrm>
            <a:off x="45720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atabolism and anabolism are always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emical energ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宋体"/>
              </a:rPr>
              <a:t>ATP -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energy currency.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t serves as the driving force for nearly all biochemical proces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宋体"/>
              </a:rPr>
              <a:t>NADH,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- reducing pow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宋体"/>
              </a:rPr>
              <a:t>NAD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r oxidation and energy yieldi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for biosynthetic process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152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219320" y="35337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819520" y="31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505320" y="353376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876920" y="3152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5486400" y="35337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934320" y="3152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228600" y="4267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A is a precursor  for B,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2860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B is a precursor  for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2286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C is a precursor f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5400000">
            <a:off x="3848040" y="189504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28195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intermed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4197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metabolites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1523880" y="1828800"/>
            <a:ext cx="5791320" cy="459720"/>
          </a:xfrm>
          <a:prstGeom prst="rect">
            <a:avLst/>
          </a:prstGeom>
          <a:gradFill rotWithShape="0">
            <a:gsLst>
              <a:gs pos="0">
                <a:srgbClr val="dad2c3"/>
              </a:gs>
              <a:gs pos="100000">
                <a:srgbClr val="fbe0dd"/>
              </a:gs>
            </a:gsLst>
            <a:lin ang="5400000"/>
          </a:gra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Sequential steps catalyzed by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5374200">
            <a:off x="4911480" y="1790640"/>
            <a:ext cx="385560" cy="4418280"/>
          </a:xfrm>
          <a:custGeom>
            <a:avLst/>
            <a:gdLst>
              <a:gd name="textAreaLeft" fmla="*/ 0 w 385560"/>
              <a:gd name="textAreaRight" fmla="*/ 139320 w 385560"/>
              <a:gd name="textAreaTop" fmla="*/ 115200 h 4418280"/>
              <a:gd name="textAreaBottom" fmla="*/ 4303080 h 441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aracteristics of 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440" y="1676160"/>
            <a:ext cx="8915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irreversibl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hav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committed step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rly step unique to a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rreversible st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Requires energy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Often results in a phosphorylated compound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regulate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宋体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宋体"/>
              </a:rPr>
              <a:t>compartmentalize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Cellular level Compartmentatio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8288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TCA cycle, fatty acid oxidation, amino acid breakdow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Cytos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glycolysis, fatty acid biosynthesis, pentose phosphate pathwa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5810400" y="2133720"/>
            <a:ext cx="28652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ontrol of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2217"/>
                </a:solidFill>
                <a:latin typeface="Cambria"/>
                <a:ea typeface="宋体"/>
              </a:rPr>
              <a:t>Molecular level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Control of enzyme leve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宋体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gene expression (slow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Control of enzyme a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宋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宋体"/>
              </a:rPr>
              <a:t> (fas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allosteric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binding of an effector at one site affects enzyme activity at another site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covalent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phosphorylation, adenylylation, etc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5T15:20:30Z</dcterms:modified>
  <cp:revision>76</cp:revision>
  <dc:subject/>
  <dc:title>Slide 1</dc:title>
</cp:coreProperties>
</file>