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E5DC-A41E-4EC5-9ECD-204AAD6A66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BBD8-31A7-4E6C-B3CE-4511962A3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532-0DC1-46A1-8DC7-46CCD2FC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6BB-CD10-4AA6-BFFA-53657CDB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59AF6-FAD4-4651-906E-D06DBE5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8F691-8A3C-4716-A6C5-70028070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0911E-FDC1-49AB-83E1-DBF55CB5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B78BB-04D6-4C21-B508-EB71EBAF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61F23-E859-4D0E-9E69-0CBA1742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03A07-0BE3-4C7A-8BF5-17B999C3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F4521-A029-42F9-903B-B2EE856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3A0C1-B124-4C9F-B61F-CB8AC858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9E176-49A2-4E73-AF49-5F6577F8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4042F-3760-4294-945D-713AFB2F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FEB-CF02-4EEF-840A-732BBB1D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6E634-FD25-4F4F-8B83-405CEE03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CE8B6-6F77-41AC-BDAD-14B6825F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CBDC4-7523-4722-81CE-BAF4B76C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51AC3-2496-4895-8B38-687CD156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12AB9-DE4B-4624-BEDD-76B79FC6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F07E4-1B51-4A02-BD8D-EB5A997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5B59F-1DA0-4483-9405-B5D77612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9909C-C909-49BA-B0B4-2D7BC44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2E8A7-5632-4244-B99F-093D22F0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193D3-D939-4EE2-92EC-B69342C8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3FC-22BB-4CB4-8C20-905B2A51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620A4-6CC9-4B16-9E0A-65EBAA69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CC0DE-74C8-44E9-976E-8D6CBF1E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1B1CE-EE28-44B3-919D-B1A0C59C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F3509-4FC5-4DC8-9034-F952AB58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E11F5-ABC1-4E03-A977-AD1CD1AB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440BC-E494-44CE-BB94-8C8B4B29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1729F-4C61-4931-A831-75A8BA94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EA0B5-29A0-4834-8E54-655DDF4C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ECC6F-5590-4F51-A0FB-55611075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32E66-9561-471A-8F63-12FD933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5DF4-C966-4D81-99AA-2DC43362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65A28-19AE-4F7C-9D62-0DAF8AA9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6E534-E3E8-4B0C-8CDA-B3FE2C8A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E7982-E782-4AA4-AB9F-4C6A9775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34B13-19D1-4773-AC73-F4318FF9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A4C1D-B0BE-40B5-AA37-F5F2CEC9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37683-9F1E-4327-AAE0-9C843F2B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95C0E-12A2-4E6F-993A-DAA3050B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FC483-7766-4B18-B036-E5ED7DC4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D1BBA-0060-4D86-9C1A-D7A3D695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9C78D-05A7-4109-87DF-95A4087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0092-5E38-4FEC-B3D2-3E6CEBA5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8C141-8EA5-413D-8EEF-C21F4E5B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836A5-E494-4CE9-9D17-3578BD02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0D9CB-B0DE-4D59-BE68-A2069120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DA481-DD16-46DE-B7AE-B95CC5DC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46E54-FC39-4C79-91D9-24FFC691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F7B54-5153-42BC-AF9D-B51F8592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0E269-DD53-4CEB-B81D-94BF2E0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BC632-EF33-4BCF-899B-C38C1C7A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9A325-CF0D-49FA-9173-67730187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4BB8F-0972-40D7-AB60-5055DE02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875-85F5-42ED-B815-3879C140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194C9-E787-4E9C-8EC6-8D927004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C7815-D651-45ED-9191-81B741C2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C5C0E-E448-4805-BBA4-CDC66940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827D9-BC7A-4A94-9D9E-C4DE86E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B1563-077F-4133-8D49-548F0C68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0FCE6-55F1-4292-A0AD-78809A45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B0F3D-F947-4BF0-916B-3923D131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551EF-4A6D-4006-AECE-ED2702AF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5388E-7EEE-4BA0-ABBA-EA5FCA79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C31FF-B959-429D-A0EB-162E32F9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E98F-A2FB-41E1-B492-D5E0F1DB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27B02-3922-4F16-830F-00B07B8B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28F32-1DE0-4DAA-867C-86843219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6F316-C755-4460-B0A7-38B95661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D5911-4264-4978-BDB2-EF65802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244C5-179D-4FD3-AB90-7E44DA61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4B8CE-A885-49C3-9DCA-1EAD5FDE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5A745-CE61-419B-ADD5-6B674208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9BFDB-B36A-4E59-8E65-C0F33A6E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D1C67-1A1E-41F8-869B-55E39596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D648-F0DD-4067-8BD8-ED9161B3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F4D6-656D-413A-8979-A6D1A91B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2D85-E017-4F73-85FA-E33E8BD2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2DC-BB91-4CDD-93CA-5E909412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C03B-A492-48F9-998A-3C5A6FAE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F17F-35C2-4DEF-8A0A-7DA2E7E3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FC1D-BAA6-4194-9282-8748FF61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81C6-6442-4D03-A032-83DDB8CA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8329-79FE-472E-AAAE-AF4FC89D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B795-5F5F-42B7-A7FC-40C1EBEB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597D7-2855-4F5D-95BE-81E2DDB6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3C2D5-E402-44B3-9B47-27190F80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05D4-8597-471D-BDF9-2BE1B143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8BA5-A9BB-4562-943A-FAADCA23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8BF-C709-41B1-A8DA-D106CB99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8162-C885-4C04-80E5-8FD1D443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C0FA-F084-4FA9-B129-72767D8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429E3-5FBB-4D79-A00A-F9A80D1E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03B4-02DF-4A41-8935-AC2D2B82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8816-3D9A-44B5-A9A5-CB173376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F5F0-3665-49E9-B872-FE016537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1A34-A8F9-4934-B15F-F4AED09E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1157-0F6F-4D46-AC9A-9C3C3C7B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640E-0BB3-4272-B2F6-18DCE03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D68F0-D5EB-4845-97A2-44AE45DE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AEE-394E-4737-8B41-97FF1E9F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E210-C1BE-4156-A0BC-1675ABB6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DD6F5-3A7D-4C1F-ACFA-91C8B4B3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32A5-7F99-4D3C-B373-BC525921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8647-C075-4DA5-90E6-A8124F6E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BE7F-DBD2-4DB9-8B56-0F1DF7E8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20A5-C656-43C9-8BE7-982E1A0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1E48-B5CF-4099-B5C0-704426A7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E5BA-BBAB-4971-848D-3CCA245F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82FF6-0BF6-47BF-AB3A-68C6B306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43B56-5879-4355-B1A0-5F2B1C9D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BF8-56EB-4775-B3C4-053D90B8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42451-B441-49B1-AED5-FCD8F5C8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FFFA-B173-4BC2-96B4-AD8F8F0E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57D68-4C9C-4B05-8D58-31F5E5C1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841D-F6EA-418F-B880-5B2CB860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ACFBB-C213-447F-9464-5F28549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C2A3B-6EEB-4A93-ABA7-A77D73C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59F45-2D68-4444-86BB-85A7C341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C973-74FB-4EF7-9995-3288C7E2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FC53-9E55-4274-ABE6-9D7FF7B7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9C9C2-E667-4B01-8E31-8D344676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796-1990-43CB-9C51-33AA8146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83B8-EF79-40F2-8299-1EBB2F9A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30BB-39B0-45FE-8EB1-B34D8A60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A1941-D04B-43D2-BC1B-4EC3FE58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BDD4-64AB-4579-A8C4-A0475A3B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DE711-DD79-49DC-A49C-A78C4094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9973A-A459-4C47-9BA0-A0FCCD20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677D8-8514-4EA6-86B8-8D77072E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07C6F-B684-43AE-A078-8108498C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ABF8A-C846-4B8E-9857-4BC76043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11564-A9AA-4F36-8757-D93AF6F7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E87-9147-4D54-A78C-BB27E5B6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EA92C-CE85-4093-866C-5042F192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674B5-7B41-458A-8433-FFB30312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AB1A-2F40-49AE-ACBD-27065B99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75534-79F8-474E-88A1-487A2711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CFE0D-6A35-4E71-ABDF-9BDA7E04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51B09-413D-4CFB-9EAF-20233D22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CAAE-ED58-4AB7-8307-A1C6D227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D8559-5E86-4FAD-B12E-18012824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86A24-0AF2-4FBA-B344-A6CF631A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76C9-86AC-4E8A-B14E-ABB9FDA2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A9EF-0AD4-42F9-9F31-B0C16F29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1C05E-A60F-4617-B10B-4E013F14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1EBBF-E0EF-4137-81F9-37D6A98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1566F-9FD5-4F99-914E-F73D826F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9F4F2-7630-40B9-9896-52FD0E5E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36CDE-8A2F-412C-89D7-BA866915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6F708-76F6-49BA-9753-2CD36890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892FE-57DF-43CB-B13A-06C68E6A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F3416-14BA-44AE-8052-C289EC3F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E1CB0-313F-4C2A-8B9F-0FA202E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697B1-D9A6-49D7-9B6B-925A8629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3E7-96E6-4833-8A20-035B376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CC409-9F4E-4D4E-8B4B-E327C76E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C5265-6425-473D-83BB-CD9B5651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6A3B8-F446-466C-954D-61F459D8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CF51D-C1F9-4077-ACE1-382EC1DC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0EC0A-03F4-4354-9C1B-42328B59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B1D6E-3BD8-494D-84B6-6F0ED423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62444-FE70-42A2-AFC6-5CDDEC92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44E5B-2AD1-473B-A295-305CD86A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32209-671C-458A-AB62-DB0A4635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4518C-7CD3-400C-9162-60AA929E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5433-052D-49F7-95E0-9DA0393611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F20-1C27-47E3-93EA-A48A1A20CF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18BB-CCEC-48D9-A85E-28C761AFDD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865-B204-41C5-8979-E06E6D15922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0E17-6139-4D06-A49B-44E9AF25B7F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2"/>
          </p:nvPr>
        </p:nvSpPr>
        <p:spPr>
          <a:xfrm>
            <a:off x="683208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EB3B-53CB-410E-B2FA-F7D7A4E6AFA3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3A13-7C54-4D7F-9F62-BB5E40B268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4D48-4375-47CF-BCC9-1EE6DB9A527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33DB-2C91-4EC1-8B9F-84ACE0D5ED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224A-A3B2-4095-8AF0-885BAE936B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84C9-B008-45D5-B443-5158254F76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3EA6-7F51-4532-884A-D3C4C506CED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FBB4-FFCB-4321-A83E-F33DA8508BD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AF14-CED0-4EEB-9D6C-08EA0BBE63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Introduction </a:t>
            </a:r>
            <a:r>
              <a:rPr b="0" lang="en-US" sz="4400" spc="-1" strike="noStrike">
                <a:solidFill>
                  <a:srgbClr val="0000ff"/>
                </a:solidFill>
                <a:latin typeface="Perpetua"/>
              </a:rPr>
              <a:t>to</a:t>
            </a: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 Metabolism</a:t>
            </a:r>
            <a:r>
              <a:rPr b="0" lang="en-US" sz="6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Major purpose living things require energy for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: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echanical work in muscle contraction and other cellular mov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4" name="Picture 5" descr="active_transport"/>
          <p:cNvPicPr/>
          <p:nvPr/>
        </p:nvPicPr>
        <p:blipFill>
          <a:blip r:embed="rId1"/>
          <a:stretch/>
        </p:blipFill>
        <p:spPr>
          <a:xfrm>
            <a:off x="6248520" y="2057400"/>
            <a:ext cx="2604960" cy="23814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6"/>
          <p:cNvSpPr/>
          <p:nvPr/>
        </p:nvSpPr>
        <p:spPr>
          <a:xfrm>
            <a:off x="6095880" y="1295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ctive transport of molecules and ion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533520" y="57913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nthesis of biomolecules    and simple precur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9" descr="http://t0.gstatic.com/images?q=tbn:ANd9GcSzngpfWKvA5VC8xt5enJLHSsxzbK7pb0o6ltZhHsQgqODi8gGmdA"/>
          <p:cNvPicPr/>
          <p:nvPr/>
        </p:nvPicPr>
        <p:blipFill>
          <a:blip r:embed="rId2"/>
          <a:stretch/>
        </p:blipFill>
        <p:spPr>
          <a:xfrm>
            <a:off x="685800" y="1905120"/>
            <a:ext cx="2286000" cy="22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1" descr="http://t1.gstatic.com/images?q=tbn:ANd9GcRygyoZ33DHIN8v7RMF_nopRNLgP_oFQAtMNlxDnuUkOchbU2xG"/>
          <p:cNvPicPr/>
          <p:nvPr/>
        </p:nvPicPr>
        <p:blipFill>
          <a:blip r:embed="rId3"/>
          <a:stretch/>
        </p:blipFill>
        <p:spPr>
          <a:xfrm>
            <a:off x="3733920" y="487692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62160" y="38052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mbria"/>
              </a:rPr>
              <a:t>ATP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ucleotide with three phosphate groups attached to the ribose sug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1faec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Most important phosphate compound in metabo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1faec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ne of the common links between catabolism and anabolism is A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P is used to shuttle chemical energy from catabolism to anabo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1" descr="http://t1.gstatic.com/images?q=tbn:ANd9GcRygyoZ33DHIN8v7RMF_nopRNLgP_oFQAtMNlxDnuUkOchbU2xG"/>
          <p:cNvPicPr/>
          <p:nvPr/>
        </p:nvPicPr>
        <p:blipFill>
          <a:blip r:embed="rId1"/>
          <a:stretch/>
        </p:blipFill>
        <p:spPr>
          <a:xfrm>
            <a:off x="6248520" y="22860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ATP"/>
          <p:cNvPicPr/>
          <p:nvPr/>
        </p:nvPicPr>
        <p:blipFill>
          <a:blip r:embed="rId2"/>
          <a:stretch/>
        </p:blipFill>
        <p:spPr>
          <a:xfrm>
            <a:off x="4800600" y="3048120"/>
            <a:ext cx="4114800" cy="26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A large amount of energy is liberated when</a:t>
            </a: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777960" y="14479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42217"/>
                </a:solidFill>
                <a:latin typeface="Cambria"/>
              </a:rPr>
              <a:t>1.</a:t>
            </a:r>
            <a:r>
              <a:rPr b="1" lang="en-US" sz="2000" spc="-1" strike="noStrike">
                <a:solidFill>
                  <a:srgbClr val="742217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913320" y="5029200"/>
            <a:ext cx="4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42217"/>
                </a:solidFill>
                <a:latin typeface="Franklin Gothic Book"/>
              </a:rPr>
              <a:t>2.</a:t>
            </a:r>
            <a:r>
              <a:rPr b="0" lang="en-US" sz="2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1447920" y="4951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ATP → AMP + PPi (pyrophospah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1364400" y="14479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ATP → ADP + Pi (orthophosphate)</a:t>
            </a: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8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5899320" cy="257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762120" y="5331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TP is continuously formed and consumed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Resting person consumes ~ 40kg of ATP/ 24 h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1168200" y="3284640"/>
            <a:ext cx="10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Comic Sans MS"/>
              </a:rPr>
              <a:t>ADP</a:t>
            </a:r>
            <a:r>
              <a:rPr b="1" lang="en-US" sz="2000" spc="-1" strike="noStrike">
                <a:solidFill>
                  <a:srgbClr val="d3481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"/>
          <p:cNvSpPr/>
          <p:nvPr/>
        </p:nvSpPr>
        <p:spPr>
          <a:xfrm>
            <a:off x="2514600" y="3657600"/>
            <a:ext cx="3352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"/>
          <p:cNvSpPr/>
          <p:nvPr/>
        </p:nvSpPr>
        <p:spPr>
          <a:xfrm flipH="1">
            <a:off x="2437920" y="3429000"/>
            <a:ext cx="3429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6217920" y="3208320"/>
            <a:ext cx="10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Comic Sans MS"/>
              </a:rPr>
              <a:t>ATP</a:t>
            </a:r>
            <a:r>
              <a:rPr b="1" lang="en-US" sz="2400" spc="-1" strike="noStrike">
                <a:solidFill>
                  <a:srgbClr val="d3481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2209680" y="2590920"/>
            <a:ext cx="403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Cambria"/>
              </a:rPr>
              <a:t>Motion, Active transport, Biosynthesis, Signal amplification</a:t>
            </a:r>
            <a:r>
              <a:rPr b="0" lang="en-US" sz="1800" spc="-1" strike="noStrike">
                <a:solidFill>
                  <a:srgbClr val="cc0099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2247840" y="3886200"/>
            <a:ext cx="403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2217"/>
                </a:solidFill>
                <a:latin typeface="Cambria"/>
              </a:rPr>
              <a:t>Photosynthesis or oxidation of fue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1295280" y="4876920"/>
            <a:ext cx="66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Basic model of energy exchange in biolog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How do cells make ATP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0" y="1371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mbria"/>
              </a:rPr>
              <a:t>3 mechanisms of phosphory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304920" y="2133720"/>
            <a:ext cx="883908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substrate level phosphorylation</a:t>
            </a: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re a substrate molecule (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p ) donates its high energy P to ADP making AT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Oxidative phosphory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- transferred from organic molecules and  passed through a series of acceptors to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3.  </a:t>
            </a: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Photophosphorylation </a:t>
            </a: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ccurs during photosynthesis –light energy used to make ATP 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Bookman Old Style"/>
                <a:ea typeface="MS UI Gothic"/>
              </a:rPr>
              <a:t>THANK   YOU</a:t>
            </a:r>
            <a:r>
              <a:rPr b="0" lang="en-US" sz="4400" spc="-1" strike="noStrike">
                <a:solidFill>
                  <a:srgbClr val="696464"/>
                </a:solidFill>
                <a:latin typeface="Bookman Old Style"/>
                <a:ea typeface="MS UI Gothic"/>
              </a:rPr>
              <a:t> !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731" name="Picture 5" descr="coffee break"/>
          <p:cNvPicPr/>
          <p:nvPr/>
        </p:nvPicPr>
        <p:blipFill>
          <a:blip r:embed="rId1"/>
          <a:stretch/>
        </p:blipFill>
        <p:spPr>
          <a:xfrm>
            <a:off x="3352680" y="2133720"/>
            <a:ext cx="22766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3"/>
          <p:cNvSpPr/>
          <p:nvPr/>
        </p:nvSpPr>
        <p:spPr>
          <a:xfrm>
            <a:off x="228600" y="2971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Biosyn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5715000" y="2971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Degra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04920" y="3733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Reductiv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579132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Oxidativ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04920" y="46483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Energy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5791320" y="4572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Energy Lib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304920" y="5638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Diverging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5791320" y="55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Conv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800600" y="16002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  <a:ea typeface="SimSun"/>
              </a:rPr>
              <a:t>Decomposition of large complex molecules into small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228600" y="15238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  <a:ea typeface="Calibri"/>
              </a:rPr>
              <a:t>large complex organic molecules are constructed from small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TextBox 14"/>
          <p:cNvGrpSpPr/>
          <p:nvPr/>
        </p:nvGrpSpPr>
        <p:grpSpPr>
          <a:xfrm>
            <a:off x="182520" y="512640"/>
            <a:ext cx="3067200" cy="736560"/>
            <a:chOff x="182520" y="512640"/>
            <a:chExt cx="3067200" cy="736560"/>
          </a:xfrm>
        </p:grpSpPr>
        <p:pic>
          <p:nvPicPr>
            <p:cNvPr id="616" name="TextBox 14" descr=""/>
            <p:cNvPicPr/>
            <p:nvPr/>
          </p:nvPicPr>
          <p:blipFill>
            <a:blip r:embed="rId1"/>
            <a:stretch/>
          </p:blipFill>
          <p:spPr>
            <a:xfrm>
              <a:off x="182520" y="512640"/>
              <a:ext cx="30672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228600" y="5335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Perpetua"/>
                </a:rPr>
                <a:t>Anabolis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Down Arrow 21"/>
          <p:cNvSpPr/>
          <p:nvPr/>
        </p:nvSpPr>
        <p:spPr>
          <a:xfrm>
            <a:off x="1523880" y="11430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TextBox 22"/>
          <p:cNvGrpSpPr/>
          <p:nvPr/>
        </p:nvGrpSpPr>
        <p:grpSpPr>
          <a:xfrm>
            <a:off x="5516640" y="512640"/>
            <a:ext cx="3066840" cy="736560"/>
            <a:chOff x="5516640" y="512640"/>
            <a:chExt cx="3066840" cy="736560"/>
          </a:xfrm>
        </p:grpSpPr>
        <p:pic>
          <p:nvPicPr>
            <p:cNvPr id="620" name="TextBox 22" descr=""/>
            <p:cNvPicPr/>
            <p:nvPr/>
          </p:nvPicPr>
          <p:blipFill>
            <a:blip r:embed="rId2"/>
            <a:stretch/>
          </p:blipFill>
          <p:spPr>
            <a:xfrm>
              <a:off x="5516640" y="512640"/>
              <a:ext cx="306684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562720" y="5335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Perpetua"/>
                </a:rPr>
                <a:t>Catabolis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Down Arrow 23"/>
          <p:cNvSpPr/>
          <p:nvPr/>
        </p:nvSpPr>
        <p:spPr>
          <a:xfrm>
            <a:off x="6858000" y="11430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3"/>
          <p:cNvSpPr/>
          <p:nvPr/>
        </p:nvSpPr>
        <p:spPr>
          <a:xfrm>
            <a:off x="533520" y="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Ca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304920" y="990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mbria"/>
                <a:ea typeface="SimSu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Many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1295280" y="1219320"/>
            <a:ext cx="685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600200" y="99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mbria"/>
                <a:ea typeface="SimSu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Few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5562720" y="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4817"/>
                </a:solidFill>
                <a:latin typeface="Cambria"/>
                <a:ea typeface="SimSun"/>
              </a:rPr>
              <a:t> </a:t>
            </a:r>
            <a:r>
              <a:rPr b="1" lang="en-US" sz="2800" spc="-1" strike="noStrike">
                <a:solidFill>
                  <a:srgbClr val="d34817"/>
                </a:solidFill>
                <a:latin typeface="Cambria"/>
                <a:ea typeface="SimSun"/>
              </a:rPr>
              <a:t>An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5181480" y="914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34817"/>
                </a:solidFill>
                <a:latin typeface="Cambria"/>
                <a:ea typeface="SimSun"/>
              </a:rPr>
              <a:t>      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Few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6324480" y="1143000"/>
            <a:ext cx="685800" cy="0"/>
          </a:xfrm>
          <a:prstGeom prst="line">
            <a:avLst/>
          </a:prstGeom>
          <a:ln w="2844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6934320" y="914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34817"/>
                </a:solidFill>
                <a:latin typeface="Cambria"/>
                <a:ea typeface="SimSun"/>
              </a:rPr>
              <a:t>  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533520" y="457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SimSu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SimSun"/>
              </a:rPr>
              <a:t>converging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5562720" y="457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SimSun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diverging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91160" cy="508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/>
          <p:cNvSpPr/>
          <p:nvPr/>
        </p:nvSpPr>
        <p:spPr>
          <a:xfrm>
            <a:off x="2743200" y="2286000"/>
            <a:ext cx="4114800" cy="342900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Text Box 3"/>
          <p:cNvGrpSpPr/>
          <p:nvPr/>
        </p:nvGrpSpPr>
        <p:grpSpPr>
          <a:xfrm>
            <a:off x="487440" y="1189080"/>
            <a:ext cx="2835360" cy="1309680"/>
            <a:chOff x="487440" y="1189080"/>
            <a:chExt cx="2835360" cy="1309680"/>
          </a:xfrm>
        </p:grpSpPr>
        <p:pic>
          <p:nvPicPr>
            <p:cNvPr id="636" name="Text Box 3" descr=""/>
            <p:cNvPicPr/>
            <p:nvPr/>
          </p:nvPicPr>
          <p:blipFill>
            <a:blip r:embed="rId1"/>
            <a:stretch/>
          </p:blipFill>
          <p:spPr>
            <a:xfrm>
              <a:off x="487440" y="1189080"/>
              <a:ext cx="28353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533520" y="1219320"/>
              <a:ext cx="2743200" cy="12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Nutrien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Carbohydrat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F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Protei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Rectangle 4"/>
          <p:cNvGrpSpPr/>
          <p:nvPr/>
        </p:nvGrpSpPr>
        <p:grpSpPr>
          <a:xfrm>
            <a:off x="639720" y="5389560"/>
            <a:ext cx="2914560" cy="882720"/>
            <a:chOff x="639720" y="5389560"/>
            <a:chExt cx="2914560" cy="882720"/>
          </a:xfrm>
        </p:grpSpPr>
        <p:pic>
          <p:nvPicPr>
            <p:cNvPr id="639" name="Rectangle 4" descr=""/>
            <p:cNvPicPr/>
            <p:nvPr/>
          </p:nvPicPr>
          <p:blipFill>
            <a:blip r:embed="rId2"/>
            <a:stretch/>
          </p:blipFill>
          <p:spPr>
            <a:xfrm>
              <a:off x="639720" y="5389560"/>
              <a:ext cx="291456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85800" y="5410080"/>
              <a:ext cx="28195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   </a:t>
              </a: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End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H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2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O, CO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2,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NH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5"/>
          <p:cNvSpPr/>
          <p:nvPr/>
        </p:nvSpPr>
        <p:spPr>
          <a:xfrm>
            <a:off x="2286000" y="2666880"/>
            <a:ext cx="0" cy="2667240"/>
          </a:xfrm>
          <a:prstGeom prst="line">
            <a:avLst/>
          </a:prstGeom>
          <a:ln w="7632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0" y="3352680"/>
            <a:ext cx="2209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Catabolism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oxidative, exergo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Rectangle 7"/>
          <p:cNvGrpSpPr/>
          <p:nvPr/>
        </p:nvGrpSpPr>
        <p:grpSpPr>
          <a:xfrm>
            <a:off x="6046920" y="1109520"/>
            <a:ext cx="2609640" cy="1590840"/>
            <a:chOff x="6046920" y="1109520"/>
            <a:chExt cx="2609640" cy="1590840"/>
          </a:xfrm>
        </p:grpSpPr>
        <p:pic>
          <p:nvPicPr>
            <p:cNvPr id="644" name="Rectangle 7" descr=""/>
            <p:cNvPicPr/>
            <p:nvPr/>
          </p:nvPicPr>
          <p:blipFill>
            <a:blip r:embed="rId3"/>
            <a:stretch/>
          </p:blipFill>
          <p:spPr>
            <a:xfrm>
              <a:off x="6046920" y="1109520"/>
              <a:ext cx="26096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169320" y="1143000"/>
              <a:ext cx="236628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0000ff"/>
                  </a:solidFill>
                  <a:latin typeface="Cambria"/>
                </a:rPr>
                <a:t>Macromolec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Protein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Polysaccharid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Lip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Nucleic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Rectangle 8"/>
          <p:cNvGrpSpPr/>
          <p:nvPr/>
        </p:nvGrpSpPr>
        <p:grpSpPr>
          <a:xfrm>
            <a:off x="5894280" y="5072040"/>
            <a:ext cx="2944800" cy="1590840"/>
            <a:chOff x="5894280" y="5072040"/>
            <a:chExt cx="2944800" cy="1590840"/>
          </a:xfrm>
        </p:grpSpPr>
        <p:pic>
          <p:nvPicPr>
            <p:cNvPr id="647" name="Rectangle 8" descr=""/>
            <p:cNvPicPr/>
            <p:nvPr/>
          </p:nvPicPr>
          <p:blipFill>
            <a:blip r:embed="rId4"/>
            <a:stretch/>
          </p:blipFill>
          <p:spPr>
            <a:xfrm>
              <a:off x="5894280" y="5072040"/>
              <a:ext cx="29448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5988600" y="5105520"/>
              <a:ext cx="275796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0000ff"/>
                  </a:solidFill>
                  <a:latin typeface="Cambria"/>
                </a:rPr>
                <a:t>Precursor Molec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Amino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Sug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Fatty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Nitrogenous ba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Line 9"/>
          <p:cNvSpPr/>
          <p:nvPr/>
        </p:nvSpPr>
        <p:spPr>
          <a:xfrm flipV="1">
            <a:off x="6934320" y="2819520"/>
            <a:ext cx="0" cy="2286000"/>
          </a:xfrm>
          <a:prstGeom prst="line">
            <a:avLst/>
          </a:prstGeom>
          <a:ln w="7632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0"/>
          <p:cNvSpPr/>
          <p:nvPr/>
        </p:nvSpPr>
        <p:spPr>
          <a:xfrm>
            <a:off x="6934320" y="3352680"/>
            <a:ext cx="2057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Anabolism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reductive, endergo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1"/>
          <p:cNvGrpSpPr/>
          <p:nvPr/>
        </p:nvGrpSpPr>
        <p:grpSpPr>
          <a:xfrm>
            <a:off x="2285640" y="3732840"/>
            <a:ext cx="991080" cy="486000"/>
            <a:chOff x="2285640" y="3732840"/>
            <a:chExt cx="991080" cy="486000"/>
          </a:xfrm>
        </p:grpSpPr>
        <p:sp>
          <p:nvSpPr>
            <p:cNvPr id="652" name="Line 12"/>
            <p:cNvSpPr/>
            <p:nvPr/>
          </p:nvSpPr>
          <p:spPr>
            <a:xfrm>
              <a:off x="2514600" y="419112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AutoShape 13"/>
            <p:cNvCxnSpPr/>
            <p:nvPr/>
          </p:nvCxnSpPr>
          <p:spPr>
            <a:xfrm flipH="1" rot="16200000">
              <a:off x="2157120" y="386136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54" name="Text Box 14"/>
          <p:cNvSpPr/>
          <p:nvPr/>
        </p:nvSpPr>
        <p:spPr>
          <a:xfrm>
            <a:off x="3809880" y="36576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ff"/>
                </a:solidFill>
                <a:latin typeface="Cambria"/>
              </a:rPr>
              <a:t>Chemical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43434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6"/>
          <p:cNvSpPr/>
          <p:nvPr/>
        </p:nvSpPr>
        <p:spPr>
          <a:xfrm>
            <a:off x="5263560" y="3352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3130200" y="35053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8"/>
          <p:cNvSpPr/>
          <p:nvPr/>
        </p:nvSpPr>
        <p:spPr>
          <a:xfrm>
            <a:off x="31240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4880520" y="2895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4422240" y="4419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Cambr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1"/>
          <p:cNvSpPr/>
          <p:nvPr/>
        </p:nvSpPr>
        <p:spPr>
          <a:xfrm>
            <a:off x="3661560" y="4800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2"/>
          <p:cNvSpPr/>
          <p:nvPr/>
        </p:nvSpPr>
        <p:spPr>
          <a:xfrm>
            <a:off x="5186880" y="42670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3"/>
          <p:cNvSpPr/>
          <p:nvPr/>
        </p:nvSpPr>
        <p:spPr>
          <a:xfrm>
            <a:off x="6019920" y="327672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2285640" y="3275640"/>
            <a:ext cx="991080" cy="486000"/>
            <a:chOff x="2285640" y="3275640"/>
            <a:chExt cx="991080" cy="486000"/>
          </a:xfrm>
        </p:grpSpPr>
        <p:sp>
          <p:nvSpPr>
            <p:cNvPr id="665" name="Line 25"/>
            <p:cNvSpPr/>
            <p:nvPr/>
          </p:nvSpPr>
          <p:spPr>
            <a:xfrm>
              <a:off x="2514600" y="373392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6" name="AutoShape 26"/>
            <p:cNvCxnSpPr/>
            <p:nvPr/>
          </p:nvCxnSpPr>
          <p:spPr>
            <a:xfrm flipH="1" rot="16200000">
              <a:off x="2157120" y="340416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grpSp>
        <p:nvGrpSpPr>
          <p:cNvPr id="667" name="Group 27"/>
          <p:cNvGrpSpPr/>
          <p:nvPr/>
        </p:nvGrpSpPr>
        <p:grpSpPr>
          <a:xfrm>
            <a:off x="2285640" y="2742120"/>
            <a:ext cx="991080" cy="486000"/>
            <a:chOff x="2285640" y="2742120"/>
            <a:chExt cx="991080" cy="486000"/>
          </a:xfrm>
        </p:grpSpPr>
        <p:sp>
          <p:nvSpPr>
            <p:cNvPr id="668" name="Line 28"/>
            <p:cNvSpPr/>
            <p:nvPr/>
          </p:nvSpPr>
          <p:spPr>
            <a:xfrm>
              <a:off x="2514600" y="320040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AutoShape 29"/>
            <p:cNvCxnSpPr/>
            <p:nvPr/>
          </p:nvCxnSpPr>
          <p:spPr>
            <a:xfrm flipH="1" rot="16200000">
              <a:off x="2157120" y="287064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70" name="Line 30"/>
          <p:cNvSpPr/>
          <p:nvPr/>
        </p:nvSpPr>
        <p:spPr>
          <a:xfrm>
            <a:off x="6019920" y="388620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1"/>
          <p:cNvSpPr/>
          <p:nvPr/>
        </p:nvSpPr>
        <p:spPr>
          <a:xfrm>
            <a:off x="6019920" y="426708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2"/>
          <p:cNvSpPr/>
          <p:nvPr/>
        </p:nvSpPr>
        <p:spPr>
          <a:xfrm>
            <a:off x="6019920" y="472428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33"/>
          <p:cNvGrpSpPr/>
          <p:nvPr/>
        </p:nvGrpSpPr>
        <p:grpSpPr>
          <a:xfrm>
            <a:off x="2285640" y="4266000"/>
            <a:ext cx="991080" cy="486000"/>
            <a:chOff x="2285640" y="4266000"/>
            <a:chExt cx="991080" cy="486000"/>
          </a:xfrm>
        </p:grpSpPr>
        <p:sp>
          <p:nvSpPr>
            <p:cNvPr id="674" name="Line 34"/>
            <p:cNvSpPr/>
            <p:nvPr/>
          </p:nvSpPr>
          <p:spPr>
            <a:xfrm>
              <a:off x="2514600" y="472428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5" name="AutoShape 35"/>
            <p:cNvCxnSpPr/>
            <p:nvPr/>
          </p:nvCxnSpPr>
          <p:spPr>
            <a:xfrm flipH="1" rot="16200000">
              <a:off x="2157120" y="439452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76" name="Text Box 36"/>
          <p:cNvSpPr/>
          <p:nvPr/>
        </p:nvSpPr>
        <p:spPr>
          <a:xfrm>
            <a:off x="457200" y="533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Catabolism and anabolism are always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37920" y="685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Chemical energ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  <a:ea typeface="宋体"/>
              </a:rPr>
              <a:t>ATP -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energy currency.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t serves as the driving force for nearly all biochemical proces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  <a:ea typeface="宋体"/>
              </a:rPr>
              <a:t>NADH,NADP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 - reducing pow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   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宋体"/>
              </a:rPr>
              <a:t>NAD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r oxidation and energy yielding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NADP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for biosynthetic process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609480" y="31528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1219320" y="35337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819520" y="31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3505320" y="353376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4876920" y="3152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>
            <a:off x="5486400" y="35337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934320" y="3152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228600" y="4267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A is a precursor  for B, C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22860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B is a precursor  for C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2286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C is a precursor f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4"/>
          <p:cNvSpPr/>
          <p:nvPr/>
        </p:nvSpPr>
        <p:spPr>
          <a:xfrm rot="5400000">
            <a:off x="3848040" y="189504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2819520" y="2362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2217"/>
                </a:solidFill>
                <a:latin typeface="Cambria"/>
                <a:ea typeface="SimSun"/>
              </a:rPr>
              <a:t>intermed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419720" y="4191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2217"/>
                </a:solidFill>
                <a:latin typeface="Cambria"/>
                <a:ea typeface="SimSun"/>
              </a:rPr>
              <a:t>metabolites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1523880" y="1828800"/>
            <a:ext cx="5791320" cy="459720"/>
          </a:xfrm>
          <a:prstGeom prst="rect">
            <a:avLst/>
          </a:prstGeom>
          <a:gradFill rotWithShape="0">
            <a:gsLst>
              <a:gs pos="0">
                <a:srgbClr val="dad2c3"/>
              </a:gs>
              <a:gs pos="100000">
                <a:srgbClr val="fbe0dd"/>
              </a:gs>
            </a:gsLst>
            <a:lin ang="5400000"/>
          </a:gra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Sequential steps catalyzed by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8"/>
          <p:cNvSpPr/>
          <p:nvPr/>
        </p:nvSpPr>
        <p:spPr>
          <a:xfrm rot="5374200">
            <a:off x="4911480" y="1790640"/>
            <a:ext cx="385560" cy="4418280"/>
          </a:xfrm>
          <a:custGeom>
            <a:avLst/>
            <a:gdLst>
              <a:gd name="textAreaLeft" fmla="*/ 0 w 385560"/>
              <a:gd name="textAreaRight" fmla="*/ 139320 w 385560"/>
              <a:gd name="textAreaTop" fmla="*/ 115200 h 4418280"/>
              <a:gd name="textAreaBottom" fmla="*/ 4303080 h 441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Characteristics of  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440" y="1676160"/>
            <a:ext cx="89154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宋体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宋体"/>
              </a:rPr>
              <a:t>irreversibl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宋体"/>
              </a:rPr>
              <a:t>Metabolic pathways hav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宋体"/>
              </a:rPr>
              <a:t>committed step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rly step unique to a pathwa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rreversible step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1fae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Requires energy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1fae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Often results in a phosphorylated compound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宋体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宋体"/>
              </a:rPr>
              <a:t>regulated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宋体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宋体"/>
              </a:rPr>
              <a:t>compartmentalized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幼圆"/>
              </a:rPr>
              <a:t>Cellular level Compartmentation</a:t>
            </a: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幼圆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0880" y="18288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Cambria"/>
                <a:ea typeface="SimSun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(TCA cycle, fatty acid oxidation, amino acid breakdow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Cambria"/>
                <a:ea typeface="SimSun"/>
              </a:rPr>
              <a:t>Cytos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(glycolysis, fatty acid biosynthesis, pentose phosphate pathwa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99" name="Picture 6" descr=""/>
          <p:cNvPicPr/>
          <p:nvPr/>
        </p:nvPicPr>
        <p:blipFill>
          <a:blip r:embed="rId1"/>
          <a:stretch/>
        </p:blipFill>
        <p:spPr>
          <a:xfrm>
            <a:off x="5810400" y="2133720"/>
            <a:ext cx="286524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Control of 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2217"/>
                </a:solidFill>
                <a:latin typeface="Cambria"/>
                <a:ea typeface="宋体"/>
              </a:rPr>
              <a:t>Molecular level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宋体"/>
              </a:rPr>
              <a:t>Control of enzyme leve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宋体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gene expression (slow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宋体"/>
              </a:rPr>
              <a:t>Control of enzyme activit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 (fas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- allosteric control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binding of an effector at one site affects enzyme activity at another site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- covalent control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phosphorylation, adenylylation, etc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05T15:20:30Z</dcterms:modified>
  <cp:revision>76</cp:revision>
  <dc:subject/>
  <dc:title>Slide 1</dc:title>
</cp:coreProperties>
</file>