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8DC-4847-416B-AE33-AA54F914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BF0-4731-4885-94B4-A374CA24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307-8B79-48C9-9261-B2313F31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493-D7BF-4BE2-AF5F-3A32F001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A075-1EC5-4402-8B73-8760F567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B6EE-A56D-41CF-B4AF-3E014A63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8B2A-DFC5-4FF4-9362-AA4FB786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8561-CEE6-4B88-AD3F-06A7FD41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2D40-48CF-49CA-B1C9-0B940D19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7E47-823C-4AAB-9F64-941B57B0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3F71-3E37-43AC-8E4E-E339F6C5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A55-B879-4B97-9B2E-EFDAD4C8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CD3D-D6BC-4D4B-BFAC-167C231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32EA-FF7F-492A-BA20-76AD9410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2749-ACE9-48FE-8BDE-762AFD1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AB33-2842-4AAE-8D14-1240AF96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5E0D-8F13-4BD7-81EA-49C7C96A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09E8-A9AC-4B20-8534-00926AA0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139ED-95A6-420D-88FD-A1F3E922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AC5F-B4D0-4AD1-9892-827CA8B6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604C-8B11-4711-8CFF-89878FEC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248E-8FF4-4897-B2B8-72A1A13A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6C0-BD0A-474D-B5FC-A72F6625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4702-2140-426F-9472-16B43427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F0AB-B5EE-4928-AB4C-CDBC5A6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E2F6-62BA-42DA-8816-F7176F6D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2470-8032-444B-80DB-249CF9E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16BB-F7F4-4EA9-94B5-CC336CD1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3836-0A0B-458D-96EA-07DC3759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4ED2-F642-4BBA-8576-6B26CF36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CA66-205F-4657-82BA-4CABAD20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6216-00B5-4ACA-8FCF-53CA7E82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F1740-8121-44DD-AC47-6AFA5742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FB9-1D3B-4D4A-8430-9EC1F54E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F26DF-BC30-4492-81BE-DC78B24F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6579-4B43-493D-8EC8-27FD6F0F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A45A-CD1E-423B-B026-7BBD5303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82031-7C0A-4BFB-9D38-6861DFA4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505EC-2BE8-4B39-9B4A-3E68054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86512-F7C5-43D0-BEBC-7DEA2B1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62EA-2E38-4C92-8DBE-1648A0F0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B242-5450-43F8-9B67-E84AE6AF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0BB5-8A45-467C-8292-F497D53E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B91A-6BD0-4903-99ED-858DB3CF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32A-57C6-4404-BC7D-751B9446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113EF-2DA4-4A3F-8CF9-8B107A4F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D4B1-236A-460F-9EBE-67A1AA44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C330-1DA5-4C82-A849-D11BE923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8540-FFF0-41E9-B169-A25B88A7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B251-9069-423B-B2BC-16B5AFD9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A89E-B1C8-4D61-90CD-062F3644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64CFD-AB96-44ED-AC86-72E9258B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2DB4-8E3F-480D-9279-5AF387CE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24C88-627C-4D59-95E1-2BEFF6BB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4B34-D8EA-4C32-9227-915BB0B9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7BF-F254-45D0-8E33-944961E9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2AE0-F25F-4100-9ECD-3CABE415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1ACF9-0F75-44AB-8D83-BACDD033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4655E-B50C-4AE7-B378-E532E5C8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4CD93-5529-4198-B047-163514DD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5344E-1886-4C2A-A3D6-1E9C0398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2E0B-D30A-4E75-9C5C-A8377EDE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2811E-1D60-4D43-B941-335459ED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0BA95-3AD8-4633-8C24-EE32DC96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FBF4B-B542-4CB6-947F-D98422C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E25BD-262B-42D0-8B54-2639E606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341-BDE3-4C47-818E-87B205F4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97EBC-F543-4EC9-85BF-141F3628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9AA37-FB16-4773-BE4C-97CF7FD0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F36FE-10F5-4AC8-9309-1B54F492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74BF3-18EF-4CFD-BC6F-3CF0DE4C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09AE-A030-43E0-804B-4DA99715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FF030-9A2B-42D0-8883-ACC45B93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ECAB5-4B92-4944-8AA0-56A03610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3EE8-9F20-43E1-9B93-A28B0710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3E436-2299-4E84-9414-F518BE19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AA9F4-70D0-487D-9FF3-2FE2C38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7DA-1E9A-41BA-9DC9-150D490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66D7B-F1B5-4CBA-A8B4-2001E63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C3F55-D8B3-495F-A214-F2C4A35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B5E73-F7A5-4A65-9FCA-F345EBE4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1E134-B619-45E9-B815-E4F391CF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57C95-3F72-4EBF-9212-667E7E39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BC1-1928-439D-B186-40BF9333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CD23-AD1C-4A6B-A975-C4ADCED954B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BD86-1804-470E-B551-2858300154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C992-1117-40EC-A8ED-E24461614E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4375-347E-4C70-BB70-17B89298912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351E-D095-433D-B865-CA3BE102BA0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6B5D-2502-4519-A992-EAF20DA9C76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F340-3EDA-4403-AD89-57CE179F9B8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fac.ksu.edu.sa/saalshalan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sc120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masri and Navathe, “Fundamentals of Database Systems”, 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Edition, Addison-Wesley, 2011.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omas Connolly, Carolyn Begg, “Database Systems: A Practical Approach to Design, Implementation and Management”, 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Edition, Addison-Wesley, 200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ndou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cture notes o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fac.ksu.edu.sa/saalshal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ext boo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se topics will be covered during the course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roduction to Database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base Environmen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ntity Relationship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nhanced Entity Relationship Model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Relational Mod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 Manipulation Langua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 Definition Langua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ormaliz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s course requires the student to demonstrate the following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efine program-data independence, data models for database systems, database schema and database instanc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Structure Query Language statements used in creation and manipulation of databas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the modeling methodologies including conceptual(through Entity Relationship), logical, and physical  mode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evelop and evaluate a real database application using a database management syst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mprove teamwork management and communication skills.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457200" y="1774800"/>
          <a:ext cx="8229600" cy="2225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u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dte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01:36:08Z</dcterms:created>
  <dc:creator>user</dc:creator>
  <dc:description/>
  <dc:language>en-US</dc:language>
  <cp:lastModifiedBy>sara</cp:lastModifiedBy>
  <dcterms:modified xsi:type="dcterms:W3CDTF">2014-02-01T20:02:28Z</dcterms:modified>
  <cp:revision>6</cp:revision>
  <dc:subject/>
  <dc:title>Introduction to Database</dc:title>
</cp:coreProperties>
</file>