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313-6B9E-4BAB-9408-8EA7E927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6B2-2C56-4231-8EC0-F7702768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89F-D4CB-44D0-BB89-DE19205D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4A3-FEAE-403B-B546-484A1B7C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BDF4-CD2F-454A-9098-8CAF8B50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D636-EDDC-4D93-87BA-74CFA43F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C4A-E739-4DBB-8D1E-B361510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6FAF-DAAD-480E-A24C-19B5E6C1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E8DA-8B20-45C2-BB31-46CEDD26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1E7-12B4-4C9B-A3A6-4106D27D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73D-C23D-406C-99E8-226BCA4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48E-0573-45EB-8290-8C6EE939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1DBF-D71F-4860-8674-3626360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4092-BE1A-4412-805E-3078402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9FB7-9D35-49B9-9F09-C0B7705B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AC6A-D6E2-4EE7-9224-B981A302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C46-FDF3-4BEB-8A3C-D9AB64D4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E492-6CF7-47E0-BA8B-EF299E80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4D12-002E-4A8C-BA12-3B3BA7D5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3DE1-BB7C-4FD3-9CDE-A525B698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B412-BD52-40CC-88C5-B887D141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DF9A-DE6C-43E8-8872-28C2745D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FD6-268D-44CF-ADA0-80DFF2F7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3424-9A8C-45B7-8F18-AECCF5A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F685-C043-4BD9-BDFC-D42E3C9C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ADC5-6A99-435F-9EF3-6EBD496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F6D0-CF44-400F-96D3-2E865D91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62E5-3837-4B46-A79D-7EA8EFDE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C3BB-8484-40FA-93F2-2988A317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FA8C-BB2A-4081-968E-738F914B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DFC2F-55B9-42B0-B9E9-9F3CDFE2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D604-2C9C-4C86-B930-232DF0D5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500BD-0A28-4B89-94D2-9BA5EFC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484-6951-4D0F-8555-FC0B4CF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B44E-CED5-42E9-B696-BBE3673C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881CD-E087-4BFB-A229-125F07C7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03DF-274E-414F-A0BD-3920416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A3318-F2CD-4AB5-BDC3-CF7BCC2E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A8E1-8E84-4B7B-8184-1FE854F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6B32C-503D-4D5D-9DF3-3C0D3ECB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CB3F-DA4A-42DF-A235-33CBF24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268C-099E-47A0-84B4-99E64F4C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E33C-547E-4C56-9C64-DB7DB8F6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316E1-446D-4584-AAF2-C85E83C8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213-583A-4672-BE07-9FA3E0B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CEE6-1BDA-4C5B-B088-39E01A6D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2D51-D3E5-4F33-8094-605B04B8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B171-03A0-4BBF-A995-4B3BE6F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C2CB5-A300-4E53-97A4-E2E2C9F8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F8325-3BD8-43A0-AE2C-D4331CB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58A7-B326-4CCD-9EAD-4886C8C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BBFE-DC5F-42F9-A491-03B845E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29D1-38F7-4E57-97CB-335FD8A2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CCAB-DD68-49A5-BA63-5C3A8D4C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89B0-9B74-4E05-8E32-B38AEFEF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E46-2438-40D3-8E77-E0AD5419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7A90-4205-4995-A381-1C3B5E25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4DEA-CF73-4EBA-BA6F-7448BEB3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2371-059D-4AC5-91BE-EA0F8550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A9E4-AFFA-4FB2-A4AE-1DFFFCFD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A8DA-2289-4BC7-98FA-3BBE5090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134C-D717-4539-B349-27A4043F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8F80-3FB9-4DA4-88FE-35A7D610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B8E3-82A6-4DCF-839F-2540302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D1FD-7FA1-449D-86E3-56A679B9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0F80A-5505-4E9A-9250-B4E9CD1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3D5-273E-49B7-8492-7243B3B2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E805-1836-4162-B5EA-6E1C368A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393B-2C24-4733-97BD-B96E9C17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4D1A-2E64-4B5E-B30C-9F0A9373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80C0-EFF0-4061-887F-D7ED3D0C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16113-C53F-4B0D-9F70-FB28892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D547A-A987-47FF-A3B6-B1B46148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184A-2FCC-4790-8AB3-56C1352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3E2E-CB48-4F1A-BCEC-E9165EC4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43EF-2ECE-4A52-948C-C3C55B7E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86452-C87D-436A-BE79-BA23BFC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062-F303-4A41-8656-CBDDFC9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A07AE-A420-43AF-8A4C-05FA8FF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88E74-02A1-4581-888A-9E7464B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39A2-3BCC-4828-B705-54DE555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8D077-2578-4595-8E88-C9739AA7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EBBDD-3D34-4EF6-B367-4FE8C2DE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E04-9624-4A34-BE9A-70C11C0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096F-E98A-4AD9-AC08-50529148096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EF72-1DD0-4B8D-A60C-57E24A2D2C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9E0F-D03D-4D54-88E4-77A7CE5E7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9F92-446D-41AF-86BD-7E6F06F76E9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CB5-7B4D-4E96-9AF6-2ECD56E18A5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878-DD69-4FF6-89CD-968819A8F7E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986-4BC5-46C4-8A04-B06AD83ED34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ac.ksu.edu.sa/saalshalan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sc120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masri and Navathe, “Fundamentals of Database Systems”, 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Edition, Addison-Wesley, 2011.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omas Connolly, Carolyn Begg, “Database Systems: A Practical Approach to Design, Implementation and Management”, 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Edition, Addison-Wesley, 200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ndo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cture notes 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fac.ksu.edu.sa/saalsha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ext boo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se topics will be covered during the course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roduction to Databases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base Environmen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tity Relationship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nhanced Entity Relationship Model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 Relational Mod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Manipula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ata Definition Langua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ormaliz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course requires the student to demonstrate the following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fine program-data independence, data models for database systems, database schema and database instanc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Structure Query Language statements used in creation and manipulation of databa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the modeling methodologies including conceptual(through Entity Relationship), logical, and physical  mode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evelop and evaluate a real database application using a database management syst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mprove teamwork management and communication skills.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457200" y="1774800"/>
          <a:ext cx="8229600" cy="222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Qu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dte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01:36:08Z</dcterms:created>
  <dc:creator>user</dc:creator>
  <dc:description/>
  <dc:language>en-US</dc:language>
  <cp:lastModifiedBy>sara</cp:lastModifiedBy>
  <dcterms:modified xsi:type="dcterms:W3CDTF">2014-02-01T20:02:28Z</dcterms:modified>
  <cp:revision>6</cp:revision>
  <dc:subject/>
  <dc:title>Introduction to Database</dc:title>
</cp:coreProperties>
</file>