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326-2F3E-4F9F-9E2E-A76E16B4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127-A3A6-4E27-A022-7CD9A540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57C-6FB8-4691-BA62-058A5202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C9D-40E7-4F4B-8C53-39EC3D69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0884-089E-4E69-95E1-70747016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6AB2-9B99-4D39-9A85-54726F66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5773-294D-4628-A338-31B3B381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32C3-3B28-4665-A865-6D0DBDB0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1F04-A113-470B-860D-4BB20857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E53F-2084-45E9-87F4-DC0BB64E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147D-E843-4AC6-A7F2-A23EE1D9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811-3E9C-4ECB-942C-947F308F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9A34-1682-4D7B-AFB6-A8B8608F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7817-95E8-4629-BC50-0252E6B1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A1A5-FBC0-4CA6-A4CE-0BC75C01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7CB9-8C02-44F7-9FE2-881FC2F4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36E4-6F91-494D-AC57-9B84AC1D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FCD3-F682-4AA8-B4EE-B3298672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C60B4-BF60-4662-A9B0-B2F058A5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CCBF2-0ECA-4C28-BF6A-60B9B74A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9B177-789E-46DE-88EE-FED392FF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8A9BB-9D88-472F-A807-61918130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CA1-2C2B-4399-8408-735503BB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6533F-26C0-4D50-BDB4-34E26AFD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EF596-F36C-405F-90CC-2157FD46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59D79-30F9-4B4B-8A94-B2C066D8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3EC9A-E6B8-4A1F-8A48-63817502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DE18-355B-42CE-BD6E-051B56DD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9FFF-E169-42C0-96A1-E76E09F2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344E-6AE2-4A0E-9536-0E7C443C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B663B-FA87-4A68-865F-A75EE69E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7801B-8011-4F8E-B888-51BBED20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BE699-686B-4FCB-8DB3-F893D3D4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7DF-D8DA-4F9C-B342-C5DFECBD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0DC54-4839-4E15-8B75-FFC0D5B6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2C72-C985-4E12-8642-E2398B59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2A59B-5B64-4C0E-A46B-555D8761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D5801-B6BF-4C1C-9A8D-930AFFAB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CB792-2E3E-4012-A725-056D64E1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7ED20-ABA5-47AD-BA78-D505BF3B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99FBB-298E-4871-9300-2BDDBB08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1230-E2FB-4FFD-9FED-6737EAB3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BBD5D-E00B-432F-B45B-5BDCE051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E1BB9-16E2-482C-9CF2-874443C7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F5F-D387-4D5D-A9AE-910A0F04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36D13-21A5-42FF-9BCF-E7792D82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F1898-9DD5-404D-9758-B016B792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A795A-B8E9-46E0-81D0-9E2254E9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DDA77-6F6D-48E0-98B2-16A75961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2734F-E530-49D8-A5B8-C4701B54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121B3-EB5F-450E-8161-A5353DD9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749B4-E218-4C70-8608-3D0E85AE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804B6-414E-4F49-A34A-CD0BA002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92C56-B611-4CA9-8A91-58174E9C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17086-51B9-4E43-8DCC-F367BE55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DBC-D65F-4499-8DF0-FC05B7DD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2DB72-8BAE-48F0-8F38-88A8A34C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B1BB9-9611-4C17-8A5F-9A3117D4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12066-BF80-4937-BE3E-87AABEA7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582F9-E600-43E4-8F97-EF83ADCA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1D491-36E3-48AC-9803-DB4AD92E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11DA7-2D23-4D43-BB3E-38BFC572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2DCE1-AF6F-4428-B6A0-E1960CC0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9901A-E794-4724-B0AA-7376D364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AC6A3-FE69-45A5-81C0-B3BC6325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BCD8C-037D-463B-8D6A-255D66CB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81B-AA2A-445E-9739-A791858D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C5484-2AC6-4394-91A3-BF34A48C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09212-6B6A-471A-BD7C-2E9241D9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666F7-3391-4926-A2E4-8DB7467F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9CC81-5E26-4262-8060-93A2DD47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12D25-95BE-4DF4-9790-00B48FE7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7A22C-D0BD-42B8-90C0-A78763FF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E22C7-7B8E-4118-9D14-C00EC768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3C6DC-1203-4B0B-84B7-A30CBC7D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AAF0A-E45C-4E90-B133-9D931FCF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7C6C8-2187-44A4-B625-C7BC4D21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A45-E70B-4C92-A0DF-0329BBF1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F6B4E-2918-4A47-A8C1-86424EC4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1FCC4-4AFF-4759-ADA7-4CF8F0C7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2DEB3-E9E1-4B37-941F-8608AF8C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8389F-ADA5-4EF3-8008-49E23B76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BB765-8F74-4418-B04D-0F6AC6C6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985-E2B1-4881-8FDF-943B4DB7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BEDC-C8E6-4676-A74F-881EC525DCC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4604-657B-4721-A091-4A6C40B57EB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FFC9-D834-4E81-B098-9A2E8B5F56AA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E2E1-460E-4340-A352-CC8BEE77F80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307F-0969-4802-8D44-590B2D50956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6BB9-7E21-41A9-B1F8-44B51465931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F51C-392D-4620-BFB4-F78BA7701E5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fac.ksu.edu.sa/nawalshehri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sc120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lmasri and Navathe, “Fundamentals of Database Systems”, 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Edition, Addison-Wesley, 2011.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omas Connolly, Carolyn Begg, “Database Systems: A Practical Approach to Design, Implementation and Management”, 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Edition, Addison-Wesley, 2009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ndou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cture notes o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fac.ksu.edu.sa/nawalshehr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text boo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se topics will be covered during the course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ntroduction to Databases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atabase Environmen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ntity Relationship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nhanced Entity Relationship Modeling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e Relational Mod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ata Manipulation Languag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ata Definition Languag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Normaliza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s course requires the student to demonstrate the following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efine program-data independence, data models for database systems, database schema and database instanc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dentify Structure Query Language statements used in creation and manipulation of databas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dentify the modeling methodologies including conceptual(through Entity Relationship), logical, and physical  mode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evelop and evaluate a real database application using a database management syste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mprove teamwork management and communication skills.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457200" y="1774800"/>
          <a:ext cx="8229600" cy="1854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u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Qui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idte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inal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8T01:36:08Z</dcterms:created>
  <dc:creator>user</dc:creator>
  <dc:description/>
  <dc:language>en-US</dc:language>
  <cp:lastModifiedBy>Nawal AlShehri</cp:lastModifiedBy>
  <dcterms:modified xsi:type="dcterms:W3CDTF">2016-09-24T19:34:51Z</dcterms:modified>
  <cp:revision>7</cp:revision>
  <dc:subject/>
  <dc:title>Introduction to Database</dc:title>
</cp:coreProperties>
</file>