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E7E2-CB7C-4700-9987-A7AF2BCC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E7B1-6100-4978-BE8B-34F1AD98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660E-A120-484D-88A6-624F0326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CFB9-8D5C-4B74-B2CA-937AE4D3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535A-A9E3-4A18-B64C-173C4FA2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0AA5-EF7E-44D9-8BC6-988B4505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DC86-BD9B-4DB0-9062-E5F40BBC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55E0-97AB-421D-A70A-561C7501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457D-6BEE-426F-B575-9384EC25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2851-77CE-424D-9780-D7ADD92A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C279-E9EA-493E-A65A-BAD848CE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4062-A45A-4BE7-98D6-6C093B47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33BE-E3ED-4F0F-BB1E-0CF570EA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5CB3-6489-4B4F-B1F2-01700DB9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D5AB-5766-442B-8FF2-A4EF9C5F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039A-FDAA-4FED-9290-BEC8C3CB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DBDB-0D88-4D68-99DB-D9A5128C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A9C47-1998-4018-9067-FDD5323A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D7ADC-7DC7-4EE6-AECC-BFC702D1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A22C4-4C5F-4161-8FA1-1A1934E4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B5EC0-E757-40DD-A0E0-016E7D49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95C93-07BD-4ED1-B19D-479522A5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9092-B9F7-4620-9C04-8F0CFC47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A3066-1322-4249-8D58-5CE490FA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380EF-8DA0-4464-8FF1-4C68B72F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DDCC1-E45C-44A4-9DB1-6C5C1DAA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F6F79-4DF3-4C53-A3A8-70129F1F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35167-4192-42A0-ABB9-74CB018B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4737E-A64B-4007-8F70-D137DECB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D48F5-F824-4272-BACD-14E0AF11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2D707-2CAE-4325-A3C6-0725A2E1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20344-6C51-47B5-B8C5-2679C0A2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6AF45-E196-4594-8D7C-A48092D9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353A-2E4C-415A-99A5-EC43D6B4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AA36F-7F24-4F6A-8D2B-30B6AA5E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1D87A-BF59-4380-B1F6-66ED639D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8383D-A67D-49E4-A55B-CEB6E431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BE159-755C-411B-9220-0AC22BDE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4D233-91AB-42AC-8C33-46F2ABBC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0C1F0-6BE3-4C42-BA85-BEBC416A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9E15E-961E-4A8C-AF7F-871F6FFE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8B287-9AD0-4FFA-B795-11B4D33C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70475-A23C-434C-A5FC-490D6040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8E20D-211E-41E5-9884-5EF1D978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A254-852C-40DE-88E4-E78B6E3C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56945-F3F1-4C7F-94D1-57E142AA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73B32-88DF-4921-96B8-BA92D885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8BDE8-C482-4D43-9D35-EB20DCEC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E6695-E721-4B09-B2CB-F90F8138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6C143-674B-417F-819F-9CA26060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DBFEF-F996-4C5E-A9CD-B8C83584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D24FF-770A-4F69-AE5C-E2769A47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C75EE-5125-4B12-BAB9-6190C5E7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E3771-FFE2-4576-B518-72A49695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23920-6017-485E-9E4B-6D5B86E9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6112-D7A8-456D-9200-E028EA25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B8160-4555-45E9-A905-61D45222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4DFEB-7462-4BD7-80F6-6F35BB54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846AD-9287-4558-97CE-4AC28BE3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F061A-E14D-410C-824C-45AC2277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22E00-ECCA-44C4-BF41-81826431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95CD0-17CD-4A52-B4DA-92D2DD0B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DF910-6199-4A8C-A12A-9F9E2452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6019C-D986-440B-8ED2-7FB5492B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5E6B6-B281-4130-BDFF-1813E4E8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F9E59-9C6D-4CD5-BE65-BD733148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57A1-C4BD-4145-9C9C-3F4C16B4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4A91F-60F7-4F3F-A0F1-1F7AD160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E95CE-6872-44A1-B3FC-67442B32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6E4AD-BEC0-41C7-9DEA-F9089D7C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0BE75-DF0F-42F2-95C3-1AABC044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BC402-971B-4CF0-818D-0137957D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1FFA3-52F2-4B26-8A46-0ABC0416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59962-A3D4-47FD-9731-0E3CE902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85F2A-E97E-4220-98D6-2E7220EE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3C00C-F7FD-4BFA-BA35-428C30E6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D4DF6-9786-46D8-A47E-069D1BB8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8C07-3E0A-4D09-A809-2A28CE6C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FC29D-BB5E-4BEC-99FE-546D692F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3659B-9DA8-486B-AE48-C79FD59C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8053B-A7DA-4FB2-A8AC-E010CD8B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8F4AA-24EE-4E79-A784-CF2689B2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CFBEF-4A3C-470F-B0AF-41AEE450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F613-B5DD-459A-9FE2-87653F55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C7BC-08F5-4A96-80D1-10007A7C493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1DB4-0BA5-4419-BE80-D2C5BCA36361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1749-D6B8-475D-9558-13677300E7CA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4611-2B10-48B2-B428-5844AA2242C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127D-BAFB-41C6-9AC9-41BDACF374A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6BC4-0DAC-4726-BAEE-22BF7E33A94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9721-10EB-4475-BCC4-D3E0F1FE168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fac.ksu.edu.sa/nawalshehri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sc1203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lmasri and Navathe, “Fundamentals of Database Systems”, 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Edition, Addison-Wesley, 2011.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omas Connolly, Carolyn Begg, “Database Systems: A Practical Approach to Design, Implementation and Management”, 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Edition, Addison-Wesley, 2009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andou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cture notes on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http://fac.ksu.edu.sa/nawalshehri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text boo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ese topics will be covered during the course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Introduction to Databases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Database Environmen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ntity Relationship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nhanced Entity Relationship Modeling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e Relational Mod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Data Manipulation Languag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Data Definition Languag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Normalizatio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is course requires the student to demonstrate the following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Define program-data independence, data models for database systems, database schema and database instanc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dentify Structure Query Language statements used in creation and manipulation of databas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dentify the modeling methodologies including conceptual(through Entity Relationship), logical, and physical  model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Develop and evaluate a real database application using a database management system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mprove teamwork management and communication skills.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" name=""/>
          <p:cNvGraphicFramePr/>
          <p:nvPr/>
        </p:nvGraphicFramePr>
        <p:xfrm>
          <a:off x="457200" y="1774800"/>
          <a:ext cx="8229600" cy="1854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u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Quiz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ssign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idter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inal Ex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8T01:36:08Z</dcterms:created>
  <dc:creator>user</dc:creator>
  <dc:description/>
  <dc:language>en-US</dc:language>
  <cp:lastModifiedBy>Nawal AlShehri</cp:lastModifiedBy>
  <dcterms:modified xsi:type="dcterms:W3CDTF">2016-09-24T19:34:51Z</dcterms:modified>
  <cp:revision>7</cp:revision>
  <dc:subject/>
  <dc:title>Introduction to Database</dc:title>
</cp:coreProperties>
</file>