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6E08-482E-4109-8A07-56808B384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D1FA-844D-4BD6-930E-08CDBF365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8B462-0169-434A-9E80-BB6F690DB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3E2CF-FD92-4887-B4C5-9E7D7751D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DB2E4-8CC1-424B-A176-D0E0F18B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7E6AE-BF5A-4DE6-9DAB-DA40C60E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1E596-354E-4DFD-9D95-C6EC2369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5558E-3B3A-44C9-AE4D-0C595F45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DF282-2763-4A83-BC28-FB061294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918A6-A777-4BA5-AA8A-1C479976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78295-8B70-4B86-BFA3-45D7EED7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51E1-B3C6-4404-BC05-E5E00A3DF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B3222-7250-42D1-B3A6-FD47C47E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380AB-9A5A-4D42-A7B3-FA55EF64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06E37-E45C-469E-8671-6E54CE9F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FEC96-6258-4F24-8201-6E7B1615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16EAD-D26B-4CCE-82C6-11559016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EA9A-66CA-4297-9989-90E60462F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D3C8-EFF0-42CB-9D60-6AA63D6E4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7295-408B-450D-B8CA-0C5A50453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ADA6-EE8B-43A8-8E24-645A3E6E3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7CE5-6A3F-4520-8419-1C5DA4643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491E2-0947-49B1-AE94-C0A480660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AE99-C3BF-4566-8A5F-0C5A9117A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hyperlink" Target="http://www.oneonta.edu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06BE-1DBC-46A5-9A3B-909F5B369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84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284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284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284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284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284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9" name="logo2003" descr="Return to College at Oneonta Homep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2280" y="6248520"/>
            <a:ext cx="125748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35D1-CA96-4694-B5EB-D36A94E9E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strumental Methods: Intro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41240"/>
            <a:ext cx="8001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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  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ypes of Instrumental Methods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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  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undamental Components of an Instrument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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  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struments Measure Voltages and Currents!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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  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asics of Analytical Methods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eview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 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erminology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ome notes and figures in this course have been taken from Skoog, Holler and Neiman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inciples of Instrumental Analysis, 5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th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Edition, Saunders College Publishing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Detection Limit (DL, LOD, MDL)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Most widely disputed term in instrumental methods.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e minimum concentration of analyte that can be detected, based on the analytical signal.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DETECTED, not necessarily known with any great confidence!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LOD = [Mean Blank Signal] + 3 x Std. Dev. Blank Signal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In general, 3 is chosen as the multiplier because at + 3 STDEV, you are 99% confident you are not measuring signal from noise, background, etc.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Measurements at or near the limit of detection are not necessarily precise (high %RSD)! This is what instrument manufacturers will quote you, as measured under the most ideal, not regularly attainable, conditions!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TDEV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Tahoma"/>
              </a:rPr>
              <a:t>Blank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Tahoma"/>
              </a:rPr>
              <a:t>signal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is often replaced with the standard deviation for some very, very low (near the DL) sample you have prepared.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is signal is then used with the cal. curve to calculate a DL.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7859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Calculate the limit of detection for the determination of yttrium by the 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Arial"/>
              </a:rPr>
              <a:t>PINK METHOD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if the measurement of the blank 50 times yielded a mean signal of 1.00 and a standard deviation of 0.20 absorbance units.</a:t>
            </a: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Limit of Quantitation (LOQ)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SzPct val="14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nother somewhat disputed term.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4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e LOQ is generally considered the minimum concentration of analyte that can be “accurately” and “precisely” determined. Exact definitions vary, however..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4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You measure a blank AND a VERY low concentration sample that is near the detection limit) numerous times, and then use that data.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SzPct val="14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10 times is the typical number of replicates 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SzPct val="14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is signal is used in the calibration curve to calculate the MDL.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111320" y="3295800"/>
                <a:ext cx="66610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Q 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lank Signal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10 x STDE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Y LOW CON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AMP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Dynamic Range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Usually called the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Linear Dynamic Range,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is is the concentration range over which the calibration curve has a linear shape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You have probably seen an instrument exceed its linear dynamic range with the SPEC 2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Beer’s Law fails at increasing concentrations due to instrumental and sample solution factors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ample matrix, analyte and method dependent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You usually want to work with linear calibration curves if at all possible (much less complex than quadratic, exponential or polynomial fits)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etermination of Metals by AAS : 1-3 orders of magnitud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Determination of Metals by ICP-AES: 5-8 orders of magnitude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990720" y="763560"/>
          <a:ext cx="6781680" cy="50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3560"/>
                    <a:ext cx="678168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electivity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lso known as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discrimination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e ability to discern different, yet closely spaced analytical signals.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e spectrometer on the SPEC 20 can discriminate wavelengths of light that are about 20 nm apart (even if you can set wavelengths only 5 nm different)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he spectrometer on our Varian ICP can discriminate wavelengths of light that are 0.005 nm apart!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4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etter selectivity means you can be sure which signal is which when you have more than one analyte in the sample!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608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However, if all other conditions are equal, increasing selectivity will decrease the amount of signal you can measure (reduce the LOD)!</a:t>
            </a:r>
            <a:endParaRPr b="1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4435560" cy="5181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Bandwidth is closely related to selectivity in optical spectrometers. It is a measure of what range of light we allow to strike the detector at any given time.</a:t>
            </a:r>
            <a:endParaRPr b="1" lang="en-US" sz="1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EVERYTHING YOU DO IN THIS CLASS WILL BE A BATTLE!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BATTLE BETWEEN SIGNAL AND SELECTIVITY!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re is no way to maximize both. You have to choose some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happy medium,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where you get enough signal to detect the analyte, but can also be selective enough so that you are sure of what you are detecting.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80880" y="1665360"/>
                <a:ext cx="8541000" cy="27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 Selectivit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iscriminatio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Sign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tection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Selectivit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qualitatio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 Sign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quantitation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cceptable Selectivity &amp;</m:t>
                        </m:r>
                        <m:r>
                          <m:rPr>
                            <m:lit/>
                            <m:nor/>
                          </m:rPr>
                          <m:t xml:space="preserve"> Acceptable Signal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0600" y="2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700200"/>
            <a:ext cx="914400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Basic Instrument Components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284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ource: produces some form of energy or mass that is relevant to the measurement at hand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SzPct val="1284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ample Holder or “Cell”: contains the sample with your analyte of interest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SzPct val="1284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iscriminator: selects the desired signal from the source or the sampl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put Transducer: detects the signal from the sample, source or discriminator. AKA the detector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SzPct val="1284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cessor: manipulates the signal electronically or mechanically to produce some useful valu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SzPct val="1284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Readout: displays the signal in some useful form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8112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struments Measure 1 of 2 Things.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OLTAGE (V), volts, electrical potential across two electrodes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urrent (A), amperes, the flow of electrons across some point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 = IR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R= resistance in Ohms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84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EY DO NOT MEASURE ABSORBANCE, FREQUENCY, MASS, CONCENTRATION OR ANY OTHER CONVENIENT UNIT. THEY MEASURE CURRENTS OR VOLTAGES, WHICH ARE THEN CONVERTED TO THESE CONVENIENCE UNITS!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80880"/>
            <a:ext cx="822960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asic Questions Regarding A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nalytical &amp; Instrumental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efining the “instrumental analysis” Proble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What accuracy and precision are requir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ow much sample do I have available, and how much money do we    have available for the analysi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What concentration is the analyte present at and can we pre-concentrate or dilute the samp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What interferences might be present and can we eliminate or mask them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What are the properties of the sample matrix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ow much time do I have (time = money)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76320"/>
            <a:ext cx="8763120" cy="66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Some Basic Definitions (Revie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sample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is collected or tak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n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aliquot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is usually selected from the larger, bulk sample for preservation, preparation and/or analys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technique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implies the use of a specific type of instrument for analys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method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is the procedure followed when utilizing an instrumental techn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protocol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is a regulatory or “officially” recognized method that must be adhered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GLP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stands for Good Laboratory Pract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GMP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stands for Good Manufacturing Pract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elevant Analytical Parameters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84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ese are new. You should be familiar with accuracy, precision, average, standard deviation, %relative standard deviation, etc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84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nalytical Sensitivity: The slope of the calibration curve (IUPAC Definition)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84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84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84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us, other factors being equal, the method with the steepest calibration curve will be more “sensitive”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284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Better ability to discriminate between numerically close concentrations.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3352680"/>
                <a:ext cx="73296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ytical Sensitiv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lope of calibration curv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tandard deviation of the measureme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852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442800"/>
            <a:ext cx="7086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5:20:35Z</dcterms:created>
  <dc:creator>John Schaumloffel</dc:creator>
  <dc:description/>
  <dc:language>en-US</dc:language>
  <cp:lastModifiedBy>Office 2004 Test Drive User</cp:lastModifiedBy>
  <cp:lastPrinted>2005-01-24T13:35:22Z</cp:lastPrinted>
  <dcterms:modified xsi:type="dcterms:W3CDTF">2007-01-15T19:07:24Z</dcterms:modified>
  <cp:revision>22</cp:revision>
  <dc:subject/>
  <dc:title>Instrumental Methods: 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