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19F5-2004-4E39-AE83-369778455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42C5-3139-4157-985A-935E721D6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88CA-4312-472A-8BAA-A47FE36DB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324A-C0CA-4D1A-B31E-E04143C9D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EF048-238D-45A0-9C32-44F6121B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CB27D-AB80-4AD9-A5C8-4D97AB19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9C780-CE1F-41EE-A14F-B08A83A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73B4A-3857-4D10-B0EF-3E7BECAA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B5724-C5E8-472C-978C-43B5A449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53103-2B36-4F9B-A3FF-01E47F98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8E16B-69F5-4D3F-A8E1-851D342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6421-3BB6-416C-90DE-A81EE7901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AB375-3E60-496A-B187-C1761A34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2B369-3B58-44D2-9755-FE991C6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3318-7F69-466A-80CE-49249BA3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5115C-0BCE-4611-A918-B0BBDEFA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979F1-A4D9-4943-86F4-9B8435FC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604B-7891-4879-B1E9-C391F1B80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7A0B-19BD-4983-8B3A-F6B71EAFE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3348-7D17-44E1-B18A-BCDEC2560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EE0B-3430-4D46-8D33-4BDA8E10E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362D-751A-462D-942E-7CE8C43B1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A756-0FE7-4475-A42A-F9FD47279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6707-3654-4AF6-BAF8-E7A517754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http://www.oneonta.edu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26D0-6F42-4982-B08C-59229FF8E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284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284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" name="logo2003" descr="Return to College at Oneonta Homep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248520"/>
            <a:ext cx="12574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DE8A-A9B6-4DCB-8468-1EE1540C4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strumental Methods: Intro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41240"/>
            <a:ext cx="8001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 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ypes of Instrumental Method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 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damental Components of an Instrumen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 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struments Measure Voltages and Currents!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 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asics of Analytical Method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eview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erminology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ome notes and figures in this course have been taken from Skoog, Holler and Neiman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inciples of Instrumental Analysis, 5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th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Edition, Saunders College Publishing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etection Limit (DL, LOD, MDL)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Most widely disputed term in instrumental methods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minimum concentration of analyte that can be detected, based on the analytical signal.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ETECTED, not necessarily known with any great confidence!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LOD = [Mean Blank Signal] + 3 x Std. Dev. Blank Signal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In general, 3 is chosen as the multiplier because at + 3 STDEV, you are 99% confident you are not measuring signal from noise, background, etc.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easurements at or near the limit of detection are not necessarily precise (high %RSD)! This is what instrument manufacturers will quote you, as measured under the most ideal, not regularly attainable, conditions!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TDEV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ahoma"/>
              </a:rPr>
              <a:t>Blank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ahoma"/>
              </a:rPr>
              <a:t>signal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is often replaced with the standard deviation for some very, very low (near the DL) sample you have prepared.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is signal is then used with the cal. curve to calculate a DL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7859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Calculate the limit of detection for the determination of yttrium by the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Arial"/>
              </a:rPr>
              <a:t>PINK METHO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if the measurement of the blank 50 times yielded a mean signal of 1.00 and a standard deviation of 0.20 absorbance units.</a:t>
            </a: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imit of Quantitation (LOQ)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SzPct val="14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nother somewhat disputed term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4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LOQ is generally considered the minimum concentration of analyte that can be “accurately” and “precisely” determined. Exact definitions vary, however.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4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You measure a blank AND a VERY low concentration sample that is near the detection limit) numerous times, and then use that data.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SzPct val="14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10 times is the typical number of replicates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4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is signal is used in the calibration curve to calculate the MDL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11320" y="3295800"/>
                <a:ext cx="66610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Q 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lank Signal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10 x STDE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Y LOW CON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AMP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ynamic Range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Usually called the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Linear Dynamic Range,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is is the concentration range over which the calibration curve has a linear shape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You have probably seen an instrument exceed its linear dynamic range with the SPEC 2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er’s Law fails at increasing concentrations due to instrumental and sample solution factor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ample matrix, analyte and method dependent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You usually want to work with linear calibration curves if at all possible (much less complex than quadratic, exponential or polynomial fits)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etermination of Metals by AAS : 1-3 orders of magnitud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etermination of Metals by ICP-AES: 5-8 orders of magnitude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990720" y="763560"/>
          <a:ext cx="6781680" cy="50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560"/>
                    <a:ext cx="678168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lectivity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lso known as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discrimination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ability to discern different, yet closely spaced analytical signals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spectrometer on the SPEC 20 can discriminate wavelengths of light that are about 20 nm apart (even if you can set wavelengths only 5 nm different)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spectrometer on our Varian ICP can discriminate wavelengths of light that are 0.005 nm apart!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etter selectivity means you can be sure which signal is which when you have more than one analyte in the sample!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608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However, if all other conditions are equal, increasing selectivity will decrease the amount of signal you can measure (reduce the LOD)!</a:t>
            </a:r>
            <a:endParaRPr b="1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4435560" cy="5181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Bandwidth is closely related to selectivity in optical spectrometers. It is a measure of what range of light we allow to strike the detector at any given time.</a:t>
            </a:r>
            <a:endParaRPr b="1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VERYTHING YOU DO IN THIS CLASS WILL BE A BATTLE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BATTLE BETWEEN SIGNAL AND SELECTIVITY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re is no way to maximize both. You have to choose some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happy medium,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where you get enough signal to detect the analyte, but can also be selective enough so that you are sure of what you are detecting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0880" y="1665360"/>
                <a:ext cx="8541000" cy="27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 Selectivit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scriminatio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Sig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tection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Selectivit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qualitatio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 Sig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quantitation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cceptable Selectivity &amp;</m:t>
                        </m:r>
                        <m:r>
                          <m:rPr>
                            <m:lit/>
                            <m:nor/>
                          </m:rPr>
                          <m:t xml:space="preserve"> Acceptable Signal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0600" y="2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00200"/>
            <a:ext cx="91440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asic Instrument Component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ource: produces some form of energy or mass that is relevant to the measurement at han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ample Holder or “Cell”: contains the sample with your analyte of interes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iscriminator: selects the desired signal from the source or the sampl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put Transducer: detects the signal from the sample, source or discriminator. AKA the detector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cessor: manipulates the signal electronically or mechanically to produce some useful valu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eadout: displays the signal in some useful form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8112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struments Measure 1 of 2 Things.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OLTAGE (V), volts, electrical potential across two electrode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urrent (A), amperes, the flow of electrons across some point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 = IR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= resistance in Ohm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Y DO NOT MEASURE ABSORBANCE, FREQUENCY, MASS, CONCENTRATION OR ANY OTHER CONVENIENT UNIT. THEY MEASURE CURRENTS OR VOLTAGES, WHICH ARE THEN CONVERTED TO THESE CONVENIENCE UNITS!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82296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asic Questions Regarding 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alytical &amp; Instrumental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efining the “instrumental analysis” Proble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hat accuracy and precision are requir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ow much sample do I have available, and how much money do we    have available for the analysi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hat concentration is the analyte present at and can we pre-concentrate or dilute the samp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hat interferences might be present and can we eliminate or mask the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hat are the properties of the sample matrix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ow much time do I have (time = money)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320"/>
            <a:ext cx="8763120" cy="66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Some Basic Definitions (Revie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ample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s collected or tak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liquot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s usually selected from the larger, bulk sample for preservation, preparation and/or analy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echnique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mplies the use of a specific type of instrument for analy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method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s the procedure followed when utilizing an instrumental techn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rotocol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s a regulatory or “officially” recognized method that must be adhered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GLP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stands for Good Laboratory Pract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GMP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stands for Good Manufacturing Prac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levant Analytical Parameter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se are new. You should be familiar with accuracy, precision, average, standard deviation, %relative standard deviation, etc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nalytical Sensitivity: The slope of the calibration curve (IUPAC Definition)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us, other factors being equal, the method with the steepest calibration curve will be more “sensitive”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84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tter ability to discriminate between numerically close concentration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3352680"/>
                <a:ext cx="7329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tical Sensitiv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ope of calibration curv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andard deviation of the measureme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852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442800"/>
            <a:ext cx="7086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20:35Z</dcterms:created>
  <dc:creator>John Schaumloffel</dc:creator>
  <dc:description/>
  <dc:language>en-US</dc:language>
  <cp:lastModifiedBy>Office 2004 Test Drive User</cp:lastModifiedBy>
  <cp:lastPrinted>2005-01-24T13:35:22Z</cp:lastPrinted>
  <dcterms:modified xsi:type="dcterms:W3CDTF">2007-01-15T19:07:24Z</dcterms:modified>
  <cp:revision>22</cp:revision>
  <dc:subject/>
  <dc:title>Instrumental Methods: 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