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.png" ContentType="image/png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C19-7555-4D37-AABC-5772E76C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95D-F6D8-4FFE-B6F3-41F79CDD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270-9E1D-4FC2-BC2E-1CFCB3FF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8CF-0599-40BE-947C-ED26A173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0658-95C9-444A-9120-559AB9F5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7550-D703-4F37-85DB-22C1B48A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02AF-8D43-43BF-9010-65807039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243D-4D7D-496A-94B2-4C28E037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2864-D1DA-4EA5-A287-6A56AD08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EB63-FDD9-4DFF-A2F2-0953F531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EE7B-06D2-49CF-BACD-6ABE6DB3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F2F-9F26-4FCE-AAC6-96B54BD0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A5A2-5B13-44AC-9EF6-2FFA0526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FBCC-8356-4B01-9C62-1F9878EB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DAD2-D8EA-4E82-B6DD-FF0B8A98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2704-895B-4293-8BD5-39D5631F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3547-B107-449E-A667-72873815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006-D70A-4F6F-9889-DDFF5534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F1F-2AF9-448D-B333-C5D67882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F7B-FE0A-4501-A52B-80DE740F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143-7609-44D7-BB03-90BC5F86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F70-BBEB-415D-9E1B-DE0556EF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0AC-2B90-481D-B3A5-4F542903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B002-27FB-48F4-BE31-3291760A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C9BB-E816-449F-B4B2-B1DD6D1CE7E9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5D51-0EB4-43BE-8DB2-37A6C3A92DCC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Introduction to Matlab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z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trix Inde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1977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matrix indices begin from 1 (not 0 (as in C)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matrix indices  must be positive 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367000" cy="17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2" name=""/>
          <p:cNvGraphicFramePr/>
          <p:nvPr/>
        </p:nvGraphicFramePr>
        <p:xfrm>
          <a:off x="4267080" y="2514600"/>
          <a:ext cx="1087560" cy="15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2514600"/>
                    <a:ext cx="1087560" cy="1512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562720" y="2514600"/>
          <a:ext cx="1873080" cy="155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2514600"/>
                    <a:ext cx="1873080" cy="155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691400" y="2514600"/>
          <a:ext cx="1300320" cy="150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1400" y="2514600"/>
                    <a:ext cx="1300320" cy="150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0672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Giv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8120" y="2514600"/>
          <a:ext cx="973080" cy="1512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2514600"/>
                    <a:ext cx="973080" cy="1512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" y="4346640"/>
            <a:ext cx="80773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-2), A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Error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??? Subscript indices must either be real positive integers or logic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Error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??? Index exceeds matrix dimen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atenation of Matr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[1 2], y = [4 5], z=[ 0 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= [ x 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2   4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= [x ; 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5840" y="5105520"/>
            <a:ext cx="7764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[x y ;z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Err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??? Error using ==&gt; vertcat CAT arguments dimensions are not consis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rators (arithmetic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x conjugate trans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1828800"/>
            <a:ext cx="365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trices Oper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4292640"/>
          <a:ext cx="172872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292640"/>
                    <a:ext cx="1728720" cy="172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590920" y="4191120"/>
          <a:ext cx="1836720" cy="19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191120"/>
                    <a:ext cx="1836720" cy="1903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724280" y="4267080"/>
          <a:ext cx="1695600" cy="18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267080"/>
                    <a:ext cx="1695600" cy="180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781680" y="4267080"/>
          <a:ext cx="1722600" cy="180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4267080"/>
                    <a:ext cx="1722600" cy="180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635280" y="1844640"/>
          <a:ext cx="1873440" cy="15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5280" y="1844640"/>
                    <a:ext cx="1873440" cy="1579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796000" y="1844640"/>
          <a:ext cx="2016000" cy="155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1844640"/>
                    <a:ext cx="2016000" cy="1558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71640" y="220500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Given A and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371628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3716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71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16720" y="371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rans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rators (Element by Element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.*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-by-element multi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./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-by-element di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.^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-by-element po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1828800"/>
            <a:ext cx="365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use of “.” – “Element” Ope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422600"/>
            <a:ext cx="82594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K= x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Eror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??? Error using ==&gt; mpower  Matrix must be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B=x*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Eror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??? Error using ==&gt; mtimes Inner matrix dimensions must ag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143000"/>
            <a:ext cx="28195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= [1 2 3; 5 1 4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2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    2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    1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    2 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3143160"/>
            <a:ext cx="1523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 = A(3 ,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=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 4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2895480"/>
            <a:ext cx="13716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 = x .*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 8 -3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2895480"/>
            <a:ext cx="1828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= x . /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=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33   0.5   -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2895480"/>
            <a:ext cx="1676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= x .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=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   4   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6240" y="3143160"/>
            <a:ext cx="1392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= A(1,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  2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352680"/>
            <a:ext cx="45720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666880"/>
            <a:ext cx="4860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asic Task: Plot the function sin(x) between 0</a:t>
            </a: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≤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x</a:t>
            </a: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≤4</a:t>
            </a:r>
            <a:r>
              <a:rPr b="0" lang="el-GR" sz="3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π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762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n x-array of 100 samples between 0 and 4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sin(.) of the x-ar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lot the y-ar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289548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x=linspace(0,4*pi,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434340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=si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548640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plot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330192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lot the function e</a:t>
            </a:r>
            <a:r>
              <a:rPr b="0" lang="en-US" sz="3800" spc="-1" strike="noStrike" baseline="30000">
                <a:solidFill>
                  <a:srgbClr val="006633"/>
                </a:solidFill>
                <a:latin typeface="Garamond"/>
              </a:rPr>
              <a:t>-x/3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in(x) between 0</a:t>
            </a: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≤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x</a:t>
            </a: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≤4</a:t>
            </a:r>
            <a:r>
              <a:rPr b="0" lang="el-GR" sz="3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π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n x-array of 100 samples between 0 and 4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sin(.) of the x-ar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x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x-ar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y the arrays y and y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51460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x=linspace(0,4*pi,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65760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=si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472428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1=exp(-x/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5867280"/>
            <a:ext cx="3352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2=y*y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lot the function e</a:t>
            </a:r>
            <a:r>
              <a:rPr b="0" lang="en-US" sz="3800" spc="-1" strike="noStrike" baseline="30000">
                <a:solidFill>
                  <a:srgbClr val="006633"/>
                </a:solidFill>
                <a:latin typeface="Garamond"/>
              </a:rPr>
              <a:t>-x/3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in(x) between 0</a:t>
            </a: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≤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x</a:t>
            </a: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≤4</a:t>
            </a:r>
            <a:r>
              <a:rPr b="0" lang="el-GR" sz="3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π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y the arrays y and y1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orrec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lot the y2-ar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2133720"/>
            <a:ext cx="335304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2=y.*y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33530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plot(y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724280" y="3276720"/>
            <a:ext cx="441972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splay Fac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ot(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m(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981080"/>
            <a:ext cx="3352680" cy="160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x=linspace(0,4*pi,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=si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plot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plot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4648320"/>
            <a:ext cx="3352680" cy="1066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stem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stem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4024440" cy="2744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40388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507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b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bles, array, matrix, index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(Arithmetic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, log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of M-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User Defined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splay Fac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le(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label(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label(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2209680"/>
            <a:ext cx="381024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title(‘This is the sinus function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276720"/>
            <a:ext cx="381024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xlabel(‘x (secs)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4648320"/>
            <a:ext cx="3809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ylabel(‘sin(x)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5576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rators (relational, logical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= Equal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~= Not equal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 Strictly sma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Strictly gre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= Smaller than or equal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= Greater than equal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amp;  And oper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 Or oper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low Contr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 Structur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If Statement Synta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(Condition_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lab Comm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seif (Condition_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lab Comm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seif (Condition_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lab Comm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lab Comm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952880" y="1219320"/>
            <a:ext cx="4191120" cy="4876560"/>
            <a:chOff x="4952880" y="1219320"/>
            <a:chExt cx="4191120" cy="4876560"/>
          </a:xfrm>
        </p:grpSpPr>
        <p:sp>
          <p:nvSpPr>
            <p:cNvPr id="225" name=""/>
            <p:cNvSpPr/>
            <p:nvPr/>
          </p:nvSpPr>
          <p:spPr>
            <a:xfrm>
              <a:off x="4952880" y="1219320"/>
              <a:ext cx="4191120" cy="487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ahoma"/>
                </a:rPr>
                <a:t>Some Dummy 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if ((a&gt;3) &amp; (b==5)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Some Matlab Commands;</a:t>
              </a: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if (a&lt;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elseif (b~=5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if (a&lt;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else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7b7df"/>
                  </a:solidFill>
                  <a:latin typeface="Tahoma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52880" y="289548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52880" y="457200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 Structur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For loop synta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i=Index_Ar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lab Comma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24280" y="1143000"/>
            <a:ext cx="4191120" cy="5029200"/>
            <a:chOff x="4724280" y="1143000"/>
            <a:chExt cx="4191120" cy="5029200"/>
          </a:xfrm>
        </p:grpSpPr>
        <p:sp>
          <p:nvSpPr>
            <p:cNvPr id="231" name=""/>
            <p:cNvSpPr/>
            <p:nvPr/>
          </p:nvSpPr>
          <p:spPr>
            <a:xfrm>
              <a:off x="4724280" y="1143000"/>
              <a:ext cx="4191120" cy="502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me Dummy 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for i=1: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ahoma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for j=1:3: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Tahoma"/>
                </a:rPr>
                <a:t>for m=13:-0.2:-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ffff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Tahoma"/>
                </a:rPr>
                <a:t>e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or k=[0.1 0.3 -13 12 7 -9.3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ome Matlab Command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52880" y="281952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2880" y="396252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52880" y="510552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 Structu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While Loop Synta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(condi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lab Comma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514600"/>
            <a:ext cx="419076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ummy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while  ((a&gt;3) &amp; (b==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Some Matlab Commands;</a:t>
            </a: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 of M-F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743200" y="1066680"/>
          <a:ext cx="2314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066680"/>
                    <a:ext cx="2314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04920" y="137160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lick to create a new M-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981080" y="167616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53053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xtension “.m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text file containing script or function or program to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029200" y="2209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429000" y="2590920"/>
            <a:ext cx="533520" cy="1214280"/>
          </a:xfrm>
          <a:custGeom>
            <a:avLst/>
            <a:gdLst>
              <a:gd name="textAreaLeft" fmla="*/ 71280 w 533520"/>
              <a:gd name="textAreaRight" fmla="*/ 462240 w 5335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 of M-F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90720" y="1380960"/>
            <a:ext cx="7189560" cy="5477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80480" y="3581280"/>
            <a:ext cx="2602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include “;” a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each statem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will not be sh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2971800"/>
            <a:ext cx="35053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438280"/>
            <a:ext cx="27432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200040" y="9907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80520" y="70020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fil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nem4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riting User Defined Function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are m-files which can be executed by specifying some inputs and supply some desired outpu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telling the Matlab that an m-file is actually a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You should write this command at the beginning of the m-file and you should save the m-file with a file name same as the functio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3200400"/>
            <a:ext cx="533412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out1=functionname(in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out1=functionname(in1,in2,in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[out1,out2]=functionname(in1,in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riting User Defined Function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function :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ut=squarer (A, 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takes the square of the input matrix if the input indicator is equal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akes the element by element square of the input matrix if the input indicator is equal t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3429000"/>
            <a:ext cx="6172200" cy="3247920"/>
            <a:chOff x="2057400" y="3429000"/>
            <a:chExt cx="6172200" cy="3247920"/>
          </a:xfrm>
        </p:grpSpPr>
        <p:sp>
          <p:nvSpPr>
            <p:cNvPr id="259" name=""/>
            <p:cNvSpPr/>
            <p:nvPr/>
          </p:nvSpPr>
          <p:spPr>
            <a:xfrm>
              <a:off x="6477120" y="3733920"/>
              <a:ext cx="175248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ame 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2057400" y="3429000"/>
              <a:ext cx="4162320" cy="32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 flipH="1" flipV="1">
              <a:off x="4114800" y="3581280"/>
              <a:ext cx="281952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38120" y="4343400"/>
              <a:ext cx="30481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Matlab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lab is basically a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high level langu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ich has many specialized toolboxes for making things easier for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hig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00400" y="2743200"/>
            <a:ext cx="2286000" cy="3429000"/>
            <a:chOff x="3200400" y="2743200"/>
            <a:chExt cx="2286000" cy="3429000"/>
          </a:xfrm>
        </p:grpSpPr>
        <p:sp>
          <p:nvSpPr>
            <p:cNvPr id="93" name=""/>
            <p:cNvSpPr/>
            <p:nvPr/>
          </p:nvSpPr>
          <p:spPr>
            <a:xfrm>
              <a:off x="3200400" y="5334120"/>
              <a:ext cx="2286000" cy="838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ssembl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43400" y="4876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00400" y="4038480"/>
              <a:ext cx="2286000" cy="83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igh Lev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nguages such 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, Pascal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343400" y="3581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00400" y="2743200"/>
              <a:ext cx="2286000" cy="838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Matl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riting User Defined Function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function which takes an input array and returns the sum and product of its elements 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sumprod(.) can be called from command window or an m-fil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33720" y="1504800"/>
            <a:ext cx="4190760" cy="2305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2057400" y="4400640"/>
            <a:ext cx="4638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tes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” is the neglect sign for Matlab (equaivalent of “//” in C). Anything after it on the same line is neglected by Matlab compi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 slowing down the execution is done deliberately for observation purposes. You can use the command “pause” for this purpo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4724280"/>
            <a:ext cx="41148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use %wait until an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use(3) %wait 3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ful Comman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wo commands used most by Matla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s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3124080"/>
            <a:ext cx="32767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&gt;help function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4419720"/>
            <a:ext cx="327672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&gt;lookfor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3300"/>
                </a:solidFill>
                <a:latin typeface="Garamond"/>
              </a:rPr>
              <a:t>Thank You…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are we interested i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lab is too broad for our purposes in this cour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eatures we are going to require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04800" y="2743200"/>
            <a:ext cx="7548480" cy="3429000"/>
            <a:chOff x="604800" y="2743200"/>
            <a:chExt cx="7548480" cy="3429000"/>
          </a:xfrm>
        </p:grpSpPr>
        <p:sp>
          <p:nvSpPr>
            <p:cNvPr id="101" name=""/>
            <p:cNvSpPr/>
            <p:nvPr/>
          </p:nvSpPr>
          <p:spPr>
            <a:xfrm>
              <a:off x="4191120" y="2743200"/>
              <a:ext cx="1828800" cy="609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Matl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05520" y="3352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5680" y="3886200"/>
              <a:ext cx="1295640" cy="53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omm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124080" y="35812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2408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14600" y="388620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-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480060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24080" y="44193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105160" y="3581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77120" y="3886200"/>
              <a:ext cx="1295280" cy="5331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t-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660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62520" y="4724280"/>
              <a:ext cx="2394000" cy="11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288" y="2160"/>
                  </a:moveTo>
                  <a:lnTo>
                    <a:pt x="23305" y="2160"/>
                  </a:lnTo>
                  <a:lnTo>
                    <a:pt x="23305" y="-4410"/>
                  </a:lnTo>
                  <a:lnTo>
                    <a:pt x="10743" y="-588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ommand execution like DOS command 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04800" y="3136680"/>
              <a:ext cx="1755720" cy="966960"/>
            </a:xfrm>
            <a:prstGeom prst="borderCallout1">
              <a:avLst>
                <a:gd name="adj1" fmla="val 22908"/>
                <a:gd name="adj2" fmla="val -1703"/>
                <a:gd name="adj3" fmla="val 1406"/>
                <a:gd name="adj4" fmla="val -17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ries of Matlab comm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5137200"/>
              <a:ext cx="1676160" cy="1035000"/>
            </a:xfrm>
            <a:prstGeom prst="borderCallout1">
              <a:avLst>
                <a:gd name="adj1" fmla="val 22336"/>
                <a:gd name="adj2" fmla="val -1590"/>
                <a:gd name="adj3" fmla="val 1473"/>
                <a:gd name="adj4" fmla="val -159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p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86600" y="4768560"/>
              <a:ext cx="1066680" cy="110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543" y="2234"/>
                  </a:moveTo>
                  <a:lnTo>
                    <a:pt x="-1543" y="2234"/>
                  </a:lnTo>
                  <a:lnTo>
                    <a:pt x="-1543" y="-2607"/>
                  </a:lnTo>
                  <a:lnTo>
                    <a:pt x="1543" y="-7448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ata storage/ lo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tlab Scre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8120" y="1444680"/>
            <a:ext cx="6019560" cy="434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76320" y="1371600"/>
            <a:ext cx="556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ommand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urrent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folders and m-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Work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program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click on a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ee it in the Array E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ommand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past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ve a whole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di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133720" y="457164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3276720"/>
            <a:ext cx="25146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2438280"/>
            <a:ext cx="17528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1523880"/>
            <a:ext cx="365760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ariab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types. i.e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are created with double precision unless specified and they are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se statements, the variables are 1x1 matrices with double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19320" y="1905120"/>
            <a:ext cx="1523880" cy="1218960"/>
            <a:chOff x="1219320" y="1905120"/>
            <a:chExt cx="1523880" cy="1218960"/>
          </a:xfrm>
        </p:grpSpPr>
        <p:sp>
          <p:nvSpPr>
            <p:cNvPr id="126" name=""/>
            <p:cNvSpPr/>
            <p:nvPr/>
          </p:nvSpPr>
          <p:spPr>
            <a:xfrm>
              <a:off x="1371600" y="2057400"/>
              <a:ext cx="1219320" cy="91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t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ouble b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loat c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1905120"/>
              <a:ext cx="15238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295280" y="1905120"/>
              <a:ext cx="14479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371600" y="4038480"/>
            <a:ext cx="121932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x=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&gt;x1=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ray, Matri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vecto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[1 2 5 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1   2   5  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matri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x = [1 2 3; 5 1 4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3 2 -1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1     2    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5     1     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3     2    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x’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y =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ng Array, Matrix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t</a:t>
            </a:r>
            <a:r>
              <a:rPr b="0" lang="en-US" sz="1900" spc="-1" strike="noStrike">
                <a:solidFill>
                  <a:srgbClr val="ff3300"/>
                </a:solidFill>
                <a:latin typeface="Courier New"/>
              </a:rPr>
              <a:t> =1:10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1   2   3   4  5  6   7  8   9   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3300"/>
                </a:solidFill>
                <a:latin typeface="Courier New"/>
              </a:rPr>
              <a:t>k</a:t>
            </a:r>
            <a:r>
              <a:rPr b="0" lang="en-US" sz="1900" spc="-1" strike="noStrike">
                <a:solidFill>
                  <a:srgbClr val="ff3300"/>
                </a:solidFill>
                <a:latin typeface="Courier New"/>
              </a:rPr>
              <a:t> =2:-0.5:-1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2  1.5  1  0.5  0  -0.5  -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3300"/>
                </a:solidFill>
                <a:latin typeface="Courier New"/>
              </a:rPr>
              <a:t>B</a:t>
            </a:r>
            <a:r>
              <a:rPr b="0" lang="en-GB" sz="1900" spc="-1" strike="noStrike">
                <a:solidFill>
                  <a:srgbClr val="ff3300"/>
                </a:solidFill>
                <a:latin typeface="Courier New"/>
              </a:rPr>
              <a:t> = [1:4; 5:8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1     2     3    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5     6     7    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ting Vectors from func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s(M,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xN matrix of z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s(M,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xN matrix of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(M,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xN matrix of uniform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random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s on (0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7440" y="129492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x = zeros(1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0     0    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nes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1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x = rand(1,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0.9501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0.2311 0.606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5909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41911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15:00:10Z</dcterms:created>
  <dc:creator>Umut Orguner</dc:creator>
  <dc:description/>
  <dc:language>en-US</dc:language>
  <cp:lastModifiedBy>spectrum</cp:lastModifiedBy>
  <dcterms:modified xsi:type="dcterms:W3CDTF">2007-02-27T23:01:43Z</dcterms:modified>
  <cp:revision>155</cp:revision>
  <dc:subject/>
  <dc:title>Introduction to MaTLAB</dc:title>
</cp:coreProperties>
</file>