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892-FBF2-40BC-BE81-7DFA6150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349-8ED5-4ABE-9B6A-7843225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241-1A2C-4B1E-86E7-AC17B4C9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F53-FE19-4094-A967-A855E1B1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D84F-55FF-462F-9D7B-C812F5D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8ED9-21E6-4230-AAA9-BE722E4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41AF-8D67-4870-BCE4-A7EEFE0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D78-6F41-4741-AC39-79C97B9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F96C-0A9D-4E5D-A291-F3065B6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E24-842E-4AB1-8574-5ECD459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256B-0DD5-4839-88D6-1A9B3C1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CB9-16C8-4EBB-948D-B9C4B029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EE55-0EE3-47AD-B957-CF41A48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539-DBF7-46D9-A159-502FD02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D93-D1B6-4B76-98CE-0A7B644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75E3-374F-4A4C-8375-04D2832C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4E4-AF42-4C9D-9E14-7F5D7C67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852-D4AA-44EC-8E53-13AF6FC1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C64-31BC-4DFA-8AD0-8974E237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E9D-46E9-4E48-9A5B-E48A930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A47-2B7E-46E3-AE5E-277C1DA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A0F-2F69-41FF-A547-195C688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A82-97F7-437E-B2DB-49B8A10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4CE-58A2-4A90-87B1-F6E72941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1A4-4993-48A4-A484-227CAB95503E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C6C-12F4-44FC-B032-F212CE29D630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ntroduction to Matlab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z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rix Ind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197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atrix indices begin from 1 (not 0 (as in C)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atrix indices  must be positive 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367000" cy="17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2" name=""/>
          <p:cNvGraphicFramePr/>
          <p:nvPr/>
        </p:nvGraphicFramePr>
        <p:xfrm>
          <a:off x="4267080" y="2514600"/>
          <a:ext cx="108756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514600"/>
                    <a:ext cx="1087560" cy="151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562720" y="2514600"/>
          <a:ext cx="1873080" cy="155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2514600"/>
                    <a:ext cx="1873080" cy="155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691400" y="2514600"/>
          <a:ext cx="1300320" cy="150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1400" y="2514600"/>
                    <a:ext cx="1300320" cy="15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672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Gi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8120" y="2514600"/>
          <a:ext cx="973080" cy="151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514600"/>
                    <a:ext cx="973080" cy="151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4346640"/>
            <a:ext cx="80773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-2), A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Subscript indices must either be real positive integers or logic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Index exceeds matrix dim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atenation of Matr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[1 2], y = [4 5], z=[ 0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[ x 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2   4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[x ; 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5840" y="5105520"/>
            <a:ext cx="7764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[x y ;z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vertcat CAT arguments dimensions are not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arithmeti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conjugate trans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rices Op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4292640"/>
          <a:ext cx="17287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1728720" cy="172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90920" y="4191120"/>
          <a:ext cx="1836720" cy="19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191120"/>
                    <a:ext cx="1836720" cy="1903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724280" y="4267080"/>
          <a:ext cx="1695600" cy="18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267080"/>
                    <a:ext cx="1695600" cy="180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81680" y="4267080"/>
          <a:ext cx="1722600" cy="18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4267080"/>
                    <a:ext cx="1722600" cy="180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635280" y="1844640"/>
          <a:ext cx="1873440" cy="15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1844640"/>
                    <a:ext cx="1873440" cy="1579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796000" y="1844640"/>
          <a:ext cx="2016000" cy="155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1844640"/>
                    <a:ext cx="2016000" cy="155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71640" y="220500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Given A an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71628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716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rans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Element by Element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*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multi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/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di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^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use of “.” – “Element”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422600"/>
            <a:ext cx="82594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K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or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mpower  Matrix must be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B=x*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or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mtimes Inner matrix dimensions must ag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143000"/>
            <a:ext cx="28195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 [1 2 3; 5 1 4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2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  2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    1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   2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143160"/>
            <a:ext cx="1523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 = A(3 ,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=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4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895480"/>
            <a:ext cx="1371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= x .*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8 -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895480"/>
            <a:ext cx="1828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= x . /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3   0.5   -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2895480"/>
            <a:ext cx="1676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x .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 4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6240" y="3143160"/>
            <a:ext cx="139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= A(1,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2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35268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666880"/>
            <a:ext cx="4860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asic Task: Plot the function 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762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x-array of 100 samples between 0 and 4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sin(.)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lot the y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89548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3434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54864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3019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lot the function e</a:t>
            </a:r>
            <a:r>
              <a:rPr b="0" lang="en-US" sz="3800" spc="-1" strike="noStrike" baseline="30000">
                <a:solidFill>
                  <a:srgbClr val="006633"/>
                </a:solidFill>
                <a:latin typeface="Garamond"/>
              </a:rPr>
              <a:t>-x/3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x-array of 100 samples between 0 and 4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sin(.)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x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y the arrays y and y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5146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6576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72428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1=exp(-x/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867280"/>
            <a:ext cx="3352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2=y*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lot the function e</a:t>
            </a:r>
            <a:r>
              <a:rPr b="0" lang="en-US" sz="3800" spc="-1" strike="noStrike" baseline="30000">
                <a:solidFill>
                  <a:srgbClr val="006633"/>
                </a:solidFill>
                <a:latin typeface="Garamond"/>
              </a:rPr>
              <a:t>-x/3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y the arrays y and y1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orre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lot the y2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133720"/>
            <a:ext cx="33530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2=y.*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4197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lay Fac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ot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m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981080"/>
            <a:ext cx="33526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648320"/>
            <a:ext cx="335268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stem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stem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4024440" cy="2744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40388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507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b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les, array, matrix, index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(Arithmetic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, 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f M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User 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lay Fac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label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label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2209680"/>
            <a:ext cx="38102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title(‘This is the sinus functio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276720"/>
            <a:ext cx="38102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label(‘x (secs)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4648320"/>
            <a:ext cx="3809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label(‘sin(x)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5576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relational, logical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=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~= Not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 Strictly sma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trictly gr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= Smaller than or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= Greater than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  And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 Or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ow Contr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If Statement Synta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Condition_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if (Condition_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if (Condition_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2880" y="1219320"/>
            <a:ext cx="4191120" cy="4876560"/>
            <a:chOff x="4952880" y="1219320"/>
            <a:chExt cx="4191120" cy="4876560"/>
          </a:xfrm>
        </p:grpSpPr>
        <p:sp>
          <p:nvSpPr>
            <p:cNvPr id="225" name=""/>
            <p:cNvSpPr/>
            <p:nvPr/>
          </p:nvSpPr>
          <p:spPr>
            <a:xfrm>
              <a:off x="4952880" y="1219320"/>
              <a:ext cx="4191120" cy="487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ahoma"/>
                </a:rPr>
                <a:t>Some Dummy 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if ((a&gt;3) &amp; (b==5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Some Matlab Commands;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if (a&lt;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lseif (b~=5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if (a&lt;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else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2880" y="28954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2880" y="4572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or loop synta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i=Index_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24280" y="1143000"/>
            <a:ext cx="4191120" cy="5029200"/>
            <a:chOff x="4724280" y="1143000"/>
            <a:chExt cx="4191120" cy="5029200"/>
          </a:xfrm>
        </p:grpSpPr>
        <p:sp>
          <p:nvSpPr>
            <p:cNvPr id="231" name=""/>
            <p:cNvSpPr/>
            <p:nvPr/>
          </p:nvSpPr>
          <p:spPr>
            <a:xfrm>
              <a:off x="4724280" y="1143000"/>
              <a:ext cx="4191120" cy="502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me Dummy 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for i=1: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for j=1:3: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for m=13:-0.2:-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 k=[0.1 0.3 -13 12 7 -9.3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819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3962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2880" y="5105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While Loop Synta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(condi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514600"/>
            <a:ext cx="41907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umm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while  ((a&gt;3) &amp; (b==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Some Matlab Commands;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of M-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743200" y="1066680"/>
          <a:ext cx="2314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2314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04920" y="137160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lick to create a new M-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81080" y="16761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3053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ension “.m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text file containing script or function or program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429000" y="2590920"/>
            <a:ext cx="533520" cy="1214280"/>
          </a:xfrm>
          <a:custGeom>
            <a:avLst/>
            <a:gdLst>
              <a:gd name="textAreaLeft" fmla="*/ 71280 w 533520"/>
              <a:gd name="textAreaRight" fmla="*/ 462240 w 5335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of M-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90720" y="1380960"/>
            <a:ext cx="7189560" cy="5477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80480" y="3581280"/>
            <a:ext cx="2602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include “;”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each stat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ill not be sh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971800"/>
            <a:ext cx="3505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00040" y="9907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80520" y="70020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fil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nem4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are m-files which can be executed by specifying some inputs and supply some desired out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telling the Matlab that an m-file is actually a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ou should write this command at the beginning of the m-file and you should save the m-file with a file name same as the functi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200400"/>
            <a:ext cx="53341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ut1=functionname(in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ut1=functionname(in1,in2,in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[out1,out2]=functionname(in1,i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function 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ut=squarer (A, 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akes the square of the input matrix if the input indicator is equal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akes the element by element square of the input matrix if the input indicator is equal t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3429000"/>
            <a:ext cx="6172200" cy="3247920"/>
            <a:chOff x="2057400" y="3429000"/>
            <a:chExt cx="6172200" cy="3247920"/>
          </a:xfrm>
        </p:grpSpPr>
        <p:sp>
          <p:nvSpPr>
            <p:cNvPr id="259" name=""/>
            <p:cNvSpPr/>
            <p:nvPr/>
          </p:nvSpPr>
          <p:spPr>
            <a:xfrm>
              <a:off x="6477120" y="3733920"/>
              <a:ext cx="17524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ame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2057400" y="3429000"/>
              <a:ext cx="4162320" cy="32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flipH="1" flipV="1">
              <a:off x="4114800" y="3581280"/>
              <a:ext cx="28195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38120" y="4343400"/>
              <a:ext cx="3048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Matlab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is basically a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gh level langu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has many specialized toolboxes for making things easier for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hig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0400" y="2743200"/>
            <a:ext cx="2286000" cy="3429000"/>
            <a:chOff x="3200400" y="2743200"/>
            <a:chExt cx="2286000" cy="3429000"/>
          </a:xfrm>
        </p:grpSpPr>
        <p:sp>
          <p:nvSpPr>
            <p:cNvPr id="93" name=""/>
            <p:cNvSpPr/>
            <p:nvPr/>
          </p:nvSpPr>
          <p:spPr>
            <a:xfrm>
              <a:off x="3200400" y="533412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ssemb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43400" y="4876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4038480"/>
              <a:ext cx="2286000" cy="83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igh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nguages such 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, Pascal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4340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274320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tl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function which takes an input array and returns the sum and product of its elements 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sumprod(.) can be called from command window or an m-fil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1504800"/>
            <a:ext cx="4190760" cy="2305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057400" y="4400640"/>
            <a:ext cx="4638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te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” is the neglect sign for Matlab (equaivalent of “//” in C). Anything after it on the same line is neglected by Matlab compi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slowing down the execution is done deliberately for observation purposes. You can use the command “pause” for this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724280"/>
            <a:ext cx="41148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use %wait until an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use(3) %wait 3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ful Comman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 commands used most by Matl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3124080"/>
            <a:ext cx="32767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help function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4419720"/>
            <a:ext cx="32767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lookfor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3300"/>
                </a:solidFill>
                <a:latin typeface="Garamond"/>
              </a:rPr>
              <a:t>Thank You…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we interested i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is too broad for our purposes in this cou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eatures we are going to require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4800" y="2743200"/>
            <a:ext cx="7548480" cy="3429000"/>
            <a:chOff x="604800" y="2743200"/>
            <a:chExt cx="7548480" cy="3429000"/>
          </a:xfrm>
        </p:grpSpPr>
        <p:sp>
          <p:nvSpPr>
            <p:cNvPr id="101" name=""/>
            <p:cNvSpPr/>
            <p:nvPr/>
          </p:nvSpPr>
          <p:spPr>
            <a:xfrm>
              <a:off x="4191120" y="2743200"/>
              <a:ext cx="1828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tl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3886200"/>
              <a:ext cx="129564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124080" y="35812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240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4600" y="38862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-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48006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105160" y="3581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7120" y="38862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t-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4724280"/>
              <a:ext cx="23940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288" y="2160"/>
                  </a:moveTo>
                  <a:lnTo>
                    <a:pt x="23305" y="2160"/>
                  </a:lnTo>
                  <a:lnTo>
                    <a:pt x="23305" y="-4410"/>
                  </a:lnTo>
                  <a:lnTo>
                    <a:pt x="10743" y="-588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mmand execution like DOS command 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04800" y="3136680"/>
              <a:ext cx="1755720" cy="966960"/>
            </a:xfrm>
            <a:prstGeom prst="borderCallout1">
              <a:avLst>
                <a:gd name="adj1" fmla="val 22908"/>
                <a:gd name="adj2" fmla="val -1703"/>
                <a:gd name="adj3" fmla="val 1406"/>
                <a:gd name="adj4" fmla="val -17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ries of Matlab comm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5137200"/>
              <a:ext cx="1676160" cy="1035000"/>
            </a:xfrm>
            <a:prstGeom prst="borderCallout1">
              <a:avLst>
                <a:gd name="adj1" fmla="val 22336"/>
                <a:gd name="adj2" fmla="val -1590"/>
                <a:gd name="adj3" fmla="val 1473"/>
                <a:gd name="adj4" fmla="val -159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p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6600" y="4768560"/>
              <a:ext cx="10666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543" y="2234"/>
                  </a:moveTo>
                  <a:lnTo>
                    <a:pt x="-1543" y="2234"/>
                  </a:lnTo>
                  <a:lnTo>
                    <a:pt x="-1543" y="-2607"/>
                  </a:lnTo>
                  <a:lnTo>
                    <a:pt x="1543" y="-7448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 storage/ lo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lab Scre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8120" y="1444680"/>
            <a:ext cx="6019560" cy="434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76320" y="137160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mmand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urrent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folders and m-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Work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program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click on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e it in the Array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mmand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past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a whole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d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133720" y="457164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3276720"/>
            <a:ext cx="2514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438280"/>
            <a:ext cx="1752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523880"/>
            <a:ext cx="36576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types. i.e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are created with double precision unless specified and they are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se statements, the variables are 1x1 matrices with 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1905120"/>
            <a:ext cx="1523880" cy="1218960"/>
            <a:chOff x="1219320" y="1905120"/>
            <a:chExt cx="1523880" cy="1218960"/>
          </a:xfrm>
        </p:grpSpPr>
        <p:sp>
          <p:nvSpPr>
            <p:cNvPr id="126" name=""/>
            <p:cNvSpPr/>
            <p:nvPr/>
          </p:nvSpPr>
          <p:spPr>
            <a:xfrm>
              <a:off x="1371600" y="2057400"/>
              <a:ext cx="1219320" cy="91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uble b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at c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1905120"/>
              <a:ext cx="15238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295280" y="19051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371600" y="4038480"/>
            <a:ext cx="12193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1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ray, Matri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vect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[1 2 5 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1   2   5  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tri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x = [1 2 3; 5 1 4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3 2 -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     2    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5     1    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3     2    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x’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 Array, Matrix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t</a:t>
            </a:r>
            <a:r>
              <a:rPr b="0" lang="en-US" sz="1900" spc="-1" strike="noStrike">
                <a:solidFill>
                  <a:srgbClr val="ff3300"/>
                </a:solidFill>
                <a:latin typeface="Courier New"/>
              </a:rPr>
              <a:t> =1:10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1   2   3   4  5  6   7  8   9  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3300"/>
                </a:solidFill>
                <a:latin typeface="Courier New"/>
              </a:rPr>
              <a:t>k</a:t>
            </a:r>
            <a:r>
              <a:rPr b="0" lang="en-US" sz="1900" spc="-1" strike="noStrike">
                <a:solidFill>
                  <a:srgbClr val="ff3300"/>
                </a:solidFill>
                <a:latin typeface="Courier New"/>
              </a:rPr>
              <a:t> =2:-0.5:-1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  1.5  1  0.5  0  -0.5  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3300"/>
                </a:solidFill>
                <a:latin typeface="Courier New"/>
              </a:rPr>
              <a:t>B</a:t>
            </a:r>
            <a:r>
              <a:rPr b="0" lang="en-GB" sz="1900" spc="-1" strike="noStrike">
                <a:solidFill>
                  <a:srgbClr val="ff3300"/>
                </a:solidFill>
                <a:latin typeface="Courier New"/>
              </a:rPr>
              <a:t> = [1:4; 5:8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1     2     3   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5     6     7 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ting Vectors from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z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s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uniform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random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s on 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7440" y="12949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zeros(1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     0   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nes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1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rand(1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.9501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.2311 0.606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5:00:10Z</dcterms:created>
  <dc:creator>Umut Orguner</dc:creator>
  <dc:description/>
  <dc:language>en-US</dc:language>
  <cp:lastModifiedBy>spectrum</cp:lastModifiedBy>
  <dcterms:modified xsi:type="dcterms:W3CDTF">2007-02-27T23:01:43Z</dcterms:modified>
  <cp:revision>155</cp:revision>
  <dc:subject/>
  <dc:title>Introduction to MaTLAB</dc:title>
</cp:coreProperties>
</file>