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.jpeg" ContentType="image/jpeg"/>
  <Override PartName="/ppt/media/image7.png" ContentType="image/png"/>
  <Override PartName="/ppt/media/image15.wmf" ContentType="image/x-wmf"/>
  <Override PartName="/ppt/media/image1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16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EAC-6CEF-4CF0-AE49-2379F032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388-0C6D-42C0-9622-0FF31F6F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D1A-8B49-4E59-B338-CE26BB52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85F-473F-4CC0-A3B7-66791401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E23-C4E9-4848-BE61-56013968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29D-0EBD-4FEB-AF91-308FCD9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A70-D583-48AA-A39B-1AE7C59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ACC-CC35-443A-AD05-E8FB78F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776-6F2D-46A8-905B-C306D5B6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D02-097A-49AF-96DB-091A4FD4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871-BBA6-4487-9DDA-7FE9E0D9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747-8D78-468C-86B4-4C26DC3B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5E23-AB6B-430F-A38A-B023609DB5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rain_Diagram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433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971640" y="220500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200"/>
                </a:solidFill>
                <a:latin typeface="Verdana"/>
              </a:rPr>
              <a:t>Introduction to the Pharmacology of CNS acting drugs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4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71640" y="907920"/>
            <a:ext cx="756108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id-brai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“bridge” area which connects the cerebrum to the cerebellum and pon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ncerned wi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coordination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0" name="Picture 3" descr="talk005__s029_f"/>
          <p:cNvPicPr/>
          <p:nvPr/>
        </p:nvPicPr>
        <p:blipFill>
          <a:blip r:embed="rId1"/>
          <a:stretch/>
        </p:blipFill>
        <p:spPr>
          <a:xfrm>
            <a:off x="2987640" y="3500280"/>
            <a:ext cx="3809880" cy="2714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700360" y="3429000"/>
            <a:ext cx="489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659640" y="3500280"/>
            <a:ext cx="50472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771640" y="5805360"/>
            <a:ext cx="4105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907920"/>
            <a:ext cx="5184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ellu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plays an important role in maintaining the appropriat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od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os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quilibri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5" name="Picture 3" descr="stem"/>
          <p:cNvPicPr/>
          <p:nvPr/>
        </p:nvPicPr>
        <p:blipFill>
          <a:blip r:embed="rId1"/>
          <a:stretch/>
        </p:blipFill>
        <p:spPr>
          <a:xfrm>
            <a:off x="6300720" y="1341360"/>
            <a:ext cx="2400480" cy="1981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68360" y="3357720"/>
            <a:ext cx="806436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on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bridges the cerebellum to the medulla oblongat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s one of the important areas of the p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9640" y="1341360"/>
            <a:ext cx="8280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edulla oblongata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n organ of conduction for the passage of impulses between the brain and spinal cor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tains importa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en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cardioinhibi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omotor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spira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chemoreceptor trigger zone, CTZ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8" name="Picture 3" descr="stem"/>
          <p:cNvPicPr/>
          <p:nvPr/>
        </p:nvPicPr>
        <p:blipFill>
          <a:blip r:embed="rId1"/>
          <a:stretch/>
        </p:blipFill>
        <p:spPr>
          <a:xfrm>
            <a:off x="6372360" y="2781360"/>
            <a:ext cx="18968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9640" y="1484280"/>
            <a:ext cx="6337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spinal cord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cylindrical mass of nerve cells that extends from the end of the medulla oblongata to the lower lumbar vertebra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mpulses flow from and to the brain through descending and ascending tracts of the 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0" name="Picture 4" descr="061801-3"/>
          <p:cNvPicPr/>
          <p:nvPr/>
        </p:nvPicPr>
        <p:blipFill>
          <a:blip r:embed="rId1"/>
          <a:stretch/>
        </p:blipFill>
        <p:spPr>
          <a:xfrm>
            <a:off x="7020000" y="1268280"/>
            <a:ext cx="1755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55640" y="549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System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2133720"/>
            <a:ext cx="7632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systems are pathways formed of specific parts of the brain and the neurons connecting th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They includ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xtra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836640"/>
            <a:ext cx="828036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riginates from the motor area of the cerebral cortex and passes through the spinal cord, therefore it is also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ospinal trac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responsible for the regulation of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fine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4" name="Picture 3" descr="needle"/>
          <p:cNvPicPr/>
          <p:nvPr/>
        </p:nvPicPr>
        <p:blipFill>
          <a:blip r:embed="rId1"/>
          <a:stretch/>
        </p:blipFill>
        <p:spPr>
          <a:xfrm>
            <a:off x="5508720" y="3933720"/>
            <a:ext cx="3085920" cy="2482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5364000" y="6021360"/>
            <a:ext cx="33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260280"/>
            <a:ext cx="8136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extra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also control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ut involves areas other than the corticospinal tract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nvolved in the regulation of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ross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 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us it complements the function of the pyramid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onstitute an essential part of this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generative changes in the pathway running from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to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or nigrostriatal pathway) may cause tremors and muscle rigidity characteristic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7" name="Picture 4" descr="delahoya_sturm_CarloAllegri"/>
          <p:cNvPicPr/>
          <p:nvPr/>
        </p:nvPicPr>
        <p:blipFill>
          <a:blip r:embed="rId1"/>
          <a:stretch/>
        </p:blipFill>
        <p:spPr>
          <a:xfrm>
            <a:off x="3059280" y="350028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9640" y="836640"/>
            <a:ext cx="7777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limbic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major parts of this system are: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responsible for short term memory), and som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9" name="Picture 3" descr="lsd2_s04"/>
          <p:cNvPicPr/>
          <p:nvPr/>
        </p:nvPicPr>
        <p:blipFill>
          <a:blip r:embed="rId1"/>
          <a:stretch/>
        </p:blipFill>
        <p:spPr>
          <a:xfrm>
            <a:off x="5364000" y="3357720"/>
            <a:ext cx="2978280" cy="26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68360" y="371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limbic system is involved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moti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549360"/>
            <a:ext cx="56167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reticular format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mposed of interlacing fibers and nerve cells that run in all directions beginning from the upper part of the spinal cord and extending upward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5280" y="3213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mportant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nscious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93" name="Picture 4" descr="reticularformation"/>
          <p:cNvPicPr/>
          <p:nvPr/>
        </p:nvPicPr>
        <p:blipFill>
          <a:blip r:embed="rId1"/>
          <a:stretch/>
        </p:blipFill>
        <p:spPr>
          <a:xfrm>
            <a:off x="6084720" y="404640"/>
            <a:ext cx="2700360" cy="2725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95280" y="4365720"/>
            <a:ext cx="828036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uberohypophyse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group of short neurons running from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phy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pituitary gland) regulating its secretions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362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Neurons (Nerve Cells)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 units of the nervous system by conducting nerve impulses, highly specialized and amitotic. Each has a cell body (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o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one or mor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a singl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Cell Body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a nucleus with at least one nucleolus and many of the typical cytoplasmic organelles, </a:t>
            </a:r>
            <a:r>
              <a:rPr b="0" lang="en-US" sz="2400" spc="-1" strike="noStrike">
                <a:solidFill>
                  <a:srgbClr val="008200"/>
                </a:solidFill>
                <a:latin typeface="Verdana"/>
              </a:rPr>
              <a:t>but lacks centrioles for cell di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Dendrite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drites and axons are cytoplasmic extensions (or processes), that project from the cell body. They are sometimes referred to as fibers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ndrites (afferent processe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ir surface area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 signals from other neur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transmit impulses to the neuron cell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Ax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only o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xon (efferent proces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projects from each cell body.        It carries impulses away from the cell bod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611280" y="404640"/>
            <a:ext cx="813744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CNS acting drugs are of major therapeutic and clinical importanc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can produce divers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hysi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sych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 such a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In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esthesi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lief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Preven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Epileptic seizure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xiet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rkinsonism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lzheimer's diseas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Depress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Centrally acting drugs also include drugs that are administered without medical intervention lik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t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coffe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nicot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opia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 rot="5400000">
            <a:off x="2087280" y="7560"/>
            <a:ext cx="5256360" cy="70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Glial cells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do not conduct nerve impulses, but support, nourish, and protect the neurons. They are mitotic, and far more numerous than neur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trocyte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lial cell that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neur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nutr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com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extracellular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4032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ligodendrocyt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ype of glial cell in the CNS that forms myelin sheat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 rot="5400000">
            <a:off x="2520000" y="1303920"/>
            <a:ext cx="3816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icroglia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mallest glial cells; act as phagocytes (cleaning up debris) and protect the brain from invading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 rot="5400000">
            <a:off x="2880360" y="2095920"/>
            <a:ext cx="345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wann cell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ll in the PNS that is wrapped around a myelinated axon, providing one segment of its myelin sh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 rot="5400000">
            <a:off x="2987280" y="1773000"/>
            <a:ext cx="302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are 3 general types of neurons (nerve cell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Sensory (Afferent 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that detects changes in the external or internal environment and sends information about these changes to the CNS. (e.g: rods and cones, touch receptors). They usually have long dendrites and relatively short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Motor (Efferent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within the CNS that controls the contraction of    a muscle or the secretion of a gland. They usually have short dendrites and long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Interneuron or association neuron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entirely within the CNS in which they form the connecting link between the afferent and efferent neurons. They have short dendrites and may have either a short or long ax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Morphology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1- Un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ttach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xon div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one bra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ing sens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orm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nding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o the C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 rot="5400000">
            <a:off x="4427640" y="2132640"/>
            <a:ext cx="511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2- B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a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d one dendrit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ached to 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672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3- Mult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uron with one ax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any dend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 rot="5400000">
            <a:off x="4391640" y="1808640"/>
            <a:ext cx="4608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euron Basic Structure </a:t>
            </a:r>
            <a:br>
              <a:rPr sz="28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(How brain cells communicate)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ynaps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junction between the terminal button of an axon and the membrane of anothe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erminal button(or bouton)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he bud at the end of a branch of an axon; forms synapses with another neuron; sends information to that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eurotransmitter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chemical that is released by a terminal button; has an excitatory or inhibitory effect on another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9640" y="2060640"/>
            <a:ext cx="806472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is a highly complex tissue that controls all of the body activities and serves as a processing center that links the body to the outside worl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n assembly of interrelate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system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 their own and each other’s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55640" y="90792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ifferent types of Synapses</a:t>
            </a:r>
            <a:br>
              <a:rPr sz="2400"/>
            </a:b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1- Axo-denrdritic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2- Axo-axonal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3- Axo-s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 rot="5400000">
            <a:off x="2448000" y="296640"/>
            <a:ext cx="424800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0000"/>
                </a:solidFill>
                <a:latin typeface="Arial"/>
              </a:rPr>
              <a:t>What happens at a synap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200"/>
                </a:solidFill>
                <a:latin typeface="Arial"/>
              </a:rPr>
              <a:t>How Neurotransmitters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 rot="5400000">
            <a:off x="2374200" y="512640"/>
            <a:ext cx="489744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539640" y="260280"/>
            <a:ext cx="8137800" cy="85356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emical transmission in the CNS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5280" y="1413000"/>
            <a:ext cx="83520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controls the main functions of the body through the action endogenous chemical substances known as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neurotransmit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neurotransmitters are stored in and secreted by neurons to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ransmi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nformation to the postsynaptic sites producing eith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xcita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spons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Most centrally acting drugs exert their actions at the synaptic junctions by either affecting neurotransmitt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nthe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uptak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or by exerting direct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nt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on on postsynaptic sites.</a:t>
            </a:r>
            <a:r>
              <a:rPr b="0" lang="en-US" sz="18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27" name="Picture 5" descr="f_d02nrtrnsmtr"/>
          <p:cNvPicPr/>
          <p:nvPr/>
        </p:nvPicPr>
        <p:blipFill>
          <a:blip r:embed="rId1"/>
          <a:stretch/>
        </p:blipFill>
        <p:spPr>
          <a:xfrm>
            <a:off x="2771640" y="260280"/>
            <a:ext cx="3799080" cy="6075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2700360" y="189000"/>
            <a:ext cx="403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11280" y="1125360"/>
            <a:ext cx="784836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Neurotransmitters can be classified into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iogenic amine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C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5-H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stamin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mino acid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xcita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par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hibi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Other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laton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771640" y="115920"/>
            <a:ext cx="3600720" cy="85356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etylcholine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9640" y="1052640"/>
            <a:ext cx="799164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 Acetylchol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widely distributed in major parts of the C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Cholinergic neurons occur particularly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motor area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of the cerebral cortex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orpus striatu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and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spinal cor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 Both types of Cholinergic receptors (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icotinic &amp; muscarinic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occur in the CN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predominantly M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are much more abundant than nicotinic receptors and mediate many of the behavioral effects of acetylcholine in cholinergic pathway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re located presynaptically and upon stimulation by agonist inhibits Ach release, while muscarinic antagonists increase Ach releas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50920" y="1125360"/>
            <a:ext cx="871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Arousa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2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arning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3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 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4- Short term mem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Loss of cholinergic neurons in th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(memory site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ssociated wi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zheimer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ost common neurodegenerative disease causing progressive irreversible dementia associated with old ag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Acetylcholine in the brain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holinergic drugs and</a:t>
            </a:r>
            <a:br>
              <a:rPr sz="3200"/>
            </a:b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Alzheimer'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crine, Donepezil and Galantamin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Pseudo-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ostigmine, Eptastigmine and Rivastigm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Irreversible cholinesterase inhibi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rif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Hyperactivity of cholinergic neurons in the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leads to “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Parkinson’s disease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Arial"/>
              </a:rPr>
              <a:t>- Parkinsonism,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s a progressive neurodegenerative brain disorder that was first described by Dr.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James Parkinson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n 18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The disease occurs above the age of 65 and affects the "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extrapyramidal syste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at the level of the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&amp;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substantia</a:t>
            </a:r>
            <a:r>
              <a:rPr b="1" lang="en-US" sz="2800" spc="-1" strike="noStrike" u="sng">
                <a:solidFill>
                  <a:srgbClr val="000032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nigra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9698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he 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2 neurotransmitters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&amp;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cetylcho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co-exist in a normal balance, where dopaminergic neurons exert a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 on excitatory cholinergic neur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4360" y="357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"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igrostriatal dopaminergic neur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are degenerated (damaged) while cholinergic neurons are intact, resulting in a marked decrease in dopamine content (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dopamine deficiency syndrom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 and a relative predominance of cholinergic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39" name="Picture 4" descr="balance"/>
          <p:cNvPicPr/>
          <p:nvPr/>
        </p:nvPicPr>
        <p:blipFill>
          <a:blip r:embed="rId1"/>
          <a:stretch/>
        </p:blipFill>
        <p:spPr>
          <a:xfrm>
            <a:off x="2916360" y="476280"/>
            <a:ext cx="3600360" cy="3057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203640" y="162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788000" y="184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Ch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11280" y="378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the strategy for treatment of Parkinsonism is to restore the normal balance between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chol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nes in the basal gangli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700360" y="1413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132000" y="141300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156360" y="1413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6300720" y="134136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26920" y="404640"/>
            <a:ext cx="7488360" cy="731880"/>
          </a:xfrm>
          <a:prstGeom prst="rect">
            <a:avLst/>
          </a:prstGeom>
          <a:solidFill>
            <a:srgbClr val="f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reatment of Parkinsonism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324000" y="2349360"/>
            <a:ext cx="6086160" cy="2870280"/>
          </a:xfrm>
          <a:custGeom>
            <a:avLst/>
            <a:gdLst>
              <a:gd name="textAreaLeft" fmla="*/ 0 w 6086160"/>
              <a:gd name="textAreaRight" fmla="*/ 6086520 w 6086160"/>
              <a:gd name="textAreaTop" fmla="*/ 0 h 2870280"/>
              <a:gd name="textAreaBottom" fmla="*/ 2870640 h 2870280"/>
            </a:gdLst>
            <a:ahLst/>
            <a:rect l="textAreaLeft" t="textAreaTop" r="textAreaRight" b="textAreaBottom"/>
            <a:pathLst>
              <a:path w="3834" h="1808">
                <a:moveTo>
                  <a:pt x="0" y="511"/>
                </a:moveTo>
                <a:cubicBezTo>
                  <a:pt x="190" y="512"/>
                  <a:pt x="864" y="514"/>
                  <a:pt x="1143" y="511"/>
                </a:cubicBezTo>
                <a:cubicBezTo>
                  <a:pt x="1422" y="508"/>
                  <a:pt x="1501" y="505"/>
                  <a:pt x="1673" y="493"/>
                </a:cubicBezTo>
                <a:cubicBezTo>
                  <a:pt x="1845" y="481"/>
                  <a:pt x="2027" y="464"/>
                  <a:pt x="2176" y="438"/>
                </a:cubicBezTo>
                <a:cubicBezTo>
                  <a:pt x="2325" y="412"/>
                  <a:pt x="2412" y="396"/>
                  <a:pt x="2569" y="337"/>
                </a:cubicBezTo>
                <a:cubicBezTo>
                  <a:pt x="2726" y="278"/>
                  <a:pt x="2926" y="127"/>
                  <a:pt x="3118" y="81"/>
                </a:cubicBezTo>
                <a:cubicBezTo>
                  <a:pt x="3310" y="35"/>
                  <a:pt x="3606" y="0"/>
                  <a:pt x="3720" y="61"/>
                </a:cubicBezTo>
                <a:cubicBezTo>
                  <a:pt x="3834" y="122"/>
                  <a:pt x="3804" y="326"/>
                  <a:pt x="3804" y="447"/>
                </a:cubicBezTo>
                <a:cubicBezTo>
                  <a:pt x="3804" y="568"/>
                  <a:pt x="3742" y="655"/>
                  <a:pt x="3720" y="787"/>
                </a:cubicBezTo>
                <a:cubicBezTo>
                  <a:pt x="3698" y="919"/>
                  <a:pt x="3665" y="1122"/>
                  <a:pt x="3674" y="1240"/>
                </a:cubicBezTo>
                <a:cubicBezTo>
                  <a:pt x="3683" y="1358"/>
                  <a:pt x="3776" y="1422"/>
                  <a:pt x="3776" y="1498"/>
                </a:cubicBezTo>
                <a:cubicBezTo>
                  <a:pt x="3776" y="1574"/>
                  <a:pt x="3736" y="1646"/>
                  <a:pt x="3674" y="1694"/>
                </a:cubicBezTo>
                <a:cubicBezTo>
                  <a:pt x="3612" y="1742"/>
                  <a:pt x="3523" y="1808"/>
                  <a:pt x="3402" y="1785"/>
                </a:cubicBezTo>
                <a:cubicBezTo>
                  <a:pt x="3281" y="1762"/>
                  <a:pt x="3121" y="1620"/>
                  <a:pt x="2949" y="1558"/>
                </a:cubicBezTo>
                <a:cubicBezTo>
                  <a:pt x="2777" y="1496"/>
                  <a:pt x="2582" y="1455"/>
                  <a:pt x="2368" y="1416"/>
                </a:cubicBezTo>
                <a:cubicBezTo>
                  <a:pt x="2154" y="1377"/>
                  <a:pt x="1930" y="1347"/>
                  <a:pt x="1664" y="1325"/>
                </a:cubicBezTo>
                <a:cubicBezTo>
                  <a:pt x="1398" y="1303"/>
                  <a:pt x="1018" y="1292"/>
                  <a:pt x="771" y="1286"/>
                </a:cubicBezTo>
                <a:cubicBezTo>
                  <a:pt x="524" y="1280"/>
                  <a:pt x="310" y="1286"/>
                  <a:pt x="182" y="1286"/>
                </a:cubicBezTo>
                <a:cubicBezTo>
                  <a:pt x="54" y="1286"/>
                  <a:pt x="30" y="1286"/>
                  <a:pt x="0" y="1286"/>
                </a:cubicBezTo>
              </a:path>
            </a:pathLst>
          </a:custGeom>
          <a:solidFill>
            <a:srgbClr val="ffcc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7424640" y="2349360"/>
            <a:ext cx="1073160" cy="284508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676" h="1792">
                <a:moveTo>
                  <a:pt x="596" y="69"/>
                </a:moveTo>
                <a:cubicBezTo>
                  <a:pt x="566" y="61"/>
                  <a:pt x="461" y="32"/>
                  <a:pt x="415" y="24"/>
                </a:cubicBezTo>
                <a:cubicBezTo>
                  <a:pt x="368" y="15"/>
                  <a:pt x="363" y="0"/>
                  <a:pt x="314" y="15"/>
                </a:cubicBezTo>
                <a:cubicBezTo>
                  <a:pt x="266" y="29"/>
                  <a:pt x="169" y="69"/>
                  <a:pt x="122" y="112"/>
                </a:cubicBezTo>
                <a:cubicBezTo>
                  <a:pt x="75" y="155"/>
                  <a:pt x="48" y="222"/>
                  <a:pt x="30" y="275"/>
                </a:cubicBezTo>
                <a:cubicBezTo>
                  <a:pt x="12" y="328"/>
                  <a:pt x="14" y="393"/>
                  <a:pt x="13" y="431"/>
                </a:cubicBezTo>
                <a:cubicBezTo>
                  <a:pt x="12" y="469"/>
                  <a:pt x="21" y="467"/>
                  <a:pt x="22" y="504"/>
                </a:cubicBezTo>
                <a:cubicBezTo>
                  <a:pt x="23" y="541"/>
                  <a:pt x="19" y="594"/>
                  <a:pt x="19" y="655"/>
                </a:cubicBezTo>
                <a:cubicBezTo>
                  <a:pt x="19" y="716"/>
                  <a:pt x="21" y="774"/>
                  <a:pt x="22" y="869"/>
                </a:cubicBezTo>
                <a:cubicBezTo>
                  <a:pt x="23" y="964"/>
                  <a:pt x="22" y="1114"/>
                  <a:pt x="22" y="1225"/>
                </a:cubicBezTo>
                <a:cubicBezTo>
                  <a:pt x="22" y="1336"/>
                  <a:pt x="0" y="1447"/>
                  <a:pt x="22" y="1537"/>
                </a:cubicBezTo>
                <a:cubicBezTo>
                  <a:pt x="45" y="1626"/>
                  <a:pt x="88" y="1727"/>
                  <a:pt x="156" y="1760"/>
                </a:cubicBezTo>
                <a:cubicBezTo>
                  <a:pt x="223" y="1792"/>
                  <a:pt x="353" y="1735"/>
                  <a:pt x="429" y="1730"/>
                </a:cubicBezTo>
                <a:cubicBezTo>
                  <a:pt x="504" y="1725"/>
                  <a:pt x="569" y="1727"/>
                  <a:pt x="609" y="1730"/>
                </a:cubicBezTo>
                <a:cubicBezTo>
                  <a:pt x="650" y="1733"/>
                  <a:pt x="662" y="1744"/>
                  <a:pt x="676" y="1748"/>
                </a:cubicBez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357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yrosine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1692360" y="374652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843280" y="3573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05092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P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3059280" y="371628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564000" y="357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78000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995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41964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3564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492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4500720" y="3716280"/>
            <a:ext cx="57456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4356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427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457200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708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4788000" y="2852640"/>
            <a:ext cx="57600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4788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4859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4643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7164360" y="2852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7164360" y="3357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7164360" y="4365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7164360" y="3860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5867280" y="3357720"/>
            <a:ext cx="649440" cy="57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485928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O-B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370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87708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87708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687708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87708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6227640" y="4149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601200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5867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615636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324000" y="458136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paminergic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rve terminal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7380360" y="2781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7380360" y="3789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7380360" y="32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7380360" y="4292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2" name="Line 47"/>
          <p:cNvSpPr/>
          <p:nvPr/>
        </p:nvSpPr>
        <p:spPr>
          <a:xfrm>
            <a:off x="3276720" y="2565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3" name="Line 48"/>
          <p:cNvSpPr/>
          <p:nvPr/>
        </p:nvSpPr>
        <p:spPr>
          <a:xfrm flipH="1">
            <a:off x="6372360" y="2781360"/>
            <a:ext cx="57600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4" name="Line 49"/>
          <p:cNvSpPr/>
          <p:nvPr/>
        </p:nvSpPr>
        <p:spPr>
          <a:xfrm flipV="1">
            <a:off x="5292720" y="4292280"/>
            <a:ext cx="1443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5" name="Line 50"/>
          <p:cNvSpPr/>
          <p:nvPr/>
        </p:nvSpPr>
        <p:spPr>
          <a:xfrm flipV="1">
            <a:off x="6588000" y="4581360"/>
            <a:ext cx="50508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687708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tsynaptic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ptors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705 -0.04005 0.09427 -0.07986 0.11302 -0.09583 E">
                                      <p:cBhvr>
                                        <p:cTn id="102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C 0.03889 -0.01875 0.07847 -0.03681 0.09461 -0.04375 E">
                                      <p:cBhvr>
                                        <p:cTn id="102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472 0.03495 0.06944 0.07014 0.08333 0.08403 E">
                                      <p:cBhvr>
                                        <p:cTn id="102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59 -0.0044 -0.07118 -0.00856 -0.08541 -0.01042 E">
                                      <p:cBhvr>
                                        <p:cTn id="102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58 -0.01227 -0.07916 -0.02431 -0.09479 -0.02917 E">
                                      <p:cBhvr>
                                        <p:cTn id="103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1065240"/>
            <a:ext cx="806436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Brain                                  2- Spinal cord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brain is formed of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main 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fore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r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hypo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mi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4653000"/>
            <a:ext cx="80643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hin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ell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pon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medulla oblongat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48" name="Picture 6" descr="talk005__s029_f"/>
          <p:cNvPicPr/>
          <p:nvPr/>
        </p:nvPicPr>
        <p:blipFill>
          <a:blip r:embed="rId1"/>
          <a:stretch/>
        </p:blipFill>
        <p:spPr>
          <a:xfrm>
            <a:off x="4716360" y="2492280"/>
            <a:ext cx="4284720" cy="3313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427640" y="2421000"/>
            <a:ext cx="4716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43280" y="5373720"/>
            <a:ext cx="450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964720" y="2924280"/>
            <a:ext cx="28728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788000" y="2924280"/>
            <a:ext cx="36036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55640" y="16524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11280" y="76500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used to treat Parkinsonism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do not stop the progress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disease but they can only ameliorate the sympto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arkinsonism could b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manag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11280" y="2565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nhancing dopaminergic activity using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4360" y="3213000"/>
            <a:ext cx="7991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place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vodop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lease dopamine from its store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mantad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prolong the action of dopamine by preventing its metabolism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ligi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mimic the action of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opaminergic 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39640" y="2637000"/>
            <a:ext cx="770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educing cholinergic activity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by the use of anticholinergic drug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enzatrop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eurotransplantation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(which is still in experimental phase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0032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hysical therapy &amp; regular exercis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916360" y="476280"/>
            <a:ext cx="360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Noradrenal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4360" y="162864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oradre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neurons arise mainly from the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in the pons) and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project diffusely to many areas of the 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in the periphery, the same types of adrenergic receptors are described in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Noradrenaline plays an important role in the regulation of bo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84360" y="1557360"/>
            <a:ext cx="75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od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ficiency of noradrenaline in certain parts of the brain is thought to be the underlying cause of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epression</a:t>
            </a:r>
            <a:r>
              <a:rPr b="1" i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Arousal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creased release of noradrenaline in the brain is responsible for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3- Blood pressure regula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noradrenergic synapses form a part of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roreceptor reflex pathwa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lood press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oradrenal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30560" y="260280"/>
            <a:ext cx="309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26920" y="1268280"/>
            <a:ext cx="7561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cts as both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precurso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for noradrenaline by the action of the enzyme “dopamine β-hydroxylase” in noradrenergic neurons, as well as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neurotransmitte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in dopaminergic neurons which lack this enzym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Dopamine receptors are of </a:t>
            </a:r>
            <a:r>
              <a:rPr b="1" lang="en-US" sz="22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5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4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Both types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-couple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that involve “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adenylate cyclase/cAMP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s a signal transduction mechanism (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activate, while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inhibit adenylate cyclase)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7" name="Picture 4" descr="pdfig2"/>
          <p:cNvPicPr/>
          <p:nvPr/>
        </p:nvPicPr>
        <p:blipFill>
          <a:blip r:embed="rId1"/>
          <a:stretch/>
        </p:blipFill>
        <p:spPr>
          <a:xfrm>
            <a:off x="2843280" y="3284640"/>
            <a:ext cx="32004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6836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the major neurotransmitter of th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following system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9" name="Picture 3" descr="dopamine"/>
          <p:cNvPicPr/>
          <p:nvPr/>
        </p:nvPicPr>
        <p:blipFill>
          <a:blip r:embed="rId1"/>
          <a:stretch/>
        </p:blipFill>
        <p:spPr>
          <a:xfrm>
            <a:off x="5364000" y="2276640"/>
            <a:ext cx="3132360" cy="1928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539640" y="3213000"/>
            <a:ext cx="61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igrostriat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so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55640" y="1104840"/>
            <a:ext cx="792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tor activit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nigrostriatal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Deficienc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dopamine in this system cause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- Behavioural effect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esolimbic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mo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Increas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dopaminergic activity in this system is believed to cause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Dopam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55640" y="33336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- Anterior pituitary func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uberohypophyseal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nhibits the secretion of prolactin. Bromocriptine (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used clinically for this purpose.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stimulates the secretion of growth hormone from the pituitary gland in normal subjects, but inhibits its release in acromegaly, a condition in which bromocriptine is useful therapeutically if given before excessive growth has taken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- Vomi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has a role in the production of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aus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by stimulating dopamine receptors in the chemoreceptor trigger zone (CTZ) in the medulla oblong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oclopramide and phenothiazin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hav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rope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omocriptine and levodop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ause nausea and vomiting as side-effects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755640" y="333360"/>
            <a:ext cx="7056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5-Hydroxytryptamine (5-HT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55640" y="1484280"/>
            <a:ext cx="770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5-HT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n important CNS transmitter although the 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brain accounts for only 1%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of its total body content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5-HT-containing neurons arise from nuclei in the pons and medulla known as the “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aphe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uclei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project diffusely to many areas of the brain similar to noradrenergic neuro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4d08"/>
                </a:solidFill>
                <a:latin typeface="Verdana"/>
              </a:rPr>
              <a:t>Formation and release of 5-HT is very similar to NA. Many drugs as TCA that inhibit NA uptake, also inhibit 5-HT uptake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HT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receptors in the CNS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1- 5-HT1 receptors: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located presynapticall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act to inhibit transmitter release.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hey includes 5 subtypes(5-HT1A,5-HT1B, 5-HT1C,5-HT1D, 5-HT1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2- 5-HT2 receptor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: located post-synaptically and may exhibit excitatory or inhibitory functions. They includes 3 subtypes (5-HT2A, 5-HT2B, 5-HT2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3- 5-HT3 recep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pathways in the CNS are involved in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behavioral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changes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hallucination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leep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and control of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55640" y="333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Part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55640" y="220500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1916280"/>
            <a:ext cx="7704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rum</a:t>
            </a:r>
            <a:r>
              <a:rPr b="1" lang="en-US" sz="2600" spc="-1" strike="noStrike">
                <a:solidFill>
                  <a:srgbClr val="000032"/>
                </a:solidFill>
                <a:latin typeface="Verdana"/>
              </a:rPr>
              <a:t> (cerebral hemispheres):</a:t>
            </a:r>
            <a:endParaRPr b="0" lang="en-US" sz="2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stitutes the largest division of the brain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outer layer of the cerebrum is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erebral cortex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57" name="Picture 7" descr="ns9"/>
          <p:cNvPicPr/>
          <p:nvPr/>
        </p:nvPicPr>
        <p:blipFill>
          <a:blip r:embed="rId1"/>
          <a:stretch/>
        </p:blipFill>
        <p:spPr>
          <a:xfrm>
            <a:off x="1979640" y="1773360"/>
            <a:ext cx="5545080" cy="464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Brain_Diagram"/>
          <p:cNvPicPr/>
          <p:nvPr/>
        </p:nvPicPr>
        <p:blipFill>
          <a:blip r:embed="rId2"/>
          <a:stretch/>
        </p:blipFill>
        <p:spPr>
          <a:xfrm>
            <a:off x="2987640" y="3284640"/>
            <a:ext cx="3313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HT plays a rol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1- Moo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ing 5-HT levels by giving tryptophan is useful in depressive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2- Sensory transmi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 inhibits transmission of pain impulses in the spinal cord and brain and enhances morphine analge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3- Temperature contr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ypothalamus is rich in 5-HT containing neurons. Experimentally, injection of 5-HT in that region causes a rise in body temperature, while exposure to cold climates increases 5HT re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4- Anterior pituitary fun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cretion of the hypothalamic releasing factors for certain anterior pituitary hormones as gonadotrophins is influenced by 5-HT containing neurons in the hypothala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5- Vomit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3 blocker (ondansetrone) is used as anti-eme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11280" y="1844640"/>
            <a:ext cx="813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present in the brain in much smaller amounts than in other tissues (skin &amp; lung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Histaminergic neurons arise from a small region in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extend to the forebrain and mid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 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 the brain includ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and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which are all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-prote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pled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4360" y="620640"/>
            <a:ext cx="287964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am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4360" y="1773360"/>
            <a:ext cx="79200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role of histamine in the CNS is minor and poorly understoo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thought to function in the regulation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ody tempera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cular dynamic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locking central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 receptors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s associated with bo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dativ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4360" y="1989000"/>
            <a:ext cx="7991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xcitatory amino acid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EAAs) are widely distributed in the CNS and have important metabolic and neurotransmitter rol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include the dicarboxylic amino acid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AAs receptors (also known as glutamate receptors) ar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lassifi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o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Ion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ab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4360" y="620640"/>
            <a:ext cx="741672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citatory amino acids (EAAs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68360" y="335772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Ion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hannel-link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include: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MD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N-methyl D-aspartate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AMP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amino methyl propionic acid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Kainat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Metab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 coupl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are linked to second messenger system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27" name="Picture 3" descr="soup2a"/>
          <p:cNvPicPr/>
          <p:nvPr/>
        </p:nvPicPr>
        <p:blipFill>
          <a:blip r:embed="rId1"/>
          <a:stretch/>
        </p:blipFill>
        <p:spPr>
          <a:xfrm>
            <a:off x="2340000" y="-1755720"/>
            <a:ext cx="4627440" cy="4897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763640" y="-1971720"/>
            <a:ext cx="5834160" cy="21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692360" y="0"/>
            <a:ext cx="718920" cy="32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124000" y="2997360"/>
            <a:ext cx="5327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04000" y="0"/>
            <a:ext cx="360360" cy="32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773360"/>
            <a:ext cx="7920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xert an extremely powerful excitatory effect on neurons in every region of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glutamate 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ld have a potential therapeutic role in the treatment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pileps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s well as reduction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ain cell deat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aused by excessive NMDA receptor activat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00" y="620640"/>
            <a:ext cx="8496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amma amino butyric acid (GABA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95280" y="1989000"/>
            <a:ext cx="82803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neurotransmitter amino acid that is synthesized by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ecarboxylation of the excitatory amino acid, 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ccurs only in brain tissues, and is abundant in the nigrostriat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 acts o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receptor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468360" y="836640"/>
            <a:ext cx="8280360" cy="55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A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hannel-link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which are stimulated by GABA leading to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ncreased chloride permeability, hyperpolarization, and reduction of excitability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B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-protein-coupl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which inhibit calc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pen potass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reducing excitabilit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are stimulated by 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elective agonist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aclofe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used to treat spasticity and related motor disorders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755640" y="765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 has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3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different si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can be considered as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arge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action of several important CNS drug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37" name="Picture 3" descr="hrl_rcpt_sys_gab"/>
          <p:cNvPicPr/>
          <p:nvPr/>
        </p:nvPicPr>
        <p:blipFill>
          <a:blip r:embed="rId1"/>
          <a:stretch/>
        </p:blipFill>
        <p:spPr>
          <a:xfrm>
            <a:off x="1619280" y="2421000"/>
            <a:ext cx="5734080" cy="3524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39640" y="4365720"/>
            <a:ext cx="806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GABA-binding site (receptor site)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stimulated by endogenous GABA or GABA 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muscimol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hyperpolarization, and blocked by GABA ant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icuculline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convulsions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35622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1280" y="4292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Modulatory site (accessory site):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also known as “benzodiazepine receptor”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enzodiazepines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, which have powerful anxiolytic and sedative effects, bind to this modulatory site to facilitate the binding and inhibitory action of GABA at the receptor site.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1280" y="4437000"/>
            <a:ext cx="7991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The chloride channel</a:t>
            </a: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can be blocked by drugs producing convulsion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picrotoxin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0.00156 -0.26705 E">
                                      <p:cBhvr>
                                        <p:cTn id="165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9640" y="620640"/>
            <a:ext cx="2232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lyc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39640" y="1700280"/>
            <a:ext cx="8280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amino acid which is present in high concentrations in th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spinal stimulant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trychn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produces convulsions by </a:t>
            </a:r>
            <a:r>
              <a:rPr b="1" lang="en-US" sz="2400" spc="-1" strike="noStrike">
                <a:solidFill>
                  <a:srgbClr val="e64d08"/>
                </a:solidFill>
                <a:latin typeface="Verdana"/>
              </a:rPr>
              <a:t>competitive antagonis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inhibitory response to glycin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etanus tox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cts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lectively to prevent glycine 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from inhibitory neurons of the spinal cord causing excessive reflex hyperexcitability and violent muscle spas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5" name="Picture 4" descr="tetaiac002a"/>
          <p:cNvPicPr/>
          <p:nvPr/>
        </p:nvPicPr>
        <p:blipFill>
          <a:blip r:embed="rId1"/>
          <a:stretch/>
        </p:blipFill>
        <p:spPr>
          <a:xfrm>
            <a:off x="1835280" y="476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ortex2"/>
          <p:cNvPicPr/>
          <p:nvPr/>
        </p:nvPicPr>
        <p:blipFill>
          <a:blip r:embed="rId1"/>
          <a:stretch/>
        </p:blipFill>
        <p:spPr>
          <a:xfrm>
            <a:off x="2411280" y="3284640"/>
            <a:ext cx="4105440" cy="307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84360" y="69228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erebral cortex is divided into differe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function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voluntary movements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sensation)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soci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higher mental activities 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consciousness, memory, and behavi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557360"/>
            <a:ext cx="770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 purine acting o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(G-protein coupled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denosine is mainly inhibitory producing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rowsi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alges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convulsan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synthetic adenosine agonists could be useful in treating sleep disturbance, pain, and epileps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On the other hand, xanthines, such as caffeine, produc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 act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s antagonists at the 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26920" y="47628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os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1341360"/>
            <a:ext cx="8136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 mediator that is synthesized from 5-HT in the pineal gland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are G-protein coupled, and are mainly found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etin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bra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controlled by an input from the retina to a structure in the hypothalamus termed as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the biological clock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high at night and low by day, therefore it is important in the regulation of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circadian rhyth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medicinally used to control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jet-lag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in improving the performance of night-shift worker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9640" y="33336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latonin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50" name="Picture 4" descr="PinealLocation"/>
          <p:cNvPicPr/>
          <p:nvPr/>
        </p:nvPicPr>
        <p:blipFill>
          <a:blip r:embed="rId1"/>
          <a:stretch/>
        </p:blipFill>
        <p:spPr>
          <a:xfrm>
            <a:off x="5724360" y="1773360"/>
            <a:ext cx="3151440" cy="223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Circadian%20Rhythm"/>
          <p:cNvPicPr/>
          <p:nvPr/>
        </p:nvPicPr>
        <p:blipFill>
          <a:blip r:embed="rId2"/>
          <a:stretch/>
        </p:blipFill>
        <p:spPr>
          <a:xfrm>
            <a:off x="2195640" y="404640"/>
            <a:ext cx="5038560" cy="365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Melatonin"/>
          <p:cNvPicPr/>
          <p:nvPr/>
        </p:nvPicPr>
        <p:blipFill>
          <a:blip r:embed="rId3"/>
          <a:stretch/>
        </p:blipFill>
        <p:spPr>
          <a:xfrm>
            <a:off x="2268360" y="1341360"/>
            <a:ext cx="50482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547640" y="2565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32"/>
                </a:solidFill>
                <a:latin typeface="Verdana"/>
              </a:rPr>
              <a:t>Thank you</a:t>
            </a:r>
            <a:endParaRPr b="0" lang="en-US" sz="7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0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11280" y="549360"/>
            <a:ext cx="7921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ep in the cerebral hemispheres are located the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which include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lay an important role in the control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ie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2" name="Picture 4" descr="ns9"/>
          <p:cNvPicPr/>
          <p:nvPr/>
        </p:nvPicPr>
        <p:blipFill>
          <a:blip r:embed="rId1"/>
          <a:stretch/>
        </p:blipFill>
        <p:spPr>
          <a:xfrm>
            <a:off x="2771640" y="1989000"/>
            <a:ext cx="3600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4360" y="1413000"/>
            <a:ext cx="45370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functions as a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egrating center for well-being and malais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ceive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mpulses from all parts of the body and relays them to specific areas of the cerebral cortex.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4" name="Picture 3" descr="thalamus"/>
          <p:cNvPicPr/>
          <p:nvPr/>
        </p:nvPicPr>
        <p:blipFill>
          <a:blip r:embed="rId1"/>
          <a:stretch/>
        </p:blipFill>
        <p:spPr>
          <a:xfrm>
            <a:off x="5796000" y="1844640"/>
            <a:ext cx="2894040" cy="3181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5651640" y="4797360"/>
            <a:ext cx="3168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8360" y="1341360"/>
            <a:ext cx="511164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hypo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control center for the enti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utonomic nervous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gulates blood pressure, body temperature, water balance, metabolism, and secretions of the anterior pituitary glan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7" name="Picture 3" descr="hypothalamus"/>
          <p:cNvPicPr/>
          <p:nvPr/>
        </p:nvPicPr>
        <p:blipFill>
          <a:blip r:embed="rId1"/>
          <a:stretch/>
        </p:blipFill>
        <p:spPr>
          <a:xfrm>
            <a:off x="5796000" y="1989000"/>
            <a:ext cx="2816280" cy="3095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724360" y="4797360"/>
            <a:ext cx="3024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3:05:35Z</dcterms:created>
  <dc:creator>User</dc:creator>
  <dc:description/>
  <dc:language>en-US</dc:language>
  <cp:lastModifiedBy>COMPUTER</cp:lastModifiedBy>
  <dcterms:modified xsi:type="dcterms:W3CDTF">2011-09-17T06:33:28Z</dcterms:modified>
  <cp:revision>76</cp:revision>
  <dc:subject/>
  <dc:title>Autonomic nervous system</dc:title>
</cp:coreProperties>
</file>