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FBE1-5C04-435C-BFF4-E4EF985CC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1CC6-F288-4BAD-9080-AA6AE2895CA1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68E8-F1F4-4232-A23A-23F9EE365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8D16-278A-48D1-B84A-5F4EF3C2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2F30-E4DF-46FE-A76D-5EC530BE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B6B9-490A-4C6A-96C1-F07B6D69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0CE8-875E-4E31-8823-201F47AD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8586-38F8-43DC-8D71-12EB29E7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D6E7-1F8C-4204-8DEF-5A86630F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1CCD-5B6D-43F0-8193-0952F07F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C3BC-7968-4556-83A3-D18E3C74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F17F-C71D-46B7-B515-DFD91BE8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776A-BE5A-4666-A2F0-1EF93490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A7A9-EED7-48A3-988A-F509302D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A705-F236-4F16-8A61-5085BDF7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E506-30FE-4AC5-BA2D-0622F07C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08D7-5F1E-499A-B616-667E66EA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7A59-2482-4B90-9C3A-52EBD241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AE5E-2114-4C49-B384-E5E7DF17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28587-8C3E-489C-AE2D-B2E8117A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06AC9-0B5A-4764-942C-D0E95568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6C38A-9A4C-4D29-A6D5-61DCB1E8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8A358-9D6F-4CE4-9D80-F17CA6D5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AABEB-D474-43A6-B95A-85133E2D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B805-0D96-455F-9AC1-EB7F7D1A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A5A55-5985-4F35-975E-74D121D4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EE28E-9BC9-4EEE-9D92-02B6BA92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432C5-B82E-4613-81B0-41459EBF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4587E-030C-41B6-9B69-4EA54457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BB37C-3A50-4911-8C8A-6F9D6797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AD7B1-AD67-48B3-9745-29CDFE3C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80D40-C8EE-4747-9774-DA3A6BB6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9779D-EBDD-4746-94D7-ED28D00D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2E68B-15E7-4D8B-A669-37B20CC3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7398F-A019-4DAF-A107-9BC1945B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E1C6-2386-4EC6-B3F7-A9B7A7B5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1D5EE-6066-447F-B12A-742C164D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6092F-5838-468D-929D-957038BD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1EBA8-AA4A-46EC-87CF-C00A62D7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887F4-7DCE-4FB8-914D-9D5F17F9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23040-7D1B-4333-8F5D-DFC75C25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6EA74-C8B5-4A7D-AC1E-40A9884E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9945B-384F-45D6-A250-02C3E1A5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F49CC-4262-46B0-97BD-289F38D0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68D89-6657-483A-B5D4-4536397D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57071-97E0-411C-9F23-B1C115BD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F0AB-18F2-4D7C-80B5-6A466A7A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26870-A36B-442D-85DC-B1B6BB46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AC7A9-9766-4C74-8EA8-8D1E45E4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42769-959B-42C1-BDAD-35F9C86C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E74F4-B871-4BC0-AD14-AE6EE663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0C9FA-2E24-45D0-BB4C-3716A1EF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589C6-3ECF-4222-8653-1DE6CC45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AA3D8-96FE-46A5-A285-766B7978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B3503-4C1B-4814-B5A2-23231C40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55FCF-4234-4298-BE90-0F7F8E42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0A57D-9DE7-4E74-8CAE-576DFB6A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1AC6-766E-49ED-826D-40718DA9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34128-D1DB-4E02-A506-BB90DAB9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A8C5-195E-4D90-8606-E864A04B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E5E-DEB4-4A94-98E8-BD5BB456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DCA4-009A-43DC-90C4-7B7CF3E7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2E58-F16D-4EC4-8659-15284488E19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D882-BB60-499C-BF2C-FEE9E6B637D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21AC-489D-4247-920C-0AED541544E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D9B5-DE05-4A8B-AFDC-BD41560AE1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BC9B-78D8-4B2F-AD9B-402163925A5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952560" y="1980720"/>
            <a:ext cx="723888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57576e"/>
                </a:solidFill>
                <a:latin typeface="Arial"/>
              </a:rPr>
              <a:t>Inverse of a Matrix and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57576e"/>
                </a:solidFill>
                <a:latin typeface="Arial"/>
              </a:rPr>
              <a:t>Determinants   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381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77320" cy="13716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8229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305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924680" cy="1295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2"/>
          <a:stretch/>
        </p:blipFill>
        <p:spPr>
          <a:xfrm>
            <a:off x="685800" y="2523960"/>
            <a:ext cx="80773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1536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3055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7924680" cy="44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457200" y="5410080"/>
            <a:ext cx="7772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81880" cy="76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8305920" cy="33526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3"/>
          <a:stretch/>
        </p:blipFill>
        <p:spPr>
          <a:xfrm>
            <a:off x="380880" y="533412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077320" cy="1295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609480" y="2652840"/>
            <a:ext cx="8077320" cy="2300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3"/>
          <a:stretch/>
        </p:blipFill>
        <p:spPr>
          <a:xfrm>
            <a:off x="1143000" y="5257800"/>
            <a:ext cx="70102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059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305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076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848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382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8153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8001000" cy="2605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8077320" cy="1600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685800" y="685800"/>
            <a:ext cx="7924680" cy="457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4"/>
          <a:stretch/>
        </p:blipFill>
        <p:spPr>
          <a:xfrm>
            <a:off x="533520" y="2971800"/>
            <a:ext cx="80769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3059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4238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2"/>
          <a:stretch/>
        </p:blipFill>
        <p:spPr>
          <a:xfrm>
            <a:off x="304920" y="4952880"/>
            <a:ext cx="8458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229600" cy="5181840"/>
          </a:xfrm>
          <a:prstGeom prst="rect">
            <a:avLst/>
          </a:prstGeom>
          <a:ln w="0">
            <a:noFill/>
          </a:ln>
        </p:spPr>
      </p:pic>
      <p:sp>
        <p:nvSpPr>
          <p:cNvPr id="237" name="TextBox 2"/>
          <p:cNvSpPr/>
          <p:nvPr/>
        </p:nvSpPr>
        <p:spPr>
          <a:xfrm>
            <a:off x="380880" y="5791320"/>
            <a:ext cx="8153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int: Use row operations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;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;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2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;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;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;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/2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cxnSp>
        <p:nvCxnSpPr>
          <p:cNvPr id="238" name="Straight Arrow Connector 4"/>
          <p:cNvCxnSpPr/>
          <p:nvPr/>
        </p:nvCxnSpPr>
        <p:spPr>
          <a:xfrm>
            <a:off x="4457520" y="6019560"/>
            <a:ext cx="114840" cy="1080"/>
          </a:xfrm>
          <a:prstGeom prst="straightConnector1">
            <a:avLst/>
          </a:prstGeom>
          <a:ln w="9360">
            <a:solidFill>
              <a:srgbClr val="93a299"/>
            </a:solidFill>
            <a:miter/>
            <a:tailEnd len="med" type="arrow" w="med"/>
          </a:ln>
        </p:spPr>
      </p:cxnSp>
      <p:cxnSp>
        <p:nvCxnSpPr>
          <p:cNvPr id="239" name="Straight Arrow Connector 7"/>
          <p:cNvCxnSpPr/>
          <p:nvPr/>
        </p:nvCxnSpPr>
        <p:spPr>
          <a:xfrm>
            <a:off x="5790960" y="6019560"/>
            <a:ext cx="114840" cy="1080"/>
          </a:xfrm>
          <a:prstGeom prst="straightConnector1">
            <a:avLst/>
          </a:prstGeom>
          <a:ln w="9360">
            <a:solidFill>
              <a:srgbClr val="93a299"/>
            </a:solidFill>
            <a:miter/>
            <a:tailEnd len="med" type="arrow" w="med"/>
          </a:ln>
        </p:spPr>
      </p:cxnSp>
      <p:cxnSp>
        <p:nvCxnSpPr>
          <p:cNvPr id="240" name="Straight Arrow Connector 8"/>
          <p:cNvCxnSpPr/>
          <p:nvPr/>
        </p:nvCxnSpPr>
        <p:spPr>
          <a:xfrm>
            <a:off x="7315200" y="6025680"/>
            <a:ext cx="115200" cy="1080"/>
          </a:xfrm>
          <a:prstGeom prst="straightConnector1">
            <a:avLst/>
          </a:prstGeom>
          <a:ln w="9360">
            <a:solidFill>
              <a:srgbClr val="93a299"/>
            </a:solidFill>
            <a:miter/>
            <a:tailEnd len="med" type="arrow" w="med"/>
          </a:ln>
        </p:spPr>
      </p:cxnSp>
      <p:cxnSp>
        <p:nvCxnSpPr>
          <p:cNvPr id="241" name="Straight Arrow Connector 9"/>
          <p:cNvCxnSpPr/>
          <p:nvPr/>
        </p:nvCxnSpPr>
        <p:spPr>
          <a:xfrm>
            <a:off x="1276200" y="6400440"/>
            <a:ext cx="115200" cy="1080"/>
          </a:xfrm>
          <a:prstGeom prst="straightConnector1">
            <a:avLst/>
          </a:prstGeom>
          <a:ln w="9360">
            <a:solidFill>
              <a:srgbClr val="93a299"/>
            </a:solidFill>
            <a:miter/>
            <a:tailEnd len="med" type="arrow" w="med"/>
          </a:ln>
        </p:spPr>
      </p:cxnSp>
      <p:cxnSp>
        <p:nvCxnSpPr>
          <p:cNvPr id="242" name="Straight Arrow Connector 10"/>
          <p:cNvCxnSpPr/>
          <p:nvPr/>
        </p:nvCxnSpPr>
        <p:spPr>
          <a:xfrm>
            <a:off x="2666880" y="6393960"/>
            <a:ext cx="115200" cy="1080"/>
          </a:xfrm>
          <a:prstGeom prst="straightConnector1">
            <a:avLst/>
          </a:prstGeom>
          <a:ln w="9360">
            <a:solidFill>
              <a:srgbClr val="93a299"/>
            </a:solidFill>
            <a:miter/>
            <a:tailEnd len="med" type="arrow" w="med"/>
          </a:ln>
        </p:spPr>
      </p:cxnSp>
      <p:cxnSp>
        <p:nvCxnSpPr>
          <p:cNvPr id="243" name="Straight Arrow Connector 11"/>
          <p:cNvCxnSpPr/>
          <p:nvPr/>
        </p:nvCxnSpPr>
        <p:spPr>
          <a:xfrm>
            <a:off x="3809880" y="6393960"/>
            <a:ext cx="115200" cy="1080"/>
          </a:xfrm>
          <a:prstGeom prst="straightConnector1">
            <a:avLst/>
          </a:prstGeom>
          <a:ln w="9360">
            <a:solidFill>
              <a:srgbClr val="93a2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848360" cy="1876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833400" y="2664000"/>
            <a:ext cx="7772400" cy="2517480"/>
          </a:xfrm>
          <a:prstGeom prst="rect">
            <a:avLst/>
          </a:prstGeom>
          <a:ln w="0">
            <a:noFill/>
          </a:ln>
        </p:spPr>
      </p:pic>
      <p:sp>
        <p:nvSpPr>
          <p:cNvPr id="246" name="TextBox 3"/>
          <p:cNvSpPr/>
          <p:nvPr/>
        </p:nvSpPr>
        <p:spPr>
          <a:xfrm>
            <a:off x="838080" y="5257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</a:rPr>
              <a:t>Hence, the original matrix does not have an inverse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atrix Equ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305560" cy="3962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2133720" cy="304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"/>
          <p:cNvPicPr/>
          <p:nvPr/>
        </p:nvPicPr>
        <p:blipFill>
          <a:blip r:embed="rId3"/>
          <a:stretch/>
        </p:blipFill>
        <p:spPr>
          <a:xfrm>
            <a:off x="3962520" y="6095880"/>
            <a:ext cx="12952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7:09:25Z</dcterms:created>
  <dc:creator>Bokkasam Sasi Bokkasam</dc:creator>
  <dc:description/>
  <dc:language>en-US</dc:language>
  <cp:lastModifiedBy>User</cp:lastModifiedBy>
  <cp:lastPrinted>2016-10-05T07:52:40Z</cp:lastPrinted>
  <dcterms:modified xsi:type="dcterms:W3CDTF">2016-10-05T08:04:16Z</dcterms:modified>
  <cp:revision>302</cp:revision>
  <dc:subject/>
  <dc:title>PowerPoint Presentation</dc:title>
</cp:coreProperties>
</file>