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70C3-2BEB-4756-9844-CF68342CA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47BB-A379-43B3-9D60-B8C32A3355D8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D05-45F8-42B7-A37D-E57212A8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A4F-6A01-4DF6-887A-04BF7D06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178-9D05-441C-AAA0-0B649B71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D9B-7745-48A5-A1DF-F74E42F8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497E-EDB6-4CB8-B767-24E9DD00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B7EF-6EB4-41BE-8B4D-35A8ACEB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651F-E729-4372-8DBB-AB0A9498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6846-ABDC-4FB5-8BC2-7B378440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6932-BE3C-4DF2-ABAB-F6DA8D09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4FCB-5BE4-4EAE-BA03-341F4D67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AB51-7BF0-40E2-BC03-7CCCADED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2CE-2CAC-4D1F-B5B9-D2B7DDF5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8D9C-4462-4E57-B942-36C994AE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4C70-8C45-4317-96B2-344FD67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4B02-45C4-47AA-B41A-6A2CD2DC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1A91-7460-4561-8361-339EF4A3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DAF2-2E8B-42F7-BCE7-F067B96A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2A53-8A6C-4668-B82E-1B57CA61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DEB83-A9CA-4750-B165-B21A88D1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C58F-AAC0-4607-98C9-AC5723FF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4524-759E-42BB-AE38-B54D6427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58B2-5C15-45B1-B357-45591AD3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892-4C95-493B-942A-0E20F6A1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BEC97-1D8A-4CEA-BC9A-F79A5365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0B4D-2EC8-45DE-AD4A-F5E83834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7ED5-BDA0-47DC-AA7D-67B1A288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057C-CDFA-477D-8850-DA2192B5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CC74-6158-468C-8892-0DE30540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1FB2-4619-4655-B474-C5DEF7A0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94B35-AF18-41CF-9472-F1670AA8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8B1C2-12FD-4650-A9BA-F7328303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62C1-18D7-479F-A95A-07F74460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C307F-3F43-4769-B2C9-9C93E991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209-221D-465D-AC42-46A6BC77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A0469-3E32-4FC9-BC05-196ED6D4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CD8C-41B0-4316-AF47-5897505A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BEF4-FADD-4E0A-8AF8-C262499F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3B5C7-47B8-494E-901D-EE7AFFE2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EB27-C20B-4896-B109-13B0AB6E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D1009-C651-4DA4-916F-70FB5821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6B9BE-1E3D-4143-8B93-0AC3C0CB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4C38-2247-4BF3-8D1E-8586E9D4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C6FED-C479-4B2B-ADDE-9913833F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612E5-389A-4930-88D0-5B6CCAEF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049-B076-4364-8722-6099146D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F355-089F-4313-8BEA-BD474448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37AA6-9534-4676-81C6-79B2D8BF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DAEAE-F8F9-4B7D-9A1B-094802A0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8C744-7A57-49B1-A001-E429FCE6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1F968-7613-459C-8DF7-008224D0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350AB-5E38-4639-B2EC-430D4C4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2CA83-F6A6-44D1-BE98-0698A4C2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4706C-3C4D-46E9-B39B-3F5AC14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85E99-F20A-4F5B-AA5E-59B04EE8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1CAB6-6262-429C-B629-515EA53B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9E1-DEE2-44A3-87D5-47F4AA2A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ECE73-7E1F-4FB7-BC51-8F1F9BCC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6BC-B48A-4FC7-A096-6BFEAB03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C22-D5C6-43E9-9F0A-061D9ED0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848-5726-4BDC-A8DD-480804D4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D487-5F8B-4067-8C0D-762D22CE7A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10F7-B3A9-40E8-8D5D-88E0E8D570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81A7-DD6C-4D3B-A5BE-C9B95B1C7F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A5A0-141B-4197-AD96-59493D94C3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864D-3A82-44D6-AE9B-067A911C9A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1980720"/>
            <a:ext cx="72388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Inverse of a Matrix an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Determinants 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3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229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05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129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685800" y="2523960"/>
            <a:ext cx="80773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305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924680" cy="44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457200" y="541008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76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3352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380880" y="533412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077320" cy="1295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09480" y="2652840"/>
            <a:ext cx="8077320" cy="2300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1143000" y="5257800"/>
            <a:ext cx="70102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0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15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605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8077320" cy="1600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685800" y="685800"/>
            <a:ext cx="79246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533520" y="2971800"/>
            <a:ext cx="80769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4238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8458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1818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380880" y="5791320"/>
            <a:ext cx="8153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nt: Use row operations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2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cxnSp>
        <p:nvCxnSpPr>
          <p:cNvPr id="238" name="Straight Arrow Connector 4"/>
          <p:cNvCxnSpPr/>
          <p:nvPr/>
        </p:nvCxnSpPr>
        <p:spPr>
          <a:xfrm>
            <a:off x="4457520" y="6019560"/>
            <a:ext cx="11484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39" name="Straight Arrow Connector 7"/>
          <p:cNvCxnSpPr/>
          <p:nvPr/>
        </p:nvCxnSpPr>
        <p:spPr>
          <a:xfrm>
            <a:off x="5790960" y="6019560"/>
            <a:ext cx="11484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0" name="Straight Arrow Connector 8"/>
          <p:cNvCxnSpPr/>
          <p:nvPr/>
        </p:nvCxnSpPr>
        <p:spPr>
          <a:xfrm>
            <a:off x="7315200" y="602568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>
            <a:off x="1276200" y="640044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2" name="Straight Arrow Connector 10"/>
          <p:cNvCxnSpPr/>
          <p:nvPr/>
        </p:nvCxnSpPr>
        <p:spPr>
          <a:xfrm>
            <a:off x="2666880" y="639396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3" name="Straight Arrow Connector 11"/>
          <p:cNvCxnSpPr/>
          <p:nvPr/>
        </p:nvCxnSpPr>
        <p:spPr>
          <a:xfrm>
            <a:off x="3809880" y="639396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48360" cy="1876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833400" y="2664000"/>
            <a:ext cx="7772400" cy="25174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838080" y="5257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</a:rPr>
              <a:t>Hence, the original matrix does not have an inverse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trix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05560" cy="39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21337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3"/>
          <a:stretch/>
        </p:blipFill>
        <p:spPr>
          <a:xfrm>
            <a:off x="3962520" y="6095880"/>
            <a:ext cx="12952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User</cp:lastModifiedBy>
  <cp:lastPrinted>2016-10-05T07:52:40Z</cp:lastPrinted>
  <dcterms:modified xsi:type="dcterms:W3CDTF">2016-10-05T08:04:16Z</dcterms:modified>
  <cp:revision>302</cp:revision>
  <dc:subject/>
  <dc:title>PowerPoint Presentation</dc:title>
</cp:coreProperties>
</file>