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53B5-F5FD-49C3-9310-5CE843E9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FB50-C72C-4BED-B1F0-D035DDC9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31F-4CE5-41FC-85EB-A0C6D8EA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AC7C-4FE6-4F68-BE5F-F1E7A1BA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7AF9-A2F1-4AC0-BA81-3F59EBDA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9124-A9A2-489E-B645-DFEAE479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BE3-72AF-4121-A502-CA8E904A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E838-A2F4-4BF3-9ECF-D86F41F5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DDA-21B5-434E-9004-F442B900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3636-F6BC-484B-9453-F357F82A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D3E-C87B-4D0D-84C5-DB17A71F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8C8-C941-42B7-9C49-7263B536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79FE-91EE-4306-8CD8-BE754FC5E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Picture of Inv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PIGBANK"/>
          <p:cNvPicPr/>
          <p:nvPr/>
        </p:nvPicPr>
        <p:blipFill>
          <a:blip r:embed="rId1"/>
          <a:stretch/>
        </p:blipFill>
        <p:spPr>
          <a:xfrm>
            <a:off x="2895480" y="3429000"/>
            <a:ext cx="3886200" cy="3048120"/>
          </a:xfrm>
          <a:prstGeom prst="rect">
            <a:avLst/>
          </a:prstGeom>
          <a:ln w="0">
            <a:noFill/>
          </a:ln>
        </p:spPr>
      </p:pic>
      <p:sp>
        <p:nvSpPr>
          <p:cNvPr id="4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4DA3-8B8B-4157-8B5B-74057E1D4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ment Philoso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coherent way of thinking about markets, how they work (and sometimes do not) and the types of mistakes that you believe consistently underlie investor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472F-F9F2-40A4-ABAA-F4611EE18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rail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investment philosophies is a view about human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9B0E-033A-45D6-99A0-5428247BE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an investment philosop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ing a rudder or core set of beliefs, makes you a prey for charlatans and prete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from strategy to strategy will cause high transaction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your objectives, risk aversion and personal characteristics you need to decide what do you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990B-8F3C-4D9F-B6C0-F85A635BD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stment Philosophies - Categ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Timing versus Asset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versus Passive Inv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Ho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A4EC-0EDD-4A8A-AA1C-32FB05465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Timing versus Asset Se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timing – Overall markets (could include broader range like stock, currency, bond and real assets mark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t selection – Individual assets that are mispriced (could be based on technical or fundamental, value or grow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E229-4692-444A-B8D8-E0F494F02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versus Passive Invest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ve – invest in a stock and wait for your investment payoff that will come when market recognizes and correct a mis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– invest in a company and try to change the way the company is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7C38-8835-4265-BE39-5529B196F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 Horiz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term strategies – markets overreact to new information, market ti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term strategies – buying neglected companies, passive value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3F8B-DFBF-4745-B1FC-0EC488842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existence of Contradictory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timers who trade on price momentum and contrar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selectors who are growth investors and value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A88A-A35B-48FD-9C52-242271D15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1- Understanding the 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’s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’s risk p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of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ho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’s tax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t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CE7C-7AD9-4BB5-82B4-67C6AD3C3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- Portfolio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llocate the portfolio across different asset classes broadly defined as equities, fixed income securities and real assets (such as real estate or commod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 allocation should also be viewed in terms of investments in domestic assets and foreign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ove would be based on the portfolio manager’s views on markets, inflation rates, interest rates, growth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D162-B339-4050-8F5F-F241532DA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- Portfolio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tocks, bonds and real ass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the result of valuation based on cash flows, comparables, charts and indicators and also private information that the portfolio manager poss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5BBF-1935-4D47-B017-E8CB3DD89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- Portfolio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on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often do you tr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arge are your tra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use derivatives to manage or enhance your ris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ng costs like commissions, bid-ask spread, price impact and trading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A314-6E1B-4C86-94F3-86B713264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- Portfolio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and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ing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of diver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efficiency : Can you beat the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ng Systems: How does trading affect pri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7D5E-BAA1-4045-B5F0-9CD507D6A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3-Evaluate Portfolio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– making most money you can given your risk p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risk did the portfolio manager t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turn did the portfolio manager m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 portfolio manager under perform or over per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will be a func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ck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3F61-E9A5-4018-BA46-01B23D994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3-Evaluate Portfolio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of portfolio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EA5C-A243-4458-9074-1C597D71A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787320" y="687240"/>
          <a:ext cx="7569360" cy="548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687240"/>
                    <a:ext cx="7569360" cy="548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Lakshmi Kalyanar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2A5E-065B-4A0E-AB5B-0BBFE56FA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K. Lakshmi</dc:creator>
  <dc:description/>
  <dc:language>en-US</dc:language>
  <cp:lastModifiedBy>Lakshmi</cp:lastModifiedBy>
  <dcterms:modified xsi:type="dcterms:W3CDTF">2015-02-08T19:19:06Z</dcterms:modified>
  <cp:revision>15</cp:revision>
  <dc:subject>icm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