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515-1210-4115-B10D-9CF45EAF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0F0-9926-41EB-A1FC-60BC6AF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DB7-219A-4FB7-9071-67FD5962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2AB-94E4-4ED5-89A7-18B825FE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0FA-4A42-4593-A7E6-E0F816A4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630-E9ED-444D-AA21-A211CA9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081-17ED-4061-8744-5BF9B78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58D-E09D-4E56-BE6E-CC838AD8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5ED-9A39-42EF-A89A-987E0C3B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45C-CD1F-4E82-9508-81D44A3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90C-6A67-436D-BB14-959547D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8B1-F45C-46D1-B570-B3C6F2B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C47-35BB-4CAC-B12C-AB369BC4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 of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IGBANK"/>
          <p:cNvPicPr/>
          <p:nvPr/>
        </p:nvPicPr>
        <p:blipFill>
          <a:blip r:embed="rId1"/>
          <a:stretch/>
        </p:blipFill>
        <p:spPr>
          <a:xfrm>
            <a:off x="28954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DBC-677F-45CF-B856-66B15212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herent way of thinking about markets, how they work (and sometimes do not) and the types of mistakes that you believe consistently underlie investor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BC38-9E8A-45FD-89E0-1968C4E4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rai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vestment philosophies is a view about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807-925D-4440-B653-CA36240F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an investment philoso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ing a rudder or core set of beliefs, makes you a prey for charlatans and pret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from strategy to strategy will cause high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our objectives, risk aversion and personal characteristics you need to decide what do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8AB-DFBF-428A-AE02-3AFDD649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Philosophies -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ing versus Asse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versus Passive In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021-B99E-41E8-945A-A9550F6B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Timing versus Asset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ing – Overall markets (could include broader range like stock, currency, bond and real assets mark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selection – Individual assets that are mispriced (could be based on technical or fundamental, value or grow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5652-A83E-4B3A-8377-0196888D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versus Passive Inves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– invest in a stock and wait for your investment payoff that will come when market recognizes and correct a mis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– invest in a company and try to change the way the company i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767-84D0-4726-9FA6-43528E91C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term strategies – markets overreact to new information, market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strategies – buying neglected companies, passive value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6B8-4CAA-472A-BC67-2687C7C75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existence of Contradictory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ers who trade on price momentum and contr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electors who are growth investors and value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FD10-5B42-42A8-9BF5-F14318DE1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- Understanding the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risk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tax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6AC-0FD8-407A-B473-A913EC71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llocate the portfolio across different asset classes broadly defined as equities, fixed income securities and real assets (such as real estate or commod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allocation should also be viewed in terms of investments in domestic assets and foreig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would be based on the portfolio manager’s views on markets, inflation rates, interest rates, growth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E2E2-31CE-4487-AF72-A52976283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tocks, bonds and real ass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he result of valuation based on cash flows, comparables, charts and indicators and also private information that the portfolio manag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D25-B1CE-4D50-9F90-4609B3FFE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you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are your t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derivatives to manage or enhance your ris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costs like commissions, bid-ask spread, price impact and trad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008-3B34-48A0-9266-433BD79B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fficiency : Can you beat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ystems: How does trading affect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AAC-40FE-49F4-8A05-3C7F078A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-Evaluate Portfolio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– making most money you can given your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risk did the portfolio manager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turn did the portfolio manager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portfolio manager under perform or over per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ill be a fun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1C8-B6BB-49AE-B261-982D1D78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-Evaluate Portfolio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of portfolio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8C35-E07D-4923-AF42-98C350AB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787320" y="687240"/>
          <a:ext cx="7569360" cy="548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687240"/>
                    <a:ext cx="756936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B3E-709C-412C-BED2-AFB3A688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K. Lakshmi</dc:creator>
  <dc:description/>
  <dc:language>en-US</dc:language>
  <cp:lastModifiedBy>Lakshmi</cp:lastModifiedBy>
  <dcterms:modified xsi:type="dcterms:W3CDTF">2015-02-08T19:19:06Z</dcterms:modified>
  <cp:revision>15</cp:revision>
  <dc:subject>icm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