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5D10E-95F8-4AE1-9665-D0F8A1238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1B25-BE6F-47B0-81E4-CCC26B69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D0BCB-9AB3-4E37-BC45-A7B37F244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1FB94-3FEC-404A-909D-AA76E5B56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03529-A2FD-44E2-8168-E8B0B764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603C-93B2-483A-8493-76025F53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3E589-B69D-4A71-AABD-9DFC5440E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A44FA-ECB1-4081-8528-A8B999C2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DC467-DBA2-4654-A801-FCD46C28E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5908-2EB3-4F55-9514-7CB0B08A3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8A48-4126-43C8-A334-E7874980D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215A-11DD-4C57-B852-E79AA8262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D6A6-F245-4285-A399-843A77D6D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ment Sty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esident of the company has a headache, the portfolio manager may check him into the hospi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ren Buffet</a:t>
            </a:r>
            <a:endParaRPr b="0" lang="en-US" sz="4400" spc="-1" strike="noStrike">
              <a:solidFill>
                <a:srgbClr val="000000"/>
              </a:solidFill>
              <a:latin typeface="Arial"/>
            </a:endParaRPr>
          </a:p>
        </p:txBody>
      </p:sp>
      <p:sp>
        <p:nvSpPr>
          <p:cNvPr id="6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ote:</a:t>
            </a:r>
            <a:r>
              <a:rPr b="0" lang="en-US" sz="2800" spc="-1" strike="noStrike">
                <a:solidFill>
                  <a:srgbClr val="000000"/>
                </a:solidFill>
                <a:latin typeface="Arial"/>
              </a:rPr>
              <a:t>"If past history was all there was to the game, the richest people would be librarians."</a:t>
            </a:r>
            <a:endParaRPr b="0" lang="en-US" sz="2800" spc="-1" strike="noStrike">
              <a:solidFill>
                <a:srgbClr val="000000"/>
              </a:solidFill>
              <a:latin typeface="Arial"/>
            </a:endParaRPr>
          </a:p>
        </p:txBody>
      </p:sp>
      <p:pic>
        <p:nvPicPr>
          <p:cNvPr id="63" name="Picture 5" descr="buffett_pg"/>
          <p:cNvPicPr/>
          <p:nvPr/>
        </p:nvPicPr>
        <p:blipFill>
          <a:blip r:embed="rId1"/>
          <a:stretch/>
        </p:blipFill>
        <p:spPr>
          <a:xfrm>
            <a:off x="1066680" y="0"/>
            <a:ext cx="1285920" cy="16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Investing</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tor of this conservative approach was Benjamin Graham. His pupil Warren Buffett described Graham’s methods as the used-cigar-butts approach-"Well smoked, down-to-the-nub cigars but they are free- you pick them up and get free puffs out of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Invest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 identify one of those forgotten heroines, it is tough to figure out when her fortunes are going to turn a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ce is ti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Inves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underlying philosophy is that a value investor buys a business rather than a stock. This means that one should invest in businesses, which are easy to comprehend, and where future cash flows are predictable with ‘clock like certain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Tene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business simple and understan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have a consistent operating hist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have favorable long-term prospec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ement Te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anagement ratio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anagement candid with its sharehold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uffett-speak, " With few exceptions when a manager with a reputation for brilliance tackles a business with a reputation for bad fundamentals, it is the reputation of the business that remains int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al Tene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return on equity, not earnings/sh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companies with high profit margi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dollar earned, make sure the company added $1 of market valu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uffett’s opinions, these are the significant financial parameters. Growth in revenues, without a rise in profits and market value does not mean any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ket Te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the busin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bought at a discount to its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tt believes that fixing an inherent or fundamental value to a stock is possible. That can be compared with the market price. If the market price is at a discount, then the stock is a "bu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hard Driehau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I would much rather be invested in a stock that is increasing in price and take the risk that it may begin to decline than invest in a stock that is already in a decline and try to guess when it will turn aroun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5" descr="Driehaus_3"/>
          <p:cNvPicPr/>
          <p:nvPr/>
        </p:nvPicPr>
        <p:blipFill>
          <a:blip r:embed="rId1"/>
          <a:stretch/>
        </p:blipFill>
        <p:spPr>
          <a:xfrm>
            <a:off x="685800" y="0"/>
            <a:ext cx="142884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ment Style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Inv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mentum Invest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Gunslinger’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d proponents of Newton’s first law of motion – objects in motion tend to stay in motion until another force interv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ed in stocks with strong upward price momen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style of investing is b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versus Growth</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stocks will outperform value stocks for a time and then the opposite occurs</a:t>
            </a:r>
            <a:endParaRPr b="0" lang="en-US" sz="4000" spc="-1" strike="noStrike">
              <a:solidFill>
                <a:srgbClr val="000000"/>
              </a:solidFill>
              <a:latin typeface="Arial"/>
            </a:endParaRPr>
          </a:p>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 time value stocks have offered somewhat higher returns than growth stock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Characteristics of Investment Geniuses</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ip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st Intangi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ter Lynch</a:t>
            </a:r>
            <a:endParaRPr b="0" lang="en-US" sz="4400" spc="-1" strike="noStrike">
              <a:solidFill>
                <a:srgbClr val="000000"/>
              </a:solidFill>
              <a:latin typeface="Arial"/>
            </a:endParaRPr>
          </a:p>
        </p:txBody>
      </p:sp>
      <p:sp>
        <p:nvSpPr>
          <p:cNvPr id="45"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te:" Go</a:t>
            </a:r>
            <a:r>
              <a:rPr b="0" lang="en-US" sz="3200" spc="-1" strike="noStrike">
                <a:solidFill>
                  <a:srgbClr val="000000"/>
                </a:solidFill>
                <a:latin typeface="Arial"/>
              </a:rPr>
              <a:t> for a business that any idiot can run - because sooner or later, any idiot probably is going to run it." </a:t>
            </a:r>
            <a:endParaRPr b="0" lang="en-US" sz="3200" spc="-1" strike="noStrike">
              <a:solidFill>
                <a:srgbClr val="000000"/>
              </a:solidFill>
              <a:latin typeface="Arial"/>
            </a:endParaRPr>
          </a:p>
        </p:txBody>
      </p:sp>
      <p:pic>
        <p:nvPicPr>
          <p:cNvPr id="46" name="Picture 5" descr="lynch_pg"/>
          <p:cNvPicPr/>
          <p:nvPr/>
        </p:nvPicPr>
        <p:blipFill>
          <a:blip r:embed="rId1"/>
          <a:stretch/>
        </p:blipFill>
        <p:spPr>
          <a:xfrm>
            <a:off x="914400" y="3049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Lynch believes that an investor can identify great stocks long before the market does, by using his intuition, intelligence, reflection and perseve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Lynch advocates the "schoolboy approach" of stock picking. That is, investing in stocks one is familiar with. In his best selling book, ‘Beating the Street’, Lynch in ten pithy sentences laid a road map for the invest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market isn't really a gamble, as long as you pick good companies that you think will do well and not just because of their stock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a lot of money from the stock market but you can lose a lot of money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lose money in a very short time but it takes a long time to make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to research a company before you put your money on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invest in the stock market you need to diversif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fall in love with a stock, always have an open mi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stocks in utility companies is good, as it gives you a higher dividen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 a stock has gone down, it does not mean it can’t go any l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not buy a stock just because it is che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long run, it’s better to buy stocks of smaller compan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ctive industry fundamen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ate of earnings and sales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ble price earnings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a high price earnings ratio is ok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kshmi</dc:creator>
  <dc:description/>
  <dc:language>en-US</dc:language>
  <cp:lastModifiedBy>Lakshmi</cp:lastModifiedBy>
  <dcterms:modified xsi:type="dcterms:W3CDTF">2015-04-20T14:57:4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