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1389-4AC4-44F1-BF93-9E5CF9C55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63BA-95B0-474E-8645-CA9BEAB3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A3F3-D892-4E44-B667-7B51A0FE9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F2F3-6B47-4532-96E4-B1B00C353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98FE-F4E0-4BD6-87A3-CFDFDD472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832E5-DCB6-4ED0-AF87-1BB36AF3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0C93C-D58F-4B8B-9251-BBA3955A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5086-1146-4E8A-BFA6-3E735EDC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D8B1B-2C06-49F9-AA21-AEF36506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C21B-4FA7-4ECA-A451-94182381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CDE80-EF29-4F79-A9DD-EBF92CC6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8BAC-AF54-4642-ABD4-DD01B49D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B20D-82E0-4781-8EF9-E69B92AA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7567-3E11-4314-92F2-5894BE1A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9073-F20C-4952-80F1-4E58823F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66D7-2B7D-4A7E-816E-6BC80D212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86506-FA9F-4A04-9964-509F6D2CA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F161-9165-46EC-ADF7-4D82A2B9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48B5-CCF6-4679-AC5D-62819B73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67F6-03A2-4197-9134-7139CBF0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8E5B-9EE3-4E5E-8734-DAA1E194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F584-FD31-4521-A8E4-05AA333E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D3A5-1AA2-47C1-9C75-C55644D0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D662-49BE-4861-B6C1-402270BB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ngsana New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C6AD-4DED-404B-BE27-588B8953CA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ngsana New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20EA-508A-43CC-B66E-D8DE220F11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gsana Ne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ngsana Ne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ngsana New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ngsana Ne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gsana New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ngsana Ne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gsana New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gsana New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gsana New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7200" spc="-1" strike="noStrike">
                <a:solidFill>
                  <a:srgbClr val="ffff00"/>
                </a:solidFill>
                <a:latin typeface="Angsana New"/>
              </a:rPr>
              <a:t>HYPOCHROMIC ANEMIA </a:t>
            </a:r>
            <a:br>
              <a:rPr sz="7200"/>
            </a:br>
            <a:r>
              <a:rPr b="1" lang="th-TH" sz="7200" spc="-1" strike="noStrike">
                <a:solidFill>
                  <a:srgbClr val="ffff00"/>
                </a:solidFill>
                <a:latin typeface="Angsana New"/>
              </a:rPr>
              <a:t>&amp; </a:t>
            </a:r>
            <a:br>
              <a:rPr sz="7200"/>
            </a:br>
            <a:r>
              <a:rPr b="1" lang="th-TH" sz="7200" spc="-1" strike="noStrike">
                <a:solidFill>
                  <a:srgbClr val="ffff00"/>
                </a:solidFill>
                <a:latin typeface="Angsana New"/>
              </a:rPr>
              <a:t>IRON METABOLISM</a:t>
            </a:r>
            <a:endParaRPr b="0" lang="en-US" sz="72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3657600"/>
            <a:ext cx="80769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       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958680"/>
            <a:ext cx="9144000" cy="5899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0480" y="68400"/>
            <a:ext cx="90230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INTRACELLULAR IRON TRANSPORT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80880" y="380880"/>
            <a:ext cx="4191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ngsana New"/>
              </a:rPr>
              <a:t>Iron Metabolism</a:t>
            </a:r>
            <a:endParaRPr b="1" lang="en-US" sz="2400" spc="1" strike="noStrike">
              <a:ln w="0">
                <a:noFill/>
              </a:ln>
              <a:solidFill>
                <a:srgbClr val="00cc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1447920"/>
            <a:ext cx="80773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Iron distribution &amp; transport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Dietary iron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Iron absorption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ffff00"/>
                </a:solidFill>
                <a:latin typeface="Arial"/>
              </a:rPr>
              <a:t>Iron requirements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09480" y="1600200"/>
            <a:ext cx="7848720" cy="3679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Adult men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0.5-1</a:t>
            </a:r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Postmenopausal female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0.5-1</a:t>
            </a:r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Menstruating female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   1-2</a:t>
            </a:r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Pregnant female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1.5-3</a:t>
            </a:r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Children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Female (age 12-15)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1.6-2.6</a:t>
            </a:r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547560"/>
            <a:ext cx="8686800" cy="5205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Estimated daily iron requirements, Units are mg/day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572000" y="152280"/>
            <a:ext cx="4343400" cy="3210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533520" y="1752480"/>
            <a:ext cx="8076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Browallia New"/>
              </a:rPr>
              <a:t>DISORDERS OF IRON METABOLISM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Browallia New"/>
              <a:ea typeface="Browallia New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3424320"/>
            <a:ext cx="67816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Diseases of iron deficiency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1. Iron-deficiency anemia (IDA)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2. Anemia of chronic disease (ACD)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Diseases of iron overload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066680" y="469116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00"/>
                </a:solidFill>
                <a:latin typeface="Arial"/>
              </a:rPr>
              <a:t>What is iron-deficiency anemia ?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5435640"/>
            <a:ext cx="7696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It is the lack of iron in the blood, which is necessary to make hemoglobin.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61160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3852720" cy="5257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4648320" y="152280"/>
            <a:ext cx="2438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ymptoms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6" name=""/>
          <p:cNvSpPr/>
          <p:nvPr/>
        </p:nvSpPr>
        <p:spPr>
          <a:xfrm>
            <a:off x="4114800" y="1219320"/>
            <a:ext cx="4876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tigue - Sometimes out of proportion to anemia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rophic glossitis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a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ilonychia (Nail spooning)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ophageal Web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6096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auses of Iron Deficiency</a:t>
            </a:r>
            <a:endParaRPr b="0" lang="en-US" sz="32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800" spc="-1" strike="noStrike">
                <a:solidFill>
                  <a:srgbClr val="ffffff"/>
                </a:solidFill>
                <a:latin typeface="Arial"/>
              </a:rPr>
              <a:t>Chronic blood loss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Uterine</a:t>
            </a:r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GI tract</a:t>
            </a:r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800" spc="-1" strike="noStrike">
                <a:solidFill>
                  <a:srgbClr val="ffffff"/>
                </a:solidFill>
                <a:latin typeface="Arial"/>
              </a:rPr>
              <a:t>Increased demands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Prematurity</a:t>
            </a:r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Growth</a:t>
            </a:r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Pregnancy</a:t>
            </a:r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800" spc="-1" strike="noStrike">
                <a:solidFill>
                  <a:srgbClr val="ffffff"/>
                </a:solidFill>
                <a:latin typeface="Arial"/>
              </a:rPr>
              <a:t>Malabsorption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gastrectomy</a:t>
            </a:r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800" spc="-1" strike="noStrike">
                <a:solidFill>
                  <a:srgbClr val="ffffff"/>
                </a:solidFill>
                <a:latin typeface="Arial"/>
              </a:rPr>
              <a:t>Poor diet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10984" t="7295" r="8467" b="10029"/>
          <a:stretch/>
        </p:blipFill>
        <p:spPr>
          <a:xfrm>
            <a:off x="5410080" y="914400"/>
            <a:ext cx="33530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cc66"/>
                </a:solidFill>
                <a:latin typeface="Arial"/>
              </a:rPr>
              <a:t>Iron Deficiency Anemia (IDA)</a:t>
            </a:r>
            <a:endParaRPr b="0" lang="en-US" sz="36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Most common cause of anemia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Microcytic hypochromic anemia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MCV, MCH, MCHC are reduced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blood film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: small red cells (microcytic)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: pale red cells (hypochromic)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676520" y="4721400"/>
            <a:ext cx="2787480" cy="190800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4572000" y="4721400"/>
            <a:ext cx="2819520" cy="189036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752480" y="4873680"/>
            <a:ext cx="2787840" cy="190800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4648320" y="4873680"/>
            <a:ext cx="2819160" cy="189072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sp>
        <p:nvSpPr>
          <p:cNvPr id="146" name=""/>
          <p:cNvSpPr/>
          <p:nvPr/>
        </p:nvSpPr>
        <p:spPr>
          <a:xfrm>
            <a:off x="457200" y="25884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Laboratory findings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1066680"/>
            <a:ext cx="74678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1. Red cell indices &amp; blood film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2. Bone marrow iron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3. Serum iron &amp; iron binding capacity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4. Serum transferrin receptor (sTfR)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5. Serum ferritin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6. Zinc protoporphyrin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304920" y="878040"/>
            <a:ext cx="8458200" cy="3617640"/>
          </a:xfrm>
          <a:prstGeom prst="rect">
            <a:avLst/>
          </a:prstGeom>
          <a:ln w="38160">
            <a:solidFill>
              <a:srgbClr val="000044"/>
            </a:solidFill>
            <a:miter/>
          </a:ln>
        </p:spPr>
      </p:pic>
      <p:sp>
        <p:nvSpPr>
          <p:cNvPr id="149" name=""/>
          <p:cNvSpPr/>
          <p:nvPr/>
        </p:nvSpPr>
        <p:spPr>
          <a:xfrm>
            <a:off x="3962520" y="1219320"/>
            <a:ext cx="990360" cy="947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Normal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1905120"/>
            <a:ext cx="1143000" cy="947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Iron def.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2529000"/>
            <a:ext cx="1219320" cy="52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ACD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2" name=""/>
          <p:cNvSpPr/>
          <p:nvPr/>
        </p:nvSpPr>
        <p:spPr>
          <a:xfrm>
            <a:off x="3657600" y="3200400"/>
            <a:ext cx="1676520" cy="947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Iron overload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3" name=""/>
          <p:cNvSpPr/>
          <p:nvPr/>
        </p:nvSpPr>
        <p:spPr>
          <a:xfrm>
            <a:off x="552600" y="12193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4" name=""/>
          <p:cNvSpPr/>
          <p:nvPr/>
        </p:nvSpPr>
        <p:spPr>
          <a:xfrm>
            <a:off x="552600" y="1238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5" name=""/>
          <p:cNvSpPr/>
          <p:nvPr/>
        </p:nvSpPr>
        <p:spPr>
          <a:xfrm>
            <a:off x="2381400" y="121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738360"/>
            <a:ext cx="76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TIBC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502920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Serum iron &amp; iron binding capacity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90560" y="1519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cc66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1295280"/>
            <a:ext cx="8076960" cy="46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Iron metabolism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Iron distribution &amp; transport 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Dietary iron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Iron absorption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Iron requirements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Disorders of iron metabolism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Hypochromic anemia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04920" y="304920"/>
            <a:ext cx="8420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Browallia New"/>
              </a:rPr>
              <a:t>Anemia of Chronic Diseases (ACD)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rowallia New"/>
              <a:ea typeface="Browallia New"/>
            </a:endParaRPr>
          </a:p>
        </p:txBody>
      </p:sp>
      <p:sp>
        <p:nvSpPr>
          <p:cNvPr id="159" name=""/>
          <p:cNvSpPr/>
          <p:nvPr/>
        </p:nvSpPr>
        <p:spPr>
          <a:xfrm>
            <a:off x="1447920" y="1295280"/>
            <a:ext cx="6172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Chronic inflammatory diseases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Infections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Non-infectious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Malignant diseases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4267080"/>
            <a:ext cx="87631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release of iron from macrophage to plasma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red cell life span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response to EPO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release IL-1 &amp; TNF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4343400"/>
            <a:ext cx="0" cy="3808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5029200"/>
            <a:ext cx="0" cy="3808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5715000"/>
            <a:ext cx="0" cy="3808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380880"/>
            <a:ext cx="34290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Browallia New"/>
              </a:rPr>
              <a:t>Iron Overload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rowallia New"/>
              <a:ea typeface="Browallia New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1676520"/>
            <a:ext cx="81532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Increased iron absorption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Increased iron uptake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Repeated red cell transfusions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533520"/>
            <a:ext cx="5638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Browallia New"/>
              </a:rPr>
              <a:t>HYPOCHROMIC ANEMIAS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rowallia New"/>
              <a:ea typeface="Browallia New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1752480"/>
            <a:ext cx="81532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Iron-deficiency anemia (IDA)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Anemia of chronic disease (ACD)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99ff66"/>
                </a:solidFill>
                <a:latin typeface="Arial"/>
              </a:rPr>
              <a:t>Sideroblastic anemia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99ff66"/>
                </a:solidFill>
                <a:latin typeface="Arial"/>
              </a:rPr>
              <a:t>Thalassemia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99ff66"/>
                </a:solidFill>
                <a:latin typeface="Arial"/>
              </a:rPr>
              <a:t>Lead poisoning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905120" y="914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Iron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69" name=""/>
          <p:cNvSpPr/>
          <p:nvPr/>
        </p:nvSpPr>
        <p:spPr>
          <a:xfrm>
            <a:off x="5638680" y="9144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Protoporphyrin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0" name=""/>
          <p:cNvSpPr/>
          <p:nvPr/>
        </p:nvSpPr>
        <p:spPr>
          <a:xfrm>
            <a:off x="3581280" y="3352680"/>
            <a:ext cx="1828800" cy="83844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Heme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3352680"/>
            <a:ext cx="1828800" cy="83844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Globin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2" name=""/>
          <p:cNvSpPr/>
          <p:nvPr/>
        </p:nvSpPr>
        <p:spPr>
          <a:xfrm>
            <a:off x="5791320" y="35053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3" name=""/>
          <p:cNvSpPr/>
          <p:nvPr/>
        </p:nvSpPr>
        <p:spPr>
          <a:xfrm>
            <a:off x="4724280" y="5867280"/>
            <a:ext cx="2590920" cy="83844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Hemoglobin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4" name=""/>
          <p:cNvSpPr/>
          <p:nvPr/>
        </p:nvSpPr>
        <p:spPr>
          <a:xfrm>
            <a:off x="2438280" y="1447920"/>
            <a:ext cx="1676520" cy="167616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5105160" y="1523880"/>
            <a:ext cx="1600200" cy="160020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876920"/>
            <a:ext cx="304776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7" name=""/>
          <p:cNvSpPr/>
          <p:nvPr/>
        </p:nvSpPr>
        <p:spPr>
          <a:xfrm>
            <a:off x="4419720" y="4381560"/>
            <a:ext cx="0" cy="53352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8" name=""/>
          <p:cNvSpPr/>
          <p:nvPr/>
        </p:nvSpPr>
        <p:spPr>
          <a:xfrm>
            <a:off x="7448400" y="4381560"/>
            <a:ext cx="0" cy="53352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9" name=""/>
          <p:cNvSpPr/>
          <p:nvPr/>
        </p:nvSpPr>
        <p:spPr>
          <a:xfrm>
            <a:off x="6019920" y="4876920"/>
            <a:ext cx="0" cy="8380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514600" y="1542960"/>
            <a:ext cx="457200" cy="457200"/>
          </a:xfrm>
          <a:prstGeom prst="line">
            <a:avLst/>
          </a:prstGeom>
          <a:ln w="63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590920" y="1600200"/>
            <a:ext cx="457200" cy="457200"/>
          </a:xfrm>
          <a:prstGeom prst="line">
            <a:avLst/>
          </a:prstGeom>
          <a:ln w="63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1981080"/>
            <a:ext cx="32004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th-TH" sz="2000" spc="-1" strike="noStrike">
                <a:solidFill>
                  <a:srgbClr val="ffff00"/>
                </a:solidFill>
                <a:latin typeface="Arial"/>
              </a:rPr>
              <a:t>Iron deficiency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th-TH" sz="2000" spc="-1" strike="noStrike">
                <a:solidFill>
                  <a:srgbClr val="ffff00"/>
                </a:solidFill>
                <a:latin typeface="Arial"/>
              </a:rPr>
              <a:t>Chronic inflammation or malignant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3" name=""/>
          <p:cNvSpPr/>
          <p:nvPr/>
        </p:nvSpPr>
        <p:spPr>
          <a:xfrm>
            <a:off x="5657760" y="2114640"/>
            <a:ext cx="381240" cy="380880"/>
          </a:xfrm>
          <a:prstGeom prst="line">
            <a:avLst/>
          </a:prstGeom>
          <a:ln w="63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4" name=""/>
          <p:cNvSpPr/>
          <p:nvPr/>
        </p:nvSpPr>
        <p:spPr>
          <a:xfrm>
            <a:off x="5715000" y="2057400"/>
            <a:ext cx="380880" cy="380880"/>
          </a:xfrm>
          <a:prstGeom prst="line">
            <a:avLst/>
          </a:prstGeom>
          <a:ln w="63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5" name=""/>
          <p:cNvSpPr/>
          <p:nvPr/>
        </p:nvSpPr>
        <p:spPr>
          <a:xfrm>
            <a:off x="6781680" y="4648320"/>
            <a:ext cx="0" cy="533160"/>
          </a:xfrm>
          <a:prstGeom prst="line">
            <a:avLst/>
          </a:prstGeom>
          <a:ln w="63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0" y="4648320"/>
            <a:ext cx="0" cy="533160"/>
          </a:xfrm>
          <a:prstGeom prst="line">
            <a:avLst/>
          </a:prstGeom>
          <a:ln w="63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7" name=""/>
          <p:cNvSpPr/>
          <p:nvPr/>
        </p:nvSpPr>
        <p:spPr>
          <a:xfrm>
            <a:off x="6248520" y="51814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th-TH" sz="2000" spc="-1" strike="noStrike">
                <a:solidFill>
                  <a:srgbClr val="ffff00"/>
                </a:solidFill>
                <a:latin typeface="Arial"/>
              </a:rPr>
              <a:t>Thalassemia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24382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th-TH" sz="2000" spc="-1" strike="noStrike">
                <a:solidFill>
                  <a:srgbClr val="ffff00"/>
                </a:solidFill>
                <a:latin typeface="Arial"/>
              </a:rPr>
              <a:t>Sideroblastic anemia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16668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66cc"/>
                </a:solidFill>
                <a:latin typeface="Arial"/>
              </a:rPr>
              <a:t>The Cause of Hypochromic Anemia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019920" y="152280"/>
            <a:ext cx="2876400" cy="304812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sp>
        <p:nvSpPr>
          <p:cNvPr id="191" name=""/>
          <p:cNvSpPr txBox="1"/>
          <p:nvPr/>
        </p:nvSpPr>
        <p:spPr>
          <a:xfrm>
            <a:off x="228600" y="533520"/>
            <a:ext cx="56008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Browallia New"/>
              </a:rPr>
              <a:t>Sideroblastic Anemia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rowallia New"/>
              <a:ea typeface="Browallia New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1447920"/>
            <a:ext cx="853416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A defect in heme synthesis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Hereditary &amp; Acquired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mitochondrial defects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pyridoxal-6-phosphate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mutation in the </a:t>
            </a:r>
            <a:r>
              <a:rPr b="0" lang="th-TH" sz="2800" spc="-1" strike="noStrike">
                <a:solidFill>
                  <a:srgbClr val="ffffff"/>
                </a:solidFill>
                <a:latin typeface="Symbol"/>
                <a:ea typeface="Symbol"/>
              </a:rPr>
              <a:t>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aminolevulinic acid synthase 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(ring sideroblasts in BM)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myelodysplasia syndrome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99ff66"/>
                </a:solidFill>
                <a:latin typeface="Arial"/>
              </a:rPr>
              <a:t>Hypochromic &amp; microcytic red cells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533520" y="380880"/>
            <a:ext cx="3124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ngsana New"/>
              </a:rPr>
              <a:t>Lead Poisoning</a:t>
            </a:r>
            <a:endParaRPr b="1" lang="en-US" sz="24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371600"/>
            <a:ext cx="83818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Inhibits both heme &amp; globin synthesis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Interferes with the breakdown of RNA by inhibiting pyrimidine 5’nucleotidase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accumulation of denatured RNA in red cells 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(basophilic stippling)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00"/>
                </a:solidFill>
                <a:latin typeface="Arial"/>
              </a:rPr>
              <a:t>Hypochromic anemia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Ring sideroblasts (BM)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Free erythrocyte protoporphyrin is raised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80880" y="41112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Differential diagnosis of hypochromic anemia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1600200"/>
            <a:ext cx="9144000" cy="4430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IDA      ACD     Thalassemia   Siderblastic anemia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Serum iron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   N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TIBC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               N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     N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serum ferritin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        N/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   N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BM iron stores         -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         +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   +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     +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Erythroblast iron     -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          -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   +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ring forms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Hb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         N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         N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  HbA</a:t>
            </a:r>
            <a:r>
              <a:rPr b="1" lang="th-TH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     N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electrophoresis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220968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98" name=""/>
          <p:cNvSpPr/>
          <p:nvPr/>
        </p:nvSpPr>
        <p:spPr>
          <a:xfrm>
            <a:off x="3657600" y="222876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934320" y="222840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743200" y="274320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1" name=""/>
          <p:cNvSpPr/>
          <p:nvPr/>
        </p:nvSpPr>
        <p:spPr>
          <a:xfrm>
            <a:off x="3657600" y="274320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2" name=""/>
          <p:cNvSpPr/>
          <p:nvPr/>
        </p:nvSpPr>
        <p:spPr>
          <a:xfrm>
            <a:off x="2743200" y="335268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038480" y="335232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7010280" y="335232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21528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34076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ngsana New"/>
              </a:rPr>
              <a:t>Hemochromatosis</a:t>
            </a:r>
            <a:endParaRPr b="0" lang="en-US" sz="60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3152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527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ngsana New"/>
              </a:rPr>
              <a:t>A genetically determined form of iron overload that results in progressive hepatic, pancreatic, cardiac, and other organ damage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105520" y="373392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Angsana New"/>
              </a:rPr>
              <a:t>Hemochromatosis</a:t>
            </a:r>
            <a:endParaRPr b="0" lang="en-US" sz="5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gsana New"/>
              </a:rPr>
              <a:t>It is one of the most common genetic disorders in the U.S.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gsana New"/>
              </a:rPr>
              <a:t>Present in heterozygous (one gene) form in 12% of nonblacks and 30% of blacks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gsana New"/>
              </a:rPr>
              <a:t>Present in homozygous form (2 gene) in 1 in 200 nonblacks and 1 in 100 blacks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gsana New"/>
              </a:rPr>
              <a:t>Homozygotes will die of iron overload unless they give blood frequently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gsana New"/>
              </a:rPr>
              <a:t>Homozygotes absorb three times more iron from food than other people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gsana New"/>
              </a:rPr>
              <a:t>Even heterozygotes may be at risk for iron overload, increasing risk of heart disease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Angsana New"/>
              </a:rPr>
              <a:t>Hemochromatosis: Risk Factors</a:t>
            </a:r>
            <a:endParaRPr b="0" lang="en-US" sz="5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Higher risk in people of northern European descent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277560" indent="-277560"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Men tend to manifest symptoms earlier because they have no way to dispose of excess iron (menstruation, pregnancy, lactation)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277560" indent="-277560"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Men may develop symptoms in their 30s but may not be diagnosed until their 50s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277560" indent="-277560"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Women often develop symptoms after menopause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33520" y="380880"/>
            <a:ext cx="16761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cc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rowallia New"/>
              </a:rPr>
              <a:t>IRON</a:t>
            </a:r>
            <a:endParaRPr b="1" lang="en-US" sz="2400" spc="1" strike="noStrike">
              <a:ln w="12600">
                <a:solidFill>
                  <a:srgbClr val="33cc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rowallia New"/>
              <a:ea typeface="Browallia New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1295280"/>
            <a:ext cx="853416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To accept &amp; donate electron (Fe</a:t>
            </a:r>
            <a:r>
              <a:rPr b="0" lang="th-TH" sz="3200" spc="-1" strike="noStrike" baseline="50000">
                <a:solidFill>
                  <a:srgbClr val="ffffff"/>
                </a:solidFill>
                <a:latin typeface="Arial"/>
              </a:rPr>
              <a:t>2+ </a:t>
            </a:r>
            <a:r>
              <a:rPr b="0" lang="th-TH" sz="3200" spc="-1" strike="noStrike" baseline="50000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th-TH" sz="3200" spc="-1" strike="noStrike" baseline="50000">
                <a:solidFill>
                  <a:srgbClr val="ffffff"/>
                </a:solidFill>
                <a:latin typeface="Arial"/>
              </a:rPr>
              <a:t>3+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component of cytochromes, oxygen-binding 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molecules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cell growth,proliferation, differentiation  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damage tissues 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th-TH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th-TH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OH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6" name=""/>
          <p:cNvSpPr/>
          <p:nvPr/>
        </p:nvSpPr>
        <p:spPr>
          <a:xfrm>
            <a:off x="6781680" y="1752480"/>
            <a:ext cx="6098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5867280"/>
            <a:ext cx="1447920" cy="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105520"/>
            <a:ext cx="1905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th-TH" sz="2000" spc="-1" strike="noStrike" baseline="50000">
                <a:solidFill>
                  <a:srgbClr val="ffffff"/>
                </a:solidFill>
                <a:latin typeface="Arial"/>
              </a:rPr>
              <a:t>2+ </a:t>
            </a:r>
            <a:r>
              <a:rPr b="0" lang="th-TH" sz="2000" spc="-1" strike="noStrike" baseline="50000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th-TH" sz="2000" spc="-1" strike="noStrike" baseline="50000">
                <a:solidFill>
                  <a:srgbClr val="ffffff"/>
                </a:solidFill>
                <a:latin typeface="Arial"/>
              </a:rPr>
              <a:t>3+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5562720"/>
            <a:ext cx="609480" cy="228600"/>
          </a:xfrm>
          <a:custGeom>
            <a:avLst/>
            <a:gdLst>
              <a:gd name="textAreaLeft" fmla="*/ 106560 w 609480"/>
              <a:gd name="textAreaRight" fmla="*/ 442080 w 60948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ngsana New"/>
              </a:rPr>
              <a:t>Hemochromatosis: Symptoms</a:t>
            </a:r>
            <a:endParaRPr b="0" lang="en-US" sz="48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771200"/>
            <a:ext cx="777240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Joint pain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Fatigue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Lack of energy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Abdominal pain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Loss of sex drive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Heart problems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Abnormal pigmentation of the skin, making it look gray or bronze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Angsana New"/>
              </a:rPr>
              <a:t>Hemochromatosis</a:t>
            </a:r>
            <a:r>
              <a:rPr b="0" lang="en-US" sz="4400" spc="-1" strike="noStrike">
                <a:solidFill>
                  <a:srgbClr val="ffcc66"/>
                </a:solidFill>
                <a:latin typeface="Angsana New"/>
              </a:rPr>
              <a:t>: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ngsana New"/>
              </a:rPr>
              <a:t>if untreated, may result in </a:t>
            </a:r>
            <a:endParaRPr b="0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-360" y="1771200"/>
            <a:ext cx="571500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gsana New"/>
              </a:rPr>
              <a:t>Arthritis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gsana New"/>
              </a:rPr>
              <a:t>Liver disease: cirrhosis, cancer, liver failure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gsana New"/>
              </a:rPr>
              <a:t>Damage to the pancreas, leading to diabetes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gsana New"/>
              </a:rPr>
              <a:t>Heart abnormalities, including arrhythmias and heart failure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gsana New"/>
              </a:rPr>
              <a:t>Impotence or early menopause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gsana New"/>
              </a:rPr>
              <a:t>Thyroid or adrenal problems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715000" y="1523880"/>
            <a:ext cx="3429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ngsana New"/>
              </a:rPr>
              <a:t>Hemochromatosis: </a:t>
            </a:r>
            <a:br>
              <a:rPr sz="4800"/>
            </a:br>
            <a:r>
              <a:rPr b="0" lang="en-US" sz="4800" spc="-1" strike="noStrike">
                <a:solidFill>
                  <a:srgbClr val="ffcc66"/>
                </a:solidFill>
                <a:latin typeface="Angsana New"/>
              </a:rPr>
              <a:t>Diagnosis and Treatment</a:t>
            </a:r>
            <a:endParaRPr b="0" lang="en-US" sz="48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ngsana New"/>
              </a:rPr>
              <a:t>Testing</a:t>
            </a: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: serum ferritin and transferrin saturation can reveal excess stores of iron; followed by HFE (genetic) test and possible liver biopsy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ngsana New"/>
              </a:rPr>
              <a:t>Treatment</a:t>
            </a: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: regular phlebotomy to remove excess iron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ngsana New"/>
              </a:rPr>
              <a:t>Avoidance</a:t>
            </a: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 of iron supplements and sources of iron in the diet, especially heme iron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ngsana New"/>
              </a:rPr>
              <a:t>Awareness</a:t>
            </a: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 of iron cooking vessels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2590920" y="2077920"/>
            <a:ext cx="3809880" cy="135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Browallia New"/>
              </a:rPr>
              <a:t>The End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Browallia New"/>
              <a:ea typeface="Browall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80880" y="380880"/>
            <a:ext cx="4191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ngsana New"/>
              </a:rPr>
              <a:t>Iron Metabolism</a:t>
            </a:r>
            <a:endParaRPr b="1" lang="en-US" sz="24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1447920"/>
            <a:ext cx="8077320" cy="47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ffff00"/>
                </a:solidFill>
                <a:latin typeface="Arial"/>
              </a:rPr>
              <a:t>Iron distribution &amp; transport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00"/>
                </a:solidFill>
                <a:latin typeface="Arial"/>
              </a:rPr>
              <a:t>transferrin, transferrin receptor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00"/>
                </a:solidFill>
                <a:latin typeface="Arial"/>
              </a:rPr>
              <a:t>ferritin , hemosiderin (Fe</a:t>
            </a:r>
            <a:r>
              <a:rPr b="0" lang="th-TH" sz="2800" spc="-1" strike="noStrike" baseline="50000">
                <a:solidFill>
                  <a:srgbClr val="ffff00"/>
                </a:solidFill>
                <a:latin typeface="Arial"/>
              </a:rPr>
              <a:t>3+</a:t>
            </a:r>
            <a:r>
              <a:rPr b="0" lang="th-TH" sz="2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00"/>
                </a:solidFill>
                <a:latin typeface="Arial"/>
              </a:rPr>
              <a:t>myoglobin, iron-containing enzymes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Dietary iron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Iron absorption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Iron requirements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>
            <a:lum bright="-6000"/>
          </a:blip>
          <a:srcRect l="5960" t="3616" r="6696" b="3616"/>
          <a:stretch/>
        </p:blipFill>
        <p:spPr>
          <a:xfrm>
            <a:off x="3657600" y="76320"/>
            <a:ext cx="5486400" cy="67816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304920" y="304920"/>
            <a:ext cx="2971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Browallia New"/>
              </a:rPr>
              <a:t>DAILY IRON CYCLE</a:t>
            </a:r>
            <a:endParaRPr b="1" lang="en-US" sz="2400" spc="1" strike="noStrike">
              <a:ln w="9360">
                <a:solidFill>
                  <a:srgbClr val="ffff99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Browallia New"/>
              <a:ea typeface="Browall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71440" y="622440"/>
            <a:ext cx="8534520" cy="565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1488960"/>
            <a:ext cx="8382240" cy="4655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Amount of iron 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Male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         Female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            %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in average adult 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(g)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(g)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         of total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Hb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2.4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1.7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ferritin &amp; hemosideri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1.0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0.3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Myoglobin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0.15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0.12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3.5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Heme enzyme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0.02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0.15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0.5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Transferrin-bound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0.004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0.003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0.1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iron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2809800"/>
            <a:ext cx="8382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33480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The distribution of body iron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80880" y="380880"/>
            <a:ext cx="4191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ngsana New"/>
              </a:rPr>
              <a:t>Iron Metabolism</a:t>
            </a:r>
            <a:endParaRPr b="1" lang="en-US" sz="24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1447920"/>
            <a:ext cx="8077320" cy="47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Iron distribution &amp; transport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ffff00"/>
                </a:solidFill>
                <a:latin typeface="Arial"/>
              </a:rPr>
              <a:t>Dietary iron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00"/>
                </a:solidFill>
                <a:latin typeface="Arial"/>
              </a:rPr>
              <a:t>ferric hydroxides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00"/>
                </a:solidFill>
                <a:latin typeface="Arial"/>
              </a:rPr>
              <a:t>ferric-protein complexs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00"/>
                </a:solidFill>
                <a:latin typeface="Arial"/>
              </a:rPr>
              <a:t>heme-protein complexes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Iron absorption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Iron requirements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1085760"/>
            <a:ext cx="9144000" cy="577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1600200" y="228600"/>
            <a:ext cx="6019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I Absorption of Iron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5T03:34:08Z</dcterms:created>
  <dc:creator>watchara</dc:creator>
  <dc:description/>
  <dc:language>en-US</dc:language>
  <cp:lastModifiedBy>Dr.abdel-hamid</cp:lastModifiedBy>
  <cp:lastPrinted>2002-06-25T03:49:04Z</cp:lastPrinted>
  <dcterms:modified xsi:type="dcterms:W3CDTF">2006-10-23T05:33:14Z</dcterms:modified>
  <cp:revision>20</cp:revision>
  <dc:subject/>
  <dc:title>ไม่มีชื่อเรื่องภาพนิ่ง</dc:title>
</cp:coreProperties>
</file>