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265-DFF2-42D3-974F-547C755A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00B-3DD4-47FC-BF10-0FB9D149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FB3-8A4A-4D84-9A55-28225FDF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C43-7629-4807-9681-4558F90A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3B69-5429-4C28-AE80-4343777E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ED81-6355-48B8-BF42-507B13FA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7A7E-A9CB-4A07-BDB5-75FC359D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66AE-5228-4192-BE0D-D02B9D2C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A2D6-5297-42A6-910B-2F37B49E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2B27-7B50-4CD5-B62C-D8115192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CB1D-7B94-4AF9-BEE6-365D044A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0F2-5EE7-4498-9AD2-649298F2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C561-3686-4686-B386-A96F70CD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96E0-53E7-4BEE-A667-98963FDE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9AC6-3AD5-4D8F-8346-C7184FA3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748F-B3C4-4F9A-A7ED-2A541DFC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A062-286A-463A-8770-DEEECD23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1CC-A9ED-441C-972C-291FF9A3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9B0C-E502-4915-A57D-AB265416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5E5-A074-48F4-BE35-EA24E134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FD4-C2FE-4565-9C41-1504BB6D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9E2-E4EA-4D23-8379-6793379C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8DB-CBCB-4467-A3D2-E0D269D7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33C-9E0E-4540-88C2-01302653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DCFB-4F22-493E-8A02-DD63FA3394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C2FC-EAA6-4B3E-A4D3-6304586935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ngsana Ne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gsana Ne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ngsana Ne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gsana Ne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ngsana Ne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gsana Ne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gsana Ne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gsana Ne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ffff00"/>
                </a:solidFill>
                <a:latin typeface="Angsana New"/>
              </a:rPr>
              <a:t>HYPOCHROMIC ANEMIA </a:t>
            </a:r>
            <a:br>
              <a:rPr sz="7200"/>
            </a:br>
            <a:r>
              <a:rPr b="1" lang="th-TH" sz="7200" spc="-1" strike="noStrike">
                <a:solidFill>
                  <a:srgbClr val="ffff00"/>
                </a:solidFill>
                <a:latin typeface="Angsana New"/>
              </a:rPr>
              <a:t>&amp; </a:t>
            </a:r>
            <a:br>
              <a:rPr sz="7200"/>
            </a:br>
            <a:r>
              <a:rPr b="1" lang="th-TH" sz="7200" spc="-1" strike="noStrike">
                <a:solidFill>
                  <a:srgbClr val="ffff00"/>
                </a:solidFill>
                <a:latin typeface="Angsana New"/>
              </a:rPr>
              <a:t>IRON METABOLISM</a:t>
            </a:r>
            <a:endParaRPr b="0" lang="en-US" sz="72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657600"/>
            <a:ext cx="80769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958680"/>
            <a:ext cx="9144000" cy="589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480" y="68400"/>
            <a:ext cx="9023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</a:rPr>
              <a:t>INTRACELLULAR IRON TRANSPORT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380880"/>
            <a:ext cx="4191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Iron Metabolism</a:t>
            </a:r>
            <a:endParaRPr b="1" lang="en-US" sz="2400" spc="1" strike="noStrike">
              <a:ln w="0">
                <a:noFill/>
              </a:ln>
              <a:solidFill>
                <a:srgbClr val="00cc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447920"/>
            <a:ext cx="80773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Iron distribution &amp; transport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Dietary iron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Iron absorption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Iron requirement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1600200"/>
            <a:ext cx="7848720" cy="367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Adult men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0.5-1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Postmenopausal female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0.5-1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Menstruating female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   1-2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Pregnant female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1.5-3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Children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Female (age 12-15)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1.6-2.6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547560"/>
            <a:ext cx="8686800" cy="5205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Estimated daily iron requirements, Units are mg/day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572000" y="152280"/>
            <a:ext cx="4343400" cy="3210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533520" y="1752480"/>
            <a:ext cx="8076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rowallia New"/>
              </a:rPr>
              <a:t>DISORDERS OF IRON METABOLISM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424320"/>
            <a:ext cx="6781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Diseases of iron deficiency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1. Iron-deficiency anemia (IDA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2. Anemia of chronic disease (ACD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Diseases of iron overload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66680" y="469116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Arial"/>
              </a:rPr>
              <a:t>What is iron-deficiency anemia ?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5435640"/>
            <a:ext cx="7696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It is the lack of iron in the blood, which is necessary to make hemoglobin.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6116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52720" cy="525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4648320" y="152280"/>
            <a:ext cx="2438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1219320"/>
            <a:ext cx="4876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igue - Sometimes out of proportion to anemia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rophic glossiti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a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ilonychia (Nail spooning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ophageal Web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096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auses of Iron Deficiency</a:t>
            </a:r>
            <a:endParaRPr b="0" lang="en-US" sz="32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ffffff"/>
                </a:solidFill>
                <a:latin typeface="Arial"/>
              </a:rPr>
              <a:t>Chronic blood los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Uterine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GI tract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ffffff"/>
                </a:solidFill>
                <a:latin typeface="Arial"/>
              </a:rPr>
              <a:t>Increased demand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Prematurity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Growth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ffffff"/>
                </a:solidFill>
                <a:latin typeface="Arial"/>
              </a:rPr>
              <a:t>Malabsorptio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</a:rPr>
              <a:t>gastrectomy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800" spc="-1" strike="noStrike">
                <a:solidFill>
                  <a:srgbClr val="ffffff"/>
                </a:solidFill>
                <a:latin typeface="Arial"/>
              </a:rPr>
              <a:t>Poor diet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10984" t="7295" r="8467" b="10029"/>
          <a:stretch/>
        </p:blipFill>
        <p:spPr>
          <a:xfrm>
            <a:off x="5410080" y="914400"/>
            <a:ext cx="3353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cc66"/>
                </a:solidFill>
                <a:latin typeface="Arial"/>
              </a:rPr>
              <a:t>Iron Deficiency Anemia (IDA)</a:t>
            </a:r>
            <a:endParaRPr b="0" lang="en-US" sz="36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Most common cause of anemia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Microcytic hypochromic anemia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MCV, MCH, MCHC are reduced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blood film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: small red cells (microcytic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: pale red cells (hypochromic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76520" y="4721400"/>
            <a:ext cx="2787480" cy="190800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572000" y="4721400"/>
            <a:ext cx="2819520" cy="189036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52480" y="4873680"/>
            <a:ext cx="2787840" cy="190800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648320" y="4873680"/>
            <a:ext cx="2819160" cy="189072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457200" y="25884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Laboratory finding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066680"/>
            <a:ext cx="74678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1. Red cell indices &amp; blood film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2. Bone marrow iro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3. Serum iron &amp; iron binding capacity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4. Serum transferrin receptor (sTfR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5. Serum ferriti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6. Zinc protoporphyri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04920" y="878040"/>
            <a:ext cx="8458200" cy="3617640"/>
          </a:xfrm>
          <a:prstGeom prst="rect">
            <a:avLst/>
          </a:prstGeom>
          <a:ln w="38160">
            <a:solidFill>
              <a:srgbClr val="000044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3962520" y="1219320"/>
            <a:ext cx="990360" cy="94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Normal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1905120"/>
            <a:ext cx="1143000" cy="94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Iron def.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2529000"/>
            <a:ext cx="121932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ACD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3200400"/>
            <a:ext cx="1676520" cy="94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Iron overload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3" name=""/>
          <p:cNvSpPr/>
          <p:nvPr/>
        </p:nvSpPr>
        <p:spPr>
          <a:xfrm>
            <a:off x="552600" y="1219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4" name=""/>
          <p:cNvSpPr/>
          <p:nvPr/>
        </p:nvSpPr>
        <p:spPr>
          <a:xfrm>
            <a:off x="552600" y="1238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5" name=""/>
          <p:cNvSpPr/>
          <p:nvPr/>
        </p:nvSpPr>
        <p:spPr>
          <a:xfrm>
            <a:off x="2381400" y="121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738360"/>
            <a:ext cx="7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TIBC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50292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Serum iron &amp; iron binding capacity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0560" y="151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cc66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295280"/>
            <a:ext cx="807696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Iron metabolism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Iron distribution &amp; transport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Dietary iro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Iron absorptio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Iron requirement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Disorders of iron metabolism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Hypochromic anemia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920" y="304920"/>
            <a:ext cx="8420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Anemia of Chronic Diseases (ACD)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295280"/>
            <a:ext cx="6172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Chronic inflammatory disease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Infection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Non-infectiou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Malignant disease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4267080"/>
            <a:ext cx="8763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release of iron from macrophage to plasma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red cell life spa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response to EPO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release IL-1 &amp; TNF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434340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502920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571500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380880"/>
            <a:ext cx="3429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Iron Overload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676520"/>
            <a:ext cx="8153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Increased iron absorptio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Increased iron uptake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Repeated red cell transfusion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533520"/>
            <a:ext cx="5638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HYPOCHROMIC ANEMIAS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752480"/>
            <a:ext cx="8153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Iron-deficiency anemia (IDA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Anemia of chronic disease (ACD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99ff66"/>
                </a:solidFill>
                <a:latin typeface="Arial"/>
              </a:rPr>
              <a:t>Sideroblastic anemia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99ff66"/>
                </a:solidFill>
                <a:latin typeface="Arial"/>
              </a:rPr>
              <a:t>Thalassemia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99ff66"/>
                </a:solidFill>
                <a:latin typeface="Arial"/>
              </a:rPr>
              <a:t>Lead poisoning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905120" y="914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9144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Protoporphyri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3352680"/>
            <a:ext cx="1828800" cy="83844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Heme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3352680"/>
            <a:ext cx="1828800" cy="83844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Globi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5867280"/>
            <a:ext cx="2590920" cy="83844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Hemoglobin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1447920"/>
            <a:ext cx="1676520" cy="16761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05160" y="1523880"/>
            <a:ext cx="1600200" cy="16002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876920"/>
            <a:ext cx="304776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381560"/>
            <a:ext cx="0" cy="5335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8" name=""/>
          <p:cNvSpPr/>
          <p:nvPr/>
        </p:nvSpPr>
        <p:spPr>
          <a:xfrm>
            <a:off x="7448400" y="4381560"/>
            <a:ext cx="0" cy="5335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4876920"/>
            <a:ext cx="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514600" y="1542960"/>
            <a:ext cx="457200" cy="457200"/>
          </a:xfrm>
          <a:prstGeom prst="line">
            <a:avLst/>
          </a:prstGeom>
          <a:ln w="63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590920" y="1600200"/>
            <a:ext cx="457200" cy="457200"/>
          </a:xfrm>
          <a:prstGeom prst="line">
            <a:avLst/>
          </a:prstGeom>
          <a:ln w="63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981080"/>
            <a:ext cx="3200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h-TH" sz="2000" spc="-1" strike="noStrike">
                <a:solidFill>
                  <a:srgbClr val="ffff00"/>
                </a:solidFill>
                <a:latin typeface="Arial"/>
              </a:rPr>
              <a:t>Iron deficiency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h-TH" sz="2000" spc="-1" strike="noStrike">
                <a:solidFill>
                  <a:srgbClr val="ffff00"/>
                </a:solidFill>
                <a:latin typeface="Arial"/>
              </a:rPr>
              <a:t>Chronic inflammation or malignant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3" name=""/>
          <p:cNvSpPr/>
          <p:nvPr/>
        </p:nvSpPr>
        <p:spPr>
          <a:xfrm>
            <a:off x="5657760" y="2114640"/>
            <a:ext cx="381240" cy="380880"/>
          </a:xfrm>
          <a:prstGeom prst="line">
            <a:avLst/>
          </a:prstGeom>
          <a:ln w="63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2057400"/>
            <a:ext cx="380880" cy="380880"/>
          </a:xfrm>
          <a:prstGeom prst="line">
            <a:avLst/>
          </a:prstGeom>
          <a:ln w="63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648320"/>
            <a:ext cx="0" cy="533160"/>
          </a:xfrm>
          <a:prstGeom prst="line">
            <a:avLst/>
          </a:prstGeom>
          <a:ln w="63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4648320"/>
            <a:ext cx="0" cy="533160"/>
          </a:xfrm>
          <a:prstGeom prst="line">
            <a:avLst/>
          </a:prstGeom>
          <a:ln w="63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51814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h-TH" sz="2000" spc="-1" strike="noStrike">
                <a:solidFill>
                  <a:srgbClr val="ffff00"/>
                </a:solidFill>
                <a:latin typeface="Arial"/>
              </a:rPr>
              <a:t>Thalassemia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th-TH" sz="2000" spc="-1" strike="noStrike">
                <a:solidFill>
                  <a:srgbClr val="ffff00"/>
                </a:solidFill>
                <a:latin typeface="Arial"/>
              </a:rPr>
              <a:t>Sideroblastic anemia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66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66cc"/>
                </a:solidFill>
                <a:latin typeface="Arial"/>
              </a:rPr>
              <a:t>The Cause of Hypochromic Anemia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19920" y="152280"/>
            <a:ext cx="2876400" cy="304812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191" name=""/>
          <p:cNvSpPr txBox="1"/>
          <p:nvPr/>
        </p:nvSpPr>
        <p:spPr>
          <a:xfrm>
            <a:off x="228600" y="533520"/>
            <a:ext cx="56008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Sideroblastic Anemia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447920"/>
            <a:ext cx="8534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A defect in heme synthesi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Hereditary &amp; Acquired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mitochondrial defect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pyridoxal-6-phosphate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mutation in the </a:t>
            </a:r>
            <a:r>
              <a:rPr b="0" lang="th-TH" sz="2800" spc="-1" strike="noStrike">
                <a:solidFill>
                  <a:srgbClr val="ffffff"/>
                </a:solidFill>
                <a:latin typeface="Symbol"/>
                <a:ea typeface="Symbol"/>
              </a:rPr>
              <a:t>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aminolevulinic acid synthase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(ring sideroblasts in BM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myelodysplasia syndrome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99ff66"/>
                </a:solidFill>
                <a:latin typeface="Arial"/>
              </a:rPr>
              <a:t>Hypochromic &amp; microcytic red cell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533520" y="38088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Lead Poisoning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371600"/>
            <a:ext cx="83818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Inhibits both heme &amp; globin synthesi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Interferes with the breakdown of RNA by inhibiting pyrimidine 5’nucleotidase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accumulation of denatured RNA in red cells 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(basophilic stippling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Hypochromic anemia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Ring sideroblasts (BM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Free erythrocyte protoporphyrin is raised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4111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Differential diagnosis of hypochromic anemia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600200"/>
            <a:ext cx="9144000" cy="4430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IDA      ACD     Thalassemia   Siderblastic anemia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Serum iron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N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TIBC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        N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N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serum ferritin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 N/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N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BM iron stores         -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  +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+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+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Erythroblast iron     -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   -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+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ring forms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  N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  N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HbA</a:t>
            </a:r>
            <a:r>
              <a:rPr b="1" lang="th-TH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N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electrophoresis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22096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222876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934320" y="222840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43200" y="27432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33526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038480" y="335232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010280" y="335232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1528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34076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ngsana New"/>
              </a:rPr>
              <a:t>Hemochromatosis</a:t>
            </a:r>
            <a:endParaRPr b="0" lang="en-US" sz="60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3152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52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ngsana New"/>
              </a:rPr>
              <a:t>A genetically determined form of iron overload that results in progressive hepatic, pancreatic, cardiac, and other organ damage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Angsana New"/>
              </a:rPr>
              <a:t>Hemochromatosis</a:t>
            </a:r>
            <a:endParaRPr b="0" lang="en-US" sz="5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It is one of the most common genetic disorders in the U.S.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Present in heterozygous (one gene) form in 12% of nonblacks and 30% of black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Present in homozygous form (2 gene) in 1 in 200 nonblacks and 1 in 100 black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Homozygotes will die of iron overload unless they give blood frequently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Homozygotes absorb three times more iron from food than other people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Even heterozygotes may be at risk for iron overload, increasing risk of heart disease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ngsana New"/>
              </a:rPr>
              <a:t>Hemochromatosis: Risk Factors</a:t>
            </a:r>
            <a:endParaRPr b="0" lang="en-US" sz="5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Higher risk in people of northern European descent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277560" indent="-277560"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Men tend to manifest symptoms earlier because they have no way to dispose of excess iron (menstruation, pregnancy, lactation)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277560" indent="-277560"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Men may develop symptoms in their 30s but may not be diagnosed until their 50s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277560" indent="-277560"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Women often develop symptoms after menopause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33520" y="380880"/>
            <a:ext cx="1676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cc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rowallia New"/>
              </a:rPr>
              <a:t>IRON</a:t>
            </a:r>
            <a:endParaRPr b="1" lang="en-US" sz="2400" spc="1" strike="noStrike">
              <a:ln w="12600">
                <a:solidFill>
                  <a:srgbClr val="33cc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295280"/>
            <a:ext cx="853416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To accept &amp; donate electron (Fe</a:t>
            </a:r>
            <a:r>
              <a:rPr b="0" lang="th-TH" sz="3200" spc="-1" strike="noStrike" baseline="50000">
                <a:solidFill>
                  <a:srgbClr val="ffffff"/>
                </a:solidFill>
                <a:latin typeface="Arial"/>
              </a:rPr>
              <a:t>2+ </a:t>
            </a:r>
            <a:r>
              <a:rPr b="0" lang="th-TH" sz="3200" spc="-1" strike="noStrike" baseline="50000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th-TH" sz="3200" spc="-1" strike="noStrike" baseline="50000">
                <a:solidFill>
                  <a:srgbClr val="ffffff"/>
                </a:solidFill>
                <a:latin typeface="Arial"/>
              </a:rPr>
              <a:t>3+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component of cytochromes, oxygen-binding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cell growth,proliferation, differentiation 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damage tissues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th-TH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th-TH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17524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5867280"/>
            <a:ext cx="144792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105520"/>
            <a:ext cx="1905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th-TH" sz="2000" spc="-1" strike="noStrike" baseline="50000">
                <a:solidFill>
                  <a:srgbClr val="ffffff"/>
                </a:solidFill>
                <a:latin typeface="Arial"/>
              </a:rPr>
              <a:t>2+ </a:t>
            </a:r>
            <a:r>
              <a:rPr b="0" lang="th-TH" sz="2000" spc="-1" strike="noStrike" baseline="50000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th-TH" sz="2000" spc="-1" strike="noStrike" baseline="50000">
                <a:solidFill>
                  <a:srgbClr val="ffffff"/>
                </a:solidFill>
                <a:latin typeface="Arial"/>
              </a:rPr>
              <a:t>3+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5562720"/>
            <a:ext cx="609480" cy="228600"/>
          </a:xfrm>
          <a:custGeom>
            <a:avLst/>
            <a:gdLst>
              <a:gd name="textAreaLeft" fmla="*/ 106560 w 609480"/>
              <a:gd name="textAreaRight" fmla="*/ 442080 w 6094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ngsana New"/>
              </a:rPr>
              <a:t>Hemochromatosis: Symptoms</a:t>
            </a:r>
            <a:endParaRPr b="0" lang="en-US" sz="48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71200"/>
            <a:ext cx="777240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Joint pain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Fatigue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Lack of energy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Abdominal pain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Loss of sex drive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Heart problems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Abnormal pigmentation of the skin, making it look gray or bronze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ngsana New"/>
              </a:rPr>
              <a:t>Hemochromatosis</a:t>
            </a:r>
            <a:r>
              <a:rPr b="0" lang="en-US" sz="4400" spc="-1" strike="noStrike">
                <a:solidFill>
                  <a:srgbClr val="ffcc66"/>
                </a:solidFill>
                <a:latin typeface="Angsana New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ngsana New"/>
              </a:rPr>
              <a:t>if untreated, may result in </a:t>
            </a:r>
            <a:endParaRPr b="0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1771200"/>
            <a:ext cx="57150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Arthriti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Liver disease: cirrhosis, cancer, liver failure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Damage to the pancreas, leading to diabete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Heart abnormalities, including arrhythmias and heart failure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Impotence or early menopause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Thyroid or adrenal problem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3429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ngsana New"/>
              </a:rPr>
              <a:t>Hemochromatosis: 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ngsana New"/>
              </a:rPr>
              <a:t>Diagnosis and Treatment</a:t>
            </a:r>
            <a:endParaRPr b="0" lang="en-US" sz="48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ngsana New"/>
              </a:rPr>
              <a:t>Testing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: serum ferritin and transferrin saturation can reveal excess stores of iron; followed by HFE (genetic) test and possible liver biopsy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ngsana New"/>
              </a:rPr>
              <a:t>Treatment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: regular phlebotomy to remove excess iron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ngsana New"/>
              </a:rPr>
              <a:t>Avoidance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 of iron supplements and sources of iron in the diet, especially heme iron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ngsana New"/>
              </a:rPr>
              <a:t>Awareness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 of iron cooking vessels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590920" y="2077920"/>
            <a:ext cx="3809880" cy="13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Browallia New"/>
              </a:rPr>
              <a:t>The End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Browallia New"/>
              <a:ea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0880" y="380880"/>
            <a:ext cx="4191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Iron Metabolism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447920"/>
            <a:ext cx="8077320" cy="47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Iron distribution &amp; transport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transferrin, transferrin receptor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ferritin , hemosiderin (Fe</a:t>
            </a:r>
            <a:r>
              <a:rPr b="0" lang="th-TH" sz="2800" spc="-1" strike="noStrike" baseline="50000">
                <a:solidFill>
                  <a:srgbClr val="ffff00"/>
                </a:solidFill>
                <a:latin typeface="Arial"/>
              </a:rPr>
              <a:t>3+</a:t>
            </a: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myoglobin, iron-containing enzyme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Dietary iron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Iron absorption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Iron requirement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>
            <a:lum bright="-6000"/>
          </a:blip>
          <a:srcRect l="5960" t="3616" r="6696" b="3616"/>
          <a:stretch/>
        </p:blipFill>
        <p:spPr>
          <a:xfrm>
            <a:off x="3657600" y="76320"/>
            <a:ext cx="5486400" cy="6781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04920" y="30492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Browallia New"/>
              </a:rPr>
              <a:t>DAILY IRON CYCLE</a:t>
            </a:r>
            <a:endParaRPr b="1" lang="en-US" sz="24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Browallia New"/>
              <a:ea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1440" y="622440"/>
            <a:ext cx="8534520" cy="56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1488960"/>
            <a:ext cx="8382240" cy="465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Amount of iron 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Male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  Female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     %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in average adult 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         of total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Hb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2.4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1.7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ferritin &amp; hemosider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1.0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0.3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Myoglobin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0.15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0.12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Heme enzyme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0.02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0.15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Transferrin-bound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0.004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0.003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2809800"/>
            <a:ext cx="8382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3348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</a:rPr>
              <a:t>The distribution of body iron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0880" y="380880"/>
            <a:ext cx="4191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ngsana New"/>
              </a:rPr>
              <a:t>Iron Metabolism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447920"/>
            <a:ext cx="8077320" cy="47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Iron distribution &amp; transport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Dietary iron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ferric hydroxide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ferric-protein complex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00"/>
                </a:solidFill>
                <a:latin typeface="Arial"/>
              </a:rPr>
              <a:t>heme-protein complexes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Iron absorption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Iron requirements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1600200" y="22860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 Absorption of Iron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03:34:08Z</dcterms:created>
  <dc:creator>watchara</dc:creator>
  <dc:description/>
  <dc:language>en-US</dc:language>
  <cp:lastModifiedBy>Dr.abdel-hamid</cp:lastModifiedBy>
  <cp:lastPrinted>2002-06-25T03:49:04Z</cp:lastPrinted>
  <dcterms:modified xsi:type="dcterms:W3CDTF">2006-10-23T05:33:14Z</dcterms:modified>
  <cp:revision>20</cp:revision>
  <dc:subject/>
  <dc:title>ไม่มีชื่อเรื่องภาพนิ่ง</dc:title>
</cp:coreProperties>
</file>