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3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8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39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62AFF7-4E19-4819-9978-03450810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EEAECE-41A2-4053-B46A-10A9AB71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1B4CD0-8846-44B6-BA38-09DF7BCA2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038900-9031-4AF2-978C-CD660B215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604913-43C8-45F4-BD3B-40E69E08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9BBB10-7E59-4D34-9FF8-D9F422B8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9DEA5D-A8C3-4334-9E3D-33ECD262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7353FF-E23A-4819-9BD3-AE599744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8F035C-0FBD-4E19-8105-B6CD99BE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1FCC84-D379-465F-9920-1B5C12B4E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3A4548-0ED9-49AE-AF7A-D8C8E8B3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5674FE-5CE4-4291-98AA-C55F7F291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0CF429-F17A-4CEE-9A63-58F6344D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75A977-F9D9-465D-875E-CCCF1E3C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239B72-5CE6-42CE-932D-73AD2CED0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4B8264-2E5C-41A5-B4C7-4D2CE13DD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891683-CC0E-4FDD-9772-91A86895C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76FA3A-5401-4D1F-8380-483DFEE5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5015A7-66C4-4CE6-926A-AED3826B4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46CE21-06DD-43D0-B57C-69994DBCB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AC648D-DE2E-4183-AB8E-E034C295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EF37D3-3C60-470F-A8D4-7D824ED3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F16E7C-6761-408D-9F2D-85B4170A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0AEB7E-534B-4D90-A52C-73F32B306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DB5DE1-C237-491F-BBEC-B2FCF76C7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402-B1CB-4948-98E9-7EF07F08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41D-F0BF-409D-B820-9A92222B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0F87-D933-4EB7-AA87-4B974954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49CA3-348B-4250-8998-B2F04CFA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345C-D21E-483D-B668-8698BF2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EC72F-2A7F-4567-AA5A-0FB58EE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0242D-2666-497A-82AE-C073593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EE229-31BA-4845-88D8-46B7F38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E26D6-A66A-41FC-9570-CDBCB2F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E1F59-3853-48C8-B9E0-91089059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75A29-C195-442E-B64E-D2E0BDF2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E0E26-CDE2-418A-B6C8-B09626D7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B5F-86E8-4F2F-A2D8-C201FEFF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C97EB-9D14-418A-8231-6C9312F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5525-1D2E-403E-B25C-B754B7F7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CDB7-75AB-4315-AA02-E93E892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0F197-F371-4E4D-BFDB-4F7CA548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9EA95-FE7D-4700-8AA1-1F4931E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D88FB-6015-49A6-93A7-42C4F54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ABDA0-EF6C-46ED-9700-4E52C04D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F870C-5790-4C33-97A5-94495B2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C4D4B-F20E-48E4-A184-C392E935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1F04-4625-4416-BAAB-52E81F04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B7-1F10-4566-8369-33C66C3C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C8F7C-980B-4C42-9718-412700B9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3D105-D010-4F69-AD32-A696767E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1D6D-0635-4F78-B057-2BA922F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3540-46C7-44B8-B9B5-1E9F47B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9654C-FE38-4720-8EE8-60FBBCA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BD60A-10DD-4ACF-B82D-AA684477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FBE67-DF66-4700-BF37-2395507B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6DC1-CD77-4272-B982-206D057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E734C-1E66-4814-822B-C7EA61E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D1D7C-C03A-4235-A904-D2206C04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BE2-8706-4243-B48A-518FF1B8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20779-408F-4E4F-88C9-7D3D957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70C8-B801-42A9-8E50-B151ACBB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AEE8-323D-4324-982D-9F87F44E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DAEFF-2786-4A7F-978B-B8BFDB5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F19CD-6AE7-42D6-863D-7F81F91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F6CE7-FF04-43CA-8DA1-5DCB921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1FC34-3F98-4D8E-8B6B-E749154B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CACC6-23D7-437C-B26C-BA4AC81A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A9CDA-291F-4C7B-9FE7-B86596E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774CF-B889-4B90-877D-2089AEC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FEBD-AC38-4878-BE9E-B65B66D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F2EFD-3538-4BCF-BF54-0F36B2B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A1B8B-1AB8-41EE-974D-7C35FD1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E542D-99BA-4BE3-8862-1E02006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69E8C-4FC9-4A72-9812-7BDED18C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C779E-2D5E-4DBA-98FF-F106C7DE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3C6-481F-4BBC-B9AC-DAAC11C8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8BC-8F8F-4C92-99EA-139049B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1CD-F068-4A31-BBAB-59F746CC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CD3F-9053-4016-B306-970A64E5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BB7A-FA07-4A65-89A3-C88F7FD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26-9A7F-4608-BEA6-6F1744B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D0DF-48EF-4184-8569-D5079A5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8C52-C4C5-4A7E-8E55-75CF29E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E0F5-EDF8-4C1C-A451-BD0DEB7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3572-1D14-4AAF-B45E-8869B81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0EA5-DE23-4ED7-8DF1-4E9FE6FB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3E3D-F4B8-4FE7-932D-5369358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5A69-D746-4ECC-A543-DA04625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6524-582C-4A3E-BC01-955D2831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082E-5E66-4E5B-A7FD-3AEE9E5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A589-66E6-4496-B764-73B23DA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EFC-3E32-4446-8517-8A6B541D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D30B-3965-44D2-AB0D-025FE8F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722E-8FB3-4B9A-B348-BE919E67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6C41-0AF0-41D8-B7BE-7E1CDD4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CA7F-D217-45DD-A171-FB24BE6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DDDE-892B-42FE-88DF-D318641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2AE2-2FFD-4A88-923A-F945AD1B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DC13-6FBA-40D2-B72F-EF98C743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793E-F4B3-4039-A4E9-5AAAB6CE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BCD2-FA5E-4A8D-A538-CAC403FA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FBC6-8A5D-484B-9336-FA0736AF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68D-856C-44C7-8CEA-DD1EEAF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0533-B267-496E-893D-45DED40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7ED3-E32D-4881-AD87-30BC331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A31A-B0ED-4064-89CC-99237406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1A36-05E2-4281-8013-6163E9F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9C6A-7599-4BF7-9BFB-86A0D10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72C8-DC58-48F4-9093-F563D72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054F-8249-4975-89CD-765330E6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251F-A674-4367-8539-7968D8E8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1701-688A-4EB4-A1B6-FBE7B443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219E-8791-4294-B87A-5BA4E23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60D-B94A-4BFD-8227-A7F5102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4548-D63A-48C5-A083-22E36938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D3A4-E656-4C20-A0DD-070ABD4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BA94-3966-427A-AC39-A46409D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6972-1C86-41C4-B9BA-AD1B8E5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C77F-33A8-469E-B9F7-BA5CE28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D116-9CA9-4450-8A5E-6135E65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88E5-7E38-4273-BF63-57613A7B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FE622-0322-4786-AF1A-E3FBC713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6C0A-CAA9-495A-B7AE-D75296E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23B3-3DE7-48B0-A1FE-9ED44D14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3A0-5CBE-4835-9123-836D6C1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72DF-7BB6-4684-8D08-77CDB3C8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61F7-DEC6-49E6-974A-88AAC057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F588-A1D2-40C7-890D-232AE6F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BF03-3047-4047-AA27-8AC2D9D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633B-1F67-49F2-A202-332E6240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66BB-4FFE-4CCD-85C8-7002FA7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9F649-1700-475D-90C8-329ABB4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3EE7-FD56-4156-9CD6-3F7C996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F8C0-0CC2-4246-8EC4-94840F8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B1BF-914A-4B94-98A4-2FAA636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04E-05C2-426B-8B70-4455C13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1A93-1DEA-4330-994A-4C36A0DC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D53BE-00A1-4195-9394-018A920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94D2-EB5C-430E-BC6C-F13C91CA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0DF2-1BDB-4C81-8D7A-7E35462A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2FE5-D2E6-4E41-9EA3-CFC457F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6CAF-91D0-41EC-9727-40AC220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2D96-2F1F-4778-A79C-E818A07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413A-C518-4640-A5CA-8C679CF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D32B-FFA3-4AC4-A766-816CF2F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26B4-0541-4FE3-A4E1-18EBC0C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8CF-58C5-4D77-A2FD-74D43BE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D98A-754F-49DF-BC5E-F09FCBD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6762-E9A6-4D99-9C24-0A61975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77A2-0875-4B68-BDCA-5D5783D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D696-EAB2-4303-BEB1-B33331B7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23CD-52B6-48E2-97BD-FA6B2634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3892-6B34-4C75-894F-8666FBA6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5047-75F5-433D-8A7A-87AD0C9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968C-BA30-4146-B714-ABEFDB0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1D790-71C0-4198-A3CD-FD7EF60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4376-42CF-4150-B799-9DC151E9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C5D-FD78-4A11-A1DC-6AAD7C6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A0AE-7DA7-40AC-BD13-20123AC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B393-A9A0-4C37-9B4B-0271C23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3F315-CBF0-496A-8011-A4E4727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F166A-B9A5-4C19-8FDC-5BD9690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CFC4-8BC4-422D-8524-8A25B9E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8B498-DDBD-4CED-B0DA-10105B01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904D9-0495-4C93-9ECE-B5EF386E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C2199-87FA-4E0D-8969-6CA1FAD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63DF-155C-409A-8DD4-86C45CA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AFC58-B221-4D03-B04E-5F01855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3AC-B5EE-4E44-B311-1995FE42F89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AC9-B00A-41A2-A302-B648FDFC5EC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AF0-8097-4FD3-84FA-C2D4FA176F0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BD7-75A5-4026-A930-D3A9D21B035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44A-37E4-4164-AE69-08FED07D2CD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9F19-6A3B-473E-B9AC-B887D5B63C1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E464-8A2A-463D-B1A0-46FC2A5E34F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D68-F703-4C99-8DA1-D8384733A55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302-2D45-4332-964C-3FA3AF54766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A35-922E-458D-A1DB-10468218E65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CC2-A636-40B5-976F-46D40F88FEE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96D-ECC5-49D9-B891-1E26745D095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550: Software requirements engineering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41936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Azeddine Chi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1676520" y="2971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. Functio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982960" y="6477120"/>
            <a:ext cx="41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cess description, pseudo-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990720" y="1195560"/>
            <a:ext cx="8045280" cy="5281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oduct shall provide the following fun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 FindFreeRoom (type, peri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rooms of the requested type that are free in the period requ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the user to select some of them as CurrentRooms in the requested 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 CreateNewStay (partial guest data, guest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temporary Current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guest record exists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CurrentStay with recorded guest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CurrentStay with partial gues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product should look for similar records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 Checkin (CurrentStay, CurrentRoo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urrentStay is book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 rooms in stay as occu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urrentStay is not record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CurrentRooms f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guest not recorded, check guest data complete, record g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 CurrentRooms as occupied, record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 Textual process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. State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669-959C-42F7-8D8D-DC9F64F35AF5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s showing how something changes from one stat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finding missing or obsc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odel things in the domain as well as in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only for complex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4"/>
          <p:cNvSpPr/>
          <p:nvPr/>
        </p:nvSpPr>
        <p:spPr>
          <a:xfrm>
            <a:off x="2895480" y="2133720"/>
            <a:ext cx="5867640" cy="464796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762120" y="914400"/>
            <a:ext cx="70866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t">
            <a:noAutofit/>
          </a:bodyPr>
          <a:p>
            <a:pPr>
              <a:spcAft>
                <a:spcPts val="1125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s have a RoomState for each day in the planning period. The status shows whether the room is free, occupied, etc. that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State shall change as shown in Fig.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117600" y="2332080"/>
            <a:ext cx="2131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12. Room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4331880" y="3008160"/>
            <a:ext cx="52776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7448400" y="3008160"/>
            <a:ext cx="92412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4038480" y="5172120"/>
            <a:ext cx="111456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7521840" y="5021280"/>
            <a:ext cx="773640" cy="687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AutoShape 10"/>
          <p:cNvCxnSpPr>
            <a:stCxn id="579" idx="3"/>
            <a:endCxn id="580" idx="1"/>
          </p:cNvCxnSpPr>
          <p:nvPr/>
        </p:nvCxnSpPr>
        <p:spPr>
          <a:xfrm>
            <a:off x="4887720" y="3212640"/>
            <a:ext cx="2532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AutoShape 11"/>
          <p:cNvCxnSpPr>
            <a:stCxn id="580" idx="2"/>
            <a:endCxn id="581" idx="3"/>
          </p:cNvCxnSpPr>
          <p:nvPr/>
        </p:nvCxnSpPr>
        <p:spPr>
          <a:xfrm flipH="1">
            <a:off x="5180760" y="3430080"/>
            <a:ext cx="2729880" cy="194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AutoShape 13"/>
          <p:cNvCxnSpPr>
            <a:stCxn id="579" idx="2"/>
            <a:endCxn id="581" idx="0"/>
          </p:cNvCxnSpPr>
          <p:nvPr/>
        </p:nvCxnSpPr>
        <p:spPr>
          <a:xfrm>
            <a:off x="4595400" y="3430440"/>
            <a:ext cx="1080" cy="172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Text Box 14"/>
          <p:cNvSpPr/>
          <p:nvPr/>
        </p:nvSpPr>
        <p:spPr>
          <a:xfrm>
            <a:off x="5785920" y="3233880"/>
            <a:ext cx="6199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6"/>
          <p:cNvSpPr/>
          <p:nvPr/>
        </p:nvSpPr>
        <p:spPr>
          <a:xfrm flipV="1">
            <a:off x="4545000" y="3584520"/>
            <a:ext cx="621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7"/>
          <p:cNvSpPr/>
          <p:nvPr/>
        </p:nvSpPr>
        <p:spPr>
          <a:xfrm rot="19288800">
            <a:off x="7009920" y="3809520"/>
            <a:ext cx="9230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8"/>
          <p:cNvSpPr/>
          <p:nvPr/>
        </p:nvSpPr>
        <p:spPr>
          <a:xfrm flipV="1">
            <a:off x="3772080" y="3584520"/>
            <a:ext cx="621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2"/>
          <p:cNvSpPr/>
          <p:nvPr/>
        </p:nvSpPr>
        <p:spPr>
          <a:xfrm flipV="1">
            <a:off x="4394160" y="343044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5436360" y="5813280"/>
            <a:ext cx="6685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5724360" y="5021280"/>
            <a:ext cx="209880" cy="81900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6"/>
          <p:cNvGrpSpPr/>
          <p:nvPr/>
        </p:nvGrpSpPr>
        <p:grpSpPr>
          <a:xfrm>
            <a:off x="3327480" y="2679840"/>
            <a:ext cx="4181760" cy="3849120"/>
            <a:chOff x="3327480" y="2679840"/>
            <a:chExt cx="4181760" cy="3849120"/>
          </a:xfrm>
        </p:grpSpPr>
        <p:cxnSp>
          <p:nvCxnSpPr>
            <p:cNvPr id="594" name="AutoShape 12"/>
            <p:cNvCxnSpPr>
              <a:stCxn id="579" idx="3"/>
              <a:endCxn id="582" idx="1"/>
            </p:cNvCxnSpPr>
            <p:nvPr/>
          </p:nvCxnSpPr>
          <p:spPr>
            <a:xfrm>
              <a:off x="4873680" y="3136680"/>
              <a:ext cx="2635920" cy="21643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95" name="Text Box 15"/>
            <p:cNvSpPr/>
            <p:nvPr/>
          </p:nvSpPr>
          <p:spPr>
            <a:xfrm>
              <a:off x="5502960" y="2679840"/>
              <a:ext cx="7830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canc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9"/>
            <p:cNvSpPr/>
            <p:nvPr/>
          </p:nvSpPr>
          <p:spPr>
            <a:xfrm rot="2527800">
              <a:off x="5810760" y="3924000"/>
              <a:ext cx="7066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rep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0"/>
            <p:cNvSpPr/>
            <p:nvPr/>
          </p:nvSpPr>
          <p:spPr>
            <a:xfrm rot="2448600">
              <a:off x="6247800" y="4800600"/>
              <a:ext cx="6199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d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1"/>
            <p:cNvSpPr/>
            <p:nvPr/>
          </p:nvSpPr>
          <p:spPr>
            <a:xfrm flipH="1">
              <a:off x="4887720" y="3008160"/>
              <a:ext cx="2517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 flipH="1" flipV="1">
              <a:off x="4887720" y="3430440"/>
              <a:ext cx="2517480" cy="2149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3327480" y="3165480"/>
              <a:ext cx="95040" cy="94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1320" bIns="31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AutoShape 27"/>
            <p:cNvCxnSpPr>
              <a:stCxn id="600" idx="6"/>
              <a:endCxn id="579" idx="1"/>
            </p:cNvCxnSpPr>
            <p:nvPr/>
          </p:nvCxnSpPr>
          <p:spPr>
            <a:xfrm flipV="1">
              <a:off x="3422160" y="3135960"/>
              <a:ext cx="896040" cy="766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602" name="Text Box 28"/>
            <p:cNvSpPr/>
            <p:nvPr/>
          </p:nvSpPr>
          <p:spPr>
            <a:xfrm>
              <a:off x="3470040" y="2868480"/>
              <a:ext cx="743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b2b2b2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Group 29"/>
            <p:cNvGrpSpPr/>
            <p:nvPr/>
          </p:nvGrpSpPr>
          <p:grpSpPr>
            <a:xfrm>
              <a:off x="4332240" y="6327720"/>
              <a:ext cx="201600" cy="201240"/>
              <a:chOff x="4332240" y="6327720"/>
              <a:chExt cx="201600" cy="201240"/>
            </a:xfrm>
          </p:grpSpPr>
          <p:sp>
            <p:nvSpPr>
              <p:cNvPr id="604" name="Oval 30"/>
              <p:cNvSpPr/>
              <p:nvPr/>
            </p:nvSpPr>
            <p:spPr>
              <a:xfrm>
                <a:off x="4332240" y="6327720"/>
                <a:ext cx="201600" cy="20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1"/>
              <p:cNvSpPr/>
              <p:nvPr/>
            </p:nvSpPr>
            <p:spPr>
              <a:xfrm>
                <a:off x="4370400" y="6365520"/>
                <a:ext cx="125280" cy="124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4432320" y="583704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3"/>
            <p:cNvSpPr/>
            <p:nvPr/>
          </p:nvSpPr>
          <p:spPr>
            <a:xfrm>
              <a:off x="4535640" y="5827680"/>
              <a:ext cx="2127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b2b2b2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itle 28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. Stat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.  State-transition Matric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855-6666-4B67-8C94-1FBFA52A171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 showing how something reacts in all possibl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state diagrams for finding missing or obsc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only for complex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3" descr=""/>
          <p:cNvPicPr/>
          <p:nvPr/>
        </p:nvPicPr>
        <p:blipFill>
          <a:blip r:embed="rId1"/>
          <a:srcRect l="0" t="0" r="8659" b="0"/>
          <a:stretch/>
        </p:blipFill>
        <p:spPr>
          <a:xfrm>
            <a:off x="685800" y="762120"/>
            <a:ext cx="5742000" cy="4838760"/>
          </a:xfrm>
          <a:prstGeom prst="rect">
            <a:avLst/>
          </a:prstGeom>
          <a:ln w="0">
            <a:noFill/>
          </a:ln>
        </p:spPr>
      </p:pic>
      <p:sp>
        <p:nvSpPr>
          <p:cNvPr id="613" name="Title 28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.  State-transit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349-D3BB-4776-B7F8-3F2D63413648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agram showing the flow of control and the flow of data (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oncurrency and synchro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requirements for workflow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5" descr=""/>
          <p:cNvPicPr/>
          <p:nvPr/>
        </p:nvPicPr>
        <p:blipFill>
          <a:blip r:embed="rId1"/>
          <a:srcRect l="0" t="7953" r="0" b="9092"/>
          <a:stretch/>
        </p:blipFill>
        <p:spPr>
          <a:xfrm>
            <a:off x="3809880" y="990720"/>
            <a:ext cx="5029200" cy="55623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7"/>
          <p:cNvSpPr/>
          <p:nvPr/>
        </p:nvSpPr>
        <p:spPr>
          <a:xfrm>
            <a:off x="22860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tivity diagram,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304920" y="64008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k and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8" descr=""/>
          <p:cNvPicPr/>
          <p:nvPr/>
        </p:nvPicPr>
        <p:blipFill>
          <a:blip r:embed="rId1"/>
          <a:srcRect l="0" t="9892" r="0" b="13203"/>
          <a:stretch/>
        </p:blipFill>
        <p:spPr>
          <a:xfrm>
            <a:off x="3657600" y="1295280"/>
            <a:ext cx="5200560" cy="5332680"/>
          </a:xfrm>
          <a:prstGeom prst="rect">
            <a:avLst/>
          </a:prstGeom>
          <a:ln w="0">
            <a:noFill/>
          </a:ln>
        </p:spPr>
      </p:pic>
      <p:sp>
        <p:nvSpPr>
          <p:cNvPr id="622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9A9-EFD6-4E41-95AA-AF9C0E6FFE9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ta model where entities have data and can perform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sers, even harder to understand than dat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– even when un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requirements for some 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itable as requirements for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286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ML Class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1406520" y="3417840"/>
            <a:ext cx="1440000" cy="160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343400" y="4940280"/>
            <a:ext cx="1440000" cy="179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7162920" y="5567400"/>
            <a:ext cx="1439640" cy="65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4351320" y="3002040"/>
            <a:ext cx="1440000" cy="136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7162920" y="3143160"/>
            <a:ext cx="1439640" cy="107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AutoShape 8"/>
          <p:cNvCxnSpPr>
            <a:stCxn id="627" idx="2"/>
            <a:endCxn id="628" idx="1"/>
          </p:cNvCxnSpPr>
          <p:nvPr/>
        </p:nvCxnSpPr>
        <p:spPr>
          <a:xfrm>
            <a:off x="2127240" y="5041800"/>
            <a:ext cx="2202480" cy="79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AutoShape 9"/>
          <p:cNvCxnSpPr>
            <a:stCxn id="628" idx="3"/>
            <a:endCxn id="634" idx="0"/>
          </p:cNvCxnSpPr>
          <p:nvPr/>
        </p:nvCxnSpPr>
        <p:spPr>
          <a:xfrm>
            <a:off x="5797080" y="5837400"/>
            <a:ext cx="136584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5" name="AutoShape 10"/>
          <p:cNvCxnSpPr>
            <a:stCxn id="627" idx="3"/>
            <a:endCxn id="630" idx="1"/>
          </p:cNvCxnSpPr>
          <p:nvPr/>
        </p:nvCxnSpPr>
        <p:spPr>
          <a:xfrm flipV="1">
            <a:off x="2860200" y="3683880"/>
            <a:ext cx="1477080" cy="538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6" name="AutoShape 11"/>
          <p:cNvCxnSpPr>
            <a:stCxn id="630" idx="3"/>
            <a:endCxn id="631" idx="1"/>
          </p:cNvCxnSpPr>
          <p:nvPr/>
        </p:nvCxnSpPr>
        <p:spPr>
          <a:xfrm flipV="1">
            <a:off x="5805000" y="3680640"/>
            <a:ext cx="13438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7" name="Rectangle 12"/>
          <p:cNvSpPr/>
          <p:nvPr/>
        </p:nvSpPr>
        <p:spPr>
          <a:xfrm>
            <a:off x="1406520" y="1373040"/>
            <a:ext cx="1440000" cy="13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13"/>
          <p:cNvCxnSpPr>
            <a:stCxn id="637" idx="2"/>
            <a:endCxn id="627" idx="0"/>
          </p:cNvCxnSpPr>
          <p:nvPr/>
        </p:nvCxnSpPr>
        <p:spPr>
          <a:xfrm>
            <a:off x="2126880" y="2731680"/>
            <a:ext cx="108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9" name="Line 14"/>
          <p:cNvSpPr/>
          <p:nvPr/>
        </p:nvSpPr>
        <p:spPr>
          <a:xfrm>
            <a:off x="1406520" y="16938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1406520" y="24271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6"/>
          <p:cNvSpPr/>
          <p:nvPr/>
        </p:nvSpPr>
        <p:spPr>
          <a:xfrm>
            <a:off x="1406520" y="3741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1406520" y="42148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8"/>
          <p:cNvSpPr/>
          <p:nvPr/>
        </p:nvSpPr>
        <p:spPr>
          <a:xfrm>
            <a:off x="4351320" y="3309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9"/>
          <p:cNvSpPr/>
          <p:nvPr/>
        </p:nvSpPr>
        <p:spPr>
          <a:xfrm>
            <a:off x="4351320" y="3795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0"/>
          <p:cNvSpPr/>
          <p:nvPr/>
        </p:nvSpPr>
        <p:spPr>
          <a:xfrm>
            <a:off x="4343400" y="5210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7164360" y="3456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2"/>
          <p:cNvSpPr/>
          <p:nvPr/>
        </p:nvSpPr>
        <p:spPr>
          <a:xfrm>
            <a:off x="4343400" y="59371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3"/>
          <p:cNvSpPr/>
          <p:nvPr/>
        </p:nvSpPr>
        <p:spPr>
          <a:xfrm>
            <a:off x="7162920" y="3951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4"/>
          <p:cNvSpPr/>
          <p:nvPr/>
        </p:nvSpPr>
        <p:spPr>
          <a:xfrm>
            <a:off x="7162920" y="58626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5"/>
          <p:cNvSpPr/>
          <p:nvPr/>
        </p:nvSpPr>
        <p:spPr>
          <a:xfrm>
            <a:off x="2165400" y="271620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6"/>
          <p:cNvSpPr/>
          <p:nvPr/>
        </p:nvSpPr>
        <p:spPr>
          <a:xfrm>
            <a:off x="2156400" y="31068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7"/>
          <p:cNvSpPr/>
          <p:nvPr/>
        </p:nvSpPr>
        <p:spPr>
          <a:xfrm>
            <a:off x="2897280" y="38656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8"/>
          <p:cNvSpPr/>
          <p:nvPr/>
        </p:nvSpPr>
        <p:spPr>
          <a:xfrm>
            <a:off x="3939480" y="332892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9"/>
          <p:cNvSpPr/>
          <p:nvPr/>
        </p:nvSpPr>
        <p:spPr>
          <a:xfrm>
            <a:off x="5868000" y="337968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900840" y="33796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2058120" y="5135400"/>
            <a:ext cx="411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3812400" y="53514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5945760" y="55134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858000" y="55324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023160" y="4827600"/>
            <a:ext cx="31190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urRoomState.setState(occup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6"/>
          <p:cNvSpPr/>
          <p:nvPr/>
        </p:nvSpPr>
        <p:spPr>
          <a:xfrm>
            <a:off x="3514320" y="1295280"/>
            <a:ext cx="1378080" cy="374040"/>
          </a:xfrm>
          <a:prstGeom prst="wedgeRoundRectCallout">
            <a:avLst>
              <a:gd name="adj1" fmla="val -119337"/>
              <a:gd name="adj2" fmla="val 16634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7"/>
          <p:cNvSpPr/>
          <p:nvPr/>
        </p:nvSpPr>
        <p:spPr>
          <a:xfrm>
            <a:off x="3611160" y="2068560"/>
            <a:ext cx="1283400" cy="374040"/>
          </a:xfrm>
          <a:prstGeom prst="wedgeRoundRectCallout">
            <a:avLst>
              <a:gd name="adj1" fmla="val -118703"/>
              <a:gd name="adj2" fmla="val 7768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38"/>
          <p:cNvSpPr/>
          <p:nvPr/>
        </p:nvSpPr>
        <p:spPr>
          <a:xfrm>
            <a:off x="5955840" y="2011320"/>
            <a:ext cx="1549800" cy="670680"/>
          </a:xfrm>
          <a:prstGeom prst="wedgeRoundRectCallout">
            <a:avLst>
              <a:gd name="adj1" fmla="val -15236"/>
              <a:gd name="adj2" fmla="val 18325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=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609480" y="2438280"/>
            <a:ext cx="83059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en Lauesen, "Software Requirements: Styles &amp; Techniques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on-Wesley Professional 2002,  608 pp, ISBN-10: 0201745704 - ISBN-13: 978020174570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        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60948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68120" y="6324480"/>
            <a:ext cx="24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O Busines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33920" y="2562120"/>
            <a:ext cx="944280" cy="830160"/>
            <a:chOff x="3733920" y="2562120"/>
            <a:chExt cx="944280" cy="830160"/>
          </a:xfrm>
        </p:grpSpPr>
        <p:sp>
          <p:nvSpPr>
            <p:cNvPr id="667" name="Rectangle 4"/>
            <p:cNvSpPr/>
            <p:nvPr/>
          </p:nvSpPr>
          <p:spPr>
            <a:xfrm>
              <a:off x="3733920" y="2562120"/>
              <a:ext cx="944280" cy="830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3733920" y="2882520"/>
              <a:ext cx="94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"/>
            <p:cNvSpPr/>
            <p:nvPr/>
          </p:nvSpPr>
          <p:spPr>
            <a:xfrm>
              <a:off x="3733920" y="3120840"/>
              <a:ext cx="94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5216400" y="2575080"/>
            <a:ext cx="959040" cy="804600"/>
            <a:chOff x="5216400" y="2575080"/>
            <a:chExt cx="959040" cy="804600"/>
          </a:xfrm>
        </p:grpSpPr>
        <p:sp>
          <p:nvSpPr>
            <p:cNvPr id="671" name="Rectangle 8"/>
            <p:cNvSpPr/>
            <p:nvPr/>
          </p:nvSpPr>
          <p:spPr>
            <a:xfrm>
              <a:off x="5216400" y="2575080"/>
              <a:ext cx="944640" cy="80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y#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5216400" y="2898720"/>
              <a:ext cx="9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"/>
            <p:cNvSpPr/>
            <p:nvPr/>
          </p:nvSpPr>
          <p:spPr>
            <a:xfrm>
              <a:off x="5216400" y="3133800"/>
              <a:ext cx="94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6675480" y="2563920"/>
            <a:ext cx="871560" cy="828720"/>
            <a:chOff x="6675480" y="2563920"/>
            <a:chExt cx="871560" cy="828720"/>
          </a:xfrm>
        </p:grpSpPr>
        <p:sp>
          <p:nvSpPr>
            <p:cNvPr id="675" name="Rectangle 12"/>
            <p:cNvSpPr/>
            <p:nvPr/>
          </p:nvSpPr>
          <p:spPr>
            <a:xfrm>
              <a:off x="6675480" y="2563920"/>
              <a:ext cx="871560" cy="82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6675480" y="287208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4"/>
            <p:cNvSpPr/>
            <p:nvPr/>
          </p:nvSpPr>
          <p:spPr>
            <a:xfrm>
              <a:off x="6675480" y="311976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AutoShape 15"/>
          <p:cNvSpPr/>
          <p:nvPr/>
        </p:nvSpPr>
        <p:spPr>
          <a:xfrm>
            <a:off x="5130720" y="1273320"/>
            <a:ext cx="1206720" cy="7524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6577560" y="1428840"/>
            <a:ext cx="1098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QL-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17"/>
          <p:cNvGrpSpPr/>
          <p:nvPr/>
        </p:nvGrpSpPr>
        <p:grpSpPr>
          <a:xfrm>
            <a:off x="4476600" y="3967200"/>
            <a:ext cx="944640" cy="1077840"/>
            <a:chOff x="4476600" y="3967200"/>
            <a:chExt cx="944640" cy="1077840"/>
          </a:xfrm>
        </p:grpSpPr>
        <p:sp>
          <p:nvSpPr>
            <p:cNvPr id="681" name="Rectangle 18"/>
            <p:cNvSpPr/>
            <p:nvPr/>
          </p:nvSpPr>
          <p:spPr>
            <a:xfrm>
              <a:off x="4476600" y="3967200"/>
              <a:ext cx="944640" cy="1077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mp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k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"/>
            <p:cNvSpPr/>
            <p:nvPr/>
          </p:nvSpPr>
          <p:spPr>
            <a:xfrm>
              <a:off x="4476600" y="4287600"/>
              <a:ext cx="944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200" bIns="-34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0"/>
            <p:cNvSpPr/>
            <p:nvPr/>
          </p:nvSpPr>
          <p:spPr>
            <a:xfrm>
              <a:off x="4476600" y="4525920"/>
              <a:ext cx="94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560" bIns="-34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1"/>
          <p:cNvGrpSpPr/>
          <p:nvPr/>
        </p:nvGrpSpPr>
        <p:grpSpPr>
          <a:xfrm>
            <a:off x="5950080" y="4062240"/>
            <a:ext cx="944280" cy="830160"/>
            <a:chOff x="5950080" y="4062240"/>
            <a:chExt cx="944280" cy="830160"/>
          </a:xfrm>
        </p:grpSpPr>
        <p:sp>
          <p:nvSpPr>
            <p:cNvPr id="685" name="Rectangle 22"/>
            <p:cNvSpPr/>
            <p:nvPr/>
          </p:nvSpPr>
          <p:spPr>
            <a:xfrm>
              <a:off x="5950080" y="4062240"/>
              <a:ext cx="944280" cy="830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ser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mp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3"/>
            <p:cNvSpPr/>
            <p:nvPr/>
          </p:nvSpPr>
          <p:spPr>
            <a:xfrm>
              <a:off x="5950080" y="4383000"/>
              <a:ext cx="944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560" bIns="-34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>
              <a:off x="5950080" y="4620960"/>
              <a:ext cx="944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200" bIns="-34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25"/>
          <p:cNvSpPr/>
          <p:nvPr/>
        </p:nvSpPr>
        <p:spPr>
          <a:xfrm>
            <a:off x="6157080" y="5794200"/>
            <a:ext cx="1555560" cy="80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Rooms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isplay at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6138720" y="6080040"/>
            <a:ext cx="159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7"/>
          <p:cNvSpPr/>
          <p:nvPr/>
        </p:nvSpPr>
        <p:spPr>
          <a:xfrm>
            <a:off x="6138720" y="6356520"/>
            <a:ext cx="159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28"/>
          <p:cNvGrpSpPr/>
          <p:nvPr/>
        </p:nvGrpSpPr>
        <p:grpSpPr>
          <a:xfrm>
            <a:off x="3630600" y="5794200"/>
            <a:ext cx="1333440" cy="802440"/>
            <a:chOff x="3630600" y="5794200"/>
            <a:chExt cx="1333440" cy="802440"/>
          </a:xfrm>
        </p:grpSpPr>
        <p:sp>
          <p:nvSpPr>
            <p:cNvPr id="692" name="Text Box 29"/>
            <p:cNvSpPr/>
            <p:nvPr/>
          </p:nvSpPr>
          <p:spPr>
            <a:xfrm>
              <a:off x="3648240" y="5794200"/>
              <a:ext cx="1298160" cy="802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tay wind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Display att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3630600" y="6105600"/>
              <a:ext cx="13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1"/>
            <p:cNvSpPr/>
            <p:nvPr/>
          </p:nvSpPr>
          <p:spPr>
            <a:xfrm>
              <a:off x="3630600" y="6353280"/>
              <a:ext cx="13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7801200" y="2436840"/>
            <a:ext cx="9536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triv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7705440" y="3938760"/>
            <a:ext cx="11455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littl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7852320" y="5654520"/>
            <a:ext cx="8514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G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AutoShape 35"/>
          <p:cNvCxnSpPr/>
          <p:nvPr/>
        </p:nvCxnSpPr>
        <p:spPr>
          <a:xfrm flipH="1" flipV="1">
            <a:off x="4206240" y="3405960"/>
            <a:ext cx="91080" cy="2374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AutoShape 37"/>
          <p:cNvCxnSpPr>
            <a:stCxn id="688" idx="0"/>
          </p:cNvCxnSpPr>
          <p:nvPr/>
        </p:nvCxnSpPr>
        <p:spPr>
          <a:xfrm flipH="1" flipV="1">
            <a:off x="6471720" y="5301720"/>
            <a:ext cx="464400" cy="47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8"/>
          <p:cNvCxnSpPr>
            <a:stCxn id="688" idx="0"/>
          </p:cNvCxnSpPr>
          <p:nvPr/>
        </p:nvCxnSpPr>
        <p:spPr>
          <a:xfrm flipV="1">
            <a:off x="6935760" y="5301720"/>
            <a:ext cx="300600" cy="47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39"/>
          <p:cNvCxnSpPr>
            <a:stCxn id="688" idx="0"/>
          </p:cNvCxnSpPr>
          <p:nvPr/>
        </p:nvCxnSpPr>
        <p:spPr>
          <a:xfrm flipH="1" flipV="1">
            <a:off x="4949640" y="5059080"/>
            <a:ext cx="198648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AutoShape 40"/>
          <p:cNvCxnSpPr/>
          <p:nvPr/>
        </p:nvCxnSpPr>
        <p:spPr>
          <a:xfrm flipV="1">
            <a:off x="4296960" y="5059080"/>
            <a:ext cx="653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AutoShape 41"/>
          <p:cNvCxnSpPr/>
          <p:nvPr/>
        </p:nvCxnSpPr>
        <p:spPr>
          <a:xfrm>
            <a:off x="5830560" y="3406680"/>
            <a:ext cx="592920" cy="642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04" name="AutoShape 42"/>
          <p:cNvCxnSpPr/>
          <p:nvPr/>
        </p:nvCxnSpPr>
        <p:spPr>
          <a:xfrm flipH="1">
            <a:off x="4978080" y="4906440"/>
            <a:ext cx="1445040" cy="1305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05" name="AutoShape 43"/>
          <p:cNvCxnSpPr>
            <a:endCxn id="678" idx="3"/>
          </p:cNvCxnSpPr>
          <p:nvPr/>
        </p:nvCxnSpPr>
        <p:spPr>
          <a:xfrm flipV="1">
            <a:off x="5689440" y="2039040"/>
            <a:ext cx="4536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AutoShape 44"/>
          <p:cNvCxnSpPr>
            <a:endCxn id="678" idx="2"/>
          </p:cNvCxnSpPr>
          <p:nvPr/>
        </p:nvCxnSpPr>
        <p:spPr>
          <a:xfrm flipV="1">
            <a:off x="4016520" y="1648800"/>
            <a:ext cx="1100880" cy="9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AutoShape 45"/>
          <p:cNvCxnSpPr>
            <a:endCxn id="678" idx="4"/>
          </p:cNvCxnSpPr>
          <p:nvPr/>
        </p:nvCxnSpPr>
        <p:spPr>
          <a:xfrm flipH="1" flipV="1">
            <a:off x="6350760" y="1649160"/>
            <a:ext cx="761400" cy="90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AutoShape 46"/>
          <p:cNvCxnSpPr/>
          <p:nvPr/>
        </p:nvCxnSpPr>
        <p:spPr>
          <a:xfrm flipH="1" flipV="1">
            <a:off x="4475880" y="3406320"/>
            <a:ext cx="47412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AutoShape 47"/>
          <p:cNvCxnSpPr/>
          <p:nvPr/>
        </p:nvCxnSpPr>
        <p:spPr>
          <a:xfrm flipV="1">
            <a:off x="4949640" y="3406320"/>
            <a:ext cx="47196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Freeform 94"/>
          <p:cNvSpPr/>
          <p:nvPr/>
        </p:nvSpPr>
        <p:spPr>
          <a:xfrm>
            <a:off x="4900680" y="3406680"/>
            <a:ext cx="863640" cy="2387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itle 28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  Collaboration diagram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3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0C1-8B0B-451E-8D0F-E79B305F393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diagram of how objects cal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describing  the internal working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for intermediate work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useful a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1806480" y="2882880"/>
            <a:ext cx="900360" cy="37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1806480" y="4148280"/>
            <a:ext cx="900360" cy="60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1806480" y="5643720"/>
            <a:ext cx="900360" cy="37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4565160" y="2882880"/>
            <a:ext cx="88344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7482960" y="2746440"/>
            <a:ext cx="883440" cy="621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2931480" y="2505240"/>
            <a:ext cx="95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1: * ge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5645160" y="2505240"/>
            <a:ext cx="12142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1.1:  ge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2319840" y="3556080"/>
            <a:ext cx="1425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2: * get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2319480" y="5022720"/>
            <a:ext cx="1979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2.1:  getRoom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>
            <a:off x="2706840" y="3071880"/>
            <a:ext cx="18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5464080" y="3071880"/>
            <a:ext cx="200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2257560" y="3259080"/>
            <a:ext cx="0" cy="88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257560" y="4754520"/>
            <a:ext cx="0" cy="88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257560" y="1895400"/>
            <a:ext cx="0" cy="9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7"/>
          <p:cNvSpPr/>
          <p:nvPr/>
        </p:nvSpPr>
        <p:spPr>
          <a:xfrm>
            <a:off x="2318760" y="1933560"/>
            <a:ext cx="1156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: chec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  Collaboratio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. Sequence diagrams, events, and messa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5AE-7EC3-46DF-818A-8E4A341FD0CE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914400" y="16765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iagram  of how objects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describing simple communica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intermediate work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design-level requirements for technic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3192480" y="3787920"/>
            <a:ext cx="0" cy="3070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5076720" y="3816360"/>
            <a:ext cx="0" cy="304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589920" y="3621240"/>
            <a:ext cx="858960" cy="3466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5253480" y="3633840"/>
            <a:ext cx="1685160" cy="3466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ccou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7640" y="4230720"/>
            <a:ext cx="247680" cy="24001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5781600" y="4383000"/>
            <a:ext cx="228600" cy="29700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781600" y="5068800"/>
            <a:ext cx="228600" cy="28584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5781600" y="5773680"/>
            <a:ext cx="228600" cy="2653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"/>
          <p:cNvSpPr/>
          <p:nvPr/>
        </p:nvSpPr>
        <p:spPr>
          <a:xfrm>
            <a:off x="5781600" y="6434280"/>
            <a:ext cx="228600" cy="3427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135320" y="438300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 flipH="1">
            <a:off x="4134960" y="46306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>
            <a:off x="4135320" y="50878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4134960" y="530712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4135320" y="57736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4134960" y="599292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4135320" y="64594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 flipH="1" flipV="1">
            <a:off x="5638320" y="638820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0"/>
          <p:cNvSpPr/>
          <p:nvPr/>
        </p:nvSpPr>
        <p:spPr>
          <a:xfrm>
            <a:off x="5092560" y="4394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207320" y="4146480"/>
            <a:ext cx="73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2"/>
          <p:cNvSpPr/>
          <p:nvPr/>
        </p:nvSpPr>
        <p:spPr>
          <a:xfrm>
            <a:off x="5092560" y="506880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5092560" y="5753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4229280" y="4851360"/>
            <a:ext cx="59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a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229280" y="5524560"/>
            <a:ext cx="59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a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6"/>
          <p:cNvSpPr/>
          <p:nvPr/>
        </p:nvSpPr>
        <p:spPr>
          <a:xfrm>
            <a:off x="4230360" y="6226200"/>
            <a:ext cx="497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27"/>
          <p:cNvSpPr/>
          <p:nvPr/>
        </p:nvSpPr>
        <p:spPr>
          <a:xfrm>
            <a:off x="6296040" y="4307040"/>
            <a:ext cx="190440" cy="46800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000"/>
              <a:gd name="textAreaBottom" fmla="*/ 45612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28"/>
          <p:cNvSpPr/>
          <p:nvPr/>
        </p:nvSpPr>
        <p:spPr>
          <a:xfrm>
            <a:off x="6296040" y="499428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29"/>
          <p:cNvSpPr/>
          <p:nvPr/>
        </p:nvSpPr>
        <p:spPr>
          <a:xfrm>
            <a:off x="6296040" y="569124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0"/>
          <p:cNvSpPr/>
          <p:nvPr/>
        </p:nvSpPr>
        <p:spPr>
          <a:xfrm>
            <a:off x="6296040" y="638820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651000" y="4395960"/>
            <a:ext cx="2320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650280" y="5056200"/>
            <a:ext cx="1569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650280" y="5745240"/>
            <a:ext cx="1569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649200" y="6462720"/>
            <a:ext cx="224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5"/>
          <p:cNvSpPr/>
          <p:nvPr/>
        </p:nvSpPr>
        <p:spPr>
          <a:xfrm>
            <a:off x="4029120" y="1341360"/>
            <a:ext cx="0" cy="1906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6"/>
          <p:cNvSpPr/>
          <p:nvPr/>
        </p:nvSpPr>
        <p:spPr>
          <a:xfrm>
            <a:off x="5915160" y="1370160"/>
            <a:ext cx="0" cy="1877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3607200" y="981000"/>
            <a:ext cx="55440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5483880" y="993600"/>
            <a:ext cx="85896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9"/>
          <p:cNvSpPr/>
          <p:nvPr/>
        </p:nvSpPr>
        <p:spPr>
          <a:xfrm>
            <a:off x="3905280" y="1658880"/>
            <a:ext cx="247680" cy="12844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0"/>
          <p:cNvSpPr/>
          <p:nvPr/>
        </p:nvSpPr>
        <p:spPr>
          <a:xfrm>
            <a:off x="5800680" y="1811160"/>
            <a:ext cx="228600" cy="29700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1"/>
          <p:cNvSpPr/>
          <p:nvPr/>
        </p:nvSpPr>
        <p:spPr>
          <a:xfrm>
            <a:off x="5800680" y="2614680"/>
            <a:ext cx="228600" cy="28584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2"/>
          <p:cNvSpPr/>
          <p:nvPr/>
        </p:nvSpPr>
        <p:spPr>
          <a:xfrm>
            <a:off x="4152960" y="181116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3"/>
          <p:cNvSpPr/>
          <p:nvPr/>
        </p:nvSpPr>
        <p:spPr>
          <a:xfrm flipH="1">
            <a:off x="4152600" y="205884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4"/>
          <p:cNvSpPr/>
          <p:nvPr/>
        </p:nvSpPr>
        <p:spPr>
          <a:xfrm>
            <a:off x="4152960" y="265572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5"/>
          <p:cNvSpPr/>
          <p:nvPr/>
        </p:nvSpPr>
        <p:spPr>
          <a:xfrm flipH="1" flipV="1">
            <a:off x="5657400" y="258444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4860720" y="1822320"/>
            <a:ext cx="926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ree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4226040" y="1574640"/>
            <a:ext cx="982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nd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4246200" y="2409840"/>
            <a:ext cx="104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elec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9"/>
          <p:cNvSpPr/>
          <p:nvPr/>
        </p:nvSpPr>
        <p:spPr>
          <a:xfrm>
            <a:off x="6315120" y="173520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0"/>
          <p:cNvSpPr/>
          <p:nvPr/>
        </p:nvSpPr>
        <p:spPr>
          <a:xfrm>
            <a:off x="6315120" y="255276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6670080" y="1824120"/>
            <a:ext cx="2320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6668640" y="2486160"/>
            <a:ext cx="2218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4"/>
          <p:cNvSpPr/>
          <p:nvPr/>
        </p:nvSpPr>
        <p:spPr>
          <a:xfrm>
            <a:off x="539640" y="63244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quence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itle 2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. Sequence diagrams, events, and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. Introduc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07B-DBED-43B6-846B-67670A0C4E5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yles are best suited for discussions with expert users, while the later styles mainly are for IT profession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Unified Modeling Language is a standard notation introduced by object-oriente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 Complex and simple functio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B28-0340-4334-9DE2-604689925D4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04920" y="1371600"/>
            <a:ext cx="8534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triv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 semi-complex domain functions i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 semi-complex product functions as part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mplex functions by performance o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9"/>
          <p:cNvSpPr/>
          <p:nvPr/>
        </p:nvSpPr>
        <p:spPr>
          <a:xfrm>
            <a:off x="2032920" y="1295280"/>
            <a:ext cx="2109600" cy="350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omain ob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dFre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intIn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boo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non-bo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add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astest truck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ce 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4168080" y="1295280"/>
            <a:ext cx="2493720" cy="350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omain non-ob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ax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ptimiz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ce 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708480" y="1844640"/>
            <a:ext cx="1294200" cy="2959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ar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703400" y="4984920"/>
            <a:ext cx="359136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ossible requirement sty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Leave to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atural language or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cess description (algorith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erformanc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fer to laws and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36"/>
          <p:cNvSpPr/>
          <p:nvPr/>
        </p:nvSpPr>
        <p:spPr>
          <a:xfrm>
            <a:off x="2832480" y="5530320"/>
            <a:ext cx="1049760" cy="670680"/>
          </a:xfrm>
          <a:prstGeom prst="wedgeRoundRectCallout">
            <a:avLst>
              <a:gd name="adj1" fmla="val 103685"/>
              <a:gd name="adj2" fmla="val 455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ui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1981080" y="184140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685800" y="265428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685800" y="401328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 Complex and simpl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3D42-A9FE-48E6-8113-6EB495D1EBA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 listing all the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verify for user as well as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d for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4343400" y="6472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, informal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436840" y="1469880"/>
            <a:ext cx="6097680" cy="493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duct shall suggest the following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if a customer asks for dis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room used as 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with more than one ro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for additional ro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at immediate check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6pm and hotel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booked, fair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6 pm and hotel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booked, bad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 and 2 cannot apply in the same st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shall be able to change th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2881440" y="2343240"/>
            <a:ext cx="5124240" cy="31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2881440" y="270504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2881440" y="333360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"/>
          <p:cNvSpPr/>
          <p:nvPr/>
        </p:nvSpPr>
        <p:spPr>
          <a:xfrm>
            <a:off x="2881440" y="481968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>
            <a:off x="7167600" y="2343240"/>
            <a:ext cx="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3897360" y="640080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, decisio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513160" y="1146240"/>
            <a:ext cx="6097320" cy="517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 The product shall suggest the following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if the customer asks for dis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ble room used as 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mily, additional ro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mmediate chec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Before 6 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Less 50% b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Fair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Room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om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Early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arly dis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shall be able to change th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2805120" y="2000160"/>
            <a:ext cx="4648320" cy="325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2805120" y="38005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2805120" y="2324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2805120" y="2610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2805120" y="289548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2805120" y="3467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2805120" y="4124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2805120" y="4410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2805120" y="46767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>
            <a:off x="2805120" y="495288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5967360" y="2000160"/>
            <a:ext cx="0" cy="325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5"/>
          <p:cNvSpPr/>
          <p:nvPr/>
        </p:nvSpPr>
        <p:spPr>
          <a:xfrm>
            <a:off x="626256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6"/>
          <p:cNvSpPr/>
          <p:nvPr/>
        </p:nvSpPr>
        <p:spPr>
          <a:xfrm>
            <a:off x="653904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7"/>
          <p:cNvSpPr/>
          <p:nvPr/>
        </p:nvSpPr>
        <p:spPr>
          <a:xfrm>
            <a:off x="682452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8"/>
          <p:cNvSpPr/>
          <p:nvPr/>
        </p:nvSpPr>
        <p:spPr>
          <a:xfrm>
            <a:off x="711036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9"/>
          <p:cNvSpPr/>
          <p:nvPr/>
        </p:nvSpPr>
        <p:spPr>
          <a:xfrm>
            <a:off x="2805120" y="31719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0"/>
          <p:cNvSpPr/>
          <p:nvPr/>
        </p:nvSpPr>
        <p:spPr>
          <a:xfrm>
            <a:off x="7491240" y="3971880"/>
            <a:ext cx="257400" cy="6001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 Textual process descriptio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233-51DE-4889-8366-0E58811E00CD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he program  (the algorithm) in tex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mini-specs or pseudo-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to provide fine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design-level requirements, e.g. buttons in prot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for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00:59Z</dcterms:created>
  <dc:creator>Michelle Heizer</dc:creator>
  <dc:description/>
  <dc:language>en-US</dc:language>
  <cp:lastModifiedBy>chikh</cp:lastModifiedBy>
  <dcterms:modified xsi:type="dcterms:W3CDTF">2009-01-09T17:38:00Z</dcterms:modified>
  <cp:revision>341</cp:revision>
  <dc:subject/>
  <dc:title>Class Number Class Name</dc:title>
</cp:coreProperties>
</file>