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dt" idx="37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ftr" idx="38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 type="sldNum" idx="39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55CD930-1AA6-46CF-9887-7CF216F17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A17C797-2F41-4A66-813E-CD655304A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8E31BD2-5D08-477C-B333-B879EE794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F8AAE3C-DE45-4AB0-A18D-6FECA7B7A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38B95B3-BC78-440B-BA96-84C819000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2706A58-18F8-450D-8A72-6E07DF1FC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BEC9604-8A71-466D-AF16-FFD20CBF9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631CDCB-1667-4BBF-89AC-23CC626E3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9206EA4-1C77-4EA7-BA55-BD65E5920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BA51524-87B4-46A1-84F5-A8F980AFF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D5EE7A2-EB09-4361-8E0C-4E7AAA7FE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77A6440-0601-40B0-BE26-6E2AE1512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E66B870-7B8C-4338-A976-AC4AB3D81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BC6C36F-07CE-4F00-88A3-2B1C19182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A173B01-72C5-43E0-A25F-0D8ADE2F3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6A891CE-5824-453E-8C3E-8023972FD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C90A027-553A-475E-8353-557753CA2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89AF870-D23D-4B65-972E-9352F1953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19CFFA4-7174-44C7-9883-4D1BC8B26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8607042-21E2-489E-821F-7676CC76A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2353CDF-FD3C-4CFF-91B5-17BB16F77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45BC836-DE3E-4C35-AE43-9BE461978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8F4FB88-18CB-46F7-87B1-44B59680B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D80CF01-0823-4419-A99A-1D587DE07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9A431CF-51BF-4645-81C0-B95828777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3770-F8B8-4A59-AAE7-0E86974D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9BDA-829C-49EF-B5CD-B33D4130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0370F-F14D-4D54-8D6D-33EFC286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96734-C088-493E-80C7-A97DEB9F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80856-0345-42BD-9C95-03335A88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5359C-CA7D-4E33-B504-4632A5C2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61E42-462C-4ECA-A90C-D7C0B6CF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DC436-26C5-475D-ABB1-A3A3CDE5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56797-AEAC-4336-8F25-A81EC188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03567-84DA-4E51-8518-2BE85C690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3ACE4-1F7A-4B20-82D9-786D32784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4BC18-C09B-496A-A91A-5AA8454A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CDE5-E8FF-427C-BFB7-39510D66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05642-E07F-4E8F-AF9F-6D01D52F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45624-B744-4B59-9233-C2DF1F94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49314D-C52F-493B-BB78-19A52944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56A1B-CBDF-475A-9C66-A5B2773B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97D19-48C4-41A9-868D-A666DC29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F8C60-9BDB-447A-846F-2243CF91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505E5-155C-4687-9866-9C82A090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F9A83-C629-4AB5-A93E-90C2DDAF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26880-260D-4EBC-85E4-F0D6DD47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7E129-0000-4E43-B7A6-57196921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8EBB-6114-4DC2-8F78-43D67155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A8339-B61E-45A4-911B-FBB7F04DC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0AE30-BBB0-417C-9D29-31886D1BD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C59D4-AFB5-4988-AC82-068A980D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E3933-8F42-485A-9F04-D3A10D61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9FCB7-1AA7-4D99-9397-CAB5B7B4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82BCA-B56E-4021-91CD-7C98BA8A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99709-E1F8-4E28-952D-EB82DECE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8AF87-89EF-47F9-A963-7BC591E1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34E82-CDA0-4BF3-B67B-9DDBEF3A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87A54-2D8D-4ED9-9141-2ADFD383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3803-5398-4792-B6B3-66ED3E06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29A3A-28C5-4231-A428-CA5D5902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7545D-4487-4DD6-AFA5-39D9505E0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E9F30-AC47-45C0-8FA6-C7EDBF1E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6C85D-0087-4014-91BE-0E9351323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908CD-2343-4CD1-BC6D-8C9D93CE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40745-D1A4-4D08-B65D-CFB7D0C2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1BFF6-7580-4238-92F3-BA495F1C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2CCEE-0C48-44D1-8050-82A591D3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451CF-911A-401E-994C-8314FE6B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B390EE-0CF0-4668-A085-C9D37C65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F18D-FD58-4574-A50C-0AFAD73C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0EA854-AFE1-4A62-AEE9-C3F3FBC0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234F5-F4D7-4CE3-8DF2-53172D83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E5ED03-939E-4F9C-B58A-C283704A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823CB1-D4B5-4AB0-92CC-94DC277AA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E9D55C-0118-4051-A361-E9FEB88AE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1B7A-880F-4968-AD99-CD88869A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2CC7-6EFE-48C0-893D-BAC61A56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5CE3-9D05-4E86-8B9E-B95FFB90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DA0E-7CE9-42D1-9CA0-B4D39B1F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B63A-86CD-4A47-A1A7-1F2DD195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F7C7-916E-487C-B1D7-CC980235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5CD9-34B5-41AA-8634-2AF63189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2D63-41B6-4D51-B8F6-D61E4C8C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B7F7-54E7-4959-83C1-54168B01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CEB0-4F17-44DB-A198-84A589B9C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3BE1-7BC7-4BA0-BB64-CDA01A3A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051D0-F0BF-4FD1-AF78-A4763096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0DF1D-7258-40F3-965E-6E75EDDE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9A704-5552-4548-BA56-3F57FE28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9744D-861B-4502-8BF3-DE72BA67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DABE0-6B8E-46E7-8780-1EB331E4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5954-DAAE-447E-8C12-9F4ADA21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453C0-DC1C-462D-AEFF-6C651407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4EC9C-8860-4F37-90DD-775C9DDE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2838E-B7D0-4B16-8E22-DD06788B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33B50-6509-42AE-9FD3-B9B5AF00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46BDE-9EF2-460C-9689-7FBD4DFD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6E35E-6B9E-452B-A3F9-5D575AC6E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AE7CD-D900-4AE8-B319-4DD7D1D6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90BF5-2937-4861-AF29-F1504973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64338-83CB-4EF1-BC05-7B329840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A17C9-E42A-4342-AA70-6F6FD0E4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3AA7-1758-4059-85D2-F79FA1DC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64665-C0AE-4859-970E-5E689072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6D8A7-407B-413D-A67D-373DC4EE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D72A8-A930-4B4E-AD94-43FF1F1A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7DF87-906C-4E34-B3D2-D9D00734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12D5B-88D0-48A4-91CE-DA5A5173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8FD8D-D2C2-473F-AACD-4638FB1D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9B956-8C8D-47ED-A7DF-F12289F4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26FD8-F13A-44CE-8A04-9CEFE3666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6D51F-9602-4DEF-AA62-1BC3BD5F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92D43-C0F7-4069-96AA-47868679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F49E-BDAC-47EB-B610-1B67E9A9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630FC-A9F6-444D-A5A7-415995A1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F6E3B-7772-4868-B4A5-B2831769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BE222-FBAB-42B6-B649-3DC878B4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3190E-F847-4512-9E2D-5813B893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04B79-7844-41ED-9A23-A8C019CA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FF17B-0770-4E0C-ACF7-EF589BB6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80F7A-BE8D-400A-86F8-71F44B1A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2F81A-D807-49C2-A971-1529E55D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9412D-469F-4B8E-932A-85AEE0E8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6AF42-A650-4053-A845-C39CEB048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B52A-F695-42F2-A555-9C628875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F0610-A042-4861-AD57-1587962E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BDB75-2AA2-4E28-9A53-73ABC7B5E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CA2B2-56F7-47CA-A0F7-C37B69A6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6A002-60BD-44F9-A447-EC10AA17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CBC35-DE88-4E03-A242-721972B3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C7B67-F27C-4D34-8F5D-B41E4EF3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A7A75-01AC-43CF-8E38-4DF493AB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1B903-39E7-4858-A347-6D9C06BA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A5A20-FF1A-40E9-8B27-A9891BD9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08611-D229-4633-8C77-1B969460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066D-7516-4AF8-A7FE-024E7497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02295-C5D0-4A70-AE02-0A64DD5D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30DCB-6293-4B17-B306-BCE585ADF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B9977-85A2-4EFE-A546-73CEB0187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48CF8-EDBF-4C37-8DD1-33E439BB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9563A-F101-42E7-9472-87BD9BE5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9FD2F-EDE6-448C-A131-80660499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76E22-E786-4B6A-9C9A-6685AD77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12BB0-7CE6-4A59-9C01-A055512B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1A408-0C78-4DCB-A6BC-25872762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929A6-1CEB-49AD-8969-9586417B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EABA-4C5B-4A06-9433-9FE96947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1AA55-A124-4D97-9FBC-01325EB2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2A9E5-ED32-4081-BADA-F9037957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9CC73-F1EE-4C53-8ACB-CDC98778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D6929-E403-4C2E-93B8-4A4C547B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0D2F9-0EA3-4C1D-BA07-FE2437BAD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44F99-03AC-4DCC-98F4-019ABE1B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6CB34-2B04-4646-A212-9662E4FA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ED71F-7B1B-428A-8046-70584354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09E49-A624-4C71-ABE1-CB08D508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4DE25-8458-45A7-8CFA-0EB23355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7ADC-696A-4D94-B58C-46AD8165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6A994-7F39-4E1A-BA6D-CEDDA3BC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CA3CC-127F-459A-A4A1-B36C4CDB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D46A4-5D4B-4A84-8426-446D7399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5A49D-C701-4E6D-BF92-A08C63A0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232B9-3639-408E-8C2D-ABFDAFDD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9B37C-CDF3-48C8-855C-173E4181A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D7419-9C08-4933-8DD2-5250A409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47067-C642-4A60-9C8D-734817CA8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6A7DD-F8AA-434F-8605-00547055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2E2F3-0875-45C8-AA1E-9B0BBD99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6A1B-BABB-4488-9C60-6DC9417C7790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5169-FE23-4803-A917-7C41DDE0C61C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879E-436F-4BAE-B3CF-55FA89026532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EDCD-B1FB-4238-BC2D-E8571974BBA2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7" name="Picture 1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B517-8268-4881-ACA1-FEE203A43562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6860-C5A6-431B-96A5-E6F3E541EAB4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4DFE-5767-471C-BC72-DE885A13A131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FA96-8C4E-420B-B628-99F0D887C8BB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D2D3-A2C9-4C5A-BBCD-3D5E8F98DA43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4168-D374-4D0F-8BC7-60F2F25F72C6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3048-768B-4571-83C7-B6BC59DF2C49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FE55-154F-4A64-A303-B3DA93068740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S550: Software requirements engineering 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419360" y="44197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. Azeddine Chik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1676520" y="2971800"/>
            <a:ext cx="746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4. Functional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2982960" y="6477120"/>
            <a:ext cx="41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cess description, pseudo-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990720" y="1195560"/>
            <a:ext cx="8045280" cy="5281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72000" bIns="360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374760"/>
                <a:tab algn="l" pos="7650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roduct shall provide the following func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1 FindFreeRoom (type, peri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rooms of the requested type that are free in the period reques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374760"/>
                <a:tab algn="l" pos="7650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the user to select some of them as CurrentRooms in the requested perio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2 CreateNewStay (partial guest data, guest reco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 temporary CurrentSt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guest record exists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 CurrentStay with recorded guest da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 CurrentStay with partial guest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374760"/>
                <a:tab algn="l" pos="7650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The product should look for similar records to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3 Checkin (CurrentStay, CurrentRoo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urrentStay is booke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rd rooms in stay as occupi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urrentStay is not recorde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 CurrentRooms fre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guest not recorded, check guest data complete, record gu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rd CurrentRooms as occupied, record st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 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itle 28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. Textual process 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4. State diagrams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Slide Number Placeholder 28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B825-7C6A-46EB-95A9-A53BFC4728EB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914400" y="137160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i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rams showing how something changes from one state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or finding missing or obscur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model things in the domain as well as in th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t only for complex life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34"/>
          <p:cNvSpPr/>
          <p:nvPr/>
        </p:nvSpPr>
        <p:spPr>
          <a:xfrm>
            <a:off x="2895480" y="2133720"/>
            <a:ext cx="5867640" cy="4647960"/>
          </a:xfrm>
          <a:prstGeom prst="rect">
            <a:avLst/>
          </a:prstGeom>
          <a:solidFill>
            <a:srgbClr val="ffffe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762120" y="914400"/>
            <a:ext cx="708660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72000" bIns="72000" anchor="t">
            <a:noAutofit/>
          </a:bodyPr>
          <a:p>
            <a:pPr>
              <a:spcAft>
                <a:spcPts val="1125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ms have a RoomState for each day in the planning period. The status shows whether the room is free, occupied, etc. that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12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mState shall change as shown in Fig.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5"/>
          <p:cNvSpPr/>
          <p:nvPr/>
        </p:nvSpPr>
        <p:spPr>
          <a:xfrm>
            <a:off x="3117600" y="2332080"/>
            <a:ext cx="2131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. 12. Room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6"/>
          <p:cNvSpPr/>
          <p:nvPr/>
        </p:nvSpPr>
        <p:spPr>
          <a:xfrm>
            <a:off x="4331880" y="3008160"/>
            <a:ext cx="527760" cy="3841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7"/>
          <p:cNvSpPr/>
          <p:nvPr/>
        </p:nvSpPr>
        <p:spPr>
          <a:xfrm>
            <a:off x="7448400" y="3008160"/>
            <a:ext cx="924120" cy="3841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8"/>
          <p:cNvSpPr/>
          <p:nvPr/>
        </p:nvSpPr>
        <p:spPr>
          <a:xfrm>
            <a:off x="4038480" y="5172120"/>
            <a:ext cx="1114560" cy="3841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cup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9"/>
          <p:cNvSpPr/>
          <p:nvPr/>
        </p:nvSpPr>
        <p:spPr>
          <a:xfrm>
            <a:off x="7521840" y="5021280"/>
            <a:ext cx="773640" cy="6879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3" name="AutoShape 10"/>
          <p:cNvCxnSpPr>
            <a:stCxn id="579" idx="3"/>
            <a:endCxn id="580" idx="1"/>
          </p:cNvCxnSpPr>
          <p:nvPr/>
        </p:nvCxnSpPr>
        <p:spPr>
          <a:xfrm>
            <a:off x="4887720" y="3212640"/>
            <a:ext cx="25326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4" name="AutoShape 11"/>
          <p:cNvCxnSpPr>
            <a:stCxn id="580" idx="2"/>
            <a:endCxn id="581" idx="3"/>
          </p:cNvCxnSpPr>
          <p:nvPr/>
        </p:nvCxnSpPr>
        <p:spPr>
          <a:xfrm flipH="1">
            <a:off x="5180760" y="3430080"/>
            <a:ext cx="2729880" cy="1947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AutoShape 13"/>
          <p:cNvCxnSpPr>
            <a:stCxn id="579" idx="2"/>
            <a:endCxn id="581" idx="0"/>
          </p:cNvCxnSpPr>
          <p:nvPr/>
        </p:nvCxnSpPr>
        <p:spPr>
          <a:xfrm>
            <a:off x="4595400" y="3430440"/>
            <a:ext cx="1080" cy="1728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Text Box 14"/>
          <p:cNvSpPr/>
          <p:nvPr/>
        </p:nvSpPr>
        <p:spPr>
          <a:xfrm>
            <a:off x="5785920" y="3233880"/>
            <a:ext cx="61992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6"/>
          <p:cNvSpPr/>
          <p:nvPr/>
        </p:nvSpPr>
        <p:spPr>
          <a:xfrm flipV="1">
            <a:off x="4545000" y="3584520"/>
            <a:ext cx="621000" cy="15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7"/>
          <p:cNvSpPr/>
          <p:nvPr/>
        </p:nvSpPr>
        <p:spPr>
          <a:xfrm rot="19288800">
            <a:off x="7009920" y="3809520"/>
            <a:ext cx="9230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8"/>
          <p:cNvSpPr/>
          <p:nvPr/>
        </p:nvSpPr>
        <p:spPr>
          <a:xfrm flipV="1">
            <a:off x="3772080" y="3584520"/>
            <a:ext cx="621000" cy="15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22"/>
          <p:cNvSpPr/>
          <p:nvPr/>
        </p:nvSpPr>
        <p:spPr>
          <a:xfrm flipV="1">
            <a:off x="4394160" y="3430440"/>
            <a:ext cx="0" cy="172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24"/>
          <p:cNvSpPr/>
          <p:nvPr/>
        </p:nvSpPr>
        <p:spPr>
          <a:xfrm>
            <a:off x="5436360" y="5813280"/>
            <a:ext cx="66852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25"/>
          <p:cNvSpPr/>
          <p:nvPr/>
        </p:nvSpPr>
        <p:spPr>
          <a:xfrm>
            <a:off x="5724360" y="5021280"/>
            <a:ext cx="209880" cy="819000"/>
          </a:xfrm>
          <a:prstGeom prst="pie">
            <a:avLst/>
          </a:prstGeom>
          <a:noFill/>
          <a:ln w="2844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Group 36"/>
          <p:cNvGrpSpPr/>
          <p:nvPr/>
        </p:nvGrpSpPr>
        <p:grpSpPr>
          <a:xfrm>
            <a:off x="3327480" y="2679840"/>
            <a:ext cx="4181760" cy="3849120"/>
            <a:chOff x="3327480" y="2679840"/>
            <a:chExt cx="4181760" cy="3849120"/>
          </a:xfrm>
        </p:grpSpPr>
        <p:cxnSp>
          <p:nvCxnSpPr>
            <p:cNvPr id="594" name="AutoShape 12"/>
            <p:cNvCxnSpPr>
              <a:stCxn id="579" idx="3"/>
              <a:endCxn id="582" idx="1"/>
            </p:cNvCxnSpPr>
            <p:nvPr/>
          </p:nvCxnSpPr>
          <p:spPr>
            <a:xfrm>
              <a:off x="4873680" y="3136680"/>
              <a:ext cx="2635920" cy="216432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595" name="Text Box 15"/>
            <p:cNvSpPr/>
            <p:nvPr/>
          </p:nvSpPr>
          <p:spPr>
            <a:xfrm>
              <a:off x="5502960" y="2679840"/>
              <a:ext cx="78300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Arial"/>
                </a:rPr>
                <a:t>canc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19"/>
            <p:cNvSpPr/>
            <p:nvPr/>
          </p:nvSpPr>
          <p:spPr>
            <a:xfrm rot="2527800">
              <a:off x="5810760" y="3924000"/>
              <a:ext cx="70668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Arial"/>
                </a:rPr>
                <a:t>repa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 Box 20"/>
            <p:cNvSpPr/>
            <p:nvPr/>
          </p:nvSpPr>
          <p:spPr>
            <a:xfrm rot="2448600">
              <a:off x="6247800" y="4800600"/>
              <a:ext cx="6199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Arial"/>
                </a:rPr>
                <a:t>d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21"/>
            <p:cNvSpPr/>
            <p:nvPr/>
          </p:nvSpPr>
          <p:spPr>
            <a:xfrm flipH="1">
              <a:off x="4887720" y="3008160"/>
              <a:ext cx="25174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36000" bIns="-36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23"/>
            <p:cNvSpPr/>
            <p:nvPr/>
          </p:nvSpPr>
          <p:spPr>
            <a:xfrm flipH="1" flipV="1">
              <a:off x="4887720" y="3430440"/>
              <a:ext cx="2517480" cy="21492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26"/>
            <p:cNvSpPr/>
            <p:nvPr/>
          </p:nvSpPr>
          <p:spPr>
            <a:xfrm>
              <a:off x="3327480" y="3165480"/>
              <a:ext cx="95040" cy="946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1320" bIns="313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1" name="AutoShape 27"/>
            <p:cNvCxnSpPr>
              <a:stCxn id="600" idx="6"/>
              <a:endCxn id="579" idx="1"/>
            </p:cNvCxnSpPr>
            <p:nvPr/>
          </p:nvCxnSpPr>
          <p:spPr>
            <a:xfrm flipV="1">
              <a:off x="3422160" y="3135960"/>
              <a:ext cx="896040" cy="7668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602" name="Text Box 28"/>
            <p:cNvSpPr/>
            <p:nvPr/>
          </p:nvSpPr>
          <p:spPr>
            <a:xfrm>
              <a:off x="3470040" y="2868480"/>
              <a:ext cx="74340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b2b2b2"/>
                  </a:solidFill>
                  <a:latin typeface="Arial"/>
                </a:rPr>
                <a:t>cre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3" name="Group 29"/>
            <p:cNvGrpSpPr/>
            <p:nvPr/>
          </p:nvGrpSpPr>
          <p:grpSpPr>
            <a:xfrm>
              <a:off x="4332240" y="6327720"/>
              <a:ext cx="201600" cy="201240"/>
              <a:chOff x="4332240" y="6327720"/>
              <a:chExt cx="201600" cy="201240"/>
            </a:xfrm>
          </p:grpSpPr>
          <p:sp>
            <p:nvSpPr>
              <p:cNvPr id="604" name="Oval 30"/>
              <p:cNvSpPr/>
              <p:nvPr/>
            </p:nvSpPr>
            <p:spPr>
              <a:xfrm>
                <a:off x="4332240" y="6327720"/>
                <a:ext cx="201600" cy="2012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Oval 31"/>
              <p:cNvSpPr/>
              <p:nvPr/>
            </p:nvSpPr>
            <p:spPr>
              <a:xfrm>
                <a:off x="4370400" y="6365520"/>
                <a:ext cx="125280" cy="124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6" name="Line 32"/>
            <p:cNvSpPr/>
            <p:nvPr/>
          </p:nvSpPr>
          <p:spPr>
            <a:xfrm>
              <a:off x="4432320" y="5837040"/>
              <a:ext cx="0" cy="4489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 Box 33"/>
            <p:cNvSpPr/>
            <p:nvPr/>
          </p:nvSpPr>
          <p:spPr>
            <a:xfrm>
              <a:off x="4535640" y="5827680"/>
              <a:ext cx="21276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b2b2b2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Title 28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4. State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.  State-transition Matrices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0" name="Slide Number Placeholder 28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9C2D-A683-4180-A4A5-54196817DBF2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914400" y="137160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i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s showing how something reacts in all possibl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than state diagrams for finding missing or obscur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t only for complex life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3" descr=""/>
          <p:cNvPicPr/>
          <p:nvPr/>
        </p:nvPicPr>
        <p:blipFill>
          <a:blip r:embed="rId1"/>
          <a:srcRect l="0" t="0" r="8659" b="0"/>
          <a:stretch/>
        </p:blipFill>
        <p:spPr>
          <a:xfrm>
            <a:off x="685800" y="762120"/>
            <a:ext cx="5742000" cy="4838760"/>
          </a:xfrm>
          <a:prstGeom prst="rect">
            <a:avLst/>
          </a:prstGeom>
          <a:ln w="0">
            <a:noFill/>
          </a:ln>
        </p:spPr>
      </p:pic>
      <p:sp>
        <p:nvSpPr>
          <p:cNvPr id="613" name="Title 28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.  State-transition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. Activity diagrams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Slide Number Placeholder 28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9AB6-B757-4F9A-8F75-AC39C8EFD282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914400" y="137160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i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agram showing the flow of control and the flow of data (obj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s concurrency and synchron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o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as requirements for workflow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5" descr=""/>
          <p:cNvPicPr/>
          <p:nvPr/>
        </p:nvPicPr>
        <p:blipFill>
          <a:blip r:embed="rId1"/>
          <a:srcRect l="0" t="7953" r="0" b="9092"/>
          <a:stretch/>
        </p:blipFill>
        <p:spPr>
          <a:xfrm>
            <a:off x="3809880" y="990720"/>
            <a:ext cx="5029200" cy="556236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7"/>
          <p:cNvSpPr/>
          <p:nvPr/>
        </p:nvSpPr>
        <p:spPr>
          <a:xfrm>
            <a:off x="228600" y="64008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ctivity diagram, work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itle 28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. Activity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2"/>
          <p:cNvSpPr/>
          <p:nvPr/>
        </p:nvSpPr>
        <p:spPr>
          <a:xfrm>
            <a:off x="304920" y="6400800"/>
            <a:ext cx="28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ork and 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38" descr=""/>
          <p:cNvPicPr/>
          <p:nvPr/>
        </p:nvPicPr>
        <p:blipFill>
          <a:blip r:embed="rId1"/>
          <a:srcRect l="0" t="9892" r="0" b="13203"/>
          <a:stretch/>
        </p:blipFill>
        <p:spPr>
          <a:xfrm>
            <a:off x="3657600" y="1295280"/>
            <a:ext cx="5200560" cy="5332680"/>
          </a:xfrm>
          <a:prstGeom prst="rect">
            <a:avLst/>
          </a:prstGeom>
          <a:ln w="0">
            <a:noFill/>
          </a:ln>
        </p:spPr>
      </p:pic>
      <p:sp>
        <p:nvSpPr>
          <p:cNvPr id="622" name="Title 28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. Activity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7. Class diagrams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Slide Number Placeholder 28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F295-0FEF-49E1-961A-4356A0D3A0E3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914400" y="137160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i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ata model where entities have data and can perform 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users, even harder to understand than data mod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 – even when unsuccess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as requirements for some technic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suitable as requirements for business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228600" y="64008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UML Class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3"/>
          <p:cNvSpPr/>
          <p:nvPr/>
        </p:nvSpPr>
        <p:spPr>
          <a:xfrm>
            <a:off x="1406520" y="3417840"/>
            <a:ext cx="1440000" cy="160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y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y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rd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tConfi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4"/>
          <p:cNvSpPr/>
          <p:nvPr/>
        </p:nvSpPr>
        <p:spPr>
          <a:xfrm>
            <a:off x="4343400" y="4940280"/>
            <a:ext cx="1440000" cy="179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m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pers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5"/>
          <p:cNvSpPr/>
          <p:nvPr/>
        </p:nvSpPr>
        <p:spPr>
          <a:xfrm>
            <a:off x="7162920" y="5567400"/>
            <a:ext cx="1439640" cy="65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6"/>
          <p:cNvSpPr/>
          <p:nvPr/>
        </p:nvSpPr>
        <p:spPr>
          <a:xfrm>
            <a:off x="4351320" y="3002040"/>
            <a:ext cx="1440000" cy="1365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7162920" y="3143160"/>
            <a:ext cx="1439640" cy="1074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 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2" name="AutoShape 8"/>
          <p:cNvCxnSpPr>
            <a:stCxn id="627" idx="2"/>
            <a:endCxn id="628" idx="1"/>
          </p:cNvCxnSpPr>
          <p:nvPr/>
        </p:nvCxnSpPr>
        <p:spPr>
          <a:xfrm>
            <a:off x="2127240" y="5041800"/>
            <a:ext cx="2202480" cy="796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33" name="AutoShape 9"/>
          <p:cNvCxnSpPr>
            <a:stCxn id="628" idx="3"/>
            <a:endCxn id="634" idx="0"/>
          </p:cNvCxnSpPr>
          <p:nvPr/>
        </p:nvCxnSpPr>
        <p:spPr>
          <a:xfrm>
            <a:off x="5797080" y="5837400"/>
            <a:ext cx="136584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35" name="AutoShape 10"/>
          <p:cNvCxnSpPr>
            <a:stCxn id="627" idx="3"/>
            <a:endCxn id="630" idx="1"/>
          </p:cNvCxnSpPr>
          <p:nvPr/>
        </p:nvCxnSpPr>
        <p:spPr>
          <a:xfrm flipV="1">
            <a:off x="2860200" y="3683880"/>
            <a:ext cx="1477080" cy="538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36" name="AutoShape 11"/>
          <p:cNvCxnSpPr>
            <a:stCxn id="630" idx="3"/>
            <a:endCxn id="631" idx="1"/>
          </p:cNvCxnSpPr>
          <p:nvPr/>
        </p:nvCxnSpPr>
        <p:spPr>
          <a:xfrm flipV="1">
            <a:off x="5805000" y="3680640"/>
            <a:ext cx="134388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37" name="Rectangle 12"/>
          <p:cNvSpPr/>
          <p:nvPr/>
        </p:nvSpPr>
        <p:spPr>
          <a:xfrm>
            <a:off x="1406520" y="1373040"/>
            <a:ext cx="1440000" cy="1344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k 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8" name="AutoShape 13"/>
          <p:cNvCxnSpPr>
            <a:stCxn id="637" idx="2"/>
            <a:endCxn id="627" idx="0"/>
          </p:cNvCxnSpPr>
          <p:nvPr/>
        </p:nvCxnSpPr>
        <p:spPr>
          <a:xfrm>
            <a:off x="2126880" y="2731680"/>
            <a:ext cx="1080" cy="67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39" name="Line 14"/>
          <p:cNvSpPr/>
          <p:nvPr/>
        </p:nvSpPr>
        <p:spPr>
          <a:xfrm>
            <a:off x="1406520" y="16938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15"/>
          <p:cNvSpPr/>
          <p:nvPr/>
        </p:nvSpPr>
        <p:spPr>
          <a:xfrm>
            <a:off x="1406520" y="242712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16"/>
          <p:cNvSpPr/>
          <p:nvPr/>
        </p:nvSpPr>
        <p:spPr>
          <a:xfrm>
            <a:off x="1406520" y="374184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17"/>
          <p:cNvSpPr/>
          <p:nvPr/>
        </p:nvSpPr>
        <p:spPr>
          <a:xfrm>
            <a:off x="1406520" y="421488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18"/>
          <p:cNvSpPr/>
          <p:nvPr/>
        </p:nvSpPr>
        <p:spPr>
          <a:xfrm>
            <a:off x="4351320" y="330984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19"/>
          <p:cNvSpPr/>
          <p:nvPr/>
        </p:nvSpPr>
        <p:spPr>
          <a:xfrm>
            <a:off x="4351320" y="379584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20"/>
          <p:cNvSpPr/>
          <p:nvPr/>
        </p:nvSpPr>
        <p:spPr>
          <a:xfrm>
            <a:off x="4343400" y="521028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21"/>
          <p:cNvSpPr/>
          <p:nvPr/>
        </p:nvSpPr>
        <p:spPr>
          <a:xfrm>
            <a:off x="7164360" y="3456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22"/>
          <p:cNvSpPr/>
          <p:nvPr/>
        </p:nvSpPr>
        <p:spPr>
          <a:xfrm>
            <a:off x="4343400" y="593712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23"/>
          <p:cNvSpPr/>
          <p:nvPr/>
        </p:nvSpPr>
        <p:spPr>
          <a:xfrm>
            <a:off x="7162920" y="3951360"/>
            <a:ext cx="144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24"/>
          <p:cNvSpPr/>
          <p:nvPr/>
        </p:nvSpPr>
        <p:spPr>
          <a:xfrm>
            <a:off x="7162920" y="5862600"/>
            <a:ext cx="14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25"/>
          <p:cNvSpPr/>
          <p:nvPr/>
        </p:nvSpPr>
        <p:spPr>
          <a:xfrm>
            <a:off x="2165400" y="2716200"/>
            <a:ext cx="1854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6"/>
          <p:cNvSpPr/>
          <p:nvPr/>
        </p:nvSpPr>
        <p:spPr>
          <a:xfrm>
            <a:off x="2156400" y="3106800"/>
            <a:ext cx="3776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27"/>
          <p:cNvSpPr/>
          <p:nvPr/>
        </p:nvSpPr>
        <p:spPr>
          <a:xfrm>
            <a:off x="2897280" y="3865680"/>
            <a:ext cx="1854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8"/>
          <p:cNvSpPr/>
          <p:nvPr/>
        </p:nvSpPr>
        <p:spPr>
          <a:xfrm>
            <a:off x="3939480" y="3328920"/>
            <a:ext cx="3776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29"/>
          <p:cNvSpPr/>
          <p:nvPr/>
        </p:nvSpPr>
        <p:spPr>
          <a:xfrm>
            <a:off x="5868000" y="3379680"/>
            <a:ext cx="3776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30"/>
          <p:cNvSpPr/>
          <p:nvPr/>
        </p:nvSpPr>
        <p:spPr>
          <a:xfrm>
            <a:off x="6900840" y="3379680"/>
            <a:ext cx="1854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31"/>
          <p:cNvSpPr/>
          <p:nvPr/>
        </p:nvSpPr>
        <p:spPr>
          <a:xfrm>
            <a:off x="2058120" y="5135400"/>
            <a:ext cx="4111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32"/>
          <p:cNvSpPr/>
          <p:nvPr/>
        </p:nvSpPr>
        <p:spPr>
          <a:xfrm>
            <a:off x="3812400" y="5351400"/>
            <a:ext cx="3776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1..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33"/>
          <p:cNvSpPr/>
          <p:nvPr/>
        </p:nvSpPr>
        <p:spPr>
          <a:xfrm>
            <a:off x="5945760" y="5513400"/>
            <a:ext cx="3776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34"/>
          <p:cNvSpPr/>
          <p:nvPr/>
        </p:nvSpPr>
        <p:spPr>
          <a:xfrm>
            <a:off x="6858000" y="5532480"/>
            <a:ext cx="1854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35"/>
          <p:cNvSpPr/>
          <p:nvPr/>
        </p:nvSpPr>
        <p:spPr>
          <a:xfrm>
            <a:off x="6023160" y="4827600"/>
            <a:ext cx="31190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Progra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curRoomState.setState(occupi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36"/>
          <p:cNvSpPr/>
          <p:nvPr/>
        </p:nvSpPr>
        <p:spPr>
          <a:xfrm>
            <a:off x="3514320" y="1295280"/>
            <a:ext cx="1378080" cy="374040"/>
          </a:xfrm>
          <a:prstGeom prst="wedgeRoundRectCallout">
            <a:avLst>
              <a:gd name="adj1" fmla="val -119337"/>
              <a:gd name="adj2" fmla="val 16634"/>
              <a:gd name="adj3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Class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37"/>
          <p:cNvSpPr/>
          <p:nvPr/>
        </p:nvSpPr>
        <p:spPr>
          <a:xfrm>
            <a:off x="3611160" y="2068560"/>
            <a:ext cx="1283400" cy="374040"/>
          </a:xfrm>
          <a:prstGeom prst="wedgeRoundRectCallout">
            <a:avLst>
              <a:gd name="adj1" fmla="val -118703"/>
              <a:gd name="adj2" fmla="val 77689"/>
              <a:gd name="adj3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38"/>
          <p:cNvSpPr/>
          <p:nvPr/>
        </p:nvSpPr>
        <p:spPr>
          <a:xfrm>
            <a:off x="5955840" y="2011320"/>
            <a:ext cx="1549800" cy="670680"/>
          </a:xfrm>
          <a:prstGeom prst="wedgeRoundRectCallout">
            <a:avLst>
              <a:gd name="adj1" fmla="val -15236"/>
              <a:gd name="adj2" fmla="val 183259"/>
              <a:gd name="adj3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=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itle 28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7. Class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3"/>
          <p:cNvSpPr/>
          <p:nvPr/>
        </p:nvSpPr>
        <p:spPr>
          <a:xfrm>
            <a:off x="609480" y="2438280"/>
            <a:ext cx="8305920" cy="29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en Lauesen, "Software Requirements: Styles &amp; Techniques"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son-Wesley Professional 2002,  608 pp, ISBN-10: 0201745704 - ISBN-13: 978020174570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          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      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4"/>
          <p:cNvSpPr/>
          <p:nvPr/>
        </p:nvSpPr>
        <p:spPr>
          <a:xfrm>
            <a:off x="60948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2"/>
          <p:cNvSpPr/>
          <p:nvPr/>
        </p:nvSpPr>
        <p:spPr>
          <a:xfrm>
            <a:off x="168120" y="6324480"/>
            <a:ext cx="24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O Business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Group 3"/>
          <p:cNvGrpSpPr/>
          <p:nvPr/>
        </p:nvGrpSpPr>
        <p:grpSpPr>
          <a:xfrm>
            <a:off x="3733920" y="2562120"/>
            <a:ext cx="944280" cy="830160"/>
            <a:chOff x="3733920" y="2562120"/>
            <a:chExt cx="944280" cy="830160"/>
          </a:xfrm>
        </p:grpSpPr>
        <p:sp>
          <p:nvSpPr>
            <p:cNvPr id="667" name="Rectangle 4"/>
            <p:cNvSpPr/>
            <p:nvPr/>
          </p:nvSpPr>
          <p:spPr>
            <a:xfrm>
              <a:off x="3733920" y="2562120"/>
              <a:ext cx="944280" cy="830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me 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t 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5"/>
            <p:cNvSpPr/>
            <p:nvPr/>
          </p:nvSpPr>
          <p:spPr>
            <a:xfrm>
              <a:off x="3733920" y="2882520"/>
              <a:ext cx="944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36000" bIns="-36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6"/>
            <p:cNvSpPr/>
            <p:nvPr/>
          </p:nvSpPr>
          <p:spPr>
            <a:xfrm>
              <a:off x="3733920" y="3120840"/>
              <a:ext cx="944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36000" bIns="-36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7"/>
          <p:cNvGrpSpPr/>
          <p:nvPr/>
        </p:nvGrpSpPr>
        <p:grpSpPr>
          <a:xfrm>
            <a:off x="5216400" y="2575080"/>
            <a:ext cx="959040" cy="804600"/>
            <a:chOff x="5216400" y="2575080"/>
            <a:chExt cx="959040" cy="804600"/>
          </a:xfrm>
        </p:grpSpPr>
        <p:sp>
          <p:nvSpPr>
            <p:cNvPr id="671" name="Rectangle 8"/>
            <p:cNvSpPr/>
            <p:nvPr/>
          </p:nvSpPr>
          <p:spPr>
            <a:xfrm>
              <a:off x="5216400" y="2575080"/>
              <a:ext cx="944640" cy="804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y# 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t 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9"/>
            <p:cNvSpPr/>
            <p:nvPr/>
          </p:nvSpPr>
          <p:spPr>
            <a:xfrm>
              <a:off x="5216400" y="2898720"/>
              <a:ext cx="95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36000" bIns="-36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10"/>
            <p:cNvSpPr/>
            <p:nvPr/>
          </p:nvSpPr>
          <p:spPr>
            <a:xfrm>
              <a:off x="5216400" y="3133800"/>
              <a:ext cx="944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36000" bIns="-36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11"/>
          <p:cNvGrpSpPr/>
          <p:nvPr/>
        </p:nvGrpSpPr>
        <p:grpSpPr>
          <a:xfrm>
            <a:off x="6675480" y="2563920"/>
            <a:ext cx="871560" cy="828720"/>
            <a:chOff x="6675480" y="2563920"/>
            <a:chExt cx="871560" cy="828720"/>
          </a:xfrm>
        </p:grpSpPr>
        <p:sp>
          <p:nvSpPr>
            <p:cNvPr id="675" name="Rectangle 12"/>
            <p:cNvSpPr/>
            <p:nvPr/>
          </p:nvSpPr>
          <p:spPr>
            <a:xfrm>
              <a:off x="6675480" y="2563920"/>
              <a:ext cx="871560" cy="828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e 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t 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3"/>
            <p:cNvSpPr/>
            <p:nvPr/>
          </p:nvSpPr>
          <p:spPr>
            <a:xfrm>
              <a:off x="6675480" y="2872080"/>
              <a:ext cx="87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36000" bIns="-36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14"/>
            <p:cNvSpPr/>
            <p:nvPr/>
          </p:nvSpPr>
          <p:spPr>
            <a:xfrm>
              <a:off x="6675480" y="3119760"/>
              <a:ext cx="87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36000" bIns="-36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AutoShape 15"/>
          <p:cNvSpPr/>
          <p:nvPr/>
        </p:nvSpPr>
        <p:spPr>
          <a:xfrm>
            <a:off x="5130720" y="1273320"/>
            <a:ext cx="1206720" cy="75240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16"/>
          <p:cNvSpPr/>
          <p:nvPr/>
        </p:nvSpPr>
        <p:spPr>
          <a:xfrm>
            <a:off x="6577560" y="1428840"/>
            <a:ext cx="109836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SQL-dri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Group 17"/>
          <p:cNvGrpSpPr/>
          <p:nvPr/>
        </p:nvGrpSpPr>
        <p:grpSpPr>
          <a:xfrm>
            <a:off x="4476600" y="3967200"/>
            <a:ext cx="944640" cy="1077840"/>
            <a:chOff x="4476600" y="3967200"/>
            <a:chExt cx="944640" cy="1077840"/>
          </a:xfrm>
        </p:grpSpPr>
        <p:sp>
          <p:nvSpPr>
            <p:cNvPr id="681" name="Rectangle 18"/>
            <p:cNvSpPr/>
            <p:nvPr/>
          </p:nvSpPr>
          <p:spPr>
            <a:xfrm>
              <a:off x="4476600" y="3967200"/>
              <a:ext cx="944640" cy="1077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empty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eckou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k 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19"/>
            <p:cNvSpPr/>
            <p:nvPr/>
          </p:nvSpPr>
          <p:spPr>
            <a:xfrm>
              <a:off x="4476600" y="4287600"/>
              <a:ext cx="9446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34200" bIns="-342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20"/>
            <p:cNvSpPr/>
            <p:nvPr/>
          </p:nvSpPr>
          <p:spPr>
            <a:xfrm>
              <a:off x="4476600" y="4525920"/>
              <a:ext cx="9446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34560" bIns="-345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Group 21"/>
          <p:cNvGrpSpPr/>
          <p:nvPr/>
        </p:nvGrpSpPr>
        <p:grpSpPr>
          <a:xfrm>
            <a:off x="5950080" y="4062240"/>
            <a:ext cx="944280" cy="830160"/>
            <a:chOff x="5950080" y="4062240"/>
            <a:chExt cx="944280" cy="830160"/>
          </a:xfrm>
        </p:grpSpPr>
        <p:sp>
          <p:nvSpPr>
            <p:cNvPr id="685" name="Rectangle 22"/>
            <p:cNvSpPr/>
            <p:nvPr/>
          </p:nvSpPr>
          <p:spPr>
            <a:xfrm>
              <a:off x="5950080" y="4062240"/>
              <a:ext cx="944280" cy="830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bser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empty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23"/>
            <p:cNvSpPr/>
            <p:nvPr/>
          </p:nvSpPr>
          <p:spPr>
            <a:xfrm>
              <a:off x="5950080" y="4383000"/>
              <a:ext cx="9442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34560" bIns="-345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24"/>
            <p:cNvSpPr/>
            <p:nvPr/>
          </p:nvSpPr>
          <p:spPr>
            <a:xfrm>
              <a:off x="5950080" y="4620960"/>
              <a:ext cx="9442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34200" bIns="-342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Text Box 25"/>
          <p:cNvSpPr/>
          <p:nvPr/>
        </p:nvSpPr>
        <p:spPr>
          <a:xfrm>
            <a:off x="6157080" y="5794200"/>
            <a:ext cx="1555560" cy="80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Rooms wind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Display att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26"/>
          <p:cNvSpPr/>
          <p:nvPr/>
        </p:nvSpPr>
        <p:spPr>
          <a:xfrm>
            <a:off x="6138720" y="6080040"/>
            <a:ext cx="159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27"/>
          <p:cNvSpPr/>
          <p:nvPr/>
        </p:nvSpPr>
        <p:spPr>
          <a:xfrm>
            <a:off x="6138720" y="6356520"/>
            <a:ext cx="159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Group 28"/>
          <p:cNvGrpSpPr/>
          <p:nvPr/>
        </p:nvGrpSpPr>
        <p:grpSpPr>
          <a:xfrm>
            <a:off x="3630600" y="5794200"/>
            <a:ext cx="1333440" cy="802440"/>
            <a:chOff x="3630600" y="5794200"/>
            <a:chExt cx="1333440" cy="802440"/>
          </a:xfrm>
        </p:grpSpPr>
        <p:sp>
          <p:nvSpPr>
            <p:cNvPr id="692" name="Text Box 29"/>
            <p:cNvSpPr/>
            <p:nvPr/>
          </p:nvSpPr>
          <p:spPr>
            <a:xfrm>
              <a:off x="3648240" y="5794200"/>
              <a:ext cx="1298160" cy="802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Stay windo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Display attr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30"/>
            <p:cNvSpPr/>
            <p:nvPr/>
          </p:nvSpPr>
          <p:spPr>
            <a:xfrm>
              <a:off x="3630600" y="6105600"/>
              <a:ext cx="1333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36000" bIns="-36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31"/>
            <p:cNvSpPr/>
            <p:nvPr/>
          </p:nvSpPr>
          <p:spPr>
            <a:xfrm>
              <a:off x="3630600" y="6353280"/>
              <a:ext cx="1333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36000" bIns="-36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Text Box 32"/>
          <p:cNvSpPr/>
          <p:nvPr/>
        </p:nvSpPr>
        <p:spPr>
          <a:xfrm>
            <a:off x="7801200" y="2436840"/>
            <a:ext cx="953640" cy="10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(triv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func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33"/>
          <p:cNvSpPr/>
          <p:nvPr/>
        </p:nvSpPr>
        <p:spPr>
          <a:xfrm>
            <a:off x="7705440" y="3938760"/>
            <a:ext cx="1145520" cy="10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Service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Ob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(littl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34"/>
          <p:cNvSpPr/>
          <p:nvPr/>
        </p:nvSpPr>
        <p:spPr>
          <a:xfrm>
            <a:off x="7852320" y="5654520"/>
            <a:ext cx="851400" cy="10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(GU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8" name="AutoShape 35"/>
          <p:cNvCxnSpPr/>
          <p:nvPr/>
        </p:nvCxnSpPr>
        <p:spPr>
          <a:xfrm flipH="1" flipV="1">
            <a:off x="4206240" y="3405960"/>
            <a:ext cx="91080" cy="2374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AutoShape 37"/>
          <p:cNvCxnSpPr>
            <a:stCxn id="688" idx="0"/>
          </p:cNvCxnSpPr>
          <p:nvPr/>
        </p:nvCxnSpPr>
        <p:spPr>
          <a:xfrm flipH="1" flipV="1">
            <a:off x="6471720" y="5301720"/>
            <a:ext cx="464400" cy="478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AutoShape 38"/>
          <p:cNvCxnSpPr>
            <a:stCxn id="688" idx="0"/>
          </p:cNvCxnSpPr>
          <p:nvPr/>
        </p:nvCxnSpPr>
        <p:spPr>
          <a:xfrm flipV="1">
            <a:off x="6935760" y="5301720"/>
            <a:ext cx="300600" cy="478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AutoShape 39"/>
          <p:cNvCxnSpPr>
            <a:stCxn id="688" idx="0"/>
          </p:cNvCxnSpPr>
          <p:nvPr/>
        </p:nvCxnSpPr>
        <p:spPr>
          <a:xfrm flipH="1" flipV="1">
            <a:off x="4949640" y="5059080"/>
            <a:ext cx="1986480" cy="72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AutoShape 40"/>
          <p:cNvCxnSpPr/>
          <p:nvPr/>
        </p:nvCxnSpPr>
        <p:spPr>
          <a:xfrm flipV="1">
            <a:off x="4296960" y="5059080"/>
            <a:ext cx="653400" cy="72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AutoShape 41"/>
          <p:cNvCxnSpPr/>
          <p:nvPr/>
        </p:nvCxnSpPr>
        <p:spPr>
          <a:xfrm>
            <a:off x="5830560" y="3406680"/>
            <a:ext cx="592920" cy="642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04" name="AutoShape 42"/>
          <p:cNvCxnSpPr/>
          <p:nvPr/>
        </p:nvCxnSpPr>
        <p:spPr>
          <a:xfrm flipH="1">
            <a:off x="4978080" y="4906440"/>
            <a:ext cx="1445040" cy="13057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05" name="AutoShape 43"/>
          <p:cNvCxnSpPr>
            <a:endCxn id="678" idx="3"/>
          </p:cNvCxnSpPr>
          <p:nvPr/>
        </p:nvCxnSpPr>
        <p:spPr>
          <a:xfrm flipV="1">
            <a:off x="5689440" y="2039040"/>
            <a:ext cx="45360" cy="52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AutoShape 44"/>
          <p:cNvCxnSpPr>
            <a:endCxn id="678" idx="2"/>
          </p:cNvCxnSpPr>
          <p:nvPr/>
        </p:nvCxnSpPr>
        <p:spPr>
          <a:xfrm flipV="1">
            <a:off x="4016520" y="1648800"/>
            <a:ext cx="1100880" cy="911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AutoShape 45"/>
          <p:cNvCxnSpPr>
            <a:endCxn id="678" idx="4"/>
          </p:cNvCxnSpPr>
          <p:nvPr/>
        </p:nvCxnSpPr>
        <p:spPr>
          <a:xfrm flipH="1" flipV="1">
            <a:off x="6350760" y="1649160"/>
            <a:ext cx="761400" cy="900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AutoShape 46"/>
          <p:cNvCxnSpPr/>
          <p:nvPr/>
        </p:nvCxnSpPr>
        <p:spPr>
          <a:xfrm flipH="1" flipV="1">
            <a:off x="4475880" y="3406320"/>
            <a:ext cx="474120" cy="546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AutoShape 47"/>
          <p:cNvCxnSpPr/>
          <p:nvPr/>
        </p:nvCxnSpPr>
        <p:spPr>
          <a:xfrm flipV="1">
            <a:off x="4949640" y="3406320"/>
            <a:ext cx="471960" cy="546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0" name="Freeform 94"/>
          <p:cNvSpPr/>
          <p:nvPr/>
        </p:nvSpPr>
        <p:spPr>
          <a:xfrm>
            <a:off x="4900680" y="3406680"/>
            <a:ext cx="863640" cy="2387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itle 28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7. Class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8.  Collaboration diagram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3" name="Slide Number Placeholder 28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E42D-08C7-4821-A73B-8B84F52BD570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914400" y="137160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i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ox diagram of how objects call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or describing  the internal working of th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useful for intermediate work 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rely useful as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3"/>
          <p:cNvSpPr/>
          <p:nvPr/>
        </p:nvSpPr>
        <p:spPr>
          <a:xfrm>
            <a:off x="1806480" y="2882880"/>
            <a:ext cx="900360" cy="37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4"/>
          <p:cNvSpPr/>
          <p:nvPr/>
        </p:nvSpPr>
        <p:spPr>
          <a:xfrm>
            <a:off x="1806480" y="4148280"/>
            <a:ext cx="900360" cy="606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5"/>
          <p:cNvSpPr/>
          <p:nvPr/>
        </p:nvSpPr>
        <p:spPr>
          <a:xfrm>
            <a:off x="1806480" y="5643720"/>
            <a:ext cx="900360" cy="37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6"/>
          <p:cNvSpPr/>
          <p:nvPr/>
        </p:nvSpPr>
        <p:spPr>
          <a:xfrm>
            <a:off x="4565160" y="2882880"/>
            <a:ext cx="883440" cy="34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7"/>
          <p:cNvSpPr/>
          <p:nvPr/>
        </p:nvSpPr>
        <p:spPr>
          <a:xfrm>
            <a:off x="7482960" y="2746440"/>
            <a:ext cx="883440" cy="621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8"/>
          <p:cNvSpPr/>
          <p:nvPr/>
        </p:nvSpPr>
        <p:spPr>
          <a:xfrm>
            <a:off x="2931480" y="2505240"/>
            <a:ext cx="9522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1.1: * get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9"/>
          <p:cNvSpPr/>
          <p:nvPr/>
        </p:nvSpPr>
        <p:spPr>
          <a:xfrm>
            <a:off x="5645160" y="2505240"/>
            <a:ext cx="12142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1.1.1:  get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Service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10"/>
          <p:cNvSpPr/>
          <p:nvPr/>
        </p:nvSpPr>
        <p:spPr>
          <a:xfrm>
            <a:off x="2319840" y="3556080"/>
            <a:ext cx="14259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1.2: * getR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1"/>
          <p:cNvSpPr/>
          <p:nvPr/>
        </p:nvSpPr>
        <p:spPr>
          <a:xfrm>
            <a:off x="2319480" y="5022720"/>
            <a:ext cx="19792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1.2.1:  getRoom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2"/>
          <p:cNvSpPr/>
          <p:nvPr/>
        </p:nvSpPr>
        <p:spPr>
          <a:xfrm>
            <a:off x="2706840" y="3071880"/>
            <a:ext cx="1865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13"/>
          <p:cNvSpPr/>
          <p:nvPr/>
        </p:nvSpPr>
        <p:spPr>
          <a:xfrm>
            <a:off x="5464080" y="3071880"/>
            <a:ext cx="2003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14"/>
          <p:cNvSpPr/>
          <p:nvPr/>
        </p:nvSpPr>
        <p:spPr>
          <a:xfrm>
            <a:off x="2257560" y="3259080"/>
            <a:ext cx="0" cy="88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15"/>
          <p:cNvSpPr/>
          <p:nvPr/>
        </p:nvSpPr>
        <p:spPr>
          <a:xfrm>
            <a:off x="2257560" y="4754520"/>
            <a:ext cx="0" cy="88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16"/>
          <p:cNvSpPr/>
          <p:nvPr/>
        </p:nvSpPr>
        <p:spPr>
          <a:xfrm>
            <a:off x="2257560" y="1895400"/>
            <a:ext cx="0" cy="987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7"/>
          <p:cNvSpPr/>
          <p:nvPr/>
        </p:nvSpPr>
        <p:spPr>
          <a:xfrm>
            <a:off x="2318760" y="1933560"/>
            <a:ext cx="1156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1: check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itle 28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8.  Collaboration 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9. Sequence diagrams, events, and messages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2" name="Slide Number Placeholder 28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4EA4-22A4-487E-8EBB-A7AF27F2500F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914400" y="167652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i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diagram  of how objects commun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or describing simple communication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as intermediate work 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as design-level requirements for technical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Line 2"/>
          <p:cNvSpPr/>
          <p:nvPr/>
        </p:nvSpPr>
        <p:spPr>
          <a:xfrm>
            <a:off x="3192480" y="3787920"/>
            <a:ext cx="0" cy="30700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3"/>
          <p:cNvSpPr/>
          <p:nvPr/>
        </p:nvSpPr>
        <p:spPr>
          <a:xfrm>
            <a:off x="5076720" y="3816360"/>
            <a:ext cx="0" cy="3041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5"/>
          <p:cNvSpPr/>
          <p:nvPr/>
        </p:nvSpPr>
        <p:spPr>
          <a:xfrm>
            <a:off x="3589920" y="3621240"/>
            <a:ext cx="858960" cy="346680"/>
          </a:xfrm>
          <a:prstGeom prst="rect">
            <a:avLst/>
          </a:prstGeom>
          <a:solidFill>
            <a:srgbClr val="ffffe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6"/>
          <p:cNvSpPr/>
          <p:nvPr/>
        </p:nvSpPr>
        <p:spPr>
          <a:xfrm>
            <a:off x="5253480" y="3633840"/>
            <a:ext cx="1685160" cy="346680"/>
          </a:xfrm>
          <a:prstGeom prst="rect">
            <a:avLst/>
          </a:prstGeom>
          <a:solidFill>
            <a:srgbClr val="ffffe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ccou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7"/>
          <p:cNvSpPr/>
          <p:nvPr/>
        </p:nvSpPr>
        <p:spPr>
          <a:xfrm>
            <a:off x="3887640" y="4230720"/>
            <a:ext cx="247680" cy="2400120"/>
          </a:xfrm>
          <a:prstGeom prst="rect">
            <a:avLst/>
          </a:prstGeom>
          <a:solidFill>
            <a:srgbClr val="ffffe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8"/>
          <p:cNvSpPr/>
          <p:nvPr/>
        </p:nvSpPr>
        <p:spPr>
          <a:xfrm>
            <a:off x="5781600" y="4383000"/>
            <a:ext cx="228600" cy="297000"/>
          </a:xfrm>
          <a:prstGeom prst="rect">
            <a:avLst/>
          </a:prstGeom>
          <a:solidFill>
            <a:srgbClr val="ffffe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9"/>
          <p:cNvSpPr/>
          <p:nvPr/>
        </p:nvSpPr>
        <p:spPr>
          <a:xfrm>
            <a:off x="5781600" y="5068800"/>
            <a:ext cx="228600" cy="285840"/>
          </a:xfrm>
          <a:prstGeom prst="rect">
            <a:avLst/>
          </a:prstGeom>
          <a:solidFill>
            <a:srgbClr val="ffffe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"/>
          <p:cNvSpPr/>
          <p:nvPr/>
        </p:nvSpPr>
        <p:spPr>
          <a:xfrm>
            <a:off x="5781600" y="5773680"/>
            <a:ext cx="228600" cy="265320"/>
          </a:xfrm>
          <a:prstGeom prst="rect">
            <a:avLst/>
          </a:prstGeom>
          <a:solidFill>
            <a:srgbClr val="ffffe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1"/>
          <p:cNvSpPr/>
          <p:nvPr/>
        </p:nvSpPr>
        <p:spPr>
          <a:xfrm>
            <a:off x="5781600" y="6434280"/>
            <a:ext cx="228600" cy="342720"/>
          </a:xfrm>
          <a:prstGeom prst="rect">
            <a:avLst/>
          </a:prstGeom>
          <a:solidFill>
            <a:srgbClr val="ffffe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12"/>
          <p:cNvSpPr/>
          <p:nvPr/>
        </p:nvSpPr>
        <p:spPr>
          <a:xfrm>
            <a:off x="4135320" y="4383000"/>
            <a:ext cx="1636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13"/>
          <p:cNvSpPr/>
          <p:nvPr/>
        </p:nvSpPr>
        <p:spPr>
          <a:xfrm flipH="1">
            <a:off x="4134960" y="4630680"/>
            <a:ext cx="1636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4"/>
          <p:cNvSpPr/>
          <p:nvPr/>
        </p:nvSpPr>
        <p:spPr>
          <a:xfrm>
            <a:off x="4135320" y="5087880"/>
            <a:ext cx="1636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5"/>
          <p:cNvSpPr/>
          <p:nvPr/>
        </p:nvSpPr>
        <p:spPr>
          <a:xfrm flipH="1">
            <a:off x="4134960" y="5307120"/>
            <a:ext cx="1636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6"/>
          <p:cNvSpPr/>
          <p:nvPr/>
        </p:nvSpPr>
        <p:spPr>
          <a:xfrm>
            <a:off x="4135320" y="5773680"/>
            <a:ext cx="1636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7"/>
          <p:cNvSpPr/>
          <p:nvPr/>
        </p:nvSpPr>
        <p:spPr>
          <a:xfrm flipH="1">
            <a:off x="4134960" y="5992920"/>
            <a:ext cx="1636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8"/>
          <p:cNvSpPr/>
          <p:nvPr/>
        </p:nvSpPr>
        <p:spPr>
          <a:xfrm>
            <a:off x="4135320" y="6459480"/>
            <a:ext cx="1636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9"/>
          <p:cNvSpPr/>
          <p:nvPr/>
        </p:nvSpPr>
        <p:spPr>
          <a:xfrm flipH="1" flipV="1">
            <a:off x="5638320" y="6388200"/>
            <a:ext cx="14292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0"/>
          <p:cNvSpPr/>
          <p:nvPr/>
        </p:nvSpPr>
        <p:spPr>
          <a:xfrm>
            <a:off x="5092560" y="4394160"/>
            <a:ext cx="330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21"/>
          <p:cNvSpPr/>
          <p:nvPr/>
        </p:nvSpPr>
        <p:spPr>
          <a:xfrm>
            <a:off x="4207320" y="4146480"/>
            <a:ext cx="737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22"/>
          <p:cNvSpPr/>
          <p:nvPr/>
        </p:nvSpPr>
        <p:spPr>
          <a:xfrm>
            <a:off x="5092560" y="5068800"/>
            <a:ext cx="330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23"/>
          <p:cNvSpPr/>
          <p:nvPr/>
        </p:nvSpPr>
        <p:spPr>
          <a:xfrm>
            <a:off x="5092560" y="5753160"/>
            <a:ext cx="330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24"/>
          <p:cNvSpPr/>
          <p:nvPr/>
        </p:nvSpPr>
        <p:spPr>
          <a:xfrm>
            <a:off x="4229280" y="4851360"/>
            <a:ext cx="5986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Dat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25"/>
          <p:cNvSpPr/>
          <p:nvPr/>
        </p:nvSpPr>
        <p:spPr>
          <a:xfrm>
            <a:off x="4229280" y="5524560"/>
            <a:ext cx="5986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Data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26"/>
          <p:cNvSpPr/>
          <p:nvPr/>
        </p:nvSpPr>
        <p:spPr>
          <a:xfrm>
            <a:off x="4230360" y="6226200"/>
            <a:ext cx="497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27"/>
          <p:cNvSpPr/>
          <p:nvPr/>
        </p:nvSpPr>
        <p:spPr>
          <a:xfrm>
            <a:off x="6296040" y="4307040"/>
            <a:ext cx="190440" cy="468000"/>
          </a:xfrm>
          <a:custGeom>
            <a:avLst/>
            <a:gdLst>
              <a:gd name="textAreaLeft" fmla="*/ 0 w 190440"/>
              <a:gd name="textAreaRight" fmla="*/ 68760 w 190440"/>
              <a:gd name="textAreaTop" fmla="*/ 11880 h 468000"/>
              <a:gd name="textAreaBottom" fmla="*/ 456120 h 46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7"/>
                </a:lnTo>
                <a:cubicBezTo>
                  <a:pt x="10800" y="9937"/>
                  <a:pt x="16200" y="10837"/>
                  <a:pt x="21600" y="10837"/>
                </a:cubicBezTo>
                <a:cubicBezTo>
                  <a:pt x="16200" y="10837"/>
                  <a:pt x="10800" y="11737"/>
                  <a:pt x="10800" y="1263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28"/>
          <p:cNvSpPr/>
          <p:nvPr/>
        </p:nvSpPr>
        <p:spPr>
          <a:xfrm>
            <a:off x="6296040" y="4994280"/>
            <a:ext cx="190440" cy="468360"/>
          </a:xfrm>
          <a:custGeom>
            <a:avLst/>
            <a:gdLst>
              <a:gd name="textAreaLeft" fmla="*/ 0 w 190440"/>
              <a:gd name="textAreaRight" fmla="*/ 68760 w 190440"/>
              <a:gd name="textAreaTop" fmla="*/ 11880 h 468360"/>
              <a:gd name="textAreaBottom" fmla="*/ 45648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7"/>
                </a:lnTo>
                <a:cubicBezTo>
                  <a:pt x="10800" y="9937"/>
                  <a:pt x="16200" y="10837"/>
                  <a:pt x="21600" y="10837"/>
                </a:cubicBezTo>
                <a:cubicBezTo>
                  <a:pt x="16200" y="10837"/>
                  <a:pt x="10800" y="11737"/>
                  <a:pt x="10800" y="1263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29"/>
          <p:cNvSpPr/>
          <p:nvPr/>
        </p:nvSpPr>
        <p:spPr>
          <a:xfrm>
            <a:off x="6296040" y="5691240"/>
            <a:ext cx="190440" cy="468360"/>
          </a:xfrm>
          <a:custGeom>
            <a:avLst/>
            <a:gdLst>
              <a:gd name="textAreaLeft" fmla="*/ 0 w 190440"/>
              <a:gd name="textAreaRight" fmla="*/ 68760 w 190440"/>
              <a:gd name="textAreaTop" fmla="*/ 11880 h 468360"/>
              <a:gd name="textAreaBottom" fmla="*/ 45648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7"/>
                </a:lnTo>
                <a:cubicBezTo>
                  <a:pt x="10800" y="9937"/>
                  <a:pt x="16200" y="10837"/>
                  <a:pt x="21600" y="10837"/>
                </a:cubicBezTo>
                <a:cubicBezTo>
                  <a:pt x="16200" y="10837"/>
                  <a:pt x="10800" y="11737"/>
                  <a:pt x="10800" y="1263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AutoShape 30"/>
          <p:cNvSpPr/>
          <p:nvPr/>
        </p:nvSpPr>
        <p:spPr>
          <a:xfrm>
            <a:off x="6296040" y="6388200"/>
            <a:ext cx="190440" cy="468360"/>
          </a:xfrm>
          <a:custGeom>
            <a:avLst/>
            <a:gdLst>
              <a:gd name="textAreaLeft" fmla="*/ 0 w 190440"/>
              <a:gd name="textAreaRight" fmla="*/ 68760 w 190440"/>
              <a:gd name="textAreaTop" fmla="*/ 11880 h 468360"/>
              <a:gd name="textAreaBottom" fmla="*/ 45648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7"/>
                </a:lnTo>
                <a:cubicBezTo>
                  <a:pt x="10800" y="9937"/>
                  <a:pt x="16200" y="10837"/>
                  <a:pt x="21600" y="10837"/>
                </a:cubicBezTo>
                <a:cubicBezTo>
                  <a:pt x="16200" y="10837"/>
                  <a:pt x="10800" y="11737"/>
                  <a:pt x="10800" y="1263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31"/>
          <p:cNvSpPr/>
          <p:nvPr/>
        </p:nvSpPr>
        <p:spPr>
          <a:xfrm>
            <a:off x="6651000" y="4395960"/>
            <a:ext cx="23205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Event + message + re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32"/>
          <p:cNvSpPr/>
          <p:nvPr/>
        </p:nvSpPr>
        <p:spPr>
          <a:xfrm>
            <a:off x="6650280" y="5056200"/>
            <a:ext cx="15692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Message + re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33"/>
          <p:cNvSpPr/>
          <p:nvPr/>
        </p:nvSpPr>
        <p:spPr>
          <a:xfrm>
            <a:off x="6650280" y="5745240"/>
            <a:ext cx="15692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Message + re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34"/>
          <p:cNvSpPr/>
          <p:nvPr/>
        </p:nvSpPr>
        <p:spPr>
          <a:xfrm>
            <a:off x="6649200" y="6462720"/>
            <a:ext cx="22413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Asynchronous 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35"/>
          <p:cNvSpPr/>
          <p:nvPr/>
        </p:nvSpPr>
        <p:spPr>
          <a:xfrm>
            <a:off x="4029120" y="1341360"/>
            <a:ext cx="0" cy="19065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36"/>
          <p:cNvSpPr/>
          <p:nvPr/>
        </p:nvSpPr>
        <p:spPr>
          <a:xfrm>
            <a:off x="5915160" y="1370160"/>
            <a:ext cx="0" cy="1877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37"/>
          <p:cNvSpPr/>
          <p:nvPr/>
        </p:nvSpPr>
        <p:spPr>
          <a:xfrm>
            <a:off x="3607200" y="981000"/>
            <a:ext cx="554400" cy="34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38"/>
          <p:cNvSpPr/>
          <p:nvPr/>
        </p:nvSpPr>
        <p:spPr>
          <a:xfrm>
            <a:off x="5483880" y="993600"/>
            <a:ext cx="858960" cy="34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39"/>
          <p:cNvSpPr/>
          <p:nvPr/>
        </p:nvSpPr>
        <p:spPr>
          <a:xfrm>
            <a:off x="3905280" y="1658880"/>
            <a:ext cx="247680" cy="1284480"/>
          </a:xfrm>
          <a:prstGeom prst="rect">
            <a:avLst/>
          </a:prstGeom>
          <a:solidFill>
            <a:srgbClr val="ffffe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40"/>
          <p:cNvSpPr/>
          <p:nvPr/>
        </p:nvSpPr>
        <p:spPr>
          <a:xfrm>
            <a:off x="5800680" y="1811160"/>
            <a:ext cx="228600" cy="297000"/>
          </a:xfrm>
          <a:prstGeom prst="rect">
            <a:avLst/>
          </a:prstGeom>
          <a:solidFill>
            <a:srgbClr val="ffffe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41"/>
          <p:cNvSpPr/>
          <p:nvPr/>
        </p:nvSpPr>
        <p:spPr>
          <a:xfrm>
            <a:off x="5800680" y="2614680"/>
            <a:ext cx="228600" cy="285840"/>
          </a:xfrm>
          <a:prstGeom prst="rect">
            <a:avLst/>
          </a:prstGeom>
          <a:solidFill>
            <a:srgbClr val="ffffe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42"/>
          <p:cNvSpPr/>
          <p:nvPr/>
        </p:nvSpPr>
        <p:spPr>
          <a:xfrm>
            <a:off x="4152960" y="1811160"/>
            <a:ext cx="1647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43"/>
          <p:cNvSpPr/>
          <p:nvPr/>
        </p:nvSpPr>
        <p:spPr>
          <a:xfrm flipH="1">
            <a:off x="4152600" y="2058840"/>
            <a:ext cx="1647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44"/>
          <p:cNvSpPr/>
          <p:nvPr/>
        </p:nvSpPr>
        <p:spPr>
          <a:xfrm>
            <a:off x="4152960" y="2655720"/>
            <a:ext cx="1647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45"/>
          <p:cNvSpPr/>
          <p:nvPr/>
        </p:nvSpPr>
        <p:spPr>
          <a:xfrm flipH="1" flipV="1">
            <a:off x="5657400" y="2584440"/>
            <a:ext cx="14292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46"/>
          <p:cNvSpPr/>
          <p:nvPr/>
        </p:nvSpPr>
        <p:spPr>
          <a:xfrm>
            <a:off x="4860720" y="1822320"/>
            <a:ext cx="926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free roo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47"/>
          <p:cNvSpPr/>
          <p:nvPr/>
        </p:nvSpPr>
        <p:spPr>
          <a:xfrm>
            <a:off x="4226040" y="1574640"/>
            <a:ext cx="9824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FindRoo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48"/>
          <p:cNvSpPr/>
          <p:nvPr/>
        </p:nvSpPr>
        <p:spPr>
          <a:xfrm>
            <a:off x="4246200" y="2409840"/>
            <a:ext cx="10436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SelectRo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49"/>
          <p:cNvSpPr/>
          <p:nvPr/>
        </p:nvSpPr>
        <p:spPr>
          <a:xfrm>
            <a:off x="6315120" y="1735200"/>
            <a:ext cx="190440" cy="468360"/>
          </a:xfrm>
          <a:custGeom>
            <a:avLst/>
            <a:gdLst>
              <a:gd name="textAreaLeft" fmla="*/ 0 w 190440"/>
              <a:gd name="textAreaRight" fmla="*/ 68760 w 190440"/>
              <a:gd name="textAreaTop" fmla="*/ 11880 h 468360"/>
              <a:gd name="textAreaBottom" fmla="*/ 45648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7"/>
                </a:lnTo>
                <a:cubicBezTo>
                  <a:pt x="10800" y="9937"/>
                  <a:pt x="16200" y="10837"/>
                  <a:pt x="21600" y="10837"/>
                </a:cubicBezTo>
                <a:cubicBezTo>
                  <a:pt x="16200" y="10837"/>
                  <a:pt x="10800" y="11737"/>
                  <a:pt x="10800" y="1263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50"/>
          <p:cNvSpPr/>
          <p:nvPr/>
        </p:nvSpPr>
        <p:spPr>
          <a:xfrm>
            <a:off x="6315120" y="2552760"/>
            <a:ext cx="190440" cy="468360"/>
          </a:xfrm>
          <a:custGeom>
            <a:avLst/>
            <a:gdLst>
              <a:gd name="textAreaLeft" fmla="*/ 0 w 190440"/>
              <a:gd name="textAreaRight" fmla="*/ 68760 w 190440"/>
              <a:gd name="textAreaTop" fmla="*/ 11880 h 468360"/>
              <a:gd name="textAreaBottom" fmla="*/ 45648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7"/>
                </a:lnTo>
                <a:cubicBezTo>
                  <a:pt x="10800" y="9937"/>
                  <a:pt x="16200" y="10837"/>
                  <a:pt x="21600" y="10837"/>
                </a:cubicBezTo>
                <a:cubicBezTo>
                  <a:pt x="16200" y="10837"/>
                  <a:pt x="10800" y="11737"/>
                  <a:pt x="10800" y="1263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51"/>
          <p:cNvSpPr/>
          <p:nvPr/>
        </p:nvSpPr>
        <p:spPr>
          <a:xfrm>
            <a:off x="6670080" y="1824120"/>
            <a:ext cx="23205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Event + message + re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52"/>
          <p:cNvSpPr/>
          <p:nvPr/>
        </p:nvSpPr>
        <p:spPr>
          <a:xfrm>
            <a:off x="6668640" y="2486160"/>
            <a:ext cx="22186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Event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asynchronous 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54"/>
          <p:cNvSpPr/>
          <p:nvPr/>
        </p:nvSpPr>
        <p:spPr>
          <a:xfrm>
            <a:off x="539640" y="6324480"/>
            <a:ext cx="17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equence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itle 28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9. Sequence diagrams, events, and mess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0. Introduction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2" name="Slide Number Placeholder 28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E18D-36A2-4062-856E-F4087D5BA0BF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914400" y="137160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styles are best suited for discussions with expert users, while the later styles mainly are for IT profession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L Unified Modeling Language is a standard notation introduced by object-oriented sch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. Complex and simple functions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5" name="Slide Number Placeholder 28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6605-16E5-4E93-972F-F706939B6DB6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04920" y="1371600"/>
            <a:ext cx="85341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ligh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ore trivia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 semi-complex domain functions in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 semi-complex product functions as part of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complex functions by performance or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9"/>
          <p:cNvSpPr/>
          <p:nvPr/>
        </p:nvSpPr>
        <p:spPr>
          <a:xfrm>
            <a:off x="2032920" y="1295280"/>
            <a:ext cx="2109600" cy="3508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Domain ob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dFree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PrintIn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if book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if non-boo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if add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astest truck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Voice recogni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0"/>
          <p:cNvSpPr/>
          <p:nvPr/>
        </p:nvSpPr>
        <p:spPr>
          <a:xfrm>
            <a:off x="4168080" y="1295280"/>
            <a:ext cx="2493720" cy="3508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Domain non-ob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Discount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Business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Tax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Pay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Optimize ro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Voice recogni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1"/>
          <p:cNvSpPr/>
          <p:nvPr/>
        </p:nvSpPr>
        <p:spPr>
          <a:xfrm>
            <a:off x="708480" y="1844640"/>
            <a:ext cx="1294200" cy="2959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Har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35"/>
          <p:cNvSpPr/>
          <p:nvPr/>
        </p:nvSpPr>
        <p:spPr>
          <a:xfrm>
            <a:off x="4703400" y="4984920"/>
            <a:ext cx="3591360" cy="17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Possible requirement sty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(Leave to intui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Natural language or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Process description (algorith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Performance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Refer to laws and agre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36"/>
          <p:cNvSpPr/>
          <p:nvPr/>
        </p:nvSpPr>
        <p:spPr>
          <a:xfrm>
            <a:off x="2832480" y="5530320"/>
            <a:ext cx="1049760" cy="670680"/>
          </a:xfrm>
          <a:prstGeom prst="wedgeRoundRectCallout">
            <a:avLst>
              <a:gd name="adj1" fmla="val 103685"/>
              <a:gd name="adj2" fmla="val 4555"/>
              <a:gd name="adj3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ui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choic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7"/>
          <p:cNvSpPr/>
          <p:nvPr/>
        </p:nvSpPr>
        <p:spPr>
          <a:xfrm>
            <a:off x="1981080" y="1841400"/>
            <a:ext cx="4724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38"/>
          <p:cNvSpPr/>
          <p:nvPr/>
        </p:nvSpPr>
        <p:spPr>
          <a:xfrm>
            <a:off x="685800" y="2654280"/>
            <a:ext cx="6019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39"/>
          <p:cNvSpPr/>
          <p:nvPr/>
        </p:nvSpPr>
        <p:spPr>
          <a:xfrm>
            <a:off x="685800" y="4013280"/>
            <a:ext cx="6019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itle 28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. Complex and simple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. Tables and decision tables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7" name="Slide Number Placeholder 28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4D92-3D72-470D-89F9-2B4F47DB24C1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914400" y="137160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i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s listing all the pos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vali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verify for user as well as develo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ted for busin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4343400" y="647208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usiness rules, informal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2436840" y="1469880"/>
            <a:ext cx="6097680" cy="493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72000" bIns="36000" anchor="t">
            <a:noAutofit/>
          </a:bodyPr>
          <a:p>
            <a:pPr>
              <a:tabLst>
                <a:tab algn="l" pos="0"/>
                <a:tab algn="l" pos="476280"/>
                <a:tab algn="l" pos="8571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oduct shall suggest the following dis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6280"/>
                <a:tab algn="l" pos="8571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es if a customer asks for discou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6280"/>
                <a:tab algn="l" pos="8571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6280"/>
                <a:tab algn="l" pos="8571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room used as sing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76280"/>
                <a:tab algn="l" pos="8571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ly with more than one roo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6280"/>
                <a:tab algn="l" pos="8571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 for additional roo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76280"/>
                <a:tab algn="l" pos="8571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 at immediate check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6280"/>
                <a:tab algn="l" pos="8571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6pm and hotel less t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6280"/>
                <a:tab algn="l" pos="8571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% booked, fair wea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6280"/>
                <a:tab algn="l" pos="8571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6 pm and hotel less t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6280"/>
                <a:tab algn="l" pos="8571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% booked, bad wea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6280"/>
                <a:tab algn="l" pos="8571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6280"/>
                <a:tab algn="l" pos="8571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 1 and 2 cannot apply in the same st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6280"/>
                <a:tab algn="l" pos="8571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6280"/>
                <a:tab algn="l" pos="8571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6280"/>
                <a:tab algn="l" pos="8571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rs shall be able to change the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2881440" y="2343240"/>
            <a:ext cx="5124240" cy="3162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5"/>
          <p:cNvSpPr/>
          <p:nvPr/>
        </p:nvSpPr>
        <p:spPr>
          <a:xfrm>
            <a:off x="2881440" y="2705040"/>
            <a:ext cx="51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6"/>
          <p:cNvSpPr/>
          <p:nvPr/>
        </p:nvSpPr>
        <p:spPr>
          <a:xfrm>
            <a:off x="2881440" y="3333600"/>
            <a:ext cx="51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"/>
          <p:cNvSpPr/>
          <p:nvPr/>
        </p:nvSpPr>
        <p:spPr>
          <a:xfrm>
            <a:off x="2881440" y="4819680"/>
            <a:ext cx="51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8"/>
          <p:cNvSpPr/>
          <p:nvPr/>
        </p:nvSpPr>
        <p:spPr>
          <a:xfrm>
            <a:off x="7167600" y="2343240"/>
            <a:ext cx="0" cy="247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itle 28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. Tables and decision 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2"/>
          <p:cNvSpPr/>
          <p:nvPr/>
        </p:nvSpPr>
        <p:spPr>
          <a:xfrm>
            <a:off x="3897360" y="6400800"/>
            <a:ext cx="28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usiness rules, decisio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2513160" y="1146240"/>
            <a:ext cx="6097320" cy="5178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72000" bIns="36000" anchor="t">
            <a:noAutofit/>
          </a:bodyPr>
          <a:p>
            <a:pPr>
              <a:tabLst>
                <a:tab algn="l" pos="0"/>
                <a:tab algn="l" pos="285840"/>
                <a:tab algn="l" pos="571680"/>
                <a:tab algn="l" pos="247644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1. The product shall suggest the following dis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247644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es if the customer asks for discou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247644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247644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Dble room used as sing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247644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Family, additional roo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247644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Immediate check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247644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Before 6 p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247644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Less 50% book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247644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Fair wea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85840"/>
                <a:tab algn="l" pos="571680"/>
                <a:tab algn="l" pos="247644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Room dis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247644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Room dis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247644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Early dis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247644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Early disc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0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247644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 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247644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247644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rs shall be able to change the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247644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he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247644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2805120" y="2000160"/>
            <a:ext cx="4648320" cy="3257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5"/>
          <p:cNvSpPr/>
          <p:nvPr/>
        </p:nvSpPr>
        <p:spPr>
          <a:xfrm>
            <a:off x="2805120" y="3800520"/>
            <a:ext cx="4648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6"/>
          <p:cNvSpPr/>
          <p:nvPr/>
        </p:nvSpPr>
        <p:spPr>
          <a:xfrm>
            <a:off x="2805120" y="2324160"/>
            <a:ext cx="464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7"/>
          <p:cNvSpPr/>
          <p:nvPr/>
        </p:nvSpPr>
        <p:spPr>
          <a:xfrm>
            <a:off x="2805120" y="2610000"/>
            <a:ext cx="464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"/>
          <p:cNvSpPr/>
          <p:nvPr/>
        </p:nvSpPr>
        <p:spPr>
          <a:xfrm>
            <a:off x="2805120" y="2895480"/>
            <a:ext cx="464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9"/>
          <p:cNvSpPr/>
          <p:nvPr/>
        </p:nvSpPr>
        <p:spPr>
          <a:xfrm>
            <a:off x="2805120" y="3467160"/>
            <a:ext cx="464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10"/>
          <p:cNvSpPr/>
          <p:nvPr/>
        </p:nvSpPr>
        <p:spPr>
          <a:xfrm>
            <a:off x="2805120" y="4124160"/>
            <a:ext cx="464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1"/>
          <p:cNvSpPr/>
          <p:nvPr/>
        </p:nvSpPr>
        <p:spPr>
          <a:xfrm>
            <a:off x="2805120" y="4410000"/>
            <a:ext cx="464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2"/>
          <p:cNvSpPr/>
          <p:nvPr/>
        </p:nvSpPr>
        <p:spPr>
          <a:xfrm>
            <a:off x="2805120" y="4676760"/>
            <a:ext cx="464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3"/>
          <p:cNvSpPr/>
          <p:nvPr/>
        </p:nvSpPr>
        <p:spPr>
          <a:xfrm>
            <a:off x="2805120" y="4952880"/>
            <a:ext cx="464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4"/>
          <p:cNvSpPr/>
          <p:nvPr/>
        </p:nvSpPr>
        <p:spPr>
          <a:xfrm>
            <a:off x="5967360" y="2000160"/>
            <a:ext cx="0" cy="325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5"/>
          <p:cNvSpPr/>
          <p:nvPr/>
        </p:nvSpPr>
        <p:spPr>
          <a:xfrm>
            <a:off x="6262560" y="2000160"/>
            <a:ext cx="0" cy="325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6"/>
          <p:cNvSpPr/>
          <p:nvPr/>
        </p:nvSpPr>
        <p:spPr>
          <a:xfrm>
            <a:off x="6539040" y="2000160"/>
            <a:ext cx="0" cy="325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7"/>
          <p:cNvSpPr/>
          <p:nvPr/>
        </p:nvSpPr>
        <p:spPr>
          <a:xfrm>
            <a:off x="6824520" y="2000160"/>
            <a:ext cx="0" cy="325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8"/>
          <p:cNvSpPr/>
          <p:nvPr/>
        </p:nvSpPr>
        <p:spPr>
          <a:xfrm>
            <a:off x="7110360" y="2000160"/>
            <a:ext cx="0" cy="325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9"/>
          <p:cNvSpPr/>
          <p:nvPr/>
        </p:nvSpPr>
        <p:spPr>
          <a:xfrm>
            <a:off x="2805120" y="3171960"/>
            <a:ext cx="464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20"/>
          <p:cNvSpPr/>
          <p:nvPr/>
        </p:nvSpPr>
        <p:spPr>
          <a:xfrm>
            <a:off x="7491240" y="3971880"/>
            <a:ext cx="257400" cy="6001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itle 28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. Tables and decision 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. Textual process descriptions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8" name="Slide Number Placeholder 28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0464-7344-4853-AE37-ADEB90DDA085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914400" y="137160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i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ne of the program  (the algorithm) in tex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called mini-specs or pseudo-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ly way to provide fine det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 design-level requirements, e.g. buttons in proto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useful for busin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20:00:59Z</dcterms:created>
  <dc:creator>Michelle Heizer</dc:creator>
  <dc:description/>
  <dc:language>en-US</dc:language>
  <cp:lastModifiedBy>chikh</cp:lastModifiedBy>
  <dcterms:modified xsi:type="dcterms:W3CDTF">2009-01-09T17:38:00Z</dcterms:modified>
  <cp:revision>341</cp:revision>
  <dc:subject/>
  <dc:title>Class Number Class Name</dc:title>
</cp:coreProperties>
</file>