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C2A-7E2B-4001-9B2C-1CCAA564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32B-9E24-4BF1-967E-6DD96E9C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C60-7B42-419C-8F05-C419CABC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C52-4513-4017-AA71-F8B3EFC5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8D52-5EA2-44D0-A324-4D771D0E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8417-07BA-4CF2-990B-D45E48FE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46BD-CF25-4200-B78B-F418EFE1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8FC3-C248-4F10-858A-D46D5881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8B17-DD05-4B3E-95B8-E78D2A87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3850-0647-4E6E-9DCD-7BB13EDB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6271-713E-4440-BD72-ABA140E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707-B54E-4D25-90CC-22A4696D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B7AA-0837-4F8C-8B72-047D9F07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5507-F782-43EA-BB00-E150488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CADD-CD92-417A-B39D-13A992AE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0E31-CC16-4B26-890C-03E02455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6BC2-47FD-4F42-AAF4-B75B904C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6286-371C-4978-9CF6-120E696C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B057-ECFA-490E-8083-B95A90E1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516D-D74E-4B33-AFE7-082B7C95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B9FF-6C6C-4180-8B21-80E855B4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69130-DD9E-4DC0-97BE-9CE5F4D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2F8-7754-4AC8-9A07-B134AB83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4585-47BE-4B04-897F-251FF79C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C45A-A7EA-4435-99A0-B8A5E23F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0E70-134F-4C25-97F0-E7031FE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125E6-2201-4075-B531-C1B18874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48EB-3204-4829-AD06-B6EEF6FF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5AD0-FD54-4F36-8C1A-EB5127F8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30A3B-6613-47A9-97FB-1FB9F4C0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A884-9C6A-4B0F-81EF-17D34A19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20847-3279-44C2-B721-F4F0D51A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25598-2023-4895-A19A-36720EB5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402-A4B1-4233-8D82-A89BD71C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688E-B135-418F-98A8-1E74CC9B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EA082-1A14-431C-9AEF-A19F5887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2B94-AC1F-4646-83CD-84F9A573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B6495-9C5D-4AE9-B629-7BF181F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6ACE-13D4-4F0D-AC22-B35AD0F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5C16-5675-4724-A623-15357BCA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FB2FC-40FC-48C3-8603-D198290C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7C04-972C-4A55-B81E-936D6DB1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4C33-3285-4971-BFFE-F1AA0F4D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A67D1-13E4-455A-A18E-44A966DE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0DC-E781-4E63-9A94-9DFB827B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D851-6A50-4021-845A-412E535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7FDCD-481E-4C55-9F11-4E3FFAC7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5997F-7F75-44C7-8B38-360E4D1D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19880-2978-4102-90AD-EA2FAD84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CBFF8-383B-47C5-B8B2-58BCD925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7BB69-4ABE-4BE3-B357-E3BC8BC6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6AAE2-9079-49ED-AA00-C0A691B4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92FD-F0B5-4267-8CC6-D1BED99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41367-82D8-44D7-937F-B1321A38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A1E92-1F7C-4732-92B6-D6D4DAB0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A95-CD52-446D-B09B-A5FA53E3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288F0-5D7C-44ED-BE05-935D461A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DEE-2549-4B7E-A924-DA7702B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C92-61B7-4DFB-BD1A-A569254C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8B2-D1AC-49AE-A0C4-201C82C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D740-9AF0-459E-83FB-F7099304C46E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6395-1321-4A5E-8ACF-17489466EC46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3CA0-A2FE-4E8B-8FC2-D6DFBDFCA654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230A-1AFA-4378-BEE9-DBA663960C07}" type="slidenum">
              <a:rPr b="0" lang="ar-SA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0CC7-3404-49A9-A246-9432973C4BA8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Computer1/DATA$" TargetMode="External"/><Relationship Id="rId2" Type="http://schemas.openxmlformats.org/officeDocument/2006/relationships/hyperlink" Target="file://Computer1/DATA$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IS493 INFORMATION SECURIT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TUTORIAL # 1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(S1-1435-1436)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ASHRAF YOUSSE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will also identify any user accounts that hav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ank or simple passwords,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rewall status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number of local administrators configured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nnecessary servic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GURE 1.1 MBS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-76320" y="1143000"/>
            <a:ext cx="9220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FIGURE 1.2 RESULTS OF MBSA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1.3: CONFIGURE WINDOWS AUTOMATIC UPDATES 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ne of the most important things you can do to keep your systems secure is to keep them up-to-date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the System applet by choosing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Control Panel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System. *Switch the view to Classic mod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he Automatic Updates tab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eck the Keep My Computer Up To Date option (with some service packs, this becomes simply an Automatic radio button)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LAB#: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 2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dentifying running processes, ports, and servic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is important to know wha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processes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running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n a machine at any given tim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addition to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programs that a user may be using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, there are always many o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at are required by the operating system, the network, or other application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2.1: IDENTIFY RUNNING PROCESSES ON A WINDOWS-BASED MACHINE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ll recent versions of Windows include the Task Manager to allow you to see what is running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. Right-click an empty location in the Windows Taskbar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2. Choose Task Manager from the pop-up menu that appears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amine the list an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ook for anything out of the ordinary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fter doing this a few times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will become familiar with what is normally there an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ll be able to spot oddities quickly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2.2: USING PROCESSES EXPLORER TO IDENTIFY RUNNING PROCESSES, PORTS AND SERVICES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cess Explorer is a system monitoring and examination uti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can be used as the first step in debugging software or system problem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use Process Explorer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Download Process Explorer from Goog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2872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hen double click on “procexp” on your desktop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2872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lick Ctrl+L. a lower panel will show up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FIGURE 2.1 PROCESS EXPLORER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5" name="Picture 3" descr="http://i.technet.microsoft.com/bb896653.ProcessExplorer(en-us,MSDN.10).jpg"/>
          <p:cNvPicPr/>
          <p:nvPr/>
        </p:nvPicPr>
        <p:blipFill>
          <a:blip r:embed="rId1"/>
          <a:stretch/>
        </p:blipFill>
        <p:spPr>
          <a:xfrm>
            <a:off x="1371600" y="1676520"/>
            <a:ext cx="6553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LAB#: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 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                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uring your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Ctrl+I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ystem information window will appear showing statistics and graphs about the system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any process from the top window (e.g. svchost.exe), an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ight click on it and chose ‘properties’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GURE2.2 SYSTEM INFORMATION FROM PROCESS EXPLORER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3" descr="http://i.technet.microsoft.com/bb896653.ProcessExplorer1(en-us,MSDN.10).jpg"/>
          <p:cNvPicPr/>
          <p:nvPr/>
        </p:nvPicPr>
        <p:blipFill>
          <a:blip r:embed="rId1"/>
          <a:stretch/>
        </p:blipFill>
        <p:spPr>
          <a:xfrm>
            <a:off x="228600" y="1981080"/>
            <a:ext cx="89154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LAB#: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 3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ndow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LAB#: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is Lab, you will be learning some important security aspects in the Windows system;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s lab will go over users and permissions, sharing and folders permission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3.1: ADDING NEW USER IN WINDOWS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will be creating new user on your windows system, to do so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Control Panel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uble click ‘User Accounts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he Create a New Account link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ter a name for the account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lect the type of account you want to create for Window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he Create Account butto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ose the Control Panel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FIGURE 3.1 ADDING A USER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Picture 3" descr="http://media.wiley.com/Lux/38/79638.image2.jpg?h=388&amp;w=535"/>
          <p:cNvPicPr/>
          <p:nvPr/>
        </p:nvPicPr>
        <p:blipFill>
          <a:blip r:embed="rId1"/>
          <a:stretch/>
        </p:blipFill>
        <p:spPr>
          <a:xfrm>
            <a:off x="838080" y="2027160"/>
            <a:ext cx="800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3.2: IDENTIFY USER ACCOUNTS WITH ADMINISTRATOR ACCESS IN WINDOWS XP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r management is simplified  by adding users to group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see which users are members of the Administrators group,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Run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Click on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enter compmgmt.msc, then click on the OK but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thin the left frame, expand Local Users and Groups and then expand Groups, as shown in Figure 3.2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uble-click Administrators and a list of users appear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can use the Add or Remove button to place users in this group or take them from it, respectively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it the Computer Management consol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it Control Panel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75060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1.1: TENABLE NESSUS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ssus currently works 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ndows, Linux, and Mac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is a vulnerability scanner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can scan a targeted system or a range of system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identifies any vulnerabilities or weaknesse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FIGURE 3.2 EXPAND THE GROUPS FOLDER TO SEE THE LOCAL GROUPS.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86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3.3: HIDE AND ACCESS A WINDOWS SHARE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s lab requires two Windows workstation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simple method for “protecting” shares is to make them hidden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hide a share in Windows, you use the dollar sign character ($) as the last character of its nam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will then no longer appear in listings and will need to be referred to specifically to be accessed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n Computer1, choose to share the C:\WINDOWS directory, and name the share DATA$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n Computer2, look for the shar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 My Network Places (or Network Neighborhood on older Windows operating systems) to look for the shar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should not be able to see the share because the name ends with $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ight-click My Network Places and choose Map Network Driv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e Path box, type </a:t>
            </a: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\\Computer1\DATA</a:t>
            </a: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2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K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should now be able to access the shar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3.4: SECURING THE WINDOW’S USER’S ACCOUNTS DATABASE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Windows XP accounts database can be secured through encryption to prevent it from being compromised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perform this action,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Ru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ype keyword “syskey” and press Enter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Update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Password Startup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ter a password that you want to require during startup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ter the same password in the Confirm box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K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Franklin Gothic Book"/>
              </a:rPr>
              <a:t>Note the warning—once encryption is enabled, it cannot be disabled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FIGURE 3.3 USE ENCRYPTION TO SECURE THE WINDOWS XP ACCOUNT DATABASE.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534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3.5: CHANGING ACL FOR A FOLDER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ccess Control Lists apply only to files stored on an NTFS formatted dr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ach ACL determines which users (or groups of users) can read or edit the fil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en a new file is created it normally inherits ACL's from the folder where it was created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easy way in Windows is by right clicking on the folder and changing the privileges, to do so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uble click the folder ‘My Document’, and then create new folder in it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ight click on the new folder, and chose ‘properties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the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Franklin Gothic Book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tap ‘Security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will see all users, including the user you have created. Click on any user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r’s permissions are displayed in the bottom window; you can change any permission by clicking on ‘Allow’ or ‘Deny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advanced and explore what other options you can perform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ssus has two part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rver, which is already set up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ent which you will be working with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en you first lunch the Nessus client you need to connect to the server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ANKS 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UTORIAL DELIVERED BY 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shraf Youssef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IS dept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ollege of Computer and Information Sciences (CCIS)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 Saud University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Riyadh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dom of Saudi Arabia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obile: 0507181787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E-mail : ashraf@ksu.edu.sa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se Single host, and type in your PC’s IP addres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ssus will generate a whole report about the scanned system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.2: RUN THE MICROSOFT BASELINE SECURITY ANALYZER  (MBSA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BSA currently works with Microsoft Windows O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CA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can a system and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dentify weaknesses and misconfigurations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run MBSA, follow these steps: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og in with administrator privile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wnload the latest version of MBSA from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://technet.microsoft.com/en-us/security/cc184924.aspx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the option ‘Scan a computer’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default computer to scan will be the one you are sitting at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can change this to another on the network by specifying either the computer’s name or IP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Start Scan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ew the report that is given when the scan finish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report will include information on missing security updates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rvice packs for the operating system an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crosoft application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3:02:50Z</dcterms:created>
  <dc:creator>maqsood.m</dc:creator>
  <dc:description/>
  <dc:language>en-US</dc:language>
  <cp:lastModifiedBy>Ashraf Youssef</cp:lastModifiedBy>
  <dcterms:modified xsi:type="dcterms:W3CDTF">2014-09-15T10:03:48Z</dcterms:modified>
  <cp:revision>46</cp:revision>
  <dc:subject/>
  <dc:title>IS493 Information Security</dc:title>
</cp:coreProperties>
</file>