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6A0-1931-4728-A419-54C6433F3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E67-EDD3-4926-AA90-C1C4B9BE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1375-5669-40A7-8A19-AB6672E8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A274-ADE0-4A89-99EB-711694F6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B08B-9BC1-4836-BD02-763BA6036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19C4-D010-45A0-BF82-A148F1F9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1D76-9A84-4671-A86D-791FC182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56FC-7274-4E4A-BBA9-98190FE55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33224-4352-4D6D-919B-D2EE8424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C4D5-6C29-4753-A374-3836C8B3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F5097-A24C-4C52-A753-C8CEA545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9593-6BC5-447A-AF45-83AFB2F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CBAF-BE3C-4618-917F-472C915B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1F78-078B-42D3-983E-78F9C16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3FAB8-3DFB-4A0A-A41A-F4392E62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ABC4-B8C3-43CF-BFDD-7DE4096B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77960-1A92-46C9-B298-6F8180A8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D837-7095-49BC-9D01-FC62E2E20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A0195-884F-4372-AF1A-1EA56C0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28866-0201-488E-BB38-8749A596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E74B8-DC11-4A9A-9793-7F52470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E42D1-6749-4F74-AC19-66825DA1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72DB-2D18-497F-95BF-B1A88FA2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7E50-7EBA-49CB-921E-D04DD247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794AE-1891-4256-9E72-C0A9FE528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5F29-C0F9-4ACE-B81C-CBAAAD65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C6133-1AE2-40F9-8230-4DFA8E25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6F569-A37C-4DA8-9D4C-9BDBB107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2069E-3267-4633-B78C-21A475736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FF7CC-8C54-45C3-9DBD-DF1A6AD5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CDAD-F45F-40F7-8942-F6E7109E3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5DCB1-69BE-438B-BC30-10959D6E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6EF48-3810-4176-A593-65B01DC2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808C-32EF-431C-9EC8-36CB7AB5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6F3C2-21AC-4C0A-8CE1-F6049ECA0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730DC-A52E-412A-AA79-D727E5B2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C7939-BE04-48C6-A547-EA71426F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BDBE7-450A-483C-B426-21A2006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2E58-F461-4E06-8BEE-47AF2CA0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5B078-8F50-477D-9E3C-D8590011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AEC49-9327-44C4-8758-2CD8E41F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35C00-2299-45AD-8CE0-DD4DCF45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1D7B9-901C-4C8F-91EA-2436CDDA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F686D-5C55-46ED-A1ED-B87D0C4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0B94-C995-4EE8-80EB-14F26E29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4C795-A2D1-4195-A42C-35F85D23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00F21-D4A9-4F63-A8BC-020B0815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2C2D3-9789-4785-BD38-5997DA23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09C56-C2A1-4B67-8478-2A170590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8C185-A31C-4283-9F8C-4B27D10E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5E66B-B115-47A0-BE39-E87E8B78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C0F10-EB75-4DED-9CD6-FB834D69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82533-D426-4C47-B665-D8DBE779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F7C0-04F2-4269-86B1-8B31B309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E998E-9462-4C7C-928C-20808F523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88B-CF2A-47F3-9FC7-13726095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1D08-E2A3-42F7-B3F8-9DD72193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35F1-060D-4A77-BE7F-BF199015A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E0D2-921E-4316-8281-B6C439C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290-3834-429B-A6BA-6D4DAE99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39C7-90B6-4E33-8D91-501BAA8FAC33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F7C5-3089-4484-9ED7-1BE674B2CD87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866-1A49-461A-9F60-D9B650F36864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202D-96AD-43E0-A322-4425D1490766}" type="slidenum">
              <a:rPr b="0" lang="ar-SA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B5BE-A496-4F7C-8183-492F5E15297A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Computer1/DATA$" TargetMode="External"/><Relationship Id="rId2" Type="http://schemas.openxmlformats.org/officeDocument/2006/relationships/hyperlink" Target="file://Computer1/DATA$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IS493 INFORMATION SECURITY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TUTORIAL # 1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(S1-1435-1436)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  <a:ea typeface="Tunga"/>
              </a:rPr>
              <a:t>ASHRAF YOUSSEF</a:t>
            </a:r>
            <a:endParaRPr b="1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will also identify any user accounts that hav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ank or simple passwords,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rewall statu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number of local administrators configured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nnecessary servic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5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GURE 1.1 MBS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1"/>
          <a:stretch/>
        </p:blipFill>
        <p:spPr>
          <a:xfrm>
            <a:off x="-76320" y="1143000"/>
            <a:ext cx="92203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1.2 RESULTS OF MBSA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763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1.3: CONFIGURE WINDOWS AUTOMATIC UPDATES 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e of the most important things you can do to keep your systems secure is to keep them up-to-dat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the System applet by choosing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ontrol Panel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System. *Switch the view to Classic mode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Automatic Updates tab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eck the Keep My Computer Up To Date option (with some service packs, this becomes simply an Automatic radio button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2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dentifying running processes, ports, and servic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s important to know what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rocesses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running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a machine at any given tim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addition to the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programs that a user may be using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, there are always many o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at are required by the operating system, the network, or other applic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2.1: IDENTIFY RUNNING PROCESSES ON A WINDOWS-BASED MACHINE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ll recent versions of Windows include the Task Manager to allow you to see what is running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1. Right-click an empty location in the Windows Taskbar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2. Choose Task Manager from the pop-up menu that appears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amine the list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ok for anything out of the ordinary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fter doing this a few time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become familiar with what is normally there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ll be able to spot oddities quickly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2.2: USING PROCESSES EXPLORER TO IDENTIFY RUNNING PROCESSES, PORTS AND SERVICES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cess Explorer is a system monitoring and examination utility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can be used as the first step in debugging software or system problem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use Process Explorer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Download Process Explorer from Google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287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Then double click on “procexp” on your desktop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2872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 algn="just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Click Ctrl+L. a lower panel will show up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2.1 PROCESS EXPLORER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55" name="Picture 3" descr="http://i.technet.microsoft.com/bb896653.ProcessExplorer(en-us,MSDN.10).jpg"/>
          <p:cNvPicPr/>
          <p:nvPr/>
        </p:nvPicPr>
        <p:blipFill>
          <a:blip r:embed="rId1"/>
          <a:stretch/>
        </p:blipFill>
        <p:spPr>
          <a:xfrm>
            <a:off x="1371600" y="1676520"/>
            <a:ext cx="65530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        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uring your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Ctrl+I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ystem information window will appear showing statistics and graphs about the syste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any process from the top window (e.g. svchost.exe), an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 click on it and chose ‘properties’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GURE2.2 SYSTEM INFORMATION FROM PROCESS EXPLORER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3" descr="http://i.technet.microsoft.com/bb896653.ProcessExplorer1(en-us,MSDN.10).jpg"/>
          <p:cNvPicPr/>
          <p:nvPr/>
        </p:nvPicPr>
        <p:blipFill>
          <a:blip r:embed="rId1"/>
          <a:stretch/>
        </p:blipFill>
        <p:spPr>
          <a:xfrm>
            <a:off x="228600" y="1981080"/>
            <a:ext cx="8915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 3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ndow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LAB#: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is Lab, you will be learning some important security aspects in the Windows system;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lab will go over users and permissions, sharing and folders permiss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1: ADDING NEW USER IN WINDOWS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be creating new user on your windows system, to do so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 click ‘User Accounts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Create a New Account link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a name for the accoun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lect the type of account you want to create for Window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he Create Account butto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ose the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FIGURE 3.1 ADDING A USER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Picture 3" descr="http://media.wiley.com/Lux/38/79638.image2.jpg?h=388&amp;w=535"/>
          <p:cNvPicPr/>
          <p:nvPr/>
        </p:nvPicPr>
        <p:blipFill>
          <a:blip r:embed="rId1"/>
          <a:stretch/>
        </p:blipFill>
        <p:spPr>
          <a:xfrm>
            <a:off x="838080" y="2027160"/>
            <a:ext cx="8001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3.2: IDENTIFY USER ACCOUNTS WITH ADMINISTRATOR ACCESS IN WINDOWS XP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 management is simplified  by adding users to group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see which users are members of the Administrators group,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Run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Click on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enter compmgmt.msc, then click on the OK but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thin the left frame, expand Local Users and Groups and then expand Groups, as shown in Figure 3.2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-click Administrators and a list of users appear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use the Add or Remove button to place users in this group or take them from it, respectively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it the Computer Management consol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xit Control Panel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7506000" cy="6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1.1: TENABLE NESSUS 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currently works 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indows, Linux, and Mac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s a vulnerability scanner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can scan a targeted system or a range of system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identifies any vulnerabilities or weaknesse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IGURE 3.2 EXPAND THE GROUPS FOLDER TO SEE THE LOCAL GROUPS.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686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3.3: HIDE AND ACCESS A WINDOWS SHARE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s lab requires two Windows workst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simple method for “protecting” shares is to make them hidde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hide a share in Windows, you use the dollar sign character ($) as the last character of its nam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t will then no longer appear in listings and will need to be referred to specifically to be access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Computer1, choose to share the C:\WINDOWS directory, and name the share DATA$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n Computer2, look for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 My Network Places (or Network Neighborhood on older Windows operating systems) to look for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should not be able to see the share because the name ends with $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-click My Network Places and choose Map Network Driv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Path box, type 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\\Computer1\DATA</a:t>
            </a: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K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should now be able to access the sha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4: SECURING THE WINDOW’S USER’S ACCOUNTS DATABASE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Windows XP accounts database can be secured through encryption to prevent it from being compromised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perform this action,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Ru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ype keyword “syskey” and press Enter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Updat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Password Startu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a password that you want to require during startu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ter the same password in the Confirm box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K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Franklin Gothic Book"/>
              </a:rPr>
              <a:t>Note the warning—once encryption is enabled, it cannot be disabl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Medium"/>
              </a:rPr>
              <a:t>FIGURE 3.3 USE ENCRYPTION TO SECURE THE WINDOWS XP ACCOUNT DATABASE.</a:t>
            </a:r>
            <a:br>
              <a:rPr sz="2500"/>
            </a:br>
            <a:endParaRPr b="0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5345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5: CHANGING ACL FOR A FOLDER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ccess Control Lists apply only to files stored on an NTFS formatted dr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ach ACL determines which users (or groups of users) can read or edit the fil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a new file is created it normally inherits ACL's from the folder where it was creat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easy way in Windows is by right clicking on the folder and changing the privileges, to do so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uble click the folder ‘My Document’, and then create new folder in i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ight click on the new folder, and chose ‘properties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the 3</a:t>
            </a:r>
            <a:r>
              <a:rPr b="1" lang="en-US" sz="1600" spc="-1" strike="noStrike" baseline="30000">
                <a:solidFill>
                  <a:srgbClr val="000000"/>
                </a:solidFill>
                <a:latin typeface="Franklin Gothic Book"/>
              </a:rPr>
              <a:t>rd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tap ‘Securit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will see all users, including the user you have created. Click on any user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User’s permissions are displayed in the bottom window; you can change any permission by clicking on ‘Allow’ or ‘Den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advanced and explore what other options you can perform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has two part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rver, which is already set up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ent which you will be working with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you first lunch the Nessus client you need to connect to the server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HANKS 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 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se Single host, and type in your PC’s IP addres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Nessus will generate a whole report about the scanned system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1.2: RUN THE MICROSOFT BASELINE SECURITY ANALYZER  (MBSA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BSA currently works with Microsoft Windows O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scan a system and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789120" indent="-273240">
              <a:spcBef>
                <a:spcPts val="300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anklin Gothic Book"/>
              </a:rPr>
              <a:t>identify weaknesses and misconfigurations.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o run MBSA, follow these steps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og in with administrator privileg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ownload the latest version of MBSA from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ttp://technet.microsoft.com/en-us/security/cc184924.aspx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hoose the option ‘Scan a computer’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default computer to scan will be the one you are sitting at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change this to another on the network by specifying either the computer’s name or I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algn="just">
              <a:spcBef>
                <a:spcPts val="799"/>
              </a:spcBef>
              <a:buClr>
                <a:srgbClr val="08a1d9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Start Sca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View the report that is given when the scan finish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report will include information on missing security updates,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rvice packs for the operating system and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icrosoft application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3:02:50Z</dcterms:created>
  <dc:creator>maqsood.m</dc:creator>
  <dc:description/>
  <dc:language>en-US</dc:language>
  <cp:lastModifiedBy>Ashraf Youssef</cp:lastModifiedBy>
  <dcterms:modified xsi:type="dcterms:W3CDTF">2014-09-15T10:03:48Z</dcterms:modified>
  <cp:revision>46</cp:revision>
  <dc:subject/>
  <dc:title>IS493 Information Security</dc:title>
</cp:coreProperties>
</file>