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44C-7FF4-44F0-8ACC-2381641D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3A1-DF81-4E75-A232-DF94AE9A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A1E-9005-4930-9F30-AAAF5022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631-E50D-48D6-B012-FAF808E4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1C36-8D1E-435C-A85E-BD544D1C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D135-5657-4F7E-ADA8-CA6B814F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DE89-D616-41F3-9954-A5ADF771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9763-3407-4EC5-A234-A8F57963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78AD-F927-43FE-8A89-419F13C1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8888-CA8E-45F5-BB12-7BCE91FE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B78A-8E42-4EC8-87BF-6D50C8AC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961-C87B-4863-96B7-C829AA7A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4B28-639E-4D8D-8AEC-93920C6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FBD1-A234-4273-9FA6-D9E0825A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BEA2-DFD6-4B6B-AF1C-73D20BCE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D5F0-C62A-4994-9046-150A8E60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BED8-223C-4D56-BCEF-83D94DD9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D76E-70C2-4FC8-8F45-31CCC3B9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6480-8EBB-4545-A702-4C6D1196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2082-E0CF-48D3-9228-2834CF25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743C-D38A-485C-A98F-5A748F66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E369-9D97-4E05-A511-704EB6CF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5F0-C799-4F66-87A0-D2F95EA3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B67C6-AAEE-4730-B50B-0777BADB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20A1-79EB-4DF6-91D4-2896D073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D5FD-C38C-4362-8CA4-1C6A3315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DA92-BBDE-46DD-B30A-DCE7DE06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7875-186E-4751-A8C5-DEE79C18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A5BE-2790-4480-8864-534F693A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E922-2E63-4322-80BA-1BD40221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3F03E-2445-44A9-8822-EE4EDCE6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F755-87F0-4443-A05C-8C5D4E66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8699B-6BFF-4A16-BCE0-8C097DB1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DA1-1747-4F8A-AA6A-8A1ABDA8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4B11-881D-4229-94AB-31F67927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7E03-4C02-4995-8489-EC65B8B5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D0E41-CB20-4297-8885-A1A77FAF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26BBF-57DE-44D4-BE6A-0851EAFF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F7A3D-227B-44E7-90F6-3AF1E9AF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484BA-38BE-429D-BF67-DDA77056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E3A5-0292-4E1D-A716-20D5E034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62A52-23F7-47FA-BF46-0B68A4BA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B2FC2-3DDE-45B0-9107-76669514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F2357-843A-4787-9B85-1B91838C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DC0-4129-42E5-AF8F-0DFA72D9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ADF5-8309-43D6-AAB6-C7E7DA46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5977B-74D6-40D8-9C19-87235989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51510-A34A-4B78-9384-EA3BA938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70838-C222-47E1-96B4-DDD3F6FA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F18CF-D4F5-4260-9694-96D74257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DC9C-D2A9-42B8-B00D-391951C4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477CF-A70D-4C7A-BE33-EB40F7B9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9C930-58C8-48F6-94E2-6939548B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33B7-B6BA-4370-BCC5-A96CEABF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E66E-070A-447D-8EE7-59A2B29E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568-A129-4BF1-802E-E10E5F42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3233-EC4E-4F52-83C4-C15CB300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D1D-DB80-4123-9C5D-0EF9E895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62F-C8C2-443F-BD9A-EDDE0E9E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A66-983A-43CE-9502-D1F0E491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847C-FD2E-4CAF-8321-FA7B02F96D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B1C5-5722-4631-B7FB-2F545AD1BD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2C3A-8284-418A-A255-805C2000B2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67C1-08C0-444B-B1C4-0F58084C44FD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6E91-5C8F-42C0-891B-08F0E6CC54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UTORIAL #3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INFORMATION SECURITY 49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Once scan is completed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In the left box click on “Network Map”. How your network look like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hange the view of the network by clicking on “Arrange”; try the Tree, Hierarchy, and Radial layout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From the left box click on “inventory”, see how many workstations, Serves, and other hardware and software you have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PICE WORK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838080" y="2211480"/>
            <a:ext cx="76964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SSETS IN SPICE WORK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248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NETWORK TOPOLOGY IN SPICE WORK.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934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5.3: COMPARE YOUR SYSTEM TO A SECURITY TEMPLATE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You must be logged in as a member of the Administrators group (or as Administrator) to be able to make this change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o do so, follow these steps: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Run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ype mmc and press Enter. This command opens a console window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hoose File and then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Add/Remove Snap-In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Beneath Add/Remove Snap-In,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lick Add, and a list of available add-ins appears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hoose Security Configuration and Analysis and click Add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lick Close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lick OK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Right-click Security Configuration and Analysis and choose Open Database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ype in the name of a database you want to create (such as test) and click Open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t the prompt to import a template, select ‘hisecws’ and click Open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Right-click Security Configuration and Analysis and choose Analyze Computer Now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t the prompt for an error log file path, click OK to keep the default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Expand Security Configuration and Analysis and then Password Policy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 red circle should appear beside Minimum Password Age (and likely others)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howing that the computer is not configured as the template is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o make all settings in the template apply, right-click Security Configuration and Analysis and choose Configure Computer Now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Repeat the analysis step, and all settings should now equal those in the template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5.1: LOOK FOR SECURITY EVENTS WITHIN WINDOWS XP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Logging is automatically enabled for many items on a workstation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but the log entries are only meaningful if examined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o view the security events logged on a workstation, follow these steps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85680" y="490680"/>
            <a:ext cx="8972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7520" y="1523880"/>
            <a:ext cx="90489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5.4: ZENMAP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Zenmap is the official Nmap Security Scanner GUI, which makes Nmap easy for beginners to use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Zenmap is used to gather information about scanned IP or range of IPs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Zenamp can be helpful in Security Auditing, Finding any “unwanted” people using your network, creating simple visual diagrams of your network, and mor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this exercise you will be learning how to use Zenmap to scan a network and gather information.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rt Zenmap, by clicking on the icon on your desktop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the ‘Target’ field write down your IP address leaving the last number ‘0’, and then after your IP address directly write ‘/24’. (i.e. if your IP address is 10.131.55.10, you should write 10.131.55.0/24)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can find down your IP address from the CMD (ask your instructor)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eave the ‘profile’ option on ‘intense scan’. And make sure the button ‘Hosts’ is clicked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n sca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left panel will show PCs found in your network and there operating system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right panel will show information about the scanned PCs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arch through data and find open ports on other PC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rcRect l="0" t="0" r="0" b="3207"/>
          <a:stretch/>
        </p:blipFill>
        <p:spPr>
          <a:xfrm>
            <a:off x="91440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UTORIAL DELIVERED BY 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shraf Youssef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IS dept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College of Computer and Information Sciences (CCIS)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 Saud University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Riyadh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dom of Saudi Arabia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obile:0507181787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E-mail : ashraf@ksu.edu.sa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Ru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eventvwr.msc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Within the left frame, click Security. All logged security events appear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o gather more information on any logged entry, double-click it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Exit the Event Viewer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172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5.2: SPICEWORKS (ASSETS LISTING)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SpiceWorks is the complete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network management &amp;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onitoring, helpdesk,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PC inventory &amp; software reporting solution to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anage everything IT in small and medium businesses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In this exercise you will learn how to use this program to do an inventory on your network,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nd be able to list your assets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llow these steps: (Make sure to follow steps one-by-one don’t go quickly clicking on next)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fter installing “SpiceWork”, click on its icon to run it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reate your account by filling out your details. And click next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n ‘Start with inventory’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ick ‘Scan my entire network’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Under “Does the account you are logged into right now have remote administration privileges to Windows computers on the network?”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ick on “NO”, and enter the user name and password given by the instructor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ick on next, and then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ick on ‘Start’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can will take time depending on the size of the network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might take up to 15 minute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3:36:54Z</dcterms:created>
  <dc:creator>maqsood.m</dc:creator>
  <dc:description/>
  <dc:language>en-US</dc:language>
  <cp:lastModifiedBy>Ashraf Youssef</cp:lastModifiedBy>
  <dcterms:modified xsi:type="dcterms:W3CDTF">2014-09-15T10:18:51Z</dcterms:modified>
  <cp:revision>23</cp:revision>
  <dc:subject/>
  <dc:title>Slide 1</dc:title>
</cp:coreProperties>
</file>