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C646-028B-47EA-948E-FFF1D90FA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6E4-33CF-46FD-B7BC-2840E0D5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1AA4-E26C-40FC-B3C4-0D481599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1D2-4F43-465B-ACF4-4AEC9E0E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49D1D-5B6E-4510-82D9-39E29AD0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5831-3DA2-4FFF-A908-0335378B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0785-DF5B-406B-AC88-7D3AD254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2A42F-FC9D-4C31-86B9-F266022B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F103-466C-4BA8-88F8-E15F8201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713C-EC21-426C-B785-A59DC9F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60DD-1F19-4AC3-BE7F-2C15E321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9CA-C94D-4639-A40E-5D26A77F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8D00-CCFD-4E6B-923C-B50570D3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9080-CF77-4A0C-BF06-4795DCFF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1A3E-B6E8-4E9A-9E2E-3ED72468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FFF0-B991-4AEB-B42B-00CF4C999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2093-9A69-4D8B-97D7-C1C28F637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7279-32D3-47C6-9C43-450BF737C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F0080-CB57-4E7C-B9E9-8DAE0728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A6E20-6AE8-490F-8032-AB7AB403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B46E9-1E1A-406F-A2AB-58143ADB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9A30-5D0B-4612-9762-44C33DFD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05D0-5548-4B53-ABB3-22FA6109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F8543-8E57-4CCC-A883-CB8DE159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8E7C2-EBF9-4F9F-AC62-0080B0F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A4855-697A-4783-84D6-31FCA6EA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4EBAB-510C-47BE-9971-EA848E82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9009E-BFFA-45EE-AA29-636E8DC3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06EAD-3D32-4486-BBA6-2D50434F8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7B07-2747-498D-9472-080129FF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67887-ABDA-490A-87A8-F5B3C54F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5DDBB-D980-47AB-A8F1-1438AF59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333A0-358C-4E55-BD9C-652A6BFD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A37A-5167-424F-97F7-228D7B1D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6BFDA-DD7D-4155-A6D3-14EA3C88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D1F50-8A75-4FDD-A79E-F8FFD709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07B9A-F726-46A1-935E-0C19D0D7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9C74E-D56E-4B46-BBC6-7F66FB8C0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F4ECA-BC7A-4277-9A9E-7611632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DCF88-477E-4CD7-A940-F63B7336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34442-0530-4FD5-9D48-53C07626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3D3BB-D411-4EFA-A568-5ECB0097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EA9F9-F338-40CD-8E50-94B5D160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28607-5B86-4BDF-8573-27D8C19C1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F7B5-B731-4F8F-AB5C-F467BD32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2CF45-29D6-4F27-B3D6-C172BBF0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82D66-8E8F-459A-9158-3DAE3848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84C90-64BC-4453-8B82-E9CEC0CC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6AB3-8A3C-4B63-8D38-12FE9621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CE965-9919-4AC8-965F-EAD3467D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6C736-0084-4A86-9888-CEFD31CF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E2574-FC3E-4315-A44B-9761B064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14DB7-244B-441E-B556-2AFCBFDB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899F3-E2BA-4FB5-907D-C8F79D8D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6E3DA-26EA-4053-9747-7AC39304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820-4885-4BD8-AE5B-DA772C69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2801A-566C-438D-9E65-7205C1D8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C41A-1633-47FA-836F-7E3ED04B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A2C3-A457-4EE7-AB99-B001E9C9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DF7-4FB3-4640-8CF8-18019CD1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044-2D92-4545-B35F-D0C6571DA3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FE27-5699-4985-BCE6-11765DE7DDF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A5B6-0A33-441E-85B8-83710BF213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A3EB-DEF5-4654-A494-16DA47D316D5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FAC1E-F127-4956-AE2A-8C0CAE741B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UTORIAL #3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INFORMATION SECURITY 493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Once scan is completed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In the left box click on “Network Map”. How your network look like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hange the view of the network by clicking on “Arrange”; try the Tree, Hierarchy, and Radial layout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From the left box click on “inventory”, see how many workstations, Serves, and other hardware and software you have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SPICE WORK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838080" y="2211480"/>
            <a:ext cx="769644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SSETS IN SPICE WORK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62485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NETWORK TOPOLOGY IN SPICE WORK.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934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5.3: COMPARE YOUR SYSTEM TO A SECURITY TEMPLATE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You must be logged in as a member of the Administrators group (or as Administrator) to be able to make this change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do so, follow these steps: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Run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ype mmc and press Enter. This command opens a console window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hoose File and then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Add/Remove Snap-In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Beneath Add/Remove Snap-In,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lick Add, and a list of available add-ins appears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hoose Security Configuration and Analysis and click Add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lick Close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ranklin Gothic Book"/>
              </a:rPr>
              <a:t>Click OK.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ight-click Security Configuration and Analysis and choose Open Database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ype in the name of a database you want to create (such as test) and click Open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t the prompt to import a template, select ‘hisecws’ and click Open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ight-click Security Configuration and Analysis and choose Analyze Computer Now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t the prompt for an error log file path, click OK to keep the default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Expand Security Configuration and Analysis and then Password Policy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A red circle should appear beside Minimum Password Age (and likely others)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howing that the computer is not configured as the template is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make all settings in the template apply, right-click Security Configuration and Analysis and choose Configure Computer Now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05280" indent="-2430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Repeat the analysis step, and all settings should now equal those in the template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5.1: LOOK FOR SECURITY EVENTS WITHIN WINDOWS XP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Logging is automatically enabled for many items on a workstation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ut the log entries are only meaningful if examined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view the security events logged on a workstation, follow these steps: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85680" y="490680"/>
            <a:ext cx="8972640" cy="58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47520" y="1523880"/>
            <a:ext cx="9048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Franklin Gothic Medium"/>
              </a:rPr>
              <a:t>5.4: ZENMAP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Zenmap is the official Nmap Security Scanner GUI, which makes Nmap easy for beginners to use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Zenmap is used to gather information about scanned IP or range of IP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Zenamp can be helpful in Security Auditing, Finding any “unwanted” people using your network, creating simple visual diagrams of your network, and more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is exercise you will be learning how to use Zenmap to scan a network and gather information. Follow these steps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tart Zenmap, by clicking on the icon on your desktop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 the ‘Target’ field write down your IP address leaving the last number ‘0’, and then after your IP address directly write ‘/24’. (i.e. if your IP address is 10.131.55.10, you should write 10.131.55.0/24)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You can find down your IP address from the CMD (ask your instructor)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5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eave the ‘profile’ option on ‘intense scan’. And make sure the button ‘Hosts’ is clicked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sca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left panel will show PCs found in your network and there operating system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e right panel will show information about the scanned PCs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arch through data and find open ports on other PC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rcRect l="0" t="0" r="0" b="3207"/>
          <a:stretch/>
        </p:blipFill>
        <p:spPr>
          <a:xfrm>
            <a:off x="91440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UTORIAL DELIVERED BY :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shraf Youssef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IS dept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College of Computer and Information Sciences (CCIS)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 Saud University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Riyadh ,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Kingdom of Saudi Arabia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obile:0507181787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E-mail : ashraf@ksu.edu.sa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hoose Start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Run </a:t>
            </a:r>
            <a:r>
              <a:rPr b="1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 eventvwr.msc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Within the left frame, click Security. All logged security events appear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To gather more information on any logged entry, double-click it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Exit the Event Viewer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371600" y="533520"/>
            <a:ext cx="61722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Medium"/>
              </a:rPr>
              <a:t>5.2: SPICEWORKS (ASSETS LISTING)</a:t>
            </a:r>
            <a:br>
              <a:rPr sz="2500"/>
            </a:b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SpiceWorks is the complete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network management &amp;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onitoring, helpdesk,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PC inventory &amp; software reporting solution to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manage everything IT in small and medium businesses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In this exercise you will learn how to use this program to do an inventory on your network,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and be able to list your assets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 marL="329040" indent="-262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llow these steps: (Make sure to follow steps one-by-one don’t go quickly clicking on next)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fter installing “SpiceWork”, click on its icon to run it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reate your account by filling out your details. And click next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on ‘Start with inventory’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‘Scan my entire network’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Under “Does the account you are logged into right now have remote administration privileges to Windows computers on the network?”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on “NO”, and enter the user name and password given by the instructor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TI…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on next, and then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click on ‘Start’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Scan will take time depending on the size of the network,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might take up to 15 minute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273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6T13:36:54Z</dcterms:created>
  <dc:creator>maqsood.m</dc:creator>
  <dc:description/>
  <dc:language>en-US</dc:language>
  <cp:lastModifiedBy>Ashraf Youssef</cp:lastModifiedBy>
  <dcterms:modified xsi:type="dcterms:W3CDTF">2014-09-15T10:18:51Z</dcterms:modified>
  <cp:revision>23</cp:revision>
  <dc:subject/>
  <dc:title>Slide 1</dc:title>
</cp:coreProperties>
</file>